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1E1CA-1190-438A-A283-FCFFE5DE7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59656-9EFD-4043-B371-6A17647C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8F87-6526-4AE0-A2CA-C633986B0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5D00-3577-490D-BCEA-9E6B910A6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5646E-FC92-42E4-80C3-62C02D80F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9AD7D-16BB-49DC-9494-8BCE0398D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E8B7F-B1F4-469A-BCBC-E0701F38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B7809-D740-46CA-8743-01077DA5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38BB7-A7D1-4A14-960D-EAED4DA95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42521-E6DE-41AF-B4DC-E30BDBD7F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C9C02-560B-432C-AFCB-7AF9D476E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2613-75FF-41D5-ACE3-3AE7D035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ACE3E-C3B6-4712-AE37-E32D7AA9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1C9C5-7031-4823-A397-F9675494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83E23-995D-4B36-95D9-EC265B43A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AEDA0-FAA4-4BAC-B49D-735C2448E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E9505-CA02-483B-8A38-453A302BC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A478-835F-4EC3-BC6D-A888B75F0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3D14-A959-44D5-A481-99F918475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5A53-B3C8-477C-BE48-AA6D19E99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5A6C-66AA-42BE-B340-93B89B0C1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2AA2-85F9-4B9B-AF5F-657C06B64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DC46-4421-4B55-A875-D4E5F1AE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FB0A-B581-41EB-A169-6EA08B85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prstGeom prst="pie">
            <a:avLst/>
          </a:pr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F148-8A7E-4B3D-9E7B-5547DD67D42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67587-3973-4A0F-929A-E02F670F05B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МОУ «СОШ №95 им. Н. Щукина. п. Архара»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Тема работы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Школьная тревожность как проявление трудновоспитуемости у подростко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а: Иванова Эльвира Валерье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итель: Алтынникова Ирина Павлов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ревож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0" name="Object 4"/>
          <p:cNvGraphicFramePr/>
          <p:nvPr/>
        </p:nvGraphicFramePr>
        <p:xfrm>
          <a:off x="457200" y="2517840"/>
          <a:ext cx="4038480" cy="2690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517840"/>
                    <a:ext cx="4038480" cy="26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7"/>
          <p:cNvGraphicFramePr/>
          <p:nvPr/>
        </p:nvGraphicFramePr>
        <p:xfrm>
          <a:off x="971640" y="1700280"/>
          <a:ext cx="7488000" cy="3889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1700280"/>
                    <a:ext cx="7488000" cy="388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Успеваемость 10 «А» класса за 1 полугодие 2009 – 210 учебный год.</a:t>
            </a:r>
            <a:br>
              <a:rPr sz="2800"/>
            </a:b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5" name="Диаграмма 4" descr=""/>
          <p:cNvPicPr/>
          <p:nvPr/>
        </p:nvPicPr>
        <p:blipFill>
          <a:blip r:embed="rId1"/>
          <a:stretch/>
        </p:blipFill>
        <p:spPr>
          <a:xfrm>
            <a:off x="1706400" y="2279520"/>
            <a:ext cx="579780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Трудновоспитуемость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7" name="Object 4"/>
          <p:cNvGraphicFramePr/>
          <p:nvPr/>
        </p:nvGraphicFramePr>
        <p:xfrm>
          <a:off x="826920" y="1413000"/>
          <a:ext cx="7508880" cy="516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413000"/>
                    <a:ext cx="7508880" cy="51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Уровни качеств личност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40" name="Object 8"/>
          <p:cNvGraphicFramePr/>
          <p:nvPr/>
        </p:nvGraphicFramePr>
        <p:xfrm>
          <a:off x="463680" y="1600200"/>
          <a:ext cx="8215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1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3680" y="1600200"/>
                    <a:ext cx="8215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хочешь чего – то добиться, достичь какой – то цели, действуй и прямо называй свою цель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ля того чтобы из неудачника превратиться в «счастливчика» и победителя, надо действительно искренне этого захотеть; примерно так, как вы хотите избавиться от зубной бо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сли хотите измениться,  изменить что – то в себе и в окружающей жизни – действуйте так, как будто вы уже обладаете необходимыми новыми навыками. Действуйте и контролируйте себя. Вы сами себе судья в этом, а самоконтроль – ваш главный помощн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уководствуйтесь в своей деятельности соответствием реальности, анализируйте условие ситуации, думайте о своих возможностях и решайте, чего вы можете достигну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се свои цели, все свои желания высказывайте только в положительной форме: «Я хочу…», «Я могу…», «Я буду…»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ЮБИТЕ СЕБЯ. Как можно чаще повторяйте декларацию собственной самоцен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cecff"/>
                </a:solidFill>
                <a:latin typeface="Arial"/>
              </a:rPr>
              <a:t>Основные заповеди счастливчика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221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60-секундные антистрессовые приёмы против гнева.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720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остарайтесь лучше вникнуть в ситуацию. Подумайте о том, что может чувствовать человек, на которого вы сердитесь. Естественно, что, проявляя больше сочувствия, мы становимся менее агрессивными и более сговорчивыми. Потратьте 60 секунд на размышления о чувствах другого человека и о том, что они могут ещё больше разозлить вас обо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ясните причину гнева. Как только начнёте сердиться, потратьте 60 секунд на то, чтобы понять, что именно вызвало гнев, вам будет легче разработать стратегию, устраняющую его источник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сь уверенности в себе. Начинайте постепенно, если чувствуйте дискомфорт, но хотя бы по минуте ежедневно, находите возможность вступить в мелкие разногласия, чтобы обрести уверенность в том, что можно выражать свои эмоции непринуждённо и неагрессивно. (Очень полезно составить их список.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Arial"/>
              </a:rPr>
              <a:t>Антистрессовые приёмы для юношей и девушек.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ервый барьер общения, который я должен преодолеть, -  привычка  игнорировать любого старше 30 лет. Если я хочу, чтобы люди прислушивались ко мне, то должен быть готов разговаривать с ни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ше поколение хочет понимания от старших. В свою очередь будет вполне справедливо, если мы постараемся понять их. У них есть свои чувства и потребности и основания для принимаемых решени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 буду непредвзято слушать родителей и смотреть на ситуацию с их точки зрения. Именно такого отношения я жду от них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Я буду делиться с родителями своими чувствами. Я должен предоставить им возможность помочь мн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ывод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чности, относимые к категории высокотревожных, склонны воспринимать угрозу своей самооценке и жизнедеятельности в большом разнообразии ситуаций и реагировать напряженным состоянием тревожности. Внутренний конфликт  может стать причиной снижения самооценки, закреплению комплекса «неполноценности», «вины» При неудовлетворенности потребности в признании, самоутверждение может выражаться в отклоняющемся поведении(что можно определить как трудновоспитуемость).  Тревожный ребёнок постоянно в подавленном настроении, у него затруднены контакты с окружающим миром. Мир воспринимается как враждебны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ы изучили теоретические аспекты возникновения тревоги и школьной тревожности, проанализировали  проявления школьной тревожности и трудновоспитуемости у подростков ,как фактор неуверенности. Определили возникновение школьной тревожности, степени трудновоспитуемости, проанализировали их, предложили основные заповеди счастливчика и упражнения для снятия стресса. Гипотеза доказана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457200" y="642600"/>
            <a:ext cx="822960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крепляясь в процессе становления характера, школьная тревожность приводит к формированию заниженной самооценки. Данная проблема настолько актуальна, что требует своего скорейшего разрешения, так как в противном случае вполне может привести к формированию поколения неуверенных, тревожных , абсолютно неспособных приспосабливаться в жизни люде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Ещё раз отметим, что работа над самообразованием, выработка самостоятельности, уверенности разными методами может привести к хорошим результатам по успеваемости. Формы и методы воспитательной работы, выбранные педагогами в работе с подростками приводят в старших классах к успешности в обучении и воспитан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Литература: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1  Микляева А. В. , Румянцева П. В.  Школьная тревожность: диагностика, профилактика, коррекция – СПб. ; Речь, 2006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2 Современный психологический словарь/под ред. Б. Г. Мещерякова, В. П. Зинченко. – СПб. : ПРАЙМ-ЕВРО-ЗНАК, 2007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Овчарова Р. В.  Технологии практического психолога образования: Учебное пособие для студентов вузов и практических работников.- М. : ТЦ Сфера при участии «Юрайт-М», 2001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4 Прихожан А. М. Психология неудачника: Тренинг уверенности в себе – М.: ТЦ «сфера», 1999 г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5 Закаблук А.Психология самопознания: Учебное пособие для старшеклассников и педагогической практики студентов.1996.-97 с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9528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Цель работы: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учить теоретические аспекты возникновения тревоги и школьной тревожности, проанализировать  проявления школьной тревожности и трудновоспитуемости у подростков ,как фактор неуверен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дач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Изучить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чины возникновения тревоги и тревожности у детей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Определить школьную тревожность как фактор неуверенности подростка, возникающую на определенных этапах жизни и обоснованной некоторыми возрастными особенностям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3.Произвести диагностику тревожности и трудновоспитуемости и проанализировать определенную зависимость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потеза: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Если определить возникновение школьной тревожности у подростка и проанализировать её, то можно уменьшить степень трудновоспитуемости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лан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 глава   Теоретическая ча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1 Понятие «тревоги» и «тревожности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2 Виды тревоги и тревож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3 Причины и признаки школьной тревож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4 Динамика школьной тревож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1.5 Проявление  школьной тревожности в поведении учащих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 глава Исследовательская час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1 Методики, используемые для изучения школьной тревожнос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2 Исследование школьной тревожности с помощью методики: Диагностика эмоционального отношения к учению в средних и старших классах (Автор Ч. Д. Спилберг, модификация А. Д. Андреевой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3 Анкетирование по выявлению трудновоспитуемых в класс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5 Сравнительный анализ методик изучения учащих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2.5 18 заповедей « счастливчи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ключ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итератур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ffffff"/>
                </a:solidFill>
                <a:uFillTx/>
                <a:latin typeface="Arial"/>
              </a:rPr>
              <a:t>«Маленький ребёнок  живёт с ощущением тревоги, которое складывается у него из общения со взрослыми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. Харри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Причины школьной тревожности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) Школьная тревожность является результатом взаимодействия личности с ситуацие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) Чувство тревоги в школьном возрасте неизбежно, поскольку познание всегда сопровождается тревог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) Именно интенсивное, дезорганизующее учебную деятельность переживание тревожности рассматривается как признак школьной дезадаптац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4) Причиной возникновения школьной тревожности в некоторых случаях могут стать и те или иные школьные помещ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5) Наиболее типично возникновение школьной тревожности, связанной с социально-психологическими факторами или фактором образовательных програм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ебные перегрузк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способность учащегося справиться со школьной программо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адекватные ожидания со стороны родителей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благоприятные отношения с педагогами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Смена школьного коллекти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3445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ecff"/>
                </a:solidFill>
                <a:latin typeface="Arial"/>
              </a:rPr>
              <a:t>Формы проявления школьной тревожности</a:t>
            </a:r>
            <a:endParaRPr b="0" lang="en-US" sz="2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640" y="692280"/>
            <a:ext cx="822960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. Ухудшение соматического здоровь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2. Нежелание ходить в школу (вплоть до систематических прогулов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3.Излишняя старательность при выполнении зада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4.Отказ от выполнения субъективно невыполнимых зада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5.Раздражительность и агрессивные проявления (вербальная и невербальная агрессия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6. Рассеянность, снижение концентрации внимания на уроках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7. Потеря контроля над физиологическими функциями в стрессогенных ситуациях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8. Страх потерять или испортить школьные принадлежност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9. Страх опоздать в школу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0. Ночные страхи, связанные со школьной жизнью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1. Отказ отвечать на уроке или ответы тихим, приглушенным голосом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2. Отказ от контактов с учителями или одноклассниками (или сведение их к минимуму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3. «Сверхценность» школьной оцен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. Резкое снижение эффективности учебной деятельности в ситуации контроля знаний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5. Проявление негативизма и демонстративных реакций (прежде всего, в адрес учителей, как попытка произвести впечатление на одноклассников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6. «Уход» в аддиктивное поведение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7. Избегание вопросов, связанных с собственным будущим, или проявление показного равнодушия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8. Излишняя старательность при подготовке к экзаменам или, наоборот, полный отказ от подготовки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Arial"/>
              </a:rPr>
              <a:t>Исследовательская часть</a:t>
            </a:r>
            <a:br>
              <a:rPr sz="4000"/>
            </a:b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ки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етодика диагностики мотивации учения и эмоционального отношения к учению в средних и старших классах школы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осник по выявлению трудновоспитуемых в классе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ст школьной тревожности Филлипса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Познавательная активност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4" name="Object 4"/>
          <p:cNvGraphicFramePr/>
          <p:nvPr/>
        </p:nvGraphicFramePr>
        <p:xfrm>
          <a:off x="1525680" y="1830240"/>
          <a:ext cx="609120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1830240"/>
                    <a:ext cx="609120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ecff"/>
                </a:solidFill>
                <a:latin typeface="Arial"/>
              </a:rPr>
              <a:t>Гне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7" name="Object 4"/>
          <p:cNvGraphicFramePr/>
          <p:nvPr/>
        </p:nvGraphicFramePr>
        <p:xfrm>
          <a:off x="826920" y="1844640"/>
          <a:ext cx="678996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844640"/>
                    <a:ext cx="678996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3T04:22:33Z</dcterms:created>
  <dc:creator>User</dc:creator>
  <dc:description/>
  <dc:language>en-US</dc:language>
  <cp:lastModifiedBy>Grey Wolf</cp:lastModifiedBy>
  <dcterms:modified xsi:type="dcterms:W3CDTF">2009-11-14T09:48:21Z</dcterms:modified>
  <cp:revision>27</cp:revision>
  <dc:subject/>
  <dc:title>Презентация  МОУ «СОШ №95 им. Н. Щукина. п. Архара».</dc:title>
</cp:coreProperties>
</file>