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8CB-0A0E-4FA0-A007-A635C7FC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F88-70DF-41C5-B80C-8CA8F0F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A4A-B87D-4C31-A8DA-F55A264F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3DA-67A6-47BA-AC72-C2235D9C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FB28-AE99-4F3B-9912-D29D8650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17EF-C886-4B2E-9330-FF6ECC51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0071-917B-4C30-A1E3-61FA83E9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41CC-D557-485C-87E2-760024B9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039D-C29C-48E5-AA14-F568DFA7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54EF-9677-4EA8-84D3-23C0926D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780-AF2C-4C0E-A403-22C8B4C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4C8-5A9A-4AE0-97E2-0E6243C7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AA52-9C73-4192-BFEE-34186FB7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8C36-B0C6-4D4F-9DB1-28C5489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BF94-45E3-424C-B2F6-B599366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349E-6B67-479D-8252-A19D1AF2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C700-04F1-491C-98CE-3577B727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C14-A0E8-46F6-AA13-9447A232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EF0-9D94-4A23-A0DD-1CB220DD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570-6326-4291-968C-27E7FEA1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2C4-4FC2-4A4D-AD14-01491178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783-53D6-49AD-B139-D835470F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7CE-754C-4FB7-AA97-772B904C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2D8-07BD-4428-87EE-F8B14FA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04C6-4B73-4F79-88BB-F63CE16E2B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524D-1BC6-4579-BDF4-28CA4B88B07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713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Учебно – исследовательская работа</a:t>
            </a:r>
            <a:br>
              <a:rPr sz="2400"/>
            </a:br>
            <a:r>
              <a:rPr b="1" lang="ru-RU" sz="5400" spc="-1" strike="noStrike">
                <a:solidFill>
                  <a:srgbClr val="336600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336600"/>
                </a:solidFill>
                <a:latin typeface="Arial"/>
              </a:rPr>
              <a:t>Определение высоты местности над уровнем моря с помощью атмосферного давления</a:t>
            </a:r>
            <a:r>
              <a:rPr b="1" lang="ru-RU" sz="5400" spc="-1" strike="noStrike">
                <a:solidFill>
                  <a:srgbClr val="336600"/>
                </a:solidFill>
                <a:latin typeface="Arial"/>
              </a:rPr>
              <a:t>»</a:t>
            </a:r>
            <a:br>
              <a:rPr sz="2400"/>
            </a:b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932000" y="3860280"/>
            <a:ext cx="406404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Исполнитель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Щербаков Артеми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ченик 5 «А» класс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ОУ лицей № 3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уководитель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читель физик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ысшей категор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ОУ лицея № 3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редгауэр В.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00"/>
                </a:solidFill>
                <a:latin typeface="Arial"/>
              </a:rPr>
              <a:t>Научная новизна исследования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3716280"/>
            <a:ext cx="864072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агается и апробируется способ определения высоты местности над уровнем моря с помощью атмосферного давлени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Город Екатеринбург расположен на Уральских горах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род находится выше уровня мор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тмосферное давление в Екатеринбурге должно быть меньше нормального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067280" y="2924280"/>
            <a:ext cx="47480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ce8a3"/>
                </a:solidFill>
                <a:latin typeface="Arial"/>
              </a:rPr>
              <a:t>Воздух сжимаем!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9" name="Picture 3" descr="IMG_0030"/>
          <p:cNvPicPr/>
          <p:nvPr/>
        </p:nvPicPr>
        <p:blipFill>
          <a:blip r:embed="rId1"/>
          <a:stretch/>
        </p:blipFill>
        <p:spPr>
          <a:xfrm>
            <a:off x="539640" y="69228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IMG_0031"/>
          <p:cNvPicPr/>
          <p:nvPr/>
        </p:nvPicPr>
        <p:blipFill>
          <a:blip r:embed="rId2"/>
          <a:stretch/>
        </p:blipFill>
        <p:spPr>
          <a:xfrm>
            <a:off x="395280" y="42210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IMG_0029"/>
          <p:cNvPicPr/>
          <p:nvPr/>
        </p:nvPicPr>
        <p:blipFill>
          <a:blip r:embed="rId3"/>
          <a:stretch/>
        </p:blipFill>
        <p:spPr>
          <a:xfrm>
            <a:off x="2987640" y="256536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IMG_0043"/>
          <p:cNvPicPr/>
          <p:nvPr/>
        </p:nvPicPr>
        <p:blipFill>
          <a:blip r:embed="rId4"/>
          <a:stretch/>
        </p:blipFill>
        <p:spPr>
          <a:xfrm>
            <a:off x="5508720" y="4292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9ce8a3"/>
                </a:solidFill>
                <a:latin typeface="Arial"/>
              </a:rPr>
              <a:t>Объяснение разного значения давления:</a:t>
            </a:r>
            <a:endParaRPr b="0" lang="en-US" sz="35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азы сильно сжимаемы. А чем сильнее газ сжат, тем больше его плотность и тем большее давление он производи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воздушный шар поднимается над поверхностью Земли, то давление воздуха на шар становится меньше не только потому, что высота столба воздуха над ним уменьшается, но еще и потому, что плотность воздуха вверху меньше, чем вниз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омощью барометра можно установить, что давление атмосферы даже на разных этажах здания различно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ce8a3"/>
                </a:solidFill>
                <a:latin typeface="Arial"/>
              </a:rPr>
              <a:t>Нормальное атмосферное давление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Атмосферное давление в местностях, лежащих на уровне моря, в среднем равно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760 мм рт. ст.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это нормальное атмосферное давление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-329580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549360"/>
            <a:ext cx="8540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При небольших подъемах в среднем на каждые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12 метров</a:t>
            </a: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подъема давление уменьшается н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1 мм рт. ст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00"/>
                </a:solidFill>
                <a:latin typeface="Arial"/>
              </a:rPr>
              <a:t>Ход исследования:</a:t>
            </a:r>
            <a:endParaRPr b="0" lang="en-US" sz="6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24360" y="1599840"/>
            <a:ext cx="49687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сто расположения точек наблюдени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т № 1 – ул.Сулимова – ул. Советска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т № 8 – ул. Посадская – ул. Московска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т № 14 – ул. Бардина – ул. Решетнико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чка 4 – ул. Щорса, д. 114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6" descr="F:\замеры\104CANON\IMG_7051.JPG"/>
          <p:cNvPicPr/>
          <p:nvPr/>
        </p:nvPicPr>
        <p:blipFill>
          <a:blip r:embed="rId1"/>
          <a:stretch/>
        </p:blipFill>
        <p:spPr>
          <a:xfrm>
            <a:off x="179280" y="357336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построены графики 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афик № 1 – показания измеренных давлений на посту № 1, 8, 14.            (см. таблиц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5" name="Диаграмма 1"/>
          <p:cNvGraphicFramePr/>
          <p:nvPr/>
        </p:nvGraphicFramePr>
        <p:xfrm>
          <a:off x="324000" y="2997360"/>
          <a:ext cx="8569080" cy="36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997360"/>
                    <a:ext cx="856908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7"/>
          <p:cNvSpPr/>
          <p:nvPr/>
        </p:nvSpPr>
        <p:spPr>
          <a:xfrm>
            <a:off x="0" y="51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построены график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афик № 2 - показания измеренных давлений на крыльце лицея № 3  (см. таблицу - 4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1" name="Диаграмма 1"/>
          <p:cNvGraphicFramePr/>
          <p:nvPr/>
        </p:nvGraphicFramePr>
        <p:xfrm>
          <a:off x="468360" y="3357720"/>
          <a:ext cx="8496360" cy="32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57720"/>
                    <a:ext cx="84963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7"/>
          <p:cNvSpPr/>
          <p:nvPr/>
        </p:nvSpPr>
        <p:spPr>
          <a:xfrm>
            <a:off x="0" y="485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Вычисляем высоту над уровнем моря исследуемых точек: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60 мм рт. ст. – нормальное атмосферное давление на уровне мор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60 мм рт. ст. – 735 мм рт. ст. = 25 мм рт. ст. – разность в давления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посты № 1, 8, 14).25 мм рт. ст. * 12 метров = </a:t>
            </a: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300 метро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высота над уровнем мор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посты № 1, 8, 14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60 мм рт. ст. – 738 мм рт. ст. = 22 мм рт. ст. – разность в давлениях (точка 4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2 мм рт. ст. * 12 метров = </a:t>
            </a: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264 метр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высота над уровнем моря      (точка 4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Морская примета:</a:t>
            </a:r>
            <a:br>
              <a:rPr sz="4400"/>
            </a:b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               Скачет стрелка вверх и вниз, </a:t>
            </a:r>
            <a:br>
              <a:rPr sz="4400"/>
            </a:b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               То погоды лишь каприз, </a:t>
            </a:r>
            <a:br>
              <a:rPr sz="4400"/>
            </a:b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               Если ж медленно движение,</a:t>
            </a:r>
            <a:br>
              <a:rPr sz="4400"/>
            </a:b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               Жди надолго изменения.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анализ графиков показал: 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яя измерения, можно определить среднее значение давления в данной точке местности. Оно равно: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сты № 1, 8, 14 – 735 мм рт. с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чка 4 - 738 мм рт. с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я закономерность изменения давления от высоты над уровнем моря, можно вычислить высоту данной точки над уровнем мор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сты № 1, 8, 14 – 300 метр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чка 4 - 264 метр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проверки полученных результатов сравниваем с показаниями на географических картах: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ка 4 – полученные данные -  </a:t>
            </a:r>
            <a:r>
              <a:rPr b="1" i="1" lang="ru-RU" sz="4000" spc="-1" strike="noStrike">
                <a:solidFill>
                  <a:srgbClr val="ffffcc"/>
                </a:solidFill>
                <a:latin typeface="Verdana"/>
              </a:rPr>
              <a:t>264 мет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графические показатели –    </a:t>
            </a:r>
            <a:r>
              <a:rPr b="1" i="1" lang="ru-RU" sz="4000" spc="-1" strike="noStrike">
                <a:solidFill>
                  <a:srgbClr val="ffffcc"/>
                </a:solidFill>
                <a:latin typeface="Verdana"/>
              </a:rPr>
              <a:t>262 мет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00"/>
                </a:solidFill>
                <a:latin typeface="Arial"/>
              </a:rPr>
              <a:t>Результаты работы:</a:t>
            </a:r>
            <a:endParaRPr b="0" lang="en-US" sz="6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о с помощью барометра атмосферное давлен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о какое нормальное атмосферное давление для нашего горо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числены высоты контрольных точек мест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34544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00"/>
                </a:solidFill>
                <a:latin typeface="Arial"/>
              </a:rPr>
              <a:t>основополагающий </a:t>
            </a:r>
            <a:br>
              <a:rPr sz="5400"/>
            </a:br>
            <a:r>
              <a:rPr b="1" lang="ru-RU" sz="5400" spc="-1" strike="noStrike">
                <a:solidFill>
                  <a:srgbClr val="336600"/>
                </a:solidFill>
                <a:latin typeface="Arial"/>
              </a:rPr>
              <a:t>вопрос: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10920" y="242100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можно ли зная атмосферное давление в данной географической точке вычислить и знать высоту этого места над уровнем моря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проблема исследования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2997000"/>
            <a:ext cx="849636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способы определения высоты места над уровнем моря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34544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00"/>
                </a:solidFill>
                <a:latin typeface="Arial"/>
              </a:rPr>
              <a:t>Объект и предмет исследования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881440"/>
            <a:ext cx="8229600" cy="32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пределение высоты местности над уровнем моря. Способ измерения с помощью вычисления среднего значения атмосферного давления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8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57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00"/>
                </a:solidFill>
                <a:latin typeface="Arial"/>
              </a:rPr>
              <a:t>Гипотеза исследования: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792160"/>
            <a:ext cx="8229600" cy="33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возможность определения высоты местности над уровнем моря с помощью измерения атмосферного давления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10560" cy="208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00"/>
                </a:solidFill>
                <a:latin typeface="Arial"/>
              </a:rPr>
              <a:t>Цель:</a:t>
            </a:r>
            <a:endParaRPr b="0" lang="en-US" sz="9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9280" y="3357360"/>
            <a:ext cx="7201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определить высоту местности над уровнем моря с помощью атмосферного давлени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адачи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91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учить теоретические основы этого вопро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яснить закономерности зависимости давления атмосферы и высоты местно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полнить замеры атмосферного давл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числить средний показатель измерен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троить и составить таблицы замеров и графи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полнить вычисления высоты мест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равнить полученные результаты вычислений и имеющиеся данные выс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ценить полученные результат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делать выво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Экспериментальная деятельность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изводилась на базе МОУ Лицей №3 г. Екатеринбург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боратории наблюдений за загрязнением атмосферы ГУ Свердловский ЦГМС-Р (Государственное Учреждение Свердловский Центр по Гидрометеорологии и мониторингу окружающей среды с региональными функциями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48:07Z</dcterms:created>
  <dc:creator>Вера</dc:creator>
  <dc:description/>
  <dc:language>en-US</dc:language>
  <cp:lastModifiedBy>Вера</cp:lastModifiedBy>
  <dcterms:modified xsi:type="dcterms:W3CDTF">2010-01-28T17:47:22Z</dcterms:modified>
  <cp:revision>15</cp:revision>
  <dc:subject/>
  <dc:title>Учебно – исследовательская работа «Определение высоты местности над уровнем моря с помощью атмосферного давления» </dc:title>
</cp:coreProperties>
</file>