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0.png" ContentType="image/png"/>
  <Override PartName="/ppt/media/image14.jpeg" ContentType="image/jpeg"/>
  <Override PartName="/ppt/media/image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4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36.wmf" ContentType="image/x-wmf"/>
  <Override PartName="/ppt/media/image37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27.jpeg" ContentType="image/jpeg"/>
  <Override PartName="/ppt/media/image1.jpeg" ContentType="image/jpeg"/>
  <Override PartName="/ppt/media/image1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BFD-BC43-4AD4-944B-67F03970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A3F-2816-471A-A146-E7B5189B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744-D3B9-4408-B43F-4100BAD3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7CF-70B7-4C25-A952-9132A4FB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3EFA-8556-4345-9042-68A94FDC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649D-8200-49E9-9167-8AE16C4D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718A-9B07-4CA7-A7BE-5670FD3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2BAB-FBA0-4D76-842F-38523066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4ED-4882-4C4C-96F7-93CBEDE1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AD39-C486-44A2-8578-6C8D53A1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E7F6-2778-4577-BF4F-55FF51FB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73F-D571-4EFE-9A27-D1CD9161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5598-4C1B-4C6C-A5DB-39F09915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275A-B58B-43EB-9B3A-07F53AB1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7205-5853-4856-A34D-54929C07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312E-D439-469E-8E78-9FE7823D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3608-224B-48C9-9850-650BC69E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EB98-AAE1-4E48-8FAE-440958A4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D0D0-B908-4315-BDB5-A8B425EC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63BA-B37C-4505-A5C2-D14B6468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F383-98E9-488F-85E4-32F628E9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E258-024E-45C8-86C2-C3FA126F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BCB-5C20-4F75-B749-B148ED09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B4B3-EFFA-4045-BFF6-7E1FC9E9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57EA-B69C-4DBA-A9D5-CBFCB61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48261-5463-4EE0-8172-A76156C5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689A5-78AB-48AE-8946-4C4A5333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A2B4-5A26-4FE4-B57B-96C035B5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6F44-B884-4965-B30A-D0C0053F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F7A2-5304-499D-B3EB-7CA3B02B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6E524-4790-4177-B6D2-4664008D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9EB5-BEB3-4A17-910D-8D2B2810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B0A6-278A-4F4C-B8FE-D81018DC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982-8452-4F66-9DE1-589D6B4F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A4B9-210C-47F8-84DA-01DD5BE2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48030-39F2-41DA-8ABC-4877688A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083C-414B-4026-BAF1-C6326237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B6F2-65A5-49F3-9D9C-F1F3F65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0F37-1561-4E75-94E5-73E93EF7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36FC5-318E-4B44-82D2-040E32C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A458-8F70-4BE7-94B6-F78AF5FC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0E26-99B2-44AC-AF25-48F97B25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FB33-FD50-4852-8087-73767DBD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07D0B-CC0A-4855-967B-AD6E3622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72C-FB31-4CCF-95C6-05CE9204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A90E-5244-4869-A39B-DC9CD6EE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A5E6B-3FFA-42E3-A3A3-ABAF7BEC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0D242-CB32-4DEC-9073-0FF7B70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36872-3CD3-4F10-9DCA-90F01E6B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0DB7-EA4B-47D7-BA80-233CB799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B2DBB-4A70-46E8-AA38-A82B3B16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F7529-FA09-411A-962E-1D009C35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94AD-9610-4B4C-BC2E-50BC828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F7394-2CBB-4FC9-8438-CD6C7F93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4137-D216-4DE8-9B39-D63A8DFD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01D-1CFF-4B62-8073-D5CF6577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51E5-EF69-4246-B32D-DD0FD375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42EBB-677F-498A-A047-E1704B5F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056B-73FF-4D46-AFFA-D0366595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94C26-E2CA-4EDF-A0F1-4AF14AF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5179-BFC4-4927-9937-1C21F28D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BFBDF-C8A0-4A4C-B44B-5FF7C9F0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886AF-52B7-4595-A90D-736B24FF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49CB2-68A7-4874-9485-575E730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4D5BC-5599-43E2-AF88-044BA038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256ED-794B-4A9E-9314-20BFEA70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D19-0A99-4E8B-ABFF-FEEE6BBE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E4D47-00F9-4622-A338-4A30B540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A490-0201-4936-B396-CDBC6350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9EDB-4CE1-4C8A-935B-A6DF48AC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2B119-2BE1-43F8-9A0C-FB4A5891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9BACE-DB41-4ECA-930B-7A745B2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083CD-FF96-4816-BCF6-F6927F85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E32F-F8A5-4AD2-9422-C89E912E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122F5-4783-4D43-9FBD-042A6CC9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E7792-026D-4B4A-B38E-49EF74F1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270B5-35FE-48A8-BF30-49B79316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8CC-7758-4DEC-8187-92135E60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663B-FD81-4A72-AE3B-C8E3B4B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E863D-99EA-4133-A063-2E77BC5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34BDD-86F1-476C-BBD3-ABF00156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AFA5F-58D6-472F-BD62-975D8B9D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16BD7-D8A6-4073-960F-C2E70BA1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BBC-430F-472D-A8F1-128B6C9F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1306-39D3-425B-A7B4-CECA83EF937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1A2A-8C09-49BD-8BE1-D3E801772CE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91E6-2675-4596-B226-39C8083B4C0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7C76-BB3D-4BFD-990D-154A36CC1D8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BD5A-C500-49D3-AF02-0853521B9D7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542F-C0DE-4035-A98A-BE0493B58F9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50FB-9808-4D71-ABE8-73064F0DBF9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ttvorchestvo.ru/index.php?productID=993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P1100456"/>
          <p:cNvPicPr/>
          <p:nvPr/>
        </p:nvPicPr>
        <p:blipFill>
          <a:blip r:embed="rId2"/>
          <a:stretch/>
        </p:blipFill>
        <p:spPr>
          <a:xfrm>
            <a:off x="2987640" y="981000"/>
            <a:ext cx="4013280" cy="5183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8480" y="17143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Рисунок 3" descr="004"/>
          <p:cNvPicPr/>
          <p:nvPr/>
        </p:nvPicPr>
        <p:blipFill>
          <a:blip r:embed="rId2"/>
          <a:stretch/>
        </p:blipFill>
        <p:spPr>
          <a:xfrm>
            <a:off x="2071800" y="2143080"/>
            <a:ext cx="2357280" cy="3643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61" name="Рисунок 4" descr="017"/>
          <p:cNvPicPr/>
          <p:nvPr/>
        </p:nvPicPr>
        <p:blipFill>
          <a:blip r:embed="rId3"/>
          <a:stretch/>
        </p:blipFill>
        <p:spPr>
          <a:xfrm>
            <a:off x="5786280" y="1714680"/>
            <a:ext cx="2786400" cy="30002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62" name="Прямоугольник 5" descr=""/>
          <p:cNvPicPr/>
          <p:nvPr/>
        </p:nvPicPr>
        <p:blipFill>
          <a:blip r:embed="rId4"/>
          <a:stretch/>
        </p:blipFill>
        <p:spPr>
          <a:xfrm>
            <a:off x="1779480" y="103320"/>
            <a:ext cx="6462720" cy="1145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Содержимое 3" descr="P1100444"/>
          <p:cNvPicPr/>
          <p:nvPr/>
        </p:nvPicPr>
        <p:blipFill>
          <a:blip r:embed="rId2"/>
          <a:srcRect l="-2234" t="0" r="0" b="0"/>
          <a:stretch/>
        </p:blipFill>
        <p:spPr>
          <a:xfrm>
            <a:off x="1500120" y="1714680"/>
            <a:ext cx="3214800" cy="4286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65" name="Рисунок 4" descr="P1100447"/>
          <p:cNvPicPr/>
          <p:nvPr/>
        </p:nvPicPr>
        <p:blipFill>
          <a:blip r:embed="rId3"/>
          <a:stretch/>
        </p:blipFill>
        <p:spPr>
          <a:xfrm>
            <a:off x="5286240" y="1928880"/>
            <a:ext cx="2829240" cy="3933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66" name="Прямоугольник 5" descr=""/>
          <p:cNvPicPr/>
          <p:nvPr/>
        </p:nvPicPr>
        <p:blipFill>
          <a:blip r:embed="rId4"/>
          <a:stretch/>
        </p:blipFill>
        <p:spPr>
          <a:xfrm>
            <a:off x="1920960" y="182520"/>
            <a:ext cx="7405560" cy="110340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6" descr=""/>
          <p:cNvPicPr/>
          <p:nvPr/>
        </p:nvPicPr>
        <p:blipFill>
          <a:blip r:embed="rId5"/>
          <a:stretch/>
        </p:blipFill>
        <p:spPr>
          <a:xfrm>
            <a:off x="1852560" y="109440"/>
            <a:ext cx="6469200" cy="110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Содержимое 3" descr="P1100449"/>
          <p:cNvPicPr/>
          <p:nvPr/>
        </p:nvPicPr>
        <p:blipFill>
          <a:blip r:embed="rId2"/>
          <a:stretch/>
        </p:blipFill>
        <p:spPr>
          <a:xfrm>
            <a:off x="1285920" y="3000240"/>
            <a:ext cx="2857320" cy="286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70" name="Рисунок 4" descr="P1100448"/>
          <p:cNvPicPr/>
          <p:nvPr/>
        </p:nvPicPr>
        <p:blipFill>
          <a:blip r:embed="rId3"/>
          <a:stretch/>
        </p:blipFill>
        <p:spPr>
          <a:xfrm>
            <a:off x="3714840" y="2421000"/>
            <a:ext cx="2784240" cy="3286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71" name="Рисунок 5" descr="006"/>
          <p:cNvPicPr/>
          <p:nvPr/>
        </p:nvPicPr>
        <p:blipFill>
          <a:blip r:embed="rId4"/>
          <a:stretch/>
        </p:blipFill>
        <p:spPr>
          <a:xfrm>
            <a:off x="6443640" y="1341360"/>
            <a:ext cx="2414520" cy="31194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72" name="Прямоугольник 6" descr=""/>
          <p:cNvPicPr/>
          <p:nvPr/>
        </p:nvPicPr>
        <p:blipFill>
          <a:blip r:embed="rId5"/>
          <a:stretch/>
        </p:blipFill>
        <p:spPr>
          <a:xfrm>
            <a:off x="1712880" y="109440"/>
            <a:ext cx="6748560" cy="1103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2000160"/>
            <a:ext cx="7499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Неправильно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выбранная школьная сумка приводит к нарушениям осанк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Врачи – ортопеды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специалисты по искривлению позвоночника, конечностей рук, но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Нарушение осанк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у детей нашей школ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Из 422 человек – у 85 нарушена осан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Из 26 ребят нашего класса – у 9 нарушение осанк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Прямоугольник 3" descr=""/>
          <p:cNvPicPr/>
          <p:nvPr/>
        </p:nvPicPr>
        <p:blipFill>
          <a:blip r:embed="rId2"/>
          <a:stretch/>
        </p:blipFill>
        <p:spPr>
          <a:xfrm>
            <a:off x="1133640" y="42840"/>
            <a:ext cx="7729200" cy="193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РАНЕЦ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должен иметь твердое дно.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Ручка должна быть пластмассовой. Лямки регулируются. Ранец имеет жесткую, хорошо прилегающую к спине ортопедическую спинку. Сделан из водонепроницаемой, нейлоновой ткани. На ремнях ранца и его кармашках – светоотражающие полос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Из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26 сумок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нашего класса только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10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соответствуют норма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Прямоугольник 3" descr=""/>
          <p:cNvPicPr/>
          <p:nvPr/>
        </p:nvPicPr>
        <p:blipFill>
          <a:blip r:embed="rId2"/>
          <a:stretch/>
        </p:blipFill>
        <p:spPr>
          <a:xfrm>
            <a:off x="1206360" y="109440"/>
            <a:ext cx="7656480" cy="110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03280" y="1412640"/>
            <a:ext cx="74995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первая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школьная сумка появилась в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век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выбор портфел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имеет огромное значение для здоровья школьник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наиболее удобной сумкой является ранец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статистик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школьных сумок в нашей школе следующая - из 161 сумк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портфелей – 5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рюкзаков  -  4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ранцев -  69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Прямоугольник 3" descr=""/>
          <p:cNvPicPr/>
          <p:nvPr/>
        </p:nvPicPr>
        <p:blipFill>
          <a:blip r:embed="rId2"/>
          <a:stretch/>
        </p:blipFill>
        <p:spPr>
          <a:xfrm>
            <a:off x="1908000" y="-6480"/>
            <a:ext cx="6870960" cy="1060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784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3" name="Диаграмма 4" descr=""/>
          <p:cNvPicPr/>
          <p:nvPr/>
        </p:nvPicPr>
        <p:blipFill>
          <a:blip r:embed="rId2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Содержимое 6"/>
          <p:cNvGraphicFramePr/>
          <p:nvPr/>
        </p:nvGraphicFramePr>
        <p:xfrm>
          <a:off x="1258920" y="1019160"/>
          <a:ext cx="7499160" cy="457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5" name="Содержимое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019160"/>
                    <a:ext cx="749916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711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285560"/>
            <a:ext cx="74995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из 26 человек нашего класса у 9 наблюдается нарушение осан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Прямоугольник 3" descr=""/>
          <p:cNvPicPr/>
          <p:nvPr/>
        </p:nvPicPr>
        <p:blipFill>
          <a:blip r:embed="rId2"/>
          <a:stretch/>
        </p:blipFill>
        <p:spPr>
          <a:xfrm>
            <a:off x="1133640" y="-30240"/>
            <a:ext cx="7729200" cy="11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Диаграмма 4"/>
          <p:cNvGraphicFramePr/>
          <p:nvPr/>
        </p:nvGraphicFramePr>
        <p:xfrm>
          <a:off x="1332000" y="2421000"/>
          <a:ext cx="7327800" cy="4259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0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2421000"/>
                    <a:ext cx="732780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-2880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Прямоугольник 3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7729560" cy="5956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P1100397"/>
          <p:cNvPicPr/>
          <p:nvPr/>
        </p:nvPicPr>
        <p:blipFill>
          <a:blip r:embed="rId3"/>
          <a:stretch/>
        </p:blipFill>
        <p:spPr>
          <a:xfrm>
            <a:off x="3492360" y="2637000"/>
            <a:ext cx="3095640" cy="214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74073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297160" y="285840"/>
            <a:ext cx="5989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2297160" y="428760"/>
            <a:ext cx="6132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5"/>
          <p:cNvSpPr/>
          <p:nvPr/>
        </p:nvSpPr>
        <p:spPr>
          <a:xfrm>
            <a:off x="2297160" y="500040"/>
            <a:ext cx="61326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6"/>
          <p:cNvSpPr/>
          <p:nvPr/>
        </p:nvSpPr>
        <p:spPr>
          <a:xfrm>
            <a:off x="225576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8"/>
          <p:cNvSpPr/>
          <p:nvPr/>
        </p:nvSpPr>
        <p:spPr>
          <a:xfrm>
            <a:off x="229716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9"/>
          <p:cNvSpPr/>
          <p:nvPr/>
        </p:nvSpPr>
        <p:spPr>
          <a:xfrm>
            <a:off x="1763640" y="2997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0"/>
          <p:cNvSpPr/>
          <p:nvPr/>
        </p:nvSpPr>
        <p:spPr>
          <a:xfrm>
            <a:off x="318924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Прямоугольник 11" descr=""/>
          <p:cNvPicPr/>
          <p:nvPr/>
        </p:nvPicPr>
        <p:blipFill>
          <a:blip r:embed="rId2"/>
          <a:stretch/>
        </p:blipFill>
        <p:spPr>
          <a:xfrm>
            <a:off x="1335240" y="262080"/>
            <a:ext cx="7626240" cy="1931760"/>
          </a:xfrm>
          <a:prstGeom prst="rect">
            <a:avLst/>
          </a:prstGeom>
          <a:ln w="0">
            <a:noFill/>
          </a:ln>
        </p:spPr>
      </p:pic>
      <p:sp>
        <p:nvSpPr>
          <p:cNvPr id="328" name="Подзаголовок 2"/>
          <p:cNvSpPr/>
          <p:nvPr/>
        </p:nvSpPr>
        <p:spPr>
          <a:xfrm>
            <a:off x="1403280" y="2421000"/>
            <a:ext cx="74264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                      </a:t>
            </a: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       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Ученица 1 «а»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               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320e04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e0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МОУ НОШ №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                               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Ковригина 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                              </a:t>
            </a:r>
            <a:r>
              <a:rPr b="0" lang="ru-RU" sz="2400" spc="-1" strike="noStrike">
                <a:solidFill>
                  <a:srgbClr val="320e04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Руководитель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                                       </a:t>
            </a: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амулыжко Л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7" descr="P1100248"/>
          <p:cNvPicPr/>
          <p:nvPr/>
        </p:nvPicPr>
        <p:blipFill>
          <a:blip r:embed="rId3"/>
          <a:stretch/>
        </p:blipFill>
        <p:spPr>
          <a:xfrm>
            <a:off x="1403280" y="2492280"/>
            <a:ext cx="3571920" cy="279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2428920"/>
            <a:ext cx="74995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происхождения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кольных сумо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Прямоугольник 3" descr=""/>
          <p:cNvPicPr/>
          <p:nvPr/>
        </p:nvPicPr>
        <p:blipFill>
          <a:blip r:embed="rId2"/>
          <a:stretch/>
        </p:blipFill>
        <p:spPr>
          <a:xfrm>
            <a:off x="2004840" y="255600"/>
            <a:ext cx="7145640" cy="1933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857240"/>
            <a:ext cx="7499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яснить роль портфеля в жизни школьни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ронаблюдать за разновидностью школьных сумо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яснить их влияние на здоровье де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зафиксировать нарушение осанки у детей нашего класс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Прямоугольник 3" descr=""/>
          <p:cNvPicPr/>
          <p:nvPr/>
        </p:nvPicPr>
        <p:blipFill>
          <a:blip r:embed="rId2"/>
          <a:stretch/>
        </p:blipFill>
        <p:spPr>
          <a:xfrm>
            <a:off x="2292480" y="328680"/>
            <a:ext cx="5857920" cy="109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28480" y="2928960"/>
            <a:ext cx="749772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выбор правильной сумки дл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школьника – это правильная осанка, залог его здоровь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Прямоугольник 3" descr=""/>
          <p:cNvPicPr/>
          <p:nvPr/>
        </p:nvPicPr>
        <p:blipFill>
          <a:blip r:embed="rId2"/>
          <a:stretch/>
        </p:blipFill>
        <p:spPr>
          <a:xfrm>
            <a:off x="2279520" y="396720"/>
            <a:ext cx="6572520" cy="1938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76360" y="198864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Существуют разные виды школьных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ум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портфели, ранцы, рюкзак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Прямоугольник 3" descr=""/>
          <p:cNvPicPr/>
          <p:nvPr/>
        </p:nvPicPr>
        <p:blipFill>
          <a:blip r:embed="rId2"/>
          <a:stretch/>
        </p:blipFill>
        <p:spPr>
          <a:xfrm>
            <a:off x="596880" y="109440"/>
            <a:ext cx="8474040" cy="1938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001"/>
          <p:cNvPicPr/>
          <p:nvPr/>
        </p:nvPicPr>
        <p:blipFill>
          <a:blip r:embed="rId3"/>
          <a:stretch/>
        </p:blipFill>
        <p:spPr>
          <a:xfrm>
            <a:off x="1643040" y="3857760"/>
            <a:ext cx="1785960" cy="22921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003"/>
          <p:cNvPicPr/>
          <p:nvPr/>
        </p:nvPicPr>
        <p:blipFill>
          <a:blip r:embed="rId4"/>
          <a:stretch/>
        </p:blipFill>
        <p:spPr>
          <a:xfrm>
            <a:off x="4500720" y="3429000"/>
            <a:ext cx="1857240" cy="22734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45" name="Rectangle 9"/>
          <p:cNvSpPr/>
          <p:nvPr/>
        </p:nvSpPr>
        <p:spPr>
          <a:xfrm>
            <a:off x="720" y="205632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0" descr="012"/>
          <p:cNvPicPr/>
          <p:nvPr/>
        </p:nvPicPr>
        <p:blipFill>
          <a:blip r:embed="rId5"/>
          <a:stretch/>
        </p:blipFill>
        <p:spPr>
          <a:xfrm>
            <a:off x="7000920" y="3143160"/>
            <a:ext cx="1800360" cy="2095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857240"/>
            <a:ext cx="7499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ртфел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французское слов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рт (порте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носить и второг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 «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фель»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лист бумаг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ртфель – носить бумагу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5" descr="014"/>
          <p:cNvPicPr/>
          <p:nvPr/>
        </p:nvPicPr>
        <p:blipFill>
          <a:blip r:embed="rId2"/>
          <a:stretch/>
        </p:blipFill>
        <p:spPr>
          <a:xfrm>
            <a:off x="7236000" y="3429000"/>
            <a:ext cx="1584000" cy="2376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0" name="Прямоугольник 5" descr=""/>
          <p:cNvPicPr/>
          <p:nvPr/>
        </p:nvPicPr>
        <p:blipFill>
          <a:blip r:embed="rId3"/>
          <a:stretch/>
        </p:blipFill>
        <p:spPr>
          <a:xfrm>
            <a:off x="1566720" y="-171360"/>
            <a:ext cx="554688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ранцы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носили немецкие солдаты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 17 веке и назывались он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«заплечные походные мешки».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6" descr="Ранец школьный ЗВЕРУШКИ 4 мотив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3357720"/>
            <a:ext cx="3713040" cy="2590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Рюкзаки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появились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гораздо позже – в 20 век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4" descr="016"/>
          <p:cNvPicPr/>
          <p:nvPr/>
        </p:nvPicPr>
        <p:blipFill>
          <a:blip r:embed="rId2"/>
          <a:stretch/>
        </p:blipFill>
        <p:spPr>
          <a:xfrm>
            <a:off x="6804000" y="1916280"/>
            <a:ext cx="1749600" cy="23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57" name="Rectangle 5"/>
          <p:cNvSpPr/>
          <p:nvPr/>
        </p:nvSpPr>
        <p:spPr>
          <a:xfrm>
            <a:off x="1547640" y="2852640"/>
            <a:ext cx="43196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шей шко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161 сум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тфелей  - 5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юкзаков     -  4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нцев         - 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07:52Z</dcterms:created>
  <dc:creator>Admin</dc:creator>
  <dc:description/>
  <dc:language>en-US</dc:language>
  <cp:lastModifiedBy>CV</cp:lastModifiedBy>
  <dcterms:modified xsi:type="dcterms:W3CDTF">2010-01-30T03:52:20Z</dcterms:modified>
  <cp:revision>47</cp:revision>
  <dc:subject/>
  <dc:title>Слайд 1</dc:title>
</cp:coreProperties>
</file>