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1CB-BE00-460F-AE68-A5226DC9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8FD-498F-4727-B1E1-D99DF97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DA6-6172-4FB0-B329-32B69A39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7E6-AA2C-4C84-BB6F-70475C0F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312-1B0E-4BA5-90EC-65173D5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A37-D3E8-4C31-8BEF-F933389A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91D-333B-4CAC-9E40-D920FD1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B4B-2910-48F8-BD14-B9F15091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737-C172-4620-893A-30CDD388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8CF-5B82-49FA-B202-24FFC2A2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2A3-1A80-4DDF-B7EA-B5359F0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007-3493-4A58-97E0-118E1EF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087-C512-4545-BA2C-2009DE1F474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146A-A53D-48D7-9917-FE5370AFE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&#1082;...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43040" y="2928600"/>
            <a:ext cx="57866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пециальные символы</a:t>
            </a: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 (слайд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епечатаемые знаки</a:t>
            </a: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(слайд 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ставка мягкого переноса</a:t>
            </a: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 (слайд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Автоматическая вставка переноса</a:t>
            </a: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 (слайд 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Вставка неразрывного дефиса</a:t>
            </a: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 (слайд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Подчеркивание текста</a:t>
            </a: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 (слайд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ортировка по алфавиту (слайд 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7"/>
          <a:stretch/>
        </p:blipFill>
        <p:spPr>
          <a:xfrm>
            <a:off x="1054080" y="1328760"/>
            <a:ext cx="6657840" cy="110340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4AA8-508D-4B07-8CB3-86563F60E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5"/>
          <p:cNvSpPr/>
          <p:nvPr/>
        </p:nvSpPr>
        <p:spPr>
          <a:xfrm>
            <a:off x="2286000" y="6357960"/>
            <a:ext cx="4429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Агеев Евгений,  8 класс, МОУ «СОШ №5», г.Ступ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678672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8883" y="3837"/>
                </a:moveTo>
                <a:lnTo>
                  <a:pt x="21459" y="6448"/>
                </a:lnTo>
                <a:lnTo>
                  <a:pt x="21459" y="4707"/>
                </a:lnTo>
                <a:lnTo>
                  <a:pt x="23235" y="4707"/>
                </a:lnTo>
                <a:lnTo>
                  <a:pt x="23235" y="8224"/>
                </a:lnTo>
                <a:lnTo>
                  <a:pt x="25846" y="10800"/>
                </a:lnTo>
                <a:lnTo>
                  <a:pt x="24192" y="10800"/>
                </a:lnTo>
                <a:lnTo>
                  <a:pt x="24192" y="17989"/>
                </a:lnTo>
                <a:lnTo>
                  <a:pt x="13574" y="17989"/>
                </a:lnTo>
                <a:lnTo>
                  <a:pt x="13574" y="10800"/>
                </a:lnTo>
                <a:lnTo>
                  <a:pt x="11920" y="10800"/>
                </a:lnTo>
                <a:close/>
              </a:path>
              <a:path fill="darkenLess" w="37766" h="21600">
                <a:moveTo>
                  <a:pt x="21459" y="6448"/>
                </a:moveTo>
                <a:lnTo>
                  <a:pt x="21459" y="4707"/>
                </a:lnTo>
                <a:lnTo>
                  <a:pt x="23235" y="4707"/>
                </a:lnTo>
                <a:lnTo>
                  <a:pt x="23235" y="8224"/>
                </a:lnTo>
                <a:close/>
              </a:path>
              <a:path fill="darkenLess" w="37766" h="21600">
                <a:moveTo>
                  <a:pt x="17960" y="14299"/>
                </a:moveTo>
                <a:lnTo>
                  <a:pt x="19806" y="14299"/>
                </a:lnTo>
                <a:lnTo>
                  <a:pt x="19806" y="17989"/>
                </a:lnTo>
                <a:lnTo>
                  <a:pt x="24192" y="17989"/>
                </a:lnTo>
                <a:lnTo>
                  <a:pt x="24192" y="10800"/>
                </a:lnTo>
                <a:lnTo>
                  <a:pt x="13574" y="10800"/>
                </a:lnTo>
                <a:lnTo>
                  <a:pt x="13574" y="17989"/>
                </a:lnTo>
                <a:lnTo>
                  <a:pt x="17960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71680" y="1428840"/>
          <a:ext cx="7929360" cy="4878360"/>
        </p:xfrm>
        <a:graphic>
          <a:graphicData uri="http://schemas.openxmlformats.org/drawingml/2006/table">
            <a:tbl>
              <a:tblPr/>
              <a:tblGrid>
                <a:gridCol w="1066680"/>
                <a:gridCol w="2960640"/>
                <a:gridCol w="390204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н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очетание клави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линное 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t+Ctrl+(Num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роткое 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trl+(Num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разрывный деф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trl+Shift+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ягкий пере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trl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разрывный проб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тавка-символ-специаль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торск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тавка-символ-специаль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оварный 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тавка-символ-специаль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знак конца абза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тавка-символ-специаль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агра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тавка-символ-специаль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храняемый 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тавка-символ-специаль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ногот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тавка-символ-специаль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Прямоугольник 6" descr=""/>
          <p:cNvPicPr/>
          <p:nvPr/>
        </p:nvPicPr>
        <p:blipFill>
          <a:blip r:embed="rId1"/>
          <a:stretch/>
        </p:blipFill>
        <p:spPr>
          <a:xfrm>
            <a:off x="103320" y="274680"/>
            <a:ext cx="863892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DDE9-83CC-4596-A48C-5F4CFCBE5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86120" y="785520"/>
            <a:ext cx="5214960" cy="1500120"/>
          </a:xfrm>
          <a:prstGeom prst="rect">
            <a:avLst/>
          </a:prstGeom>
          <a:solidFill>
            <a:srgbClr val="fac090"/>
          </a:solidFill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параметр можно быстро включить и отключить, щелкнув кнопк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ечатаемые знаки ¶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групп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вкладк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ав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56920"/>
            <a:ext cx="80438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ки табуляци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Отображение знаков табуляции в виде стрел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ел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Отображение пробелов между словами в виде точ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ки абзацев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Отображение концов абзацев с помощью знаков абза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крытый текст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Отображение текста, форматированного как скрытого, с помощью пунктирного подчерки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ягкие перенос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Отображение переносов, указывающих на место переноса слова в конце строки. Если слово фактически не разбивается в конце строки, мягкие переносы не печатаются. Если слово разбивается в конце строки, мягкий перенос печатается как обычный дефи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4" descr="4.bmp"/>
          <p:cNvPicPr/>
          <p:nvPr/>
        </p:nvPicPr>
        <p:blipFill>
          <a:blip r:embed="rId1"/>
          <a:stretch/>
        </p:blipFill>
        <p:spPr>
          <a:xfrm>
            <a:off x="0" y="857160"/>
            <a:ext cx="3782880" cy="157176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7286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6" descr=""/>
          <p:cNvPicPr/>
          <p:nvPr/>
        </p:nvPicPr>
        <p:blipFill>
          <a:blip r:embed="rId2"/>
          <a:stretch/>
        </p:blipFill>
        <p:spPr>
          <a:xfrm>
            <a:off x="920880" y="-171360"/>
            <a:ext cx="7931160" cy="109836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166D-9B1E-4495-B492-A92D7B348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0040" y="2928600"/>
            <a:ext cx="81439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вкладк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чальная страниц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групп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бзац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ыберите команд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рыть/Отобрази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Щелкните слово в месте вставки мягкого перенос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жмите сочетание клавиш CTRL+ДЕФИ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675320" cy="2000160"/>
          </a:xfrm>
          <a:prstGeom prst="rect">
            <a:avLst/>
          </a:prstGeom>
          <a:ln w="0">
            <a:noFill/>
          </a:ln>
        </p:spPr>
      </p:pic>
      <p:sp>
        <p:nvSpPr>
          <p:cNvPr id="59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7786800" y="614376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5642"/>
                </a:moveTo>
                <a:lnTo>
                  <a:pt x="13376" y="8253"/>
                </a:ln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lnTo>
                  <a:pt x="17763" y="12605"/>
                </a:lnTo>
                <a:lnTo>
                  <a:pt x="16109" y="12605"/>
                </a:lnTo>
                <a:lnTo>
                  <a:pt x="16109" y="19794"/>
                </a:lnTo>
                <a:lnTo>
                  <a:pt x="5491" y="19794"/>
                </a:lnTo>
                <a:lnTo>
                  <a:pt x="5491" y="12605"/>
                </a:lnTo>
                <a:lnTo>
                  <a:pt x="3837" y="12605"/>
                </a:lnTo>
                <a:close/>
              </a:path>
              <a:path fill="darkenLess" w="21600" h="25209">
                <a:moveTo>
                  <a:pt x="13376" y="8253"/>
                </a:move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close/>
              </a:path>
              <a:path fill="darkenLess" w="21600" h="25209">
                <a:moveTo>
                  <a:pt x="9877" y="16103"/>
                </a:moveTo>
                <a:lnTo>
                  <a:pt x="11723" y="16103"/>
                </a:lnTo>
                <a:lnTo>
                  <a:pt x="11723" y="19794"/>
                </a:lnTo>
                <a:lnTo>
                  <a:pt x="16109" y="19794"/>
                </a:lnTo>
                <a:lnTo>
                  <a:pt x="16109" y="12605"/>
                </a:lnTo>
                <a:lnTo>
                  <a:pt x="5491" y="12605"/>
                </a:lnTo>
                <a:lnTo>
                  <a:pt x="5491" y="19794"/>
                </a:lnTo>
                <a:lnTo>
                  <a:pt x="9877" y="19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29040" y="5286240"/>
          <a:ext cx="4329000" cy="701640"/>
        </p:xfrm>
        <a:graphic>
          <a:graphicData uri="http://schemas.openxmlformats.org/drawingml/2006/table">
            <a:tbl>
              <a:tblPr/>
              <a:tblGrid>
                <a:gridCol w="512640"/>
                <a:gridCol w="1646280"/>
                <a:gridCol w="21700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ягкий перен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trl+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  <p:pic>
        <p:nvPicPr>
          <p:cNvPr id="61" name="Прямоугольник 6" descr=""/>
          <p:cNvPicPr/>
          <p:nvPr/>
        </p:nvPicPr>
        <p:blipFill>
          <a:blip r:embed="rId2"/>
          <a:stretch/>
        </p:blipFill>
        <p:spPr>
          <a:xfrm>
            <a:off x="1060560" y="-109440"/>
            <a:ext cx="7235640" cy="82224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0E0B-A887-464A-B9A6-84BCD1B95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5840" y="3571560"/>
            <a:ext cx="81439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е текст, где необходимо расставить перенос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вкладк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кет страниц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групп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метры страниц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ыберите команд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тановка перенос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затем выберите команд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5324760" cy="164304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7429680" y="6000840"/>
            <a:ext cx="571320" cy="4284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2"/>
          <a:stretch/>
        </p:blipFill>
        <p:spPr>
          <a:xfrm>
            <a:off x="1627200" y="171360"/>
            <a:ext cx="6608880" cy="87624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AB8F-69D4-41E7-B43D-B5F7A9158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99680" y="1214280"/>
            <a:ext cx="8186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азрывный дефис предотвращает разрыв стоящих в конце строки слов, чисел или фраз, содержащих дефис. Например, можно предотвратить разрыв даты рождения. При этом номер целиком будет перенесен в начало следующей стр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ановите курсор в то место, куда следует вставить неразрывный дефи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жмите клавиши CTRL+SHIFT+ДЕФИ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7215120" y="564372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4" y="10800"/>
                </a:lnTo>
                <a:close/>
              </a:path>
              <a:path fill="darkenLess" w="21614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4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4" descr=""/>
          <p:cNvPicPr/>
          <p:nvPr/>
        </p:nvPicPr>
        <p:blipFill>
          <a:blip r:embed="rId1"/>
          <a:stretch/>
        </p:blipFill>
        <p:spPr>
          <a:xfrm>
            <a:off x="774720" y="49320"/>
            <a:ext cx="7650000" cy="742680"/>
          </a:xfrm>
          <a:prstGeom prst="rect">
            <a:avLst/>
          </a:prstGeom>
          <a:ln w="0">
            <a:noFill/>
          </a:ln>
        </p:spPr>
      </p:pic>
      <p:sp>
        <p:nvSpPr>
          <p:cNvPr id="7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AAAC-24BF-4D78-A304-0ADC5CCF6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85840" y="1000080"/>
            <a:ext cx="85723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самым быстрым способом подчеркнуть текст, надо нажать клавиши CTRL+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затем ввести текст. Чтобы прекратить подчеркивание, следует еще раз нажать клавиши CTRL+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уществуют и другие способы подчеркивания текста и пробел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57120" y="4000680"/>
            <a:ext cx="8143920" cy="2085840"/>
          </a:xfrm>
          <a:prstGeom prst="rect">
            <a:avLst/>
          </a:prstGeom>
          <a:ln w="0">
            <a:noFill/>
          </a:ln>
        </p:spPr>
      </p:pic>
      <p:sp>
        <p:nvSpPr>
          <p:cNvPr id="77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7858080" y="61437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3837"/>
                </a:moveTo>
                <a:lnTo>
                  <a:pt x="15181" y="6448"/>
                </a:lnTo>
                <a:lnTo>
                  <a:pt x="15181" y="4707"/>
                </a:lnTo>
                <a:lnTo>
                  <a:pt x="16956" y="4707"/>
                </a:lnTo>
                <a:lnTo>
                  <a:pt x="16956" y="8224"/>
                </a:lnTo>
                <a:lnTo>
                  <a:pt x="19567" y="10800"/>
                </a:lnTo>
                <a:lnTo>
                  <a:pt x="17914" y="10800"/>
                </a:lnTo>
                <a:lnTo>
                  <a:pt x="17914" y="17989"/>
                </a:lnTo>
                <a:lnTo>
                  <a:pt x="7295" y="17989"/>
                </a:lnTo>
                <a:lnTo>
                  <a:pt x="7295" y="10800"/>
                </a:lnTo>
                <a:lnTo>
                  <a:pt x="5642" y="10800"/>
                </a:lnTo>
                <a:close/>
              </a:path>
              <a:path fill="darkenLess" w="25209" h="21600">
                <a:moveTo>
                  <a:pt x="15181" y="6448"/>
                </a:moveTo>
                <a:lnTo>
                  <a:pt x="15181" y="4707"/>
                </a:lnTo>
                <a:lnTo>
                  <a:pt x="16956" y="4707"/>
                </a:lnTo>
                <a:lnTo>
                  <a:pt x="16956" y="8224"/>
                </a:lnTo>
                <a:close/>
              </a:path>
              <a:path fill="darkenLess" w="25209" h="21600">
                <a:moveTo>
                  <a:pt x="11682" y="14299"/>
                </a:moveTo>
                <a:lnTo>
                  <a:pt x="13527" y="14299"/>
                </a:lnTo>
                <a:lnTo>
                  <a:pt x="13527" y="17989"/>
                </a:lnTo>
                <a:lnTo>
                  <a:pt x="17914" y="17989"/>
                </a:lnTo>
                <a:lnTo>
                  <a:pt x="17914" y="10800"/>
                </a:lnTo>
                <a:lnTo>
                  <a:pt x="7295" y="10800"/>
                </a:lnTo>
                <a:lnTo>
                  <a:pt x="7295" y="17989"/>
                </a:lnTo>
                <a:lnTo>
                  <a:pt x="1168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5" descr=""/>
          <p:cNvPicPr/>
          <p:nvPr/>
        </p:nvPicPr>
        <p:blipFill>
          <a:blip r:embed="rId2"/>
          <a:stretch/>
        </p:blipFill>
        <p:spPr>
          <a:xfrm>
            <a:off x="633240" y="122400"/>
            <a:ext cx="7877520" cy="74268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B2F7-2909-4B7E-A95F-776EAD9CA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85840" y="2285640"/>
            <a:ext cx="8400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дноуровневый нумерованный или маркированный список можно быстро и легко отсортировать в алфавитном порядк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делите текст нумерованного или маркированного спис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вкладк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ачальная страниц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 групп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бзац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ыберите команду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ортиров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диалоговом окн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ортировка текс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 групп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начала п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ыберите пункт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бзаца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а затем установите переключатель в положени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 возрастанию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 убыванию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672080" cy="192888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7715160" y="6143760"/>
            <a:ext cx="714600" cy="42840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18" h="21600">
                <a:moveTo>
                  <a:pt x="0" y="0"/>
                </a:moveTo>
                <a:lnTo>
                  <a:pt x="36018" y="0"/>
                </a:lnTo>
                <a:lnTo>
                  <a:pt x="36018" y="21600"/>
                </a:lnTo>
                <a:lnTo>
                  <a:pt x="0" y="21600"/>
                </a:lnTo>
                <a:close/>
              </a:path>
              <a:path fill="lightenLess" w="36018" h="21600">
                <a:moveTo>
                  <a:pt x="0" y="0"/>
                </a:moveTo>
                <a:lnTo>
                  <a:pt x="36018" y="0"/>
                </a:lnTo>
                <a:lnTo>
                  <a:pt x="34618" y="1400"/>
                </a:lnTo>
                <a:lnTo>
                  <a:pt x="1400" y="1400"/>
                </a:lnTo>
                <a:close/>
              </a:path>
              <a:path fill="darken" w="36018" h="21600">
                <a:moveTo>
                  <a:pt x="36018" y="0"/>
                </a:moveTo>
                <a:lnTo>
                  <a:pt x="36018" y="21600"/>
                </a:lnTo>
                <a:lnTo>
                  <a:pt x="34618" y="20200"/>
                </a:lnTo>
                <a:lnTo>
                  <a:pt x="34618" y="1400"/>
                </a:lnTo>
                <a:close/>
              </a:path>
              <a:path fill="darkenLess" w="36018" h="21600">
                <a:moveTo>
                  <a:pt x="36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8" y="20200"/>
                </a:lnTo>
                <a:close/>
              </a:path>
              <a:path fill="lighten" w="36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8" h="21600">
                <a:moveTo>
                  <a:pt x="18009" y="3837"/>
                </a:moveTo>
                <a:lnTo>
                  <a:pt x="20585" y="6448"/>
                </a:lnTo>
                <a:lnTo>
                  <a:pt x="20585" y="4707"/>
                </a:lnTo>
                <a:lnTo>
                  <a:pt x="22361" y="4707"/>
                </a:lnTo>
                <a:lnTo>
                  <a:pt x="22361" y="8224"/>
                </a:lnTo>
                <a:lnTo>
                  <a:pt x="24972" y="10800"/>
                </a:lnTo>
                <a:lnTo>
                  <a:pt x="23318" y="10800"/>
                </a:lnTo>
                <a:lnTo>
                  <a:pt x="23318" y="17989"/>
                </a:lnTo>
                <a:lnTo>
                  <a:pt x="12700" y="17989"/>
                </a:lnTo>
                <a:lnTo>
                  <a:pt x="12700" y="10800"/>
                </a:lnTo>
                <a:lnTo>
                  <a:pt x="11046" y="10800"/>
                </a:lnTo>
                <a:close/>
              </a:path>
              <a:path fill="darkenLess" w="36018" h="21600">
                <a:moveTo>
                  <a:pt x="20585" y="6448"/>
                </a:moveTo>
                <a:lnTo>
                  <a:pt x="20585" y="4707"/>
                </a:lnTo>
                <a:lnTo>
                  <a:pt x="22361" y="4707"/>
                </a:lnTo>
                <a:lnTo>
                  <a:pt x="22361" y="8224"/>
                </a:lnTo>
                <a:close/>
              </a:path>
              <a:path fill="darkenLess" w="36018" h="21600">
                <a:moveTo>
                  <a:pt x="17086" y="14299"/>
                </a:moveTo>
                <a:lnTo>
                  <a:pt x="18932" y="14299"/>
                </a:lnTo>
                <a:lnTo>
                  <a:pt x="18932" y="17989"/>
                </a:lnTo>
                <a:lnTo>
                  <a:pt x="23318" y="17989"/>
                </a:lnTo>
                <a:lnTo>
                  <a:pt x="23318" y="10800"/>
                </a:lnTo>
                <a:lnTo>
                  <a:pt x="12700" y="10800"/>
                </a:lnTo>
                <a:lnTo>
                  <a:pt x="12700" y="17989"/>
                </a:lnTo>
                <a:lnTo>
                  <a:pt x="17086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5" descr=""/>
          <p:cNvPicPr/>
          <p:nvPr/>
        </p:nvPicPr>
        <p:blipFill>
          <a:blip r:embed="rId2"/>
          <a:stretch/>
        </p:blipFill>
        <p:spPr>
          <a:xfrm>
            <a:off x="4925880" y="291960"/>
            <a:ext cx="4016520" cy="10242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9F98-F3CA-488C-9951-0EC23B1FF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43:56Z</dcterms:created>
  <dc:creator>SamLab.ws</dc:creator>
  <dc:description/>
  <dc:language>en-US</dc:language>
  <cp:lastModifiedBy>Sparrow7489</cp:lastModifiedBy>
  <dcterms:modified xsi:type="dcterms:W3CDTF">2010-01-24T11:39:31Z</dcterms:modified>
  <cp:revision>13</cp:revision>
  <dc:subject/>
  <dc:title>Слайд 1</dc:title>
</cp:coreProperties>
</file>