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F00-EBD9-4A30-8829-45858B23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052-2CAD-46CE-8B41-44E40B2C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8A0-5722-45D1-83A7-231B1041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4BA-14AE-426E-8269-24A547E1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2013-45FC-4D38-8FB8-ACAA36B4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F3AA-79DC-47F3-929B-853A5B69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31E4-2596-4BC8-8EF4-8B1A8C37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4F92-A5E8-4971-A8AD-AAF7B350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6BD6-76E7-4E31-A1E7-C1A55C05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5D57-5476-4E1F-AB8B-3051CDC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58ED-836F-4DB8-A257-2C09829C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37B-4DCE-44A5-B0BD-D3A16C05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5B25-818B-458F-BD95-015AED5B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CE3C-56E3-4A4D-87F8-04DD5B8D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660-95DB-4744-99A4-511C075E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DE38-4624-44BD-B156-CB0D936A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ECA-233C-4388-B4EB-E7BC2075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1E4-49BF-4EEB-AE2A-67D75DC2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07D-2EC8-4CDA-9CAD-5DF5FB03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409-4BD1-46DD-B1FE-7D686F63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990-386A-47DF-AA0C-D887B8BE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ADF-8B19-4368-9358-F3F3E54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36E-953D-4D90-B6B5-11ABEEC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CD7-2174-4248-9430-F0DA2059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43DB-A6AF-42F5-955B-EF4899AAC2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F69E-2707-49C2-99B1-B9E112BCCF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2627280" y="40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Мир систем координ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2930400" cy="3168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684360" y="5084640"/>
            <a:ext cx="1079280" cy="108108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2920" y="1484280"/>
            <a:ext cx="1440" cy="12240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4508640"/>
            <a:ext cx="151272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27040" y="2905200"/>
            <a:ext cx="1744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сканирование0001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1728720" cy="20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2556000" y="1916280"/>
          <a:ext cx="6587640" cy="4317840"/>
        </p:xfrm>
        <a:graphic>
          <a:graphicData uri="http://schemas.openxmlformats.org/drawingml/2006/table">
            <a:tbl>
              <a:tblPr/>
              <a:tblGrid>
                <a:gridCol w="2194560"/>
                <a:gridCol w="1827360"/>
                <a:gridCol w="2565720"/>
              </a:tblGrid>
              <a:tr h="43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соуголь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и неперпендикуляр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ординатная сетка образует параллел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67052E-007 L 0.48038 -0.26358 E">
                                      <p:cBhvr>
                                        <p:cTn id="60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сканирование0004"/>
          <p:cNvPicPr/>
          <p:nvPr/>
        </p:nvPicPr>
        <p:blipFill>
          <a:blip r:embed="rId1"/>
          <a:stretch/>
        </p:blipFill>
        <p:spPr>
          <a:xfrm>
            <a:off x="285840" y="1143000"/>
            <a:ext cx="8501040" cy="54291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3418560" y="26028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олярная система координ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2537280" y="2173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775440" y="19162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16200000">
            <a:off x="2819880" y="1221120"/>
            <a:ext cx="1994040" cy="2665440"/>
          </a:xfrm>
          <a:prstGeom prst="rtTriangl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1918080" y="33577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310360" y="3284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5238360" y="9810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2915280" y="3141720"/>
            <a:ext cx="288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3367800" y="299736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φ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140360" y="3933720"/>
            <a:ext cx="1008000" cy="379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012000" y="1989000"/>
            <a:ext cx="1152360" cy="655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64000" y="3859560"/>
            <a:ext cx="23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х=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5292720" y="20563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=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4298040" y="38185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.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3353400" y="193356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11280" y="691920"/>
            <a:ext cx="0" cy="3384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3645000"/>
            <a:ext cx="74898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8389080" y="3556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228600"/>
            <a:ext cx="4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787640" y="31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3141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H:\Documents and Settings\Администратор\Рабочий стол\1.jpg"/>
          <p:cNvPicPr/>
          <p:nvPr/>
        </p:nvPicPr>
        <p:blipFill>
          <a:blip r:embed="rId1"/>
          <a:stretch/>
        </p:blipFill>
        <p:spPr>
          <a:xfrm>
            <a:off x="611280" y="836640"/>
            <a:ext cx="2714400" cy="26845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"/>
          <p:cNvPicPr/>
          <p:nvPr/>
        </p:nvPicPr>
        <p:blipFill>
          <a:blip r:embed="rId2"/>
          <a:stretch/>
        </p:blipFill>
        <p:spPr>
          <a:xfrm>
            <a:off x="5715000" y="836640"/>
            <a:ext cx="3429000" cy="27147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214200" y="785880"/>
            <a:ext cx="135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79280" y="8366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5379480" y="10000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Рисунок 5" descr="H:\Documents and Settings\Администратор\Рабочий стол\3.jpg"/>
          <p:cNvPicPr/>
          <p:nvPr/>
        </p:nvPicPr>
        <p:blipFill>
          <a:blip r:embed="rId3"/>
          <a:srcRect l="1014" t="1468" r="0" b="2057"/>
          <a:stretch/>
        </p:blipFill>
        <p:spPr>
          <a:xfrm>
            <a:off x="2771640" y="3733920"/>
            <a:ext cx="5591160" cy="3124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2215440" y="3860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3348000" y="189000"/>
            <a:ext cx="61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Из декартовой в криволинейну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133416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3687840" y="164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348000" y="1413000"/>
            <a:ext cx="2427480" cy="63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3419640" y="2133720"/>
            <a:ext cx="2158920" cy="76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99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2923200"/>
            <a:ext cx="1800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alibri"/>
              </a:rPr>
              <a:t>х = с =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4427640" y="2781360"/>
            <a:ext cx="196920" cy="865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68800" y="359460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395280" y="4581360"/>
            <a:ext cx="1908360" cy="1020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8720" y="345636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724360" y="404640"/>
            <a:ext cx="3041640" cy="3816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797360" cy="2745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2970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691560" y="1700280"/>
            <a:ext cx="55796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сширить математический кругоз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ссмотреть кривые и прямые лин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азличных системах координа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d_010"/>
          <p:cNvPicPr/>
          <p:nvPr/>
        </p:nvPicPr>
        <p:blipFill>
          <a:blip r:embed="rId1"/>
          <a:stretch/>
        </p:blipFill>
        <p:spPr>
          <a:xfrm>
            <a:off x="539640" y="549360"/>
            <a:ext cx="2136960" cy="23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pf_040"/>
          <p:cNvPicPr/>
          <p:nvPr/>
        </p:nvPicPr>
        <p:blipFill>
          <a:blip r:embed="rId2"/>
          <a:stretch/>
        </p:blipFill>
        <p:spPr>
          <a:xfrm>
            <a:off x="6443640" y="3429000"/>
            <a:ext cx="2122560" cy="2360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41080" y="314172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Рене Декарт (1596-1650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565240" y="616572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ьер Ферма(1601-1665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611280" y="2852640"/>
            <a:ext cx="7358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ООРДИНАТА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немецкий- Koordinate, французский- coordinate &lt; лат. со(n)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с, вмест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+ ōrdinātus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упорядоченный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]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29224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788000" y="33336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иды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координ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476360" y="836640"/>
            <a:ext cx="3527280" cy="11509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71640" y="907920"/>
            <a:ext cx="1368360" cy="1656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907920"/>
            <a:ext cx="0" cy="28083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2133720"/>
            <a:ext cx="295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рямоуголь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истема координа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354600" y="3141720"/>
            <a:ext cx="26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на плоск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417240" y="3645000"/>
            <a:ext cx="28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 пространств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2781360"/>
            <a:ext cx="295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ляр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истема координа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3860640"/>
            <a:ext cx="29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соугольн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истема координа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427640" y="4869000"/>
            <a:ext cx="295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ферическ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истема координа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7812000" y="907920"/>
            <a:ext cx="0" cy="46818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191280" y="5877000"/>
            <a:ext cx="2952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Цилиндрическ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истема координа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907920"/>
            <a:ext cx="0" cy="38894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27040" y="2532240"/>
            <a:ext cx="1744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k_116i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376720" cy="15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826920" y="2276640"/>
          <a:ext cx="8316720" cy="3457080"/>
        </p:xfrm>
        <a:graphic>
          <a:graphicData uri="http://schemas.openxmlformats.org/drawingml/2006/table">
            <a:tbl>
              <a:tblPr/>
              <a:tblGrid>
                <a:gridCol w="2680920"/>
                <a:gridCol w="2397240"/>
                <a:gridCol w="3238560"/>
              </a:tblGrid>
              <a:tr h="34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ямоугольная (декарто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и перпендикуляр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 плоскос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 – абсци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 - ордин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 пространстве: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 – абсци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 - ордин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- аппликата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48555E-006 L -0.29774 0.33711 E">
                                      <p:cBhvr>
                                        <p:cTn id="1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042920" y="2637000"/>
          <a:ext cx="7921800" cy="3600360"/>
        </p:xfrm>
        <a:graphic>
          <a:graphicData uri="http://schemas.openxmlformats.org/drawingml/2006/table">
            <a:tbl>
              <a:tblPr/>
              <a:tblGrid>
                <a:gridCol w="2639880"/>
                <a:gridCol w="2641680"/>
                <a:gridCol w="2640240"/>
              </a:tblGrid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ляр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- полю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Р- полярная 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φ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- полярный уго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25066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27040" y="2295360"/>
            <a:ext cx="1744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сканирование0009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1714320" cy="22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1547640" y="1628640"/>
          <a:ext cx="7248600" cy="4472280"/>
        </p:xfrm>
        <a:graphic>
          <a:graphicData uri="http://schemas.openxmlformats.org/drawingml/2006/table">
            <a:tbl>
              <a:tblPr/>
              <a:tblGrid>
                <a:gridCol w="2414880"/>
                <a:gridCol w="2009520"/>
                <a:gridCol w="2824200"/>
              </a:tblGrid>
              <a:tr h="44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фер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лярная в пространстве: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- полю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Р- полярная ос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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лярный уг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θ – угол, образованный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 и положительным направлением оси О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6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27040" y="2509920"/>
            <a:ext cx="1744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676520" cy="20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908000" y="2349360"/>
          <a:ext cx="6865920" cy="3943440"/>
        </p:xfrm>
        <a:graphic>
          <a:graphicData uri="http://schemas.openxmlformats.org/drawingml/2006/table">
            <a:tbl>
              <a:tblPr/>
              <a:tblGrid>
                <a:gridCol w="2287440"/>
                <a:gridCol w="1904400"/>
                <a:gridCol w="2674080"/>
              </a:tblGrid>
              <a:tr h="39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илиндричес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лярная в пространстве: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- полю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Р-полярная ос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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лярный уг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60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, перпендикулярн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лоскости 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21 0.00255 L 0.43594 0.46405 E">
                                      <p:cBhvr>
                                        <p:cTn id="4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09:29Z</dcterms:created>
  <dc:creator>ученик</dc:creator>
  <dc:description/>
  <dc:language>en-US</dc:language>
  <cp:lastModifiedBy>Елена Александровна</cp:lastModifiedBy>
  <dcterms:modified xsi:type="dcterms:W3CDTF">2008-12-17T12:50:44Z</dcterms:modified>
  <cp:revision>15</cp:revision>
  <dc:subject/>
  <dc:title>Слайд 1</dc:title>
</cp:coreProperties>
</file>