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3.gif" ContentType="image/gif"/>
  <Override PartName="/ppt/media/image6.wmf" ContentType="image/x-wmf"/>
  <Override PartName="/ppt/media/image7.wmf" ContentType="image/x-wmf"/>
  <Override PartName="/ppt/media/image8.gif" ContentType="image/gif"/>
  <Override PartName="/ppt/media/image9.gif" ContentType="image/gif"/>
  <Override PartName="/ppt/media/image10.gif" ContentType="image/gi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9F3D-C81E-42D3-819D-259104C7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D2A9-5EE0-420F-AE09-F3C62CC69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310-2FFE-46FD-92C3-3BCEF5545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D48A7-4914-4B69-9ACD-096579E4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62B7C-0BB2-4DAD-AB4E-6D1DCE56D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533CA-93C3-4F83-854C-4FF1A109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9352F-512C-482B-85C9-3D5AC56A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3C082-4BEB-40F5-B7A0-7D349F74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F182E-AFFF-4CBE-A714-E292AAEB8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92DF1-B602-498A-A320-06678F7E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FEEBA-7BFE-4E72-AD21-BA6A5BCDB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A861-9166-4030-8A7B-2133CF0FB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7A17-22AD-4AAB-85EE-FCC3F0222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F83AB-8CAC-442C-8721-FC408C0B7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1127E-73A0-4B7C-A2AF-0A82E0F93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3456E-0071-4C38-A666-ABD6D53AF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0477C-1E25-4475-BBC4-A153B0AE9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ADC3-B41E-459C-AAE3-6F247610E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D1843-4A08-462D-8385-2730D8A2A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720ED-D7BC-42B4-A06C-81BAFA7A8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BA789-28B9-45C5-A693-BFC0B4077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8BBC-3C96-45C1-8058-A90B6AB8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71BE-C1EF-4D47-8DD2-E983BCFD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88B4-12CB-4045-AC1C-186E2820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CA91-2A29-411A-A3D1-650B1CA8EBDA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6E16-ADA7-4310-8443-B1E1CD8CBD05}" type="slidenum">
              <a:rPr b="0" lang="en-U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8.xml"/><Relationship Id="rId3" Type="http://schemas.openxmlformats.org/officeDocument/2006/relationships/slide" Target="slide11.xml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Компьютерные игры.</a:t>
            </a:r>
            <a:br>
              <a:rPr sz="5400"/>
            </a:b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Хорошо или плохо?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236232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Arial"/>
              </a:rPr>
              <a:t>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Лакиза Трофим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ученик 5 В класса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                        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Кодинской СОШ № 4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914400" y="4267080"/>
            <a:ext cx="2057400" cy="15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94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лияние компьютерных игр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на детей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8" name=""/>
          <p:cNvGraphicFramePr/>
          <p:nvPr/>
        </p:nvGraphicFramePr>
        <p:xfrm>
          <a:off x="455760" y="1295280"/>
          <a:ext cx="8226360" cy="5156280"/>
        </p:xfrm>
        <a:graphic>
          <a:graphicData uri="http://schemas.openxmlformats.org/drawingml/2006/table">
            <a:tbl>
              <a:tblPr/>
              <a:tblGrid>
                <a:gridCol w="4113000"/>
                <a:gridCol w="411336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Отрицательные фактор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ложительные факторы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Агресс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Внимани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езнравственн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Усидчив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Жесток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Тренируют глазомер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ежелание общаться с друзьям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Развивают моторные функции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Потеря интереса к учёбе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Сосредоточенн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Безответственность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Мышление 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eaeaea"/>
                          </a:solidFill>
                          <a:latin typeface="Arial"/>
                        </a:rPr>
                        <a:t>Нарушение интеллектуального развития</a:t>
                      </a:r>
                      <a:endParaRPr b="0" lang="en-US" sz="20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1295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ринцип «Не навреди»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1" action="ppaction://hlinksldjump"/>
              </a:rPr>
              <a:t>исполнение гигиенических требовани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2" action="ppaction://hlinksldjump"/>
              </a:rPr>
              <a:t>выбор жанра игры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5b2ff"/>
                </a:solidFill>
                <a:uFillTx/>
                <a:latin typeface="Arial"/>
                <a:hlinkClick r:id="rId3" action="ppaction://hlinksldjump"/>
              </a:rPr>
              <a:t>качество игры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4"/>
          <a:stretch/>
        </p:blipFill>
        <p:spPr>
          <a:xfrm>
            <a:off x="5181480" y="2895480"/>
            <a:ext cx="3152880" cy="30686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5"/>
          <a:stretch/>
        </p:blipFill>
        <p:spPr>
          <a:xfrm>
            <a:off x="609480" y="4267080"/>
            <a:ext cx="20574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5b2ff"/>
                </a:solidFill>
                <a:uFillTx/>
                <a:latin typeface="Arial"/>
                <a:hlinkClick r:id="rId1" action="ppaction://hlinksldjump"/>
              </a:rPr>
              <a:t>Гигиенические требования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Непрерывность игры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 класс – не более 10 мин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2 – 4 класс -  15  мин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5 -7 классы – 20 мин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8 – 9 классы – 25 мин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10 – 11 классы – 20 - 30 мин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Для учителей – не более 4 часов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Профилактические мероприятия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Правильная организация рабочего места ( 50 см от монитора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Профилактическая гимнастика для мышц и глаз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-360" y="762120"/>
            <a:ext cx="822636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Цель работы:</a:t>
            </a:r>
            <a:r>
              <a:rPr b="0" lang="en-US" sz="3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ыяснить, </a:t>
            </a:r>
            <a:br>
              <a:rPr sz="3200"/>
            </a:b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играть в компьютерные игры – это хорошо или плохо?</a:t>
            </a: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2742840"/>
            <a:ext cx="822636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Arial"/>
              </a:rPr>
              <a:t>Предположения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Играть в компьютерные игры – это плохо, т.к. вредит здоровью дет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Играть в компьютерные игры – это хорошо, т.к. игра способствует развитию детей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Основные вредные факторы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еренапряжение суставов кистей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расстройство сердечно-сосудистой системы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возникновение сколиоза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ожирение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негативное влияние на психику 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7848720" y="4572000"/>
            <a:ext cx="81900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«Компьютерная зависимость»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ccecff"/>
              </a:buClr>
              <a:buSzPct val="11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Психические факторы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«потеря контроля» на времене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невыполнение обещаний, данных себе или другим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раздражённое поведение, если длительность работы  сокращается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.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Физические факторы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истощение организма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эйфория и возбуждённость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5867280" y="3733920"/>
            <a:ext cx="213372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Жанры компьютерных иг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002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Адвентурные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текстовые игры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Аркадные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ничтожение пришельцев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монстров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Логические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оловоломки, карточные игры, шашки и       шахматы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Ролевые</a:t>
            </a:r>
            <a:r>
              <a:rPr b="0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у каждого игрока своя роль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eaeaea"/>
                </a:solidFill>
                <a:latin typeface="Arial"/>
              </a:rPr>
              <a:t>Стратегии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грок  - военачальник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Симуляторы 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грок – гонщик, пилот, капитан корабля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3 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D</a:t>
            </a:r>
            <a:r>
              <a:rPr b="1" i="1" lang="ru-RU" sz="2800" spc="-1" strike="noStrike" u="sng">
                <a:solidFill>
                  <a:srgbClr val="eaeaea"/>
                </a:solidFill>
                <a:uFillTx/>
                <a:latin typeface="Arial"/>
              </a:rPr>
              <a:t> – </a:t>
            </a:r>
            <a:r>
              <a:rPr b="1" i="1" lang="en-US" sz="2800" spc="-1" strike="noStrike" u="sng">
                <a:solidFill>
                  <a:srgbClr val="eaeaea"/>
                </a:solidFill>
                <a:uFillTx/>
                <a:latin typeface="Arial"/>
              </a:rPr>
              <a:t>Action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 –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игры с трёхмерной графикой</a:t>
            </a:r>
            <a:r>
              <a:rPr b="0" lang="ru-RU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eaeaea"/>
                </a:solidFill>
                <a:latin typeface="Arial"/>
              </a:rPr>
              <a:t>где всё как в жизни.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Время,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оведённое у компьютера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990720" y="1447920"/>
          <a:ext cx="7086600" cy="54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447920"/>
                    <a:ext cx="7086600" cy="54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Увлечения 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609480" y="1379520"/>
          <a:ext cx="8001000" cy="509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379520"/>
                    <a:ext cx="8001000" cy="509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65b2ff"/>
                </a:solidFill>
                <a:uFillTx/>
                <a:latin typeface="Arial"/>
                <a:hlinkClick r:id="rId1" action="ppaction://hlinksldjump"/>
              </a:rPr>
              <a:t>Жанры  компьютерных игр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019160" y="1523880"/>
          <a:ext cx="7104240" cy="50612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19160" y="1523880"/>
                    <a:ext cx="7104240" cy="506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лезны или вредн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617400" y="1371600"/>
          <a:ext cx="8526600" cy="4959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371600"/>
                    <a:ext cx="852660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1-21T23:32:59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