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48488" cy="9283700"/>
  <p:custShowLst>
    <p:custShow name="Так надо" id="0">
      <p:sldLst>
        <p:sld r:id="rId3"/>
        <p:sld r:id="rId4"/>
        <p:sld r:id="rId5"/>
        <p:sld r:id="rId6"/>
        <p:sld r:id="rId7"/>
        <p:sld r:id="rId10"/>
        <p:sld r:id="rId12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custShow id="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6312-1F69-4983-AED1-5358A073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263-ADFE-4BEC-9875-C2CEAF88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790-7573-495A-A131-E97ACE1D9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3E18-1DB5-4EAC-8365-B5303202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C91B-994C-4A21-A3C8-ED43E83F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6ADD-40E2-48CF-B5FD-004CDD43E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580-63B2-4726-BA60-ED9300BA3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B50B-CB45-4C78-872E-5B66ABD5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B419-00D5-4EFA-A2E7-A725AAF2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2A8-8536-4128-962F-7B7139D0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8EA3-4EB9-4DB6-9478-94695673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E81A-D9F1-425A-9B7A-EA30F4F89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128C-5AEB-43A6-8AF2-BD9D66E0E6E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hyperlink" Target="http://rojdestvo.paskha.ru/Russia/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wind.wav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http://rojdestvo.paskha.ru/Rojdestvo/Svyatki/" TargetMode="External"/><Relationship Id="rId3" Type="http://schemas.openxmlformats.org/officeDocument/2006/relationships/slide" Target="slide7.xm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hyperlink" Target="http://rojdestvo.paskha.ru/Rojdestvo/Vertepy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0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2a0ca8"/>
                </a:solidFill>
                <a:latin typeface="Calibri"/>
              </a:rPr>
              <a:t>Рождеств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gagarin"/>
          <p:cNvPicPr/>
          <p:nvPr/>
        </p:nvPicPr>
        <p:blipFill>
          <a:blip r:embed="rId1"/>
          <a:stretch/>
        </p:blipFill>
        <p:spPr>
          <a:xfrm>
            <a:off x="324000" y="1484280"/>
            <a:ext cx="4167000" cy="50738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89-1"/>
          <p:cNvPicPr/>
          <p:nvPr/>
        </p:nvPicPr>
        <p:blipFill>
          <a:blip r:embed="rId2"/>
          <a:stretch/>
        </p:blipFill>
        <p:spPr>
          <a:xfrm>
            <a:off x="4500720" y="1484280"/>
            <a:ext cx="4572000" cy="50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0" y="1628280"/>
            <a:ext cx="450072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Мы предлагаем Вам удивительное путешествие за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Вифлеемской звездой </a:t>
            </a: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к яслям маленького Господ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У нас вы найдёте материалы об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истории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 </a:t>
            </a: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 Праздника, советы по приготовлению оригинальных рождественских блюд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pic0249_1024"/>
          <p:cNvPicPr/>
          <p:nvPr/>
        </p:nvPicPr>
        <p:blipFill>
          <a:blip r:embed="rId4"/>
          <a:stretch/>
        </p:blipFill>
        <p:spPr>
          <a:xfrm>
            <a:off x="5003640" y="1268280"/>
            <a:ext cx="3678480" cy="507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ca8"/>
                </a:solidFill>
                <a:latin typeface="Calibri"/>
              </a:rPr>
              <a:t>Вифлеемская зв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0" y="1484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Евангельский рассказ о необыкновенной звезде, восшедшей над Вифлеемом, уже более 2000 лет волнует человечество.</a:t>
            </a:r>
            <a:r>
              <a:rPr b="1" lang="ru-RU" sz="2000" spc="-1" strike="noStrike">
                <a:solidFill>
                  <a:srgbClr val="2a0ca8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Считается, что о грядущем Рождестве Спасителя и о предшествующей Ему звезде говорится и в Книге Чисел (глава 24, стих 17) Ветхого Завета: «Восходит звезда от Иакова и восстанет жезл от Иакова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Евангелие говорит, что волхвов в Вифлеем привела шедшая перед ними звезда. Что это была за звезда? Христианские писатели первых веков (Игнатий-Богоносец, Ориген и Евсевий) думали, что это была особенная, специально сотворенная для такого случая звезд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Волхвы, идущие за звездой поклониться рожденному Иисусу Христу,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символизируют все народы, идущие к Источнику Вечной Жизн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AutoShape 5"/>
          <p:cNvSpPr/>
          <p:nvPr/>
        </p:nvSpPr>
        <p:spPr>
          <a:xfrm rot="19543200">
            <a:off x="8388360" y="616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ca8"/>
                </a:solidFill>
                <a:latin typeface="Calibri"/>
              </a:rPr>
              <a:t>Истор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Рождество Христово называют «матерью всех праздников». Значение этой святой ночи столь велико, что даже ход новой истории и наше летосчисление ведем мы от Рождества Христова. А на Руси этот Праздник был особенно любим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В сочельник до «вечерней звезды»</a:t>
            </a:r>
            <a:r>
              <a:rPr b="1" lang="en-US" sz="1600" spc="-1" strike="noStrike">
                <a:solidFill>
                  <a:srgbClr val="2a0ca8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2a0ca8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одители рассказывали детям о том, как волхвы пришли поклониться новорожденному Иисусу Христу и принесли ему дорогие подарки. Ребятишки с малых лет перенимали от старших не только народную мудрость, но и сложившиеся веками традиции и обыча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В домах украшали любимую с детства рождественскую елку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А в ночь на </a:t>
            </a:r>
            <a:r>
              <a:rPr b="1" lang="ru-RU" sz="1600" spc="-1" strike="noStrike">
                <a:solidFill>
                  <a:srgbClr val="2a0ca8"/>
                </a:solidFill>
                <a:latin typeface="Arial"/>
              </a:rPr>
              <a:t>7 января</a:t>
            </a: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 по всей стране, в малых и больших церквах, совершалось торжественное Богослужени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Любовь к празднику выражалась и числом храмов и монастырей, возводимых в честь праздника Рождества Христова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Самый известный храм в России, посвященный этому Празднику - храм Рождества Христа Спасителя в Москве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С 1917 года, в атеистическом советском государстве, о Рождестве и упоминать запрещалось. В 1933 году специальным Указом правительства ель вернули людям, но уже как новогоднюю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В годы репрессий Рождественские службы совершали тайно. Рождество праздновали в самых невероятных условиях, рискуя потерять работу, свободу и даже жизнь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5"/>
          <p:cNvSpPr/>
          <p:nvPr/>
        </p:nvSpPr>
        <p:spPr>
          <a:xfrm rot="19543200">
            <a:off x="8459640" y="616536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7493"/>
                </a:moveTo>
                <a:lnTo>
                  <a:pt x="9127" y="7493"/>
                </a:lnTo>
                <a:lnTo>
                  <a:pt x="9127" y="12828"/>
                </a:lnTo>
                <a:cubicBezTo>
                  <a:pt x="9127" y="13751"/>
                  <a:pt x="9927" y="14482"/>
                  <a:pt x="10963" y="14482"/>
                </a:cubicBezTo>
                <a:lnTo>
                  <a:pt x="12625" y="14482"/>
                </a:lnTo>
                <a:cubicBezTo>
                  <a:pt x="13661" y="14482"/>
                  <a:pt x="14462" y="13751"/>
                  <a:pt x="14462" y="12828"/>
                </a:cubicBezTo>
                <a:lnTo>
                  <a:pt x="14462" y="7493"/>
                </a:lnTo>
                <a:lnTo>
                  <a:pt x="12625" y="7493"/>
                </a:lnTo>
                <a:lnTo>
                  <a:pt x="16133" y="3985"/>
                </a:lnTo>
                <a:lnTo>
                  <a:pt x="19806" y="7493"/>
                </a:lnTo>
                <a:lnTo>
                  <a:pt x="17970" y="7493"/>
                </a:lnTo>
                <a:lnTo>
                  <a:pt x="17970" y="12828"/>
                </a:lnTo>
                <a:cubicBezTo>
                  <a:pt x="17970" y="15596"/>
                  <a:pt x="15393" y="18155"/>
                  <a:pt x="12625" y="18155"/>
                </a:cubicBezTo>
                <a:lnTo>
                  <a:pt x="10963" y="18155"/>
                </a:lnTo>
                <a:cubicBezTo>
                  <a:pt x="8195" y="18155"/>
                  <a:pt x="5619" y="15596"/>
                  <a:pt x="5619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P1040387"/>
          <p:cNvPicPr/>
          <p:nvPr/>
        </p:nvPicPr>
        <p:blipFill>
          <a:blip r:embed="rId2"/>
          <a:stretch/>
        </p:blipFill>
        <p:spPr>
          <a:xfrm>
            <a:off x="7715160" y="2781360"/>
            <a:ext cx="14288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ca8"/>
                </a:solidFill>
                <a:latin typeface="Arial"/>
              </a:rPr>
              <a:t>Предрождественский пос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Рождественский пост ведет свое начало от древнехристианского обычая поститься накануне великих праздников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Рождественский пост предваряется днем заговенья - 27 ноября. Заговенье - подготовка к говенью. Говение (славянское слово) - духовная подготовка к чему-либо. Заговенье - это праздничный стол накануне поста. Православные празднуют начало поста, а когда пост проходит, его окончание тоже сопровождается праздником - разговеньем. 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Для того, чтобы лучше понять, что такое пост, можно разделить его на две части: духовный пост и телесный.  Под духовным постом, следует понимать внутреннюю работу над собой. И время поста мы посвящаем духовной работе над собой,  укрепляясь добрыми дела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Для большинства людей Церковь благословляет в рождественский пост есть рыбу во все дни, кроме среды и пятницы, а путешествующим,   военнослужащим, детям, беременным и кормящим мамам возможны различные послабле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AutoShape 5"/>
          <p:cNvSpPr/>
          <p:nvPr/>
        </p:nvSpPr>
        <p:spPr>
          <a:xfrm rot="19543200">
            <a:off x="8388360" y="616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8" descr="P1040475"/>
          <p:cNvPicPr/>
          <p:nvPr/>
        </p:nvPicPr>
        <p:blipFill>
          <a:blip r:embed="rId2"/>
          <a:stretch/>
        </p:blipFill>
        <p:spPr>
          <a:xfrm>
            <a:off x="7956720" y="476280"/>
            <a:ext cx="118728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28036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a0ca8"/>
                </a:solidFill>
                <a:latin typeface="Arial"/>
              </a:rPr>
              <a:t>Храм Христа Спасителя ноч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P1030801"/>
          <p:cNvPicPr/>
          <p:nvPr/>
        </p:nvPicPr>
        <p:blipFill>
          <a:blip r:embed="rId1"/>
          <a:stretch/>
        </p:blipFill>
        <p:spPr>
          <a:xfrm>
            <a:off x="826920" y="1413000"/>
            <a:ext cx="7561440" cy="50403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6"/>
          <p:cNvSpPr/>
          <p:nvPr/>
        </p:nvSpPr>
        <p:spPr>
          <a:xfrm rot="19543200">
            <a:off x="8459640" y="616536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5619" y="7493"/>
                </a:moveTo>
                <a:lnTo>
                  <a:pt x="9127" y="7493"/>
                </a:lnTo>
                <a:lnTo>
                  <a:pt x="9127" y="12828"/>
                </a:lnTo>
                <a:cubicBezTo>
                  <a:pt x="9127" y="13751"/>
                  <a:pt x="9927" y="14482"/>
                  <a:pt x="10963" y="14482"/>
                </a:cubicBezTo>
                <a:lnTo>
                  <a:pt x="12625" y="14482"/>
                </a:lnTo>
                <a:cubicBezTo>
                  <a:pt x="13661" y="14482"/>
                  <a:pt x="14462" y="13751"/>
                  <a:pt x="14462" y="12828"/>
                </a:cubicBezTo>
                <a:lnTo>
                  <a:pt x="14462" y="7493"/>
                </a:lnTo>
                <a:lnTo>
                  <a:pt x="12625" y="7493"/>
                </a:lnTo>
                <a:lnTo>
                  <a:pt x="16133" y="3985"/>
                </a:lnTo>
                <a:lnTo>
                  <a:pt x="19806" y="7493"/>
                </a:lnTo>
                <a:lnTo>
                  <a:pt x="17970" y="7493"/>
                </a:lnTo>
                <a:lnTo>
                  <a:pt x="17970" y="12828"/>
                </a:lnTo>
                <a:cubicBezTo>
                  <a:pt x="17970" y="15596"/>
                  <a:pt x="15393" y="18155"/>
                  <a:pt x="12625" y="18155"/>
                </a:cubicBezTo>
                <a:lnTo>
                  <a:pt x="10963" y="18155"/>
                </a:lnTo>
                <a:cubicBezTo>
                  <a:pt x="8195" y="18155"/>
                  <a:pt x="5619" y="15596"/>
                  <a:pt x="5619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4713120" cy="57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ca8"/>
                </a:solidFill>
                <a:latin typeface="Arial"/>
              </a:rPr>
              <a:t>Празднование святок богато отражено в фольклоре и литературном творчестве. Рождественские дни становятся, по выражению великого русского писателя Федора Михайловича Достоевского, «днями семейного сбора», днями милосердия и примирения. Рассказы о добрых, чудесных событиях, происходящих с людьми в Рождество, получили название святочных историй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19" descr="Безымянный"/>
          <p:cNvPicPr/>
          <p:nvPr/>
        </p:nvPicPr>
        <p:blipFill>
          <a:blip r:embed="rId1"/>
          <a:stretch/>
        </p:blipFill>
        <p:spPr>
          <a:xfrm>
            <a:off x="4859280" y="1125360"/>
            <a:ext cx="4075200" cy="53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4653000"/>
            <a:ext cx="806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a0ca8"/>
                </a:solidFill>
                <a:latin typeface="Arial"/>
              </a:rPr>
              <a:t>На нашей читательской конференции мы хотели бы показать, как обыграна тема Рождества на рассказе В.С Токаревой «Рождественский рассказ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9" descr="P1040462"/>
          <p:cNvPicPr/>
          <p:nvPr/>
        </p:nvPicPr>
        <p:blipFill>
          <a:blip r:embed="rId1"/>
          <a:stretch/>
        </p:blipFill>
        <p:spPr>
          <a:xfrm>
            <a:off x="0" y="5915160"/>
            <a:ext cx="1258920" cy="94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2" descr="rulezzzzz-1164990104_i_5340">
            <a:hlinkClick r:id="" action="ppaction://hlinkshowjump?jump=endshow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35280" y="404640"/>
            <a:ext cx="5257800" cy="420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Снег ровным покровом ложится на землю... Морозная звёздная ночь..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0ca8"/>
                </a:solidFill>
                <a:latin typeface="Calibri"/>
              </a:rPr>
              <a:t>Кажется, что небо стало ближе. Вся природа погружается в сон, а в сердце загорается огонёк надежды на то, что мир вокруг нас станет луч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5" descr="kon_08"/>
          <p:cNvPicPr/>
          <p:nvPr/>
        </p:nvPicPr>
        <p:blipFill>
          <a:blip r:embed="rId1"/>
          <a:stretch/>
        </p:blipFill>
        <p:spPr>
          <a:xfrm>
            <a:off x="3827520" y="-243000"/>
            <a:ext cx="2724120" cy="3946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7" descr="img--i-16214-w-640"/>
          <p:cNvPicPr/>
          <p:nvPr/>
        </p:nvPicPr>
        <p:blipFill>
          <a:blip r:embed="rId2"/>
          <a:stretch/>
        </p:blipFill>
        <p:spPr>
          <a:xfrm>
            <a:off x="6535800" y="2941560"/>
            <a:ext cx="2608200" cy="391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50560" y="333360"/>
            <a:ext cx="4105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0ca8"/>
                </a:solidFill>
                <a:latin typeface="Calibri"/>
              </a:rPr>
              <a:t>Всякий раз, когда мы перешагиваем порог Нового года, на душе становится особенно тепло, потому что через несколько дней наступит Праздник Рождества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0ca8"/>
                </a:solidFill>
                <a:latin typeface="Calibri"/>
              </a:rPr>
              <a:t>Рождество Христово - удивительное время, когда сердце наполняется ожиданием чуда... И это чудо происходит!.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1905120" y="5943600"/>
            <a:ext cx="65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6" descr="new_year_44"/>
          <p:cNvPicPr/>
          <p:nvPr/>
        </p:nvPicPr>
        <p:blipFill>
          <a:blip r:embed="rId1"/>
          <a:stretch/>
        </p:blipFill>
        <p:spPr>
          <a:xfrm>
            <a:off x="4356000" y="1474920"/>
            <a:ext cx="4788000" cy="4459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7" descr="25_07_06_16"/>
          <p:cNvPicPr/>
          <p:nvPr/>
        </p:nvPicPr>
        <p:blipFill>
          <a:blip r:embed="rId2"/>
          <a:stretch/>
        </p:blipFill>
        <p:spPr>
          <a:xfrm>
            <a:off x="395280" y="3960720"/>
            <a:ext cx="3384720" cy="26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2708280"/>
            <a:ext cx="4392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«Христос рождается, славите!» - несётся над Вселенной, - «Христос с небес, встречайте!» - весь мир воспевает славу Творца. Ангельские силы и человеческий род - вместе прославляют Того, Чья любовь не имеет границ. И, наверное, поэтому Рождество Христово называют «Зимней Пасхой».</a:t>
            </a:r>
            <a:r>
              <a:rPr b="0" lang="ru-RU" sz="2000" spc="-1" strike="noStrike">
                <a:solidFill>
                  <a:srgbClr val="2a0ca8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6" descr="christmas"/>
          <p:cNvPicPr/>
          <p:nvPr/>
        </p:nvPicPr>
        <p:blipFill>
          <a:blip r:embed="rId1"/>
          <a:stretch/>
        </p:blipFill>
        <p:spPr>
          <a:xfrm>
            <a:off x="4508640" y="549360"/>
            <a:ext cx="4635360" cy="568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1483920"/>
            <a:ext cx="40672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Период от Рождества Христова до Крещения называют Святыми днями, или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Святками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. По сути, это продолжение Праздника Рождества, когда-то эти два события отмечались одновременно и назывались Богоявление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Святки на Руси праздновались ярко и торжественно: все поздравляли друг друга, славили Христа, проводили время в делах Богоугодных -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милосердия и помощи ближним </a:t>
            </a: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. В эти дни каждый понимал, что Господь стал к нему ближе...</a:t>
            </a:r>
            <a:r>
              <a:rPr b="1" lang="ru-RU" sz="2000" spc="-1" strike="noStrike">
                <a:solidFill>
                  <a:srgbClr val="1b086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b08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RX"/>
          <p:cNvPicPr/>
          <p:nvPr/>
        </p:nvPicPr>
        <p:blipFill>
          <a:blip r:embed="rId4"/>
          <a:stretch/>
        </p:blipFill>
        <p:spPr>
          <a:xfrm>
            <a:off x="4211640" y="1125360"/>
            <a:ext cx="4932360" cy="51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a0ca8"/>
                </a:solidFill>
                <a:latin typeface="Calibri"/>
              </a:rPr>
              <a:t>Святки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Двенадцать дней после Рождества до Крещения Господня называются святками - то есть, святыми днями, освященными приходом в мир Спасителя. Отмечать особо эти дни Церковь начала с древних време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Уже в уставе VI века преподобного Саввы Освященного пишется, что в дни святок не полагается класть поклоны и совершать венч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Хозяйки красиво накрывают столы, готовят лучшие угощения. Также принято вспоминать о бедных, больных, нуждающихся людях: посещать детские дома, приюты, больницы, тюрьмы. В древние времена в святки даже цари, переодетые в простолюдинов, посещали тюрьмы и давали заключенным милостыню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Особой традицией святок на Руси являлось колядование, или славление.</a:t>
            </a:r>
            <a:r>
              <a:rPr b="1" lang="ru-RU" sz="1300" spc="-1" strike="noStrike">
                <a:solidFill>
                  <a:srgbClr val="2a0ca8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326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AutoShape 6">
            <a:hlinkClick r:id="rId1" action="ppaction://hlinksldjump"/>
          </p:cNvPr>
          <p:cNvSpPr/>
          <p:nvPr/>
        </p:nvSpPr>
        <p:spPr>
          <a:xfrm rot="19543200">
            <a:off x="8388360" y="616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" descr="P1040435"/>
          <p:cNvPicPr/>
          <p:nvPr/>
        </p:nvPicPr>
        <p:blipFill>
          <a:blip r:embed="rId3"/>
          <a:stretch/>
        </p:blipFill>
        <p:spPr>
          <a:xfrm>
            <a:off x="7093080" y="0"/>
            <a:ext cx="20509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ca8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2a0ca8"/>
                </a:solidFill>
                <a:latin typeface="Calibri"/>
              </a:rPr>
              <a:t>илосердие и помощь ближни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0ca8"/>
                </a:solidFill>
                <a:latin typeface="Calibri"/>
              </a:rPr>
              <a:t>День Рождества Христова есть прежде всего праздник детей. Но, к сожалению, не все дети могут разделить радость о Родившемся Спасителе, да многие и не знают, что такое Рождество Христово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0ca8"/>
                </a:solidFill>
                <a:latin typeface="Calibri"/>
              </a:rPr>
              <a:t>Оглянитесь вокруг, и вы увидите и бесприютных сирот  и детей, почти покинутых родителями, и других, чутких, жаждущих ласки и сочувствия, но оставшихся без внимания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0ca8"/>
                </a:solidFill>
                <a:latin typeface="Calibri"/>
              </a:rPr>
              <a:t>А ведь можно остановиться, увидеть, что какой-то малыш сегодня будет думать о том, где найти еду, где ночевать, где укрыться от лютого холода. Какое ему Рождество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0ca8"/>
                </a:solidFill>
                <a:latin typeface="Calibri"/>
              </a:rPr>
              <a:t>Если только наши глаза не остановятся у раскрашенных витрин, мы сможем помочь ему. А что для этого надо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2a0ca8"/>
                </a:solidFill>
                <a:latin typeface="Calibri"/>
              </a:rPr>
              <a:t>Всего лишь подарить тепло своего сердца, тихо и ласково рассказать о празднике, о хороших людях, накормить, одеть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6">
            <a:hlinkClick r:id="rId1" action="ppaction://hlinksldjump"/>
          </p:cNvPr>
          <p:cNvSpPr/>
          <p:nvPr/>
        </p:nvSpPr>
        <p:spPr>
          <a:xfrm rot="19543200">
            <a:off x="8388360" y="6165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7493"/>
                </a:moveTo>
                <a:lnTo>
                  <a:pt x="9118" y="7493"/>
                </a:lnTo>
                <a:lnTo>
                  <a:pt x="9118" y="12828"/>
                </a:lnTo>
                <a:cubicBezTo>
                  <a:pt x="9118" y="13751"/>
                  <a:pt x="9918" y="14482"/>
                  <a:pt x="10954" y="14482"/>
                </a:cubicBezTo>
                <a:lnTo>
                  <a:pt x="12616" y="14482"/>
                </a:lnTo>
                <a:cubicBezTo>
                  <a:pt x="13652" y="14482"/>
                  <a:pt x="14453" y="13751"/>
                  <a:pt x="14453" y="12828"/>
                </a:cubicBezTo>
                <a:lnTo>
                  <a:pt x="14453" y="7493"/>
                </a:lnTo>
                <a:lnTo>
                  <a:pt x="12616" y="7493"/>
                </a:lnTo>
                <a:lnTo>
                  <a:pt x="16124" y="3985"/>
                </a:lnTo>
                <a:lnTo>
                  <a:pt x="19797" y="7493"/>
                </a:lnTo>
                <a:lnTo>
                  <a:pt x="17961" y="7493"/>
                </a:lnTo>
                <a:lnTo>
                  <a:pt x="17961" y="12828"/>
                </a:lnTo>
                <a:cubicBezTo>
                  <a:pt x="17961" y="15596"/>
                  <a:pt x="15384" y="18155"/>
                  <a:pt x="12616" y="18155"/>
                </a:cubicBezTo>
                <a:lnTo>
                  <a:pt x="10954" y="18155"/>
                </a:lnTo>
                <a:cubicBezTo>
                  <a:pt x="8186" y="18155"/>
                  <a:pt x="5610" y="15596"/>
                  <a:pt x="5610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9" descr="normal_%C2%EB%E0%E4%E8%EA%20%ED%E0%20%EA%E0%EB%E5%ED%E4%E0%F0%FC%202005%20%E3%EE%E4%E0"/>
          <p:cNvPicPr/>
          <p:nvPr/>
        </p:nvPicPr>
        <p:blipFill>
          <a:blip r:embed="rId3"/>
          <a:stretch/>
        </p:blipFill>
        <p:spPr>
          <a:xfrm>
            <a:off x="0" y="692280"/>
            <a:ext cx="18352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95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a0ca8"/>
                </a:solidFill>
                <a:latin typeface="Calibri"/>
              </a:rPr>
              <a:t>Казалось бы, Рождение Христа свершилось давно, более 2000 лет назад, а Церковь снова и снова воспевает: «Христос рождается!». И душа каждого из нас может стать 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пещерой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 </a:t>
            </a:r>
            <a:r>
              <a:rPr b="1" lang="ru-RU" sz="1800" spc="-1" strike="noStrike">
                <a:solidFill>
                  <a:srgbClr val="2a0ca8"/>
                </a:solidFill>
                <a:latin typeface="Calibri"/>
              </a:rPr>
              <a:t>таинства, а сердце - яслями, в которых родится Младенец - Христос!</a:t>
            </a:r>
            <a:r>
              <a:rPr b="1" lang="ru-RU" sz="1600" spc="-1" strike="noStrike">
                <a:solidFill>
                  <a:srgbClr val="2a0ca8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8" descr="1859377"/>
          <p:cNvPicPr/>
          <p:nvPr/>
        </p:nvPicPr>
        <p:blipFill>
          <a:blip r:embed="rId3"/>
          <a:stretch/>
        </p:blipFill>
        <p:spPr>
          <a:xfrm>
            <a:off x="4427640" y="692280"/>
            <a:ext cx="4557600" cy="57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a0ca8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2a0ca8"/>
                </a:solidFill>
                <a:latin typeface="Calibri"/>
              </a:rPr>
              <a:t>ещ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Arial"/>
              </a:rPr>
              <a:t>Н</a:t>
            </a: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еотъемлемой традицией празднования Рождества Христова являются «рождественские вертепы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Представьте себе, что мы заглядываем в окошко маленького домика: в глубине сцены люлька, склонившиеся Пресвятая Богородица и Святой Иосиф, ослик и вол согревают младенца дыханием... Плавно, словно чудесным образом, на сцену выплывает ангел и возглашает Радостную Весть!.. Пастухи и волхвы кланяются младенцу... Так было, именно так все и было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2a0c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a0ca8"/>
                </a:solidFill>
                <a:latin typeface="Calibri"/>
              </a:rPr>
              <a:t>В церквах же на Рождество принято выставлять неподвижные вертепы с яслями и скульптурными изображениями Пречистой Девы, Праведного Иосифа Обручника и Младенца Христа. Но все чаще скульптурные изображения заменяют иконой Рождества Христова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AutoShape 5">
            <a:hlinkClick r:id="rId1" action="ppaction://hlinksldjump"/>
          </p:cNvPr>
          <p:cNvSpPr/>
          <p:nvPr/>
        </p:nvSpPr>
        <p:spPr>
          <a:xfrm rot="19543200">
            <a:off x="863892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7" descr="xmas2_384_512"/>
          <p:cNvPicPr/>
          <p:nvPr/>
        </p:nvPicPr>
        <p:blipFill>
          <a:blip r:embed="rId3"/>
          <a:stretch/>
        </p:blipFill>
        <p:spPr>
          <a:xfrm>
            <a:off x="250920" y="511200"/>
            <a:ext cx="259236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5T13:14:57Z</dcterms:created>
  <dc:creator>user</dc:creator>
  <dc:description/>
  <cp:keywords/>
  <dc:language>en-US</dc:language>
  <cp:lastModifiedBy>1108</cp:lastModifiedBy>
  <dcterms:modified xsi:type="dcterms:W3CDTF">2010-01-15T12:44:14Z</dcterms:modified>
  <cp:revision>15</cp:revision>
  <dc:subject/>
  <dc:title>Рожде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4561049</vt:lpwstr>
  </property>
</Properties>
</file>