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4.png" ContentType="image/png"/>
  <Override PartName="/ppt/media/image8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3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8C8B-839A-4472-89AE-7B4FCF2D34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48E1-1329-4E5D-BDE6-CA424835C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CB4-3A35-465A-B653-95C9A189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699-475B-4BCD-B65F-687F538B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226-A8E9-43F6-A9A5-2AFF685E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6A5-A967-4413-B51B-3DFE943B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27A6-1EFE-48A1-B12E-211C46BA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A81F-C629-4921-B4CE-8736A5C4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13C8-C91F-4420-9F1F-F9A5AEA5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9FA2-FD7A-46A3-BFA6-AE34AD99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29B1-F872-40AF-BD72-23C44436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6B63-E24F-464E-83CC-1DDC9062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E603-7788-464E-BB2C-A8108588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215-26F0-42A9-A3BC-25164C11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DDB1-3324-4C80-B6B8-5A0EBD34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F18E-8321-407E-9015-D9E24733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FCEB-47FF-4C0B-AE90-8B66DE04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522C-96DA-445E-8C4D-18452EB0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D0D2-1E43-4404-9C01-46356AB7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9A8-E599-4214-B551-9510A664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704-7E84-46AD-BC5B-9E557A2C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05B-ECF3-4D21-BFEC-93D87B1D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20C-87AD-4846-B845-EA5908C7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D35-1264-466F-B577-B5E520F2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6C9-66C0-414E-8FFC-9224DB01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2C9-D3A6-4616-84B9-2D163E17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2E1B-EA60-4FB3-A7F4-DF29820CE8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3A70-1CC3-469B-B37D-5E67EEC7CB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Sky_35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8" descr=""/>
          <p:cNvPicPr/>
          <p:nvPr/>
        </p:nvPicPr>
        <p:blipFill>
          <a:blip r:embed="rId2"/>
          <a:stretch/>
        </p:blipFill>
        <p:spPr>
          <a:xfrm>
            <a:off x="85680" y="920880"/>
            <a:ext cx="9466200" cy="4803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9640" y="333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71720" y="260280"/>
            <a:ext cx="728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Освещён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ubPieSlice"/>
          <p:cNvSpPr/>
          <p:nvPr/>
        </p:nvSpPr>
        <p:spPr>
          <a:xfrm>
            <a:off x="357120" y="2214720"/>
            <a:ext cx="3567240" cy="28699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979640" y="177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7%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042920" y="9079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6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227640" y="141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435640" y="765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7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822240" cy="109692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10"/>
          <p:cNvSpPr/>
          <p:nvPr/>
        </p:nvSpPr>
        <p:spPr>
          <a:xfrm>
            <a:off x="4929120" y="2286000"/>
            <a:ext cx="3429000" cy="2928960"/>
          </a:xfrm>
          <a:prstGeom prst="ellipse">
            <a:avLst/>
          </a:prstGeom>
          <a:solidFill>
            <a:srgbClr val="dc64c2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ubPieSlice"/>
          <p:cNvSpPr/>
          <p:nvPr/>
        </p:nvSpPr>
        <p:spPr>
          <a:xfrm>
            <a:off x="928800" y="2500200"/>
            <a:ext cx="3355920" cy="28735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476360" y="1916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484360" y="58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ubPieSlice"/>
          <p:cNvSpPr/>
          <p:nvPr/>
        </p:nvSpPr>
        <p:spPr>
          <a:xfrm>
            <a:off x="5357880" y="2571840"/>
            <a:ext cx="3246480" cy="2801880"/>
          </a:xfrm>
          <a:prstGeom prst="pi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95280" y="476280"/>
            <a:ext cx="828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66cc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НАРУШЕНИЕ ОСТРОТЫ ЗР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580000" y="2205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659640" y="5950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1279440" y="133200"/>
            <a:ext cx="7413840" cy="1231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14240" y="1714320"/>
            <a:ext cx="79725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20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%  учащихся читают при плохом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вещении (иногда  леж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      38% учащихся больше часа проводят 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ьютер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      и только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2%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чащихся выполняют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жнения для глаз при выполнен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машнего зад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Group 2" descr=""/>
          <p:cNvPicPr/>
          <p:nvPr/>
        </p:nvPicPr>
        <p:blipFill>
          <a:blip r:embed="rId1"/>
          <a:stretch/>
        </p:blipFill>
        <p:spPr>
          <a:xfrm>
            <a:off x="755640" y="1944720"/>
            <a:ext cx="7851960" cy="414504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52" descr=""/>
          <p:cNvPicPr/>
          <p:nvPr/>
        </p:nvPicPr>
        <p:blipFill>
          <a:blip r:embed="rId2"/>
          <a:stretch/>
        </p:blipFill>
        <p:spPr>
          <a:xfrm>
            <a:off x="450720" y="-60480"/>
            <a:ext cx="8296560" cy="1822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C:\Documents and Settings\Boss\Рабочий стол\куртукова\Изображение 201.jpg"/>
          <p:cNvPicPr/>
          <p:nvPr/>
        </p:nvPicPr>
        <p:blipFill>
          <a:blip r:embed="rId1"/>
          <a:stretch/>
        </p:blipFill>
        <p:spPr>
          <a:xfrm>
            <a:off x="642960" y="1357200"/>
            <a:ext cx="3365640" cy="2524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Documents and Settings\Boss\Рабочий стол\куртукова\Изображение 202.jpg"/>
          <p:cNvPicPr/>
          <p:nvPr/>
        </p:nvPicPr>
        <p:blipFill>
          <a:blip r:embed="rId2"/>
          <a:stretch/>
        </p:blipFill>
        <p:spPr>
          <a:xfrm>
            <a:off x="4643280" y="3357720"/>
            <a:ext cx="3857760" cy="289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71360" y="285480"/>
            <a:ext cx="70722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63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НАРУШЕНИЕ ОСА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ubPieSlice" descr=""/>
          <p:cNvPicPr/>
          <p:nvPr/>
        </p:nvPicPr>
        <p:blipFill>
          <a:blip r:embed="rId3"/>
          <a:stretch/>
        </p:blipFill>
        <p:spPr>
          <a:xfrm>
            <a:off x="5059440" y="1060560"/>
            <a:ext cx="2597040" cy="18111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1"/>
          <p:cNvSpPr/>
          <p:nvPr/>
        </p:nvSpPr>
        <p:spPr>
          <a:xfrm>
            <a:off x="6378120" y="107172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8f4b"/>
                </a:solidFill>
                <a:latin typeface="Lucida Sans"/>
              </a:rPr>
              <a:t>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ubPieSlice"/>
          <p:cNvSpPr/>
          <p:nvPr/>
        </p:nvSpPr>
        <p:spPr>
          <a:xfrm>
            <a:off x="857160" y="4000680"/>
            <a:ext cx="2643120" cy="221436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2286000" y="4500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93560" y="244440"/>
            <a:ext cx="8199720" cy="11206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28400" y="1785600"/>
            <a:ext cx="8258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      86% часто сидят сгорбившис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      100%  отметили привычку сутули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      72% не задумываются о своей осанк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      и только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50%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щихся во время выполнения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машнего  задания делают разминку стоя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ят за осан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900000" y="692280"/>
            <a:ext cx="7675560" cy="57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очему теряется зрение?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абая освещенность класса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правильная посадка при письме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лежа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ительного проведения за компьютером;</a:t>
            </a:r>
            <a:br>
              <a:rPr sz="3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452520" y="620640"/>
            <a:ext cx="82962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Что привело к нарушению осанки и искривлению позвоночника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3232"/>
                </a:solidFill>
                <a:latin typeface="Arial"/>
              </a:rPr>
              <a:t>-несоответствие мебели росту учащихся;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2323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3232"/>
                </a:solidFill>
                <a:latin typeface="Arial"/>
              </a:rPr>
              <a:t>привычка сутулиться;</a:t>
            </a:r>
            <a:br>
              <a:rPr sz="3000"/>
            </a:br>
            <a:r>
              <a:rPr b="1" lang="ru-RU" sz="3000" spc="-1" strike="noStrike">
                <a:solidFill>
                  <a:srgbClr val="323232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2323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3232"/>
                </a:solidFill>
                <a:latin typeface="Arial"/>
              </a:rPr>
              <a:t>не следить за своей осанкой;</a:t>
            </a:r>
            <a:br>
              <a:rPr sz="3000"/>
            </a:br>
            <a:r>
              <a:rPr b="1" lang="ru-RU" sz="3000" spc="-1" strike="noStrike">
                <a:solidFill>
                  <a:srgbClr val="323232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2323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23232"/>
                </a:solidFill>
                <a:latin typeface="Arial"/>
              </a:rPr>
              <a:t>невыполнение разминки во время выполнения домашнего задания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1214280" y="35712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а посадки за сто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285920" y="1571760"/>
            <a:ext cx="3714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ите прямо,  слегка наклонив  голову  впе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упирайтесь грудью в край стола.  Расстояние между вами и  краем стола должно равняться ширине лад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 ноги ставьте на пол подош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увствовав усталость,  отдохнит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C:\Documents and Settings\Boss\Рабочий стол\куртукова\Изображение 194.jpg"/>
          <p:cNvPicPr/>
          <p:nvPr/>
        </p:nvPicPr>
        <p:blipFill>
          <a:blip r:embed="rId1"/>
          <a:stretch/>
        </p:blipFill>
        <p:spPr>
          <a:xfrm>
            <a:off x="5429160" y="1500120"/>
            <a:ext cx="3143520" cy="235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Documents and Settings\Boss\Рабочий стол\куртукова\Изображение 191.jpg"/>
          <p:cNvPicPr/>
          <p:nvPr/>
        </p:nvPicPr>
        <p:blipFill>
          <a:blip r:embed="rId2"/>
          <a:stretch/>
        </p:blipFill>
        <p:spPr>
          <a:xfrm>
            <a:off x="5429160" y="4070520"/>
            <a:ext cx="3143520" cy="2358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4" descr=""/>
          <p:cNvPicPr/>
          <p:nvPr/>
        </p:nvPicPr>
        <p:blipFill>
          <a:blip r:embed="rId1"/>
          <a:stretch/>
        </p:blipFill>
        <p:spPr>
          <a:xfrm>
            <a:off x="371520" y="208080"/>
            <a:ext cx="8553240" cy="3662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Boss\Рабочий стол\куртукова\Изображение 189.jpg"/>
          <p:cNvPicPr/>
          <p:nvPr/>
        </p:nvPicPr>
        <p:blipFill>
          <a:blip r:embed="rId2"/>
          <a:stretch/>
        </p:blipFill>
        <p:spPr>
          <a:xfrm>
            <a:off x="2500200" y="3357720"/>
            <a:ext cx="4294440" cy="322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Boss\Рабочий стол\куртукова\Изображение 189.jpg"/>
          <p:cNvPicPr/>
          <p:nvPr/>
        </p:nvPicPr>
        <p:blipFill>
          <a:blip r:embed="rId3"/>
          <a:stretch/>
        </p:blipFill>
        <p:spPr>
          <a:xfrm>
            <a:off x="2500200" y="3357720"/>
            <a:ext cx="4294440" cy="3220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ВЫЯВЛЕНИЕ ПРИЧИН, ВЛИЯЮЩИХ НА ЗДОРОВЬЕ УЧАЩИХСЯ В СОВРЕМЕННО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ШКО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C:\Documents and Settings\Boss\Рабочий стол\куртукова\Изображение 190.jpg"/>
          <p:cNvPicPr/>
          <p:nvPr/>
        </p:nvPicPr>
        <p:blipFill>
          <a:blip r:embed="rId2"/>
          <a:stretch/>
        </p:blipFill>
        <p:spPr>
          <a:xfrm>
            <a:off x="5643720" y="3000240"/>
            <a:ext cx="2649240" cy="3532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7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Times New Roman"/>
              </a:rPr>
              <a:t>Изучить литературу по данному вопрос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Times New Roman"/>
              </a:rPr>
              <a:t>Выявить, как влияет процесс обучения на здоровье дет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Times New Roman"/>
              </a:rPr>
              <a:t>Соотнести и проанализировать требования СанПиНа с условия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9f2936"/>
                </a:solidFill>
                <a:latin typeface="Times New Roman"/>
              </a:rPr>
              <a:t>обучения учащих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9f2936"/>
                </a:solidFill>
                <a:latin typeface="Times New Roman"/>
              </a:rPr>
              <a:t>в школе №3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0000"/>
                </a:solidFill>
                <a:latin typeface="Times New Roman"/>
              </a:rPr>
              <a:t>Предложить сво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8a0000"/>
                </a:solidFill>
                <a:latin typeface="Times New Roman"/>
              </a:rPr>
              <a:t>способы  реш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8a0000"/>
                </a:solidFill>
                <a:latin typeface="Times New Roman"/>
              </a:rPr>
              <a:t>пробл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9" descr="C:\Documents and Settings\Boss\Рабочий стол\куртукова\Изображение 203.jpg"/>
          <p:cNvPicPr/>
          <p:nvPr/>
        </p:nvPicPr>
        <p:blipFill>
          <a:blip r:embed="rId2"/>
          <a:stretch/>
        </p:blipFill>
        <p:spPr>
          <a:xfrm>
            <a:off x="4857840" y="3643200"/>
            <a:ext cx="4071960" cy="3054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37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9f2936"/>
                </a:solidFill>
                <a:latin typeface="Times New Roman"/>
              </a:rPr>
              <a:t>1-8 классы число здоровых детей снижается в 4 раза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9f2936"/>
                </a:solidFill>
                <a:latin typeface="Times New Roman"/>
              </a:rPr>
              <a:t>Число детей с близорукостью возрастает с 3 до 30%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9f2936"/>
                </a:solidFill>
                <a:latin typeface="Times New Roman"/>
              </a:rPr>
              <a:t>С нарушениями опорно-двигательного аппарата увеличивается в 1.5-2 раз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9f2936"/>
                </a:solidFill>
                <a:latin typeface="Times New Roman"/>
              </a:rPr>
              <a:t>С аллергическими, нервными болезнями увеличиваются в 3 раз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9f2936"/>
                </a:solidFill>
                <a:latin typeface="Times New Roman"/>
              </a:rPr>
              <a:t>На 50%-определяется образом жизни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9f2936"/>
                </a:solidFill>
                <a:latin typeface="Times New Roman"/>
              </a:rPr>
              <a:t>На 20%-наследственностью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9f2936"/>
                </a:solidFill>
                <a:latin typeface="Times New Roman"/>
              </a:rPr>
              <a:t>На 20%-воздействием среды обитания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9f2936"/>
                </a:solidFill>
                <a:latin typeface="Times New Roman"/>
              </a:rPr>
              <a:t>На 10%-качеством медико-санитарной помощ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0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9255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ПЕРЕГРУЗКА УЧЕБНЫМИ ЗАНЯТИЯМИ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ОКОЛО 30% ШКОЛ ТРЕБУЮТ КАПИТАЛЬНОГО РЕМОНТА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БОЛЕЕ 30% ШКОЛ РАБОТАЮТ В 2-3 СМЕНЫ 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СЛАБАЯ ОСВЕЩЁННОСТЬ КЛАССОВ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НЕПРАВИЛЬНЫЕ ФОРМА И ВЕЛИЧИНА ШКОЛЬНЫХ СТОЛОВ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121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24000" y="1557360"/>
          <a:ext cx="8208720" cy="4802040"/>
        </p:xfrm>
        <a:graphic>
          <a:graphicData uri="http://schemas.openxmlformats.org/drawingml/2006/table">
            <a:tbl>
              <a:tblPr/>
              <a:tblGrid>
                <a:gridCol w="2252520"/>
                <a:gridCol w="2935440"/>
                <a:gridCol w="3020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по СанП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ашем кабине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асположение здания и ориентация о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ется  при восточной и южной ориентации око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Размеры окон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 -2 – 2,5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ина – 1,8 – 2м 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ямоуго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лощадь остекленения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а составлять не менее 80% общей площади ок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  <p:sndAc>
      <p:stSnd>
        <p:snd r:embed="rId2" name="chimes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79280" y="189000"/>
          <a:ext cx="8518680" cy="6694560"/>
        </p:xfrm>
        <a:graphic>
          <a:graphicData uri="http://schemas.openxmlformats.org/drawingml/2006/table">
            <a:tbl>
              <a:tblPr/>
              <a:tblGrid>
                <a:gridCol w="2338560"/>
                <a:gridCol w="3044880"/>
                <a:gridCol w="3135240"/>
              </a:tblGrid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Ширина простенков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 подоконников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 от потолка до верхнего края окна.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 менее 0,5м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0,7 – 0,8м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0,15 – 0,31м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краска интерьеров помещени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ые тон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беспечение солнцезащитными приспособлениям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юзи или шторы, из тканей, обладающие хорошими светорассеивающими свойствам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асстояние от школы до деревьев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 менее 10м; до кустарников – не менее 5м; до высотного здания – не менее 2,5м последн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4:27:29Z</dcterms:created>
  <dc:creator>User</dc:creator>
  <dc:description/>
  <dc:language>en-US</dc:language>
  <cp:lastModifiedBy>Учитель</cp:lastModifiedBy>
  <dcterms:modified xsi:type="dcterms:W3CDTF">2010-01-18T11:37:12Z</dcterms:modified>
  <cp:revision>52</cp:revision>
  <dc:subject/>
  <dc:title>ПРИЧИНЫ НЕБЛАГОПРИЯТНОГО ВЛИЯНИЯ ПРОЦЕССА ОБУЧЕНИЯ НА ЗДОРОВЬЕ УЧАЩИХСЯ В СОВРЕМЕННОЙ ШКОЛЕ </dc:title>
</cp:coreProperties>
</file>