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wmf" ContentType="image/x-wmf"/>
  <Override PartName="/ppt/media/image1.jpeg" ContentType="image/jpeg"/>
  <Override PartName="/ppt/media/image22.jpeg" ContentType="image/jpeg"/>
  <Override PartName="/ppt/media/image16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7748F-102B-4972-A1B3-90BE3D31E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76840"/>
            <a:ext cx="4967280" cy="157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9672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86240"/>
            <a:ext cx="49672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6837-D9CF-44CD-9619-795372CCB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76840"/>
            <a:ext cx="4967280" cy="157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4238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3920" y="1988640"/>
            <a:ext cx="24238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86240"/>
            <a:ext cx="24238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13920" y="4386240"/>
            <a:ext cx="24238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C076-DD18-46D1-8DCA-F8D533567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276840"/>
            <a:ext cx="4967280" cy="157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1599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47760" y="1988640"/>
            <a:ext cx="1599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27160" y="1988640"/>
            <a:ext cx="1599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86240"/>
            <a:ext cx="1599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47760" y="4386240"/>
            <a:ext cx="1599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827160" y="4386240"/>
            <a:ext cx="15991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FA14-D4F8-4AC7-BE06-08A3074AE9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76840"/>
            <a:ext cx="4967280" cy="157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496728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7A2F-E547-473C-9650-C01C615DE8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76840"/>
            <a:ext cx="4967280" cy="157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9672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0069-FD5E-461B-9C3F-BE0F5285E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76840"/>
            <a:ext cx="4967280" cy="157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4238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013920" y="1988640"/>
            <a:ext cx="24238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F4E4-C511-4227-A4BB-24A5D8491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76840"/>
            <a:ext cx="4967280" cy="157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497C-ED4B-426A-B9B6-EE750C333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704520"/>
            <a:ext cx="49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999A-73C7-411A-BD13-28563FCF0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76840"/>
            <a:ext cx="4967280" cy="157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4238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013920" y="1988640"/>
            <a:ext cx="24238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86240"/>
            <a:ext cx="24238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8C50-8BFD-4EC1-81ED-5FE76B595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76840"/>
            <a:ext cx="4967280" cy="157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4238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013920" y="1988640"/>
            <a:ext cx="24238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13920" y="4386240"/>
            <a:ext cx="24238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36F6-C7DD-4C72-8A2E-A989A6217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76840"/>
            <a:ext cx="4967280" cy="157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4238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13920" y="1988640"/>
            <a:ext cx="24238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86240"/>
            <a:ext cx="49672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F61B-9407-4542-833D-B02348527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036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e0ea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5651640" y="0"/>
            <a:ext cx="349236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70452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8360" y="1988640"/>
            <a:ext cx="49672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72880" indent="-2728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272880" indent="-2728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72880" indent="-27288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72880" indent="-27288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72880" indent="-27288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68000" y="6597720"/>
            <a:ext cx="762120" cy="1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AF64-D622-414D-B3EF-243EE328CB5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036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e0ea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"/>
          <p:cNvSpPr/>
          <p:nvPr/>
        </p:nvSpPr>
        <p:spPr>
          <a:xfrm>
            <a:off x="5651640" y="0"/>
            <a:ext cx="349236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Текст 2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1989000"/>
            <a:ext cx="640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ГЛОБАЛЬНОЕ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997360"/>
            <a:ext cx="59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ПОТЕПЛЕНИЕ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"/>
          <p:cNvSpPr/>
          <p:nvPr/>
        </p:nvSpPr>
        <p:spPr>
          <a:xfrm>
            <a:off x="5724360" y="260280"/>
            <a:ext cx="3168720" cy="10065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 средняя общеобразовательная школа с углубленным изучением отдельных предметов № 30 им. Медведева С.Р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653000"/>
            <a:ext cx="2089080" cy="2031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готовил проект: Фрицлер Виктор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4 «В» класс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ководители проекта: Будникова И.Н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есенко В.И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Волжский, 2008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70452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Похолодание из-за глобального потепления?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76280"/>
            <a:ext cx="30258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братный эффект</a:t>
            </a:r>
            <a:r>
              <a:rPr b="1" lang="en-US" sz="28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лобальное потепление вовсе не означает потепление везде и в любое время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огласно одной из гипотез, глобальное потепление приведёт к остановке или серьёзному ослаблению Гольфстрима. Это вызовет падение средней температуры в Европе, так как Гольфстрим прогревает континент за счёт переноса тёплой воды из тропик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724280"/>
            <a:ext cx="4967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льфстр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 тёплое морское течение в Атлантическом океане. Из-за Гольфстрима страны Европы, прилегающие к Атлантическому океану, отличаются более мягким климатом, чем регионы на той же географической широте, так как массы тёплой воды обогревают проходящий над ними воздух, который западными ветрами переносится на Европу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5" name="Текст 29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431316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70452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Пугающие прогнозы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476280"/>
            <a:ext cx="30258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онцу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олетия ученые ожидают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ышения средней температуры на 6°С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ышения уровня Мирового океана на 0,5 метр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5373720"/>
            <a:ext cx="273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атопленными могут оказаться целые страны с низинным рельефом, например Бангладеш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9" name="Текст 29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4529160" cy="2487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4797360"/>
            <a:ext cx="5040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 наиболее вероятным изменениям погодных факторов относятс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ее интенсивное выпадение осадк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ее высокие максимальные температуры, увеличение числа жарких дней и уменьшение числа морозных дней почти во всех регионах Земл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меньшение разброса температур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70452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Причины глобального потепления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476280"/>
            <a:ext cx="302580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ругие теор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настоящее время ни одна из этих теорий не имеет заметного числа сторонников среди учёных. Основной причиной потепления они считают выброс парниковых газ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989000"/>
            <a:ext cx="453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ществует множество других гипотез, в том числе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блюдаемое потепление находится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ределах естественной изменчивости климата и не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уждается в отдельном объяснени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епление явилось результатом выхода из холодного Малого ледникового период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епление наблюдается слишком непродолжительное время, поэтому нельзя достаточно уверенно сказать, происходит ли оно вообщ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2924280"/>
            <a:ext cx="216000" cy="21564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4221000"/>
            <a:ext cx="216000" cy="21600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373720"/>
            <a:ext cx="216000" cy="21600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7" name="Текст 29" descr=""/>
          <p:cNvPicPr/>
          <p:nvPr/>
        </p:nvPicPr>
        <p:blipFill>
          <a:blip r:embed="rId2"/>
          <a:stretch/>
        </p:blipFill>
        <p:spPr>
          <a:xfrm>
            <a:off x="5651640" y="1197000"/>
            <a:ext cx="34923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704880"/>
            <a:ext cx="496728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Предотвращение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476280"/>
            <a:ext cx="3025800" cy="58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иотский протоко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бязывает тридцать восемь индустриально развитых стран сократить к 2008-2012 годам выбросы углекислого газа на 5 % от уровня 1990 год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вропейский союз должен сократить выбросы парниковых газов на 8 %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ША — на 7 %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Япония — на 6 %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ндия и Китай не присоединились к соглашению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" name="Текст 29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5040360" cy="37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5157720"/>
            <a:ext cx="518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декабре 1997 года на встрече в Киото (Япония), посвященной глобальному изменению климата, делегатами из более чем ста шестидесяти стран была принята конвенция, обязывающая развитые страны сократить выбросы углекислого газа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Не все разделяют опасения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3" name="Текст 29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1584360" cy="2016360"/>
          </a:xfrm>
          <a:prstGeom prst="rect">
            <a:avLst/>
          </a:prstGeom>
          <a:ln w="0">
            <a:noFill/>
          </a:ln>
        </p:spPr>
      </p:pic>
      <p:pic>
        <p:nvPicPr>
          <p:cNvPr id="94" name="Текст 29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4895640" cy="2490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867280" y="476280"/>
            <a:ext cx="302580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ьорн Ломбор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атский эколог и экономист считает, что глобальное потепление имеет не столь угрожающий характер, как это рисуют некоторые специалисты и вторящие им журналист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Тема потепления перегрета» — говорит он в книге «Охладите! Глобальное потепление. Скептическое руководство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4508640"/>
            <a:ext cx="4895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вестный британский учёный-натуралист и телеведущи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эвид Беллам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олагает, что самой главной экологической проблемой планеты является сохранение тропических лесов в Южной Америке. По его убеждению, опасность глобального потепления сильно преувеличена, — в то время как исчезновение лесов, в которых живёт две трети всех видов животных и растений планеты, действительно является реальной и серьёзной угрозой для человечества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Текст 29" descr=""/>
          <p:cNvPicPr/>
          <p:nvPr/>
        </p:nvPicPr>
        <p:blipFill>
          <a:blip r:embed="rId4"/>
          <a:stretch/>
        </p:blipFill>
        <p:spPr>
          <a:xfrm>
            <a:off x="3419640" y="2781360"/>
            <a:ext cx="18666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96000" y="907920"/>
            <a:ext cx="31687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c0000"/>
                </a:solidFill>
                <a:latin typeface="Arial"/>
              </a:rPr>
              <a:t>Исследовательская работа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9672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бор статистической информ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ведение социологического опро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дставление проекта одноклассникам и учителям школ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7280" y="189000"/>
            <a:ext cx="30974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c0000"/>
                </a:solidFill>
                <a:latin typeface="Arial"/>
              </a:rPr>
              <a:t>Проведение самостоятельного исследования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4968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ротяжении всей работы, начиная с октября 2008 года,  я ежедневно производил замеры температуры (в 14.00 по московскому времени).Результаты приведены на граф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700280"/>
          <a:ext cx="5400720" cy="338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00280"/>
                    <a:ext cx="540072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68360" y="5157720"/>
            <a:ext cx="48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ная работа будет продолжена, и через год я смогу сравнить полученные данные и проанализировать изменение температуры в нашем город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0452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Отношение общества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1640" y="189000"/>
            <a:ext cx="33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743"/>
                </a:solidFill>
                <a:latin typeface="Arial"/>
              </a:rPr>
              <a:t>Социологическ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743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4743"/>
                </a:solidFill>
                <a:latin typeface="Arial"/>
              </a:rPr>
              <a:t>опрос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4508640"/>
            <a:ext cx="273708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Было опрошено 17 человек в возрасте от 9 до 85 лет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езультаты опроса приведены на диаграмме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аметно, что почти все опрошенные считают глобальное потепление серьезной проблемой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Текст 29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5111640" cy="3989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940360" y="1484280"/>
            <a:ext cx="3025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ставляет ли по Вашему мнению глобальное потепление серьезную проблему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70452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Отношение общества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0360" y="1484280"/>
            <a:ext cx="302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олжны ли мы применять меры против глобального потепления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4149720"/>
            <a:ext cx="2737080" cy="22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Было опрошено 17 человек в возрасте от 9 до 85 лет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езультаты опроса приведены на диаграмме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чти три четверти опрошенных считают, что необходимо противодействовать глобальному потеплению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3" name="Текст 29" descr=""/>
          <p:cNvPicPr/>
          <p:nvPr/>
        </p:nvPicPr>
        <p:blipFill>
          <a:blip r:embed="rId2"/>
          <a:stretch/>
        </p:blipFill>
        <p:spPr>
          <a:xfrm>
            <a:off x="395280" y="2637000"/>
            <a:ext cx="5111640" cy="3749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508720" y="26028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4743"/>
                </a:solidFill>
                <a:latin typeface="Arial"/>
              </a:rPr>
              <a:t>Социологическ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4743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4743"/>
                </a:solidFill>
                <a:latin typeface="Arial"/>
              </a:rPr>
              <a:t>опрос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0452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Очевидцы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981000"/>
            <a:ext cx="30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лександр Михайлови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5589720"/>
            <a:ext cx="273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оживает в Котовском районе Волгоградской области более 50 лет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263700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тепление климата очень заметно. Зимы стали значительно теплее, чем тогда, когда я был школьником и студентом. Снегопадов и морозов, в отличие от тех лет совсем почти не стал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Текст 29" descr=""/>
          <p:cNvPicPr/>
          <p:nvPr/>
        </p:nvPicPr>
        <p:blipFill>
          <a:blip r:embed="rId2"/>
          <a:stretch/>
        </p:blipFill>
        <p:spPr>
          <a:xfrm>
            <a:off x="6084720" y="2276640"/>
            <a:ext cx="23749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70452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Глобальное потепление и я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" name="Текст 29" descr=""/>
          <p:cNvPicPr/>
          <p:nvPr/>
        </p:nvPicPr>
        <p:blipFill>
          <a:blip r:embed="rId2"/>
          <a:stretch/>
        </p:blipFill>
        <p:spPr>
          <a:xfrm>
            <a:off x="5867280" y="549360"/>
            <a:ext cx="2990880" cy="3024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2060640"/>
            <a:ext cx="446544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 глобальном потеплении в последнее время много разговоров, много публикаций в пресс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обальное потепление пришло в нашу жизнь. Вот, к примеру, в Музее Сталинградской Битвы я видел, что в дни сражения было много снега. Теперь же, 66 лет спустя, снег зимой в наших краях стал редкостью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я задумался, есть ли оно – глобальное потепление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3789360"/>
            <a:ext cx="3025800" cy="24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 автор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, Фрицлер Виктор, ученик 3 класса В средней школы №30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е 9 ле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 люблю читать, решать нестандартные задач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70452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Очевидцы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1052640"/>
            <a:ext cx="30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дежда Ивановн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"/>
          <p:cNvSpPr/>
          <p:nvPr/>
        </p:nvSpPr>
        <p:spPr>
          <a:xfrm>
            <a:off x="5940360" y="5373720"/>
            <a:ext cx="27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оживает на Северном Урале более 50 лет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63700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е кажется, сейчас зимы стали теплее. Лет 30 назад зимой на Урале бывало до 50 градусов мороза, а сейчас не холоднее -35 градус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4" name="Текст 29" descr=""/>
          <p:cNvPicPr/>
          <p:nvPr/>
        </p:nvPicPr>
        <p:blipFill>
          <a:blip r:embed="rId2"/>
          <a:stretch/>
        </p:blipFill>
        <p:spPr>
          <a:xfrm>
            <a:off x="6084720" y="2205000"/>
            <a:ext cx="221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337644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Очевидцы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981000"/>
            <a:ext cx="30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ладимир Давыдови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5516640"/>
            <a:ext cx="27367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оживает в Волгоградской област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споминает времена 80-летней давност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242100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ё было точно так же. С одеждой было плохо, но я не замерзал. Хотя, конечно, год на год не приходится. Эта осень мне кажется холоднее, чем была несколько лет назад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Текст 29" descr=""/>
          <p:cNvPicPr/>
          <p:nvPr/>
        </p:nvPicPr>
        <p:blipFill>
          <a:blip r:embed="rId2"/>
          <a:stretch/>
        </p:blipFill>
        <p:spPr>
          <a:xfrm>
            <a:off x="6084720" y="2133720"/>
            <a:ext cx="24782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6920" y="188640"/>
            <a:ext cx="30258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000"/>
                </a:solidFill>
                <a:latin typeface="Arial"/>
              </a:rPr>
              <a:t>Результаты проект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42465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результатам проведенной работы можно утверждать, что проблема глобального потепления, действительно, существу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ю изучено понятие глобального потепления, прич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зникновения и способы его предотвра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ден классный час, где была представлена данная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влечено внимание учащихся 3-4 классов к этой пробл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деланы выводы, о личном вкладе каждог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использование экологически безопасных материалов (бумажные пакеты, алюминиевые банки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было сформулировано предложение для взрослых: покупать автомобили с низким расходом топ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Текст 29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3025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96000" y="836280"/>
            <a:ext cx="324000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c0000"/>
                </a:solidFill>
                <a:latin typeface="Arial"/>
              </a:rPr>
              <a:t>Рисунки в защиту природы</a:t>
            </a:r>
            <a:endParaRPr b="1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979640" y="476280"/>
            <a:ext cx="1903320" cy="244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050920" y="4076640"/>
            <a:ext cx="3600720" cy="2433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08000" y="4076640"/>
            <a:ext cx="1800000" cy="2449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924360" y="476280"/>
            <a:ext cx="1682640" cy="244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08000" y="47628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8000" y="2997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лкина Юл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299736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оджий Ди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66552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лгавина Алё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"/>
          <p:cNvSpPr/>
          <p:nvPr/>
        </p:nvSpPr>
        <p:spPr>
          <a:xfrm>
            <a:off x="2105640" y="363852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овалова Виктори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2997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наенков Макси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97000"/>
            <a:ext cx="49672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Спасибо за внимание!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84720" y="692280"/>
            <a:ext cx="2664000" cy="51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 подготовке доклада были использованы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ы электронных ресурсов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ikipedia.org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ogle.ru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ы книги «Энциклопедия школьника. 4000 увлекательных фактов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отографии  из семейного архив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втор благодарит руководителей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удникову И.Н. 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сенко В.И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 также родителе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помощь в работе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д подготовкой проект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10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11640" y="404280"/>
            <a:ext cx="288108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c0000"/>
                </a:solidFill>
                <a:latin typeface="Arial"/>
              </a:rPr>
              <a:t>Направленность</a:t>
            </a:r>
            <a:r>
              <a:rPr b="1" lang="en-US" sz="32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c0000"/>
                </a:solidFill>
                <a:latin typeface="Arial"/>
              </a:rPr>
              <a:t>проекта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96728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витие умений самостоятельно работать с информаци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витие умений проведения исследований, сбора статистической информации и её обработ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866920" y="333000"/>
            <a:ext cx="30258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c0000"/>
                </a:solidFill>
                <a:latin typeface="Arial"/>
              </a:rPr>
              <a:t>Типологические признаки проекта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49672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новная деятельность в проекте исследовательско – информацион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держание: человек и окружающая сре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должительность – длительны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40000" y="476280"/>
            <a:ext cx="28796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c0000"/>
                </a:solidFill>
                <a:latin typeface="Arial"/>
              </a:rPr>
              <a:t>Цели и задачи проекта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496728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лечение внимания учащихся проблеме глобального потеп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ние общественного мнения по пробл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паганда экологически корректн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40360" y="333360"/>
            <a:ext cx="2232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000"/>
                </a:solidFill>
                <a:latin typeface="Arial"/>
              </a:rPr>
              <a:t>Этапы работы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49672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иск информации по проблем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ведение исследования (на протяжении всей работы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циологический опро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кция: «Рисунки в защиту природы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лассный час, создание презен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70452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Глобальное потепление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476280"/>
            <a:ext cx="302580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лобальное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теплени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— процесс постепенного увеличения среднегодовой температуры атмосферы Земли и Мирового океан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Текст 29" descr=""/>
          <p:cNvPicPr/>
          <p:nvPr/>
        </p:nvPicPr>
        <p:blipFill>
          <a:blip r:embed="rId2"/>
          <a:stretch/>
        </p:blipFill>
        <p:spPr>
          <a:xfrm>
            <a:off x="468360" y="2120760"/>
            <a:ext cx="4751280" cy="4737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867280" y="4941720"/>
            <a:ext cx="273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 графике видно, что средняя температура по Земле поднялась на 0,7°C по сравнению со временем начала промышленной революции (в 1850-х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70452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Причины глобального потепления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476280"/>
            <a:ext cx="3025800" cy="60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никовый эффект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ыл обнаружен Жозефом Фурье в 1824 году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о процесс, при котором поглощение и испускание инфракрасного излучения атмосферными газами вызывает нагрев атмосферы и поверхности планеты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кже действуют и стеклянные стенки теплиц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Земле основными парниковыми газами являются: водяной пар, углекислый газ и метан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6" name="Текст 29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967280" cy="2675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4724280"/>
            <a:ext cx="4967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гольные электростанции, автомобильные выхлопы, заводские трубы и другие созданные человечеством источники загрязнения вместе выбрасывают в атмосферу около 22 миллиардов тонн углекислого газа и других парниковых газов в год. Животноводство, применение удобрений, сжигание угля и другие источники дают около 250 миллионов тонн метана в год. Около половины всех парниковых газов, выброшенных человечеством, осталось в атмосфере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0452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Причины глобального потепления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476280"/>
            <a:ext cx="30258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менения солнечной активности</a:t>
            </a:r>
            <a:r>
              <a:rPr b="1" lang="en-US" sz="2800" spc="-1" strike="noStrike">
                <a:solidFill>
                  <a:srgbClr val="f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лнечная активность вызывает такие явления, как солнечные вспышки, потоки ускоренных частиц, изменения электромагнитного излучения, возмущения солнечного ветра и т. д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6021360"/>
            <a:ext cx="496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которые ученые связывают потепление с изменениями солнечной активности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1" name="Текст 29" descr=""/>
          <p:cNvPicPr/>
          <p:nvPr/>
        </p:nvPicPr>
        <p:blipFill>
          <a:blip r:embed="rId2"/>
          <a:stretch/>
        </p:blipFill>
        <p:spPr>
          <a:xfrm>
            <a:off x="474840" y="2309760"/>
            <a:ext cx="488916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34:05Z</dcterms:created>
  <dc:creator>Дмитрий</dc:creator>
  <dc:description/>
  <dc:language>en-US</dc:language>
  <cp:lastModifiedBy>Валя</cp:lastModifiedBy>
  <dcterms:modified xsi:type="dcterms:W3CDTF">2010-01-26T05:21:50Z</dcterms:modified>
  <cp:revision>53</cp:revision>
  <dc:subject/>
  <dc:title>Слайд 1</dc:title>
</cp:coreProperties>
</file>