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923-DED7-4E96-8B70-FB081344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B1A-F683-41A0-9067-BC7E7D71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380-3F40-42CB-80DC-FF92282E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842F-2F33-42F7-9BB5-B86E18BB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2B6A-5C01-4667-9E1C-941B7625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8D60-F0F0-46C8-991B-850CDBE9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A832-5911-4A34-B4E1-37342C7F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F25B-563F-4DC3-ADC5-F7D305DD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21B3-5481-4076-9E8C-61D40558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E4C3-9D0A-4449-A6B2-B34A09B0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D1FC-2A4B-46BD-A4C2-D1BFE73E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B85-BA5B-4182-A00C-E2608FAE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9C86-77E2-4D5C-A22C-62A0F9B4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8156-33F1-4687-9CC7-895E8D66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21B9-EC6D-463A-B336-037DFF3E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EC15-F214-4594-8255-ED73F216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D747-B5A9-4535-9915-471ADFFB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805-59D8-4096-A3F8-851251F2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D1E-FF51-4346-BABE-2F91A9FD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08A-178A-4887-B93F-DDF6FA85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198-F8B5-4EEA-A821-64D3ECEA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FB8-6391-4485-AB17-F3CC81AE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183-DFD5-420F-97F0-765F9EB9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CCA-9F9D-4EDA-9F46-228DDDFC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CD54-75D2-4506-A91E-1596CF2BD5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A1C1-1A78-4079-A7C9-1D4ABF3D9C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3f3ff"/>
                </a:solidFill>
                <a:latin typeface="Times New Roman"/>
              </a:rPr>
              <a:t>Серебряный век русской поэзии</a:t>
            </a:r>
            <a:br>
              <a:rPr sz="5400"/>
            </a:br>
            <a:endParaRPr b="0" lang="en-US" sz="5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лософско-религиозные искания в России начал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X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дернистские течения серебряного ве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мво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кме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утур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Чайковский -Июнь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384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f3ff"/>
                </a:solidFill>
                <a:latin typeface="Times New Roman"/>
              </a:rPr>
              <a:t>А. Блок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О, я хочу безумно жи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 сущее – увековечи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зличное – вочеловечи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сбывшееся – воплотить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block"/>
          <p:cNvPicPr/>
          <p:nvPr/>
        </p:nvPicPr>
        <p:blipFill>
          <a:blip r:embed="rId1"/>
          <a:stretch/>
        </p:blipFill>
        <p:spPr>
          <a:xfrm>
            <a:off x="5475240" y="2014560"/>
            <a:ext cx="2540160" cy="37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3ff"/>
                </a:solidFill>
                <a:latin typeface="Times New Roman"/>
              </a:rPr>
              <a:t>«Стихи о прекрасной Даме»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Вхожу я в тёмные храм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Я, отрок, зажигаю свеч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Предчувствую Тебя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Года проходят мимо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Мне страшно встречаться с Тобой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1" descr="kern3"/>
          <p:cNvPicPr/>
          <p:nvPr/>
        </p:nvPicPr>
        <p:blipFill>
          <a:blip r:embed="rId1"/>
          <a:stretch/>
        </p:blipFill>
        <p:spPr>
          <a:xfrm>
            <a:off x="4772160" y="1557360"/>
            <a:ext cx="36162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3f3ff"/>
                </a:solidFill>
                <a:latin typeface="Times New Roman"/>
              </a:rPr>
              <a:t>Акмеизм</a:t>
            </a:r>
            <a:endParaRPr b="0" lang="en-US" sz="4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ставите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.Городецкий, Н.Гумилев, А.Ахматова, О.Мандельшт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ные положения програм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цип «прекрасной ясност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огичность художественного замыс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ойность компози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абилитация  эстетики разума и гармо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f3ff"/>
                </a:solidFill>
                <a:latin typeface="Times New Roman"/>
              </a:rPr>
              <a:t>Футуризм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убофутурист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.Крученых, В.Хлебников, В.Каменский, В.Маяков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гофутурист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. Северянин, К.Олимп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уппа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Мезонин Поэзии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Шершеневич, Р.Ивн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ъединение «Центрифуга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.Пастернак, Н.Асе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ные положения програм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освобождение слова от внелитературных зад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формальные эксперим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мечта о рождении сверхискус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опора на технические дости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924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3f3ff"/>
                </a:solidFill>
                <a:latin typeface="Times New Roman"/>
              </a:rPr>
              <a:t>Презентация подготовлена</a:t>
            </a:r>
            <a:br>
              <a:rPr sz="4000"/>
            </a:br>
            <a:r>
              <a:rPr b="1" i="1" lang="ru-RU" sz="4000" spc="-1" strike="noStrike">
                <a:solidFill>
                  <a:srgbClr val="f3f3ff"/>
                </a:solidFill>
                <a:latin typeface="Times New Roman"/>
              </a:rPr>
              <a:t>ученицей 8 класса </a:t>
            </a:r>
            <a:br>
              <a:rPr sz="4000"/>
            </a:br>
            <a:r>
              <a:rPr b="1" i="1" lang="ru-RU" sz="4000" spc="-1" strike="noStrike">
                <a:solidFill>
                  <a:srgbClr val="f3f3ff"/>
                </a:solidFill>
                <a:latin typeface="Times New Roman"/>
              </a:rPr>
              <a:t>Миракян Дианой </a:t>
            </a:r>
            <a:br>
              <a:rPr sz="4000"/>
            </a:br>
            <a:r>
              <a:rPr b="1" i="1" lang="ru-RU" sz="4000" spc="-1" strike="noStrike">
                <a:solidFill>
                  <a:srgbClr val="f3f3ff"/>
                </a:solidFill>
                <a:latin typeface="Times New Roman"/>
              </a:rPr>
              <a:t>под руководством </a:t>
            </a:r>
            <a:br>
              <a:rPr sz="4000"/>
            </a:br>
            <a:r>
              <a:rPr b="1" i="1" lang="ru-RU" sz="4000" spc="-1" strike="noStrike">
                <a:solidFill>
                  <a:srgbClr val="f3f3ff"/>
                </a:solidFill>
                <a:latin typeface="Times New Roman"/>
              </a:rPr>
              <a:t>Касьяновой Л.Г.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f3ff"/>
                </a:solidFill>
                <a:latin typeface="Times New Roman"/>
              </a:rPr>
              <a:t>Философско-религиозные искания в России начала </a:t>
            </a:r>
            <a:r>
              <a:rPr b="0" lang="en-US" sz="2800" spc="-1" strike="noStrike">
                <a:solidFill>
                  <a:srgbClr val="f3f3ff"/>
                </a:solidFill>
                <a:latin typeface="Times New Roman"/>
              </a:rPr>
              <a:t>XX </a:t>
            </a:r>
            <a:r>
              <a:rPr b="0" lang="ru-RU" sz="2800" spc="-1" strike="noStrike">
                <a:solidFill>
                  <a:srgbClr val="f3f3ff"/>
                </a:solidFill>
                <a:latin typeface="Times New Roman"/>
              </a:rPr>
              <a:t>века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86" name="Picture 6" descr="solovev_vs"/>
          <p:cNvPicPr/>
          <p:nvPr/>
        </p:nvPicPr>
        <p:blipFill>
          <a:blip r:embed="rId1"/>
          <a:stretch/>
        </p:blipFill>
        <p:spPr>
          <a:xfrm>
            <a:off x="1596960" y="2824200"/>
            <a:ext cx="1603440" cy="21272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2920" y="2276280"/>
            <a:ext cx="41943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ные иде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кусство – посредник в достижении «всеединств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ожительное всеединство – Красота, Добро, Ис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зрение «миров иных» сквозь иллюзорную действи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468360" y="112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.С. Соловьев – философ, поэт, переводчик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f3ff"/>
                </a:solidFill>
                <a:latin typeface="Times New Roman"/>
              </a:rPr>
              <a:t>Д.С. Мережсковский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90" name="Picture 7" descr="merezhkow"/>
          <p:cNvPicPr/>
          <p:nvPr/>
        </p:nvPicPr>
        <p:blipFill>
          <a:blip r:embed="rId1"/>
          <a:stretch/>
        </p:blipFill>
        <p:spPr>
          <a:xfrm>
            <a:off x="1822320" y="2965320"/>
            <a:ext cx="1152720" cy="1844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борник статей «О причинах упадка новых течений современной русской литератур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борник стихотворений «Символ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f3ff"/>
                </a:solidFill>
                <a:latin typeface="Times New Roman"/>
              </a:rPr>
              <a:t>«Старшие символисты»</a:t>
            </a:r>
            <a:br>
              <a:rPr sz="4000"/>
            </a:br>
            <a:r>
              <a:rPr b="0" lang="ru-RU" sz="4000" spc="-1" strike="noStrike">
                <a:solidFill>
                  <a:srgbClr val="f3f3ff"/>
                </a:solidFill>
                <a:latin typeface="Times New Roman"/>
              </a:rPr>
              <a:t>Декаденты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1680" y="1676520"/>
            <a:ext cx="8540640" cy="14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новные представител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Московская школ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 В. Брюсов, К.Бальмон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Петербуржская школ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 Д.Мережковски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.Гиппиу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звание поэта: Поэт – творец. Обращение к читателю – творцу, соавтору. Возрождение веры в высокое предназначение искус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f3ff"/>
                </a:solidFill>
                <a:latin typeface="Times New Roman"/>
              </a:rPr>
              <a:t>Основные положения программы:</a:t>
            </a:r>
            <a:br>
              <a:rPr sz="4000"/>
            </a:b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сковская школа: принцип эстетики – «искусство для искусств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тербуржская шко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оритет релизиозно-философских поис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стическое содерж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ширение художственной впечатл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мвол – средство постижения надреального ми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3ff"/>
                </a:solidFill>
                <a:latin typeface="Times New Roman"/>
              </a:rPr>
              <a:t>В. Я. Брюсов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97" name="Picture 7" descr="Bryusov"/>
          <p:cNvPicPr/>
          <p:nvPr/>
        </p:nvPicPr>
        <p:blipFill>
          <a:blip r:embed="rId1"/>
          <a:stretch/>
        </p:blipFill>
        <p:spPr>
          <a:xfrm>
            <a:off x="758880" y="1700280"/>
            <a:ext cx="3308400" cy="4249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ихотворение «Хвала человеку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ой теме посвящено стихотворе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вы определите его жан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чём, по В. Брюсову, проявляется свобода человеческой лич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он прославляет в человек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3ff"/>
                </a:solidFill>
                <a:latin typeface="Times New Roman"/>
              </a:rPr>
              <a:t>К. Д. Бальмонт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100" name="Picture 7" descr="balmont"/>
          <p:cNvPicPr/>
          <p:nvPr/>
        </p:nvPicPr>
        <p:blipFill>
          <a:blip r:embed="rId1"/>
          <a:stretch/>
        </p:blipFill>
        <p:spPr>
          <a:xfrm>
            <a:off x="841320" y="1676520"/>
            <a:ext cx="3114720" cy="4422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ихотворения «Я мечтою ловил уходящие тени», «Фантаз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вы поняли, о чём эти стихотвор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ово скрытое, символическое содержание в обоих стихотворения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f3ff"/>
                </a:solidFill>
                <a:latin typeface="Times New Roman"/>
              </a:rPr>
              <a:t>«Младосимволисты»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ставители: А. Блок, А. Белый, В. Иван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новные положения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приятие реа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ход в инобыт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одоление разрыва между реальностью и инобыт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3f3ff"/>
                </a:solidFill>
                <a:latin typeface="Times New Roman"/>
              </a:rPr>
              <a:t>Образ Руси в творчестве А.Белого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борники стихотворений: «Пепел», «Отчаяние», «Русь», «Родина», «Родине», «Из окна вагон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492360" y="4508640"/>
            <a:ext cx="54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оссия, Россия, Россия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Мессия грядущего дня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0:33:35Z</dcterms:created>
  <dc:creator>Армине</dc:creator>
  <dc:description/>
  <dc:language>en-US</dc:language>
  <cp:lastModifiedBy>Gost'</cp:lastModifiedBy>
  <dcterms:modified xsi:type="dcterms:W3CDTF">2010-01-27T06:05:02Z</dcterms:modified>
  <cp:revision>20</cp:revision>
  <dc:subject/>
  <dc:title>Серебряный век русской поэзии </dc:title>
</cp:coreProperties>
</file>