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795BC-F6DC-4936-BF53-EFEF690FF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56FB5A-4272-4AC1-B1B9-00196E125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B5B47-034C-49CE-9C8B-41F634731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1E46CA-59B3-4142-BEB6-5B386C02A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2302C-D3FE-474E-A1AA-80DD1A900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F06B8-B5FC-4101-9418-AFCA95E65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2AF03-F3BD-445D-B8CF-E18A3108C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F47C6-866E-47C5-8570-EB46EC253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6E1B7-4F31-400C-A8D4-E0A60282B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24FD8-E4CF-4CBE-ADEB-9627114FA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8EE97-9CEF-427E-BEA7-78619B4CC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24469-45FC-4F28-BC47-CA55ED53F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C7AE2-2E9A-45F0-9265-4C545063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93164-5706-4AA1-B35D-909BA527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834AD-87A8-4D0C-9713-B6D69DC07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7B745-4CCF-4BB2-A8C2-0E4CB50F1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EB7AB-32AB-4FD5-A867-80EA4FBC7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8DE7B-C3C3-4461-8B81-247343E47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47EBF-0938-47DC-902C-96640C6DB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0FCDD-0AF1-4A82-BD83-370E53C99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2BBCB-640A-45A2-AE7B-98312087F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4D754-38CD-44AE-B643-D370EADAE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A768C7-615D-40C8-96DA-E5EF83925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0FC61-B109-435B-81F0-35DB0B17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A23C0-FE3E-4228-901B-99E8EF04E49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01529-7DB6-4C36-8468-E4C2E69F81A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" Target="slide14.xml"/><Relationship Id="rId5" Type="http://schemas.openxmlformats.org/officeDocument/2006/relationships/slide" Target="slide15.xml"/><Relationship Id="rId6" Type="http://schemas.openxmlformats.org/officeDocument/2006/relationships/slide" Target="slide15.xml"/><Relationship Id="rId7" Type="http://schemas.openxmlformats.org/officeDocument/2006/relationships/slide" Target="slide16.xml"/><Relationship Id="rId8" Type="http://schemas.openxmlformats.org/officeDocument/2006/relationships/slide" Target="slide17.xml"/><Relationship Id="rId9" Type="http://schemas.openxmlformats.org/officeDocument/2006/relationships/slide" Target="slide17.xml"/><Relationship Id="rId10" Type="http://schemas.openxmlformats.org/officeDocument/2006/relationships/slide" Target="slide18.xml"/><Relationship Id="rId11" Type="http://schemas.openxmlformats.org/officeDocument/2006/relationships/slide" Target="slide18.xml"/><Relationship Id="rId12" Type="http://schemas.openxmlformats.org/officeDocument/2006/relationships/slide" Target="slide19.xml"/><Relationship Id="rId13" Type="http://schemas.openxmlformats.org/officeDocument/2006/relationships/slide" Target="slide3.xml"/><Relationship Id="rId1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" Target="slide10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" Target="slide4.xml"/><Relationship Id="rId3" Type="http://schemas.openxmlformats.org/officeDocument/2006/relationships/slide" Target="slide9.xm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304920" y="457200"/>
            <a:ext cx="8839080" cy="5029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5400000"/>
                </a:gradFill>
                <a:latin typeface="Times New Roman"/>
              </a:rPr>
              <a:t>Вирусология 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100000">
                    <a:srgbClr val="ffebfa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Особенности алгоритма работы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 action="ppaction://hlinksldjump"/>
              </a:rPr>
              <a:t>Загрузочные вирус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2" action="ppaction://hlinksldjump"/>
              </a:rPr>
              <a:t>Файловые вирус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3" action="ppaction://hlinksldjump"/>
              </a:rPr>
              <a:t>Загрузочно-файловые вирус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4" action="ppaction://hlinksldjump"/>
              </a:rPr>
              <a:t>Полиморфные вирус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5" action="ppaction://hlinksldjump"/>
              </a:rPr>
              <a:t>Stealth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6" action="ppaction://hlinksldjump"/>
              </a:rPr>
              <a:t> вирус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7" action="ppaction://hlinksldjump"/>
              </a:rPr>
              <a:t>Ретровирус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8" action="ppaction://hlinksldjump"/>
              </a:rPr>
              <a:t>Multipartition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9" action="ppaction://hlinksldjump"/>
              </a:rPr>
              <a:t>вирус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10" action="ppaction://hlinksldjump"/>
              </a:rPr>
              <a:t>Dr. Solomon's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11" action="ppaction://hlinksldjump"/>
              </a:rPr>
              <a:t> вирус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2" action="ppaction://hlinksldjump"/>
              </a:rPr>
              <a:t>Вышедший из строя вирус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">
            <a:hlinkClick r:id="rId13" action="ppaction://hlinksldjump"/>
          </p:cNvPr>
          <p:cNvSpPr/>
          <p:nvPr/>
        </p:nvSpPr>
        <p:spPr>
          <a:xfrm>
            <a:off x="7543800" y="571500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7493"/>
                </a:moveTo>
                <a:lnTo>
                  <a:pt x="16291" y="7493"/>
                </a:lnTo>
                <a:lnTo>
                  <a:pt x="16291" y="12828"/>
                </a:lnTo>
                <a:cubicBezTo>
                  <a:pt x="16291" y="13751"/>
                  <a:pt x="17092" y="14482"/>
                  <a:pt x="18128" y="14482"/>
                </a:cubicBezTo>
                <a:lnTo>
                  <a:pt x="19790" y="14482"/>
                </a:lnTo>
                <a:cubicBezTo>
                  <a:pt x="20826" y="14482"/>
                  <a:pt x="21627" y="13751"/>
                  <a:pt x="21627" y="12828"/>
                </a:cubicBezTo>
                <a:lnTo>
                  <a:pt x="21627" y="7493"/>
                </a:lnTo>
                <a:lnTo>
                  <a:pt x="19790" y="7493"/>
                </a:lnTo>
                <a:lnTo>
                  <a:pt x="23298" y="3985"/>
                </a:lnTo>
                <a:lnTo>
                  <a:pt x="26971" y="7493"/>
                </a:lnTo>
                <a:lnTo>
                  <a:pt x="25134" y="7493"/>
                </a:lnTo>
                <a:lnTo>
                  <a:pt x="25134" y="12828"/>
                </a:lnTo>
                <a:cubicBezTo>
                  <a:pt x="25134" y="15596"/>
                  <a:pt x="22558" y="18155"/>
                  <a:pt x="19790" y="18155"/>
                </a:cubicBezTo>
                <a:lnTo>
                  <a:pt x="18128" y="18155"/>
                </a:lnTo>
                <a:cubicBezTo>
                  <a:pt x="15360" y="18155"/>
                  <a:pt x="12784" y="15596"/>
                  <a:pt x="12784" y="12828"/>
                </a:cubicBezTo>
                <a:close/>
              </a:path>
            </a:pathLst>
          </a:custGeom>
          <a:gradFill rotWithShape="0">
            <a:gsLst>
              <a:gs pos="0">
                <a:srgbClr val="0099cc"/>
              </a:gs>
              <a:gs pos="100000">
                <a:srgbClr val="00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Загрузочные вирус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4000" spc="-1" strike="noStrike">
                <a:solidFill>
                  <a:srgbClr val="ffffff"/>
                </a:solidFill>
                <a:latin typeface="Garamond"/>
              </a:rPr>
              <a:t>Инфицируют загрузочные секторы жестких дисков и дискет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503600" y="1371600"/>
            <a:ext cx="4492800" cy="5334120"/>
          </a:xfrm>
          <a:prstGeom prst="rect">
            <a:avLst/>
          </a:prstGeom>
          <a:ln w="0">
            <a:noFill/>
          </a:ln>
        </p:spPr>
      </p:pic>
      <p:sp>
        <p:nvSpPr>
          <p:cNvPr id="139" name="">
            <a:hlinkClick r:id="rId3" action="ppaction://hlinksldjump"/>
          </p:cNvPr>
          <p:cNvSpPr/>
          <p:nvPr/>
        </p:nvSpPr>
        <p:spPr>
          <a:xfrm>
            <a:off x="3505320" y="5791320"/>
            <a:ext cx="838080" cy="838080"/>
          </a:xfrm>
          <a:custGeom>
            <a:avLst/>
            <a:gdLst>
              <a:gd name="textAreaLeft" fmla="*/ 54000 w 838080"/>
              <a:gd name="textAreaRight" fmla="*/ 784080 w 83808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gradFill rotWithShape="0">
            <a:gsLst>
              <a:gs pos="0">
                <a:srgbClr val="0099cc"/>
              </a:gs>
              <a:gs pos="100000">
                <a:srgbClr val="00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Файловые вирус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аражают файлы. Эта группа в свою очередь подразделяется на вирусы, инфицирующие исполняемые файлы (сом-, ехе-вирусы) ; файлы данных (макровирусы) ; вирусы-спутники, использующие имена других программ; вирусы семейства Dir, использующие информацию о файловой структуре. Причем два последних типа вообще не модифицируют файлы на диске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">
            <a:hlinkClick r:id="rId1" action="ppaction://hlinksldjump"/>
          </p:cNvPr>
          <p:cNvSpPr/>
          <p:nvPr/>
        </p:nvSpPr>
        <p:spPr>
          <a:xfrm>
            <a:off x="7924680" y="6019920"/>
            <a:ext cx="838440" cy="609480"/>
          </a:xfrm>
          <a:custGeom>
            <a:avLst/>
            <a:gdLst>
              <a:gd name="textAreaLeft" fmla="*/ 39240 w 838440"/>
              <a:gd name="textAreaRight" fmla="*/ 799200 w 8384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710" h="21600">
                <a:moveTo>
                  <a:pt x="0" y="0"/>
                </a:moveTo>
                <a:lnTo>
                  <a:pt x="29710" y="0"/>
                </a:lnTo>
                <a:lnTo>
                  <a:pt x="29710" y="21600"/>
                </a:lnTo>
                <a:lnTo>
                  <a:pt x="0" y="21600"/>
                </a:lnTo>
                <a:close/>
              </a:path>
              <a:path fill="lightenLess" w="29710" h="21600">
                <a:moveTo>
                  <a:pt x="0" y="0"/>
                </a:moveTo>
                <a:lnTo>
                  <a:pt x="29710" y="0"/>
                </a:lnTo>
                <a:lnTo>
                  <a:pt x="28310" y="1400"/>
                </a:lnTo>
                <a:lnTo>
                  <a:pt x="1400" y="1400"/>
                </a:lnTo>
                <a:close/>
              </a:path>
              <a:path fill="darken" w="29710" h="21600">
                <a:moveTo>
                  <a:pt x="29710" y="0"/>
                </a:moveTo>
                <a:lnTo>
                  <a:pt x="29710" y="21600"/>
                </a:lnTo>
                <a:lnTo>
                  <a:pt x="28310" y="20200"/>
                </a:lnTo>
                <a:lnTo>
                  <a:pt x="28310" y="1400"/>
                </a:lnTo>
                <a:close/>
              </a:path>
              <a:path fill="darkenLess" w="29710" h="21600">
                <a:moveTo>
                  <a:pt x="297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10" y="20200"/>
                </a:lnTo>
                <a:close/>
              </a:path>
              <a:path fill="lighten" w="297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10" h="21600">
                <a:moveTo>
                  <a:pt x="7848" y="7493"/>
                </a:moveTo>
                <a:lnTo>
                  <a:pt x="11356" y="7493"/>
                </a:lnTo>
                <a:lnTo>
                  <a:pt x="11356" y="12828"/>
                </a:lnTo>
                <a:cubicBezTo>
                  <a:pt x="11356" y="13751"/>
                  <a:pt x="12157" y="14482"/>
                  <a:pt x="13192" y="14482"/>
                </a:cubicBezTo>
                <a:lnTo>
                  <a:pt x="14855" y="14482"/>
                </a:lnTo>
                <a:cubicBezTo>
                  <a:pt x="15891" y="14482"/>
                  <a:pt x="16691" y="13751"/>
                  <a:pt x="16691" y="12828"/>
                </a:cubicBezTo>
                <a:lnTo>
                  <a:pt x="16691" y="7493"/>
                </a:lnTo>
                <a:lnTo>
                  <a:pt x="14855" y="7493"/>
                </a:lnTo>
                <a:lnTo>
                  <a:pt x="18362" y="3985"/>
                </a:lnTo>
                <a:lnTo>
                  <a:pt x="22035" y="7493"/>
                </a:lnTo>
                <a:lnTo>
                  <a:pt x="20199" y="7493"/>
                </a:lnTo>
                <a:lnTo>
                  <a:pt x="20199" y="12828"/>
                </a:lnTo>
                <a:cubicBezTo>
                  <a:pt x="20199" y="15596"/>
                  <a:pt x="17623" y="18155"/>
                  <a:pt x="14855" y="18155"/>
                </a:cubicBezTo>
                <a:lnTo>
                  <a:pt x="13192" y="18155"/>
                </a:lnTo>
                <a:cubicBezTo>
                  <a:pt x="10425" y="18155"/>
                  <a:pt x="7848" y="15596"/>
                  <a:pt x="7848" y="12828"/>
                </a:cubicBezTo>
                <a:close/>
              </a:path>
            </a:pathLst>
          </a:custGeom>
          <a:gradFill rotWithShape="0">
            <a:gsLst>
              <a:gs pos="0">
                <a:srgbClr val="0099cc"/>
              </a:gs>
              <a:gs pos="100000">
                <a:srgbClr val="00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Загрузочно-файловы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пособны поражать как код загрузочных секторов, так и код файлов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">
            <a:hlinkClick r:id="rId1" action="ppaction://hlinksldjump"/>
          </p:cNvPr>
          <p:cNvSpPr/>
          <p:nvPr/>
        </p:nvSpPr>
        <p:spPr>
          <a:xfrm>
            <a:off x="8229600" y="586728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gradFill rotWithShape="0">
            <a:gsLst>
              <a:gs pos="0">
                <a:srgbClr val="0099cc"/>
              </a:gs>
              <a:gs pos="100000">
                <a:srgbClr val="00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905120" y="2743200"/>
            <a:ext cx="4572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олиморфные вирус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4419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шифрующие свое тело и поэтому не имеющие неизменного набора символов, т.е. сигнатур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">
            <a:hlinkClick r:id="rId1" action="ppaction://hlinksldjump"/>
          </p:cNvPr>
          <p:cNvSpPr/>
          <p:nvPr/>
        </p:nvSpPr>
        <p:spPr>
          <a:xfrm>
            <a:off x="81532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7493"/>
                </a:moveTo>
                <a:lnTo>
                  <a:pt x="8502" y="7493"/>
                </a:lnTo>
                <a:lnTo>
                  <a:pt x="8502" y="12828"/>
                </a:lnTo>
                <a:cubicBezTo>
                  <a:pt x="8502" y="13751"/>
                  <a:pt x="9303" y="14482"/>
                  <a:pt x="10339" y="14482"/>
                </a:cubicBezTo>
                <a:lnTo>
                  <a:pt x="12001" y="14482"/>
                </a:lnTo>
                <a:cubicBezTo>
                  <a:pt x="13037" y="14482"/>
                  <a:pt x="13838" y="13751"/>
                  <a:pt x="13838" y="12828"/>
                </a:cubicBezTo>
                <a:lnTo>
                  <a:pt x="13838" y="7493"/>
                </a:lnTo>
                <a:lnTo>
                  <a:pt x="12001" y="7493"/>
                </a:lnTo>
                <a:lnTo>
                  <a:pt x="15509" y="3985"/>
                </a:lnTo>
                <a:lnTo>
                  <a:pt x="19182" y="7493"/>
                </a:lnTo>
                <a:lnTo>
                  <a:pt x="17345" y="7493"/>
                </a:lnTo>
                <a:lnTo>
                  <a:pt x="17345" y="12828"/>
                </a:lnTo>
                <a:cubicBezTo>
                  <a:pt x="17345" y="15596"/>
                  <a:pt x="14769" y="18155"/>
                  <a:pt x="12001" y="18155"/>
                </a:cubicBezTo>
                <a:lnTo>
                  <a:pt x="10339" y="18155"/>
                </a:lnTo>
                <a:cubicBezTo>
                  <a:pt x="7571" y="18155"/>
                  <a:pt x="4995" y="15596"/>
                  <a:pt x="4995" y="12828"/>
                </a:cubicBezTo>
                <a:close/>
              </a:path>
            </a:pathLst>
          </a:custGeom>
          <a:gradFill rotWithShape="0">
            <a:gsLst>
              <a:gs pos="0">
                <a:srgbClr val="0099cc"/>
              </a:gs>
              <a:gs pos="100000">
                <a:srgbClr val="00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419720" y="1614600"/>
            <a:ext cx="4724280" cy="40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tealth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вирус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фальсифицируют информацию, читаемую с диска, так, что активная программа получает неверные данные. Вирус перехватывает вектор прерывания int 13h и поставляет читающей программе ложную информацию, которая показывает, что на диске "все в порядке". Эта технология используется как в файловых, так и загрузочных вирусах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3" name="">
            <a:hlinkClick r:id="rId1" action="ppaction://hlinksldjump"/>
          </p:cNvPr>
          <p:cNvSpPr/>
          <p:nvPr/>
        </p:nvSpPr>
        <p:spPr>
          <a:xfrm>
            <a:off x="8153280" y="5791320"/>
            <a:ext cx="762120" cy="83808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838080"/>
              <a:gd name="textAreaBottom" fmla="*/ 788760 h 838080"/>
            </a:gdLst>
            <a:ahLst/>
            <a:rect l="textAreaLeft" t="textAreaTop" r="textAreaRight" b="textAreaBottom"/>
            <a:pathLst>
              <a:path w="21600" h="23752">
                <a:moveTo>
                  <a:pt x="0" y="0"/>
                </a:moveTo>
                <a:lnTo>
                  <a:pt x="21600" y="0"/>
                </a:lnTo>
                <a:lnTo>
                  <a:pt x="21600" y="23752"/>
                </a:lnTo>
                <a:lnTo>
                  <a:pt x="0" y="23752"/>
                </a:lnTo>
                <a:close/>
              </a:path>
              <a:path fill="lightenLess" w="21600" h="237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752">
                <a:moveTo>
                  <a:pt x="21600" y="0"/>
                </a:moveTo>
                <a:lnTo>
                  <a:pt x="21600" y="23752"/>
                </a:lnTo>
                <a:lnTo>
                  <a:pt x="20200" y="22352"/>
                </a:lnTo>
                <a:lnTo>
                  <a:pt x="20200" y="1400"/>
                </a:lnTo>
                <a:close/>
              </a:path>
              <a:path fill="darkenLess" w="21600" h="23752">
                <a:moveTo>
                  <a:pt x="21600" y="23752"/>
                </a:moveTo>
                <a:lnTo>
                  <a:pt x="0" y="23752"/>
                </a:lnTo>
                <a:lnTo>
                  <a:pt x="1400" y="22352"/>
                </a:lnTo>
                <a:lnTo>
                  <a:pt x="20200" y="22352"/>
                </a:lnTo>
                <a:close/>
              </a:path>
              <a:path fill="lighten" w="21600" h="23752">
                <a:moveTo>
                  <a:pt x="0" y="2375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352"/>
                </a:lnTo>
                <a:close/>
              </a:path>
              <a:path fill="darken" w="21600" h="23752">
                <a:moveTo>
                  <a:pt x="3794" y="8569"/>
                </a:moveTo>
                <a:lnTo>
                  <a:pt x="7301" y="8569"/>
                </a:lnTo>
                <a:lnTo>
                  <a:pt x="7301" y="13904"/>
                </a:lnTo>
                <a:cubicBezTo>
                  <a:pt x="7301" y="14826"/>
                  <a:pt x="8102" y="15558"/>
                  <a:pt x="9138" y="15558"/>
                </a:cubicBezTo>
                <a:lnTo>
                  <a:pt x="10800" y="15558"/>
                </a:lnTo>
                <a:cubicBezTo>
                  <a:pt x="11836" y="15558"/>
                  <a:pt x="12636" y="14826"/>
                  <a:pt x="12636" y="13904"/>
                </a:cubicBezTo>
                <a:lnTo>
                  <a:pt x="12636" y="8569"/>
                </a:lnTo>
                <a:lnTo>
                  <a:pt x="10800" y="8569"/>
                </a:lnTo>
                <a:lnTo>
                  <a:pt x="14308" y="5061"/>
                </a:lnTo>
                <a:lnTo>
                  <a:pt x="17981" y="8569"/>
                </a:lnTo>
                <a:lnTo>
                  <a:pt x="16144" y="8569"/>
                </a:lnTo>
                <a:lnTo>
                  <a:pt x="16144" y="13904"/>
                </a:lnTo>
                <a:cubicBezTo>
                  <a:pt x="16144" y="16672"/>
                  <a:pt x="13568" y="19231"/>
                  <a:pt x="10800" y="19231"/>
                </a:cubicBezTo>
                <a:lnTo>
                  <a:pt x="9138" y="19231"/>
                </a:lnTo>
                <a:cubicBezTo>
                  <a:pt x="6370" y="19231"/>
                  <a:pt x="3794" y="16672"/>
                  <a:pt x="3794" y="13904"/>
                </a:cubicBezTo>
                <a:close/>
              </a:path>
            </a:pathLst>
          </a:custGeom>
          <a:gradFill rotWithShape="0">
            <a:gsLst>
              <a:gs pos="0">
                <a:srgbClr val="0099cc"/>
              </a:gs>
              <a:gs pos="100000">
                <a:srgbClr val="00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Ретровирусы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етровирусами называются обычные файловые вирусы, которые пытаются заразить антивирусные программы, уничтожая их или делая неработоспособными. Поэтому, практически все антивирусы, в первую очередь сверяют свои собственные размер и контрольную сумму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">
            <a:hlinkClick r:id="rId1" action="ppaction://hlinksldjump"/>
          </p:cNvPr>
          <p:cNvSpPr/>
          <p:nvPr/>
        </p:nvSpPr>
        <p:spPr>
          <a:xfrm>
            <a:off x="8153280" y="5943600"/>
            <a:ext cx="762120" cy="76212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gradFill rotWithShape="0">
            <a:gsLst>
              <a:gs pos="0">
                <a:srgbClr val="0099cc"/>
              </a:gs>
              <a:gs pos="100000">
                <a:srgbClr val="00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Multipartition 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вирус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ultipartition-вирусы могут поражать одновременно исполняемые файлы, boot-сектор, MBR, FAT и директории. Если они к тому же обладают пол и моренными свойствами и элементами невидимости, то становится понятно, что такие вирусы — одни из наиболее опасных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">
            <a:hlinkClick r:id="rId1" action="ppaction://hlinksldjump"/>
          </p:cNvPr>
          <p:cNvSpPr/>
          <p:nvPr/>
        </p:nvSpPr>
        <p:spPr>
          <a:xfrm>
            <a:off x="82296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7493"/>
                </a:moveTo>
                <a:lnTo>
                  <a:pt x="8502" y="7493"/>
                </a:lnTo>
                <a:lnTo>
                  <a:pt x="8502" y="12828"/>
                </a:lnTo>
                <a:cubicBezTo>
                  <a:pt x="8502" y="13751"/>
                  <a:pt x="9303" y="14482"/>
                  <a:pt x="10339" y="14482"/>
                </a:cubicBezTo>
                <a:lnTo>
                  <a:pt x="12001" y="14482"/>
                </a:lnTo>
                <a:cubicBezTo>
                  <a:pt x="13037" y="14482"/>
                  <a:pt x="13838" y="13751"/>
                  <a:pt x="13838" y="12828"/>
                </a:cubicBezTo>
                <a:lnTo>
                  <a:pt x="13838" y="7493"/>
                </a:lnTo>
                <a:lnTo>
                  <a:pt x="12001" y="7493"/>
                </a:lnTo>
                <a:lnTo>
                  <a:pt x="15509" y="3985"/>
                </a:lnTo>
                <a:lnTo>
                  <a:pt x="19182" y="7493"/>
                </a:lnTo>
                <a:lnTo>
                  <a:pt x="17345" y="7493"/>
                </a:lnTo>
                <a:lnTo>
                  <a:pt x="17345" y="12828"/>
                </a:lnTo>
                <a:cubicBezTo>
                  <a:pt x="17345" y="15596"/>
                  <a:pt x="14769" y="18155"/>
                  <a:pt x="12001" y="18155"/>
                </a:cubicBezTo>
                <a:lnTo>
                  <a:pt x="10339" y="18155"/>
                </a:lnTo>
                <a:cubicBezTo>
                  <a:pt x="7571" y="18155"/>
                  <a:pt x="4995" y="15596"/>
                  <a:pt x="4995" y="12828"/>
                </a:cubicBezTo>
                <a:close/>
              </a:path>
            </a:pathLst>
          </a:custGeom>
          <a:gradFill rotWithShape="0">
            <a:gsLst>
              <a:gs pos="0">
                <a:srgbClr val="0099cc"/>
              </a:gs>
              <a:gs pos="100000">
                <a:srgbClr val="00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Dr. Solomon's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вирус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классификации вирусов Dr. Solomon's присутствуют также "троянские программы" (Trojans) , которые производят вредоносные действия вместо объявленных легальных функций или наряду с ними. Они не способны на самораспространение и передаются только при копировании пользователем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8153280" y="5943600"/>
            <a:ext cx="838440" cy="685800"/>
          </a:xfrm>
          <a:custGeom>
            <a:avLst/>
            <a:gdLst>
              <a:gd name="textAreaLeft" fmla="*/ 44280 w 838440"/>
              <a:gd name="textAreaRight" fmla="*/ 794160 w 8384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405" h="21600">
                <a:moveTo>
                  <a:pt x="0" y="0"/>
                </a:moveTo>
                <a:lnTo>
                  <a:pt x="26405" y="0"/>
                </a:lnTo>
                <a:lnTo>
                  <a:pt x="26405" y="21600"/>
                </a:lnTo>
                <a:lnTo>
                  <a:pt x="0" y="21600"/>
                </a:lnTo>
                <a:close/>
              </a:path>
              <a:path fill="lightenLess" w="26405" h="21600">
                <a:moveTo>
                  <a:pt x="0" y="0"/>
                </a:moveTo>
                <a:lnTo>
                  <a:pt x="26405" y="0"/>
                </a:lnTo>
                <a:lnTo>
                  <a:pt x="25005" y="1400"/>
                </a:lnTo>
                <a:lnTo>
                  <a:pt x="1400" y="1400"/>
                </a:lnTo>
                <a:close/>
              </a:path>
              <a:path fill="darken" w="26405" h="21600">
                <a:moveTo>
                  <a:pt x="26405" y="0"/>
                </a:moveTo>
                <a:lnTo>
                  <a:pt x="26405" y="21600"/>
                </a:lnTo>
                <a:lnTo>
                  <a:pt x="25005" y="20200"/>
                </a:lnTo>
                <a:lnTo>
                  <a:pt x="25005" y="1400"/>
                </a:lnTo>
                <a:close/>
              </a:path>
              <a:path fill="darkenLess" w="26405" h="21600">
                <a:moveTo>
                  <a:pt x="26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05" y="20200"/>
                </a:lnTo>
                <a:close/>
              </a:path>
              <a:path fill="lighten" w="26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05" h="21600">
                <a:moveTo>
                  <a:pt x="6196" y="7493"/>
                </a:moveTo>
                <a:lnTo>
                  <a:pt x="9704" y="7493"/>
                </a:lnTo>
                <a:lnTo>
                  <a:pt x="9704" y="12828"/>
                </a:lnTo>
                <a:cubicBezTo>
                  <a:pt x="9704" y="13751"/>
                  <a:pt x="10504" y="14482"/>
                  <a:pt x="11540" y="14482"/>
                </a:cubicBezTo>
                <a:lnTo>
                  <a:pt x="13203" y="14482"/>
                </a:lnTo>
                <a:cubicBezTo>
                  <a:pt x="14238" y="14482"/>
                  <a:pt x="15039" y="13751"/>
                  <a:pt x="15039" y="12828"/>
                </a:cubicBezTo>
                <a:lnTo>
                  <a:pt x="15039" y="7493"/>
                </a:lnTo>
                <a:lnTo>
                  <a:pt x="13203" y="7493"/>
                </a:lnTo>
                <a:lnTo>
                  <a:pt x="16710" y="3985"/>
                </a:lnTo>
                <a:lnTo>
                  <a:pt x="20383" y="7493"/>
                </a:lnTo>
                <a:lnTo>
                  <a:pt x="18547" y="7493"/>
                </a:lnTo>
                <a:lnTo>
                  <a:pt x="18547" y="12828"/>
                </a:lnTo>
                <a:cubicBezTo>
                  <a:pt x="18547" y="15596"/>
                  <a:pt x="15970" y="18155"/>
                  <a:pt x="13203" y="18155"/>
                </a:cubicBezTo>
                <a:lnTo>
                  <a:pt x="11540" y="18155"/>
                </a:lnTo>
                <a:cubicBezTo>
                  <a:pt x="8772" y="18155"/>
                  <a:pt x="6196" y="15596"/>
                  <a:pt x="6196" y="12828"/>
                </a:cubicBezTo>
                <a:close/>
              </a:path>
            </a:pathLst>
          </a:custGeom>
          <a:gradFill rotWithShape="0">
            <a:gsLst>
              <a:gs pos="0">
                <a:srgbClr val="0099cc"/>
              </a:gs>
              <a:gs pos="100000">
                <a:srgbClr val="00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Вышедший из строя вирус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514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Интересное явление представляет собой вышедший из строя вирус — как результат порчи реального вируса либо просто плохого программирования со стороны вирусописателей. Такой вирус практически ничего не делает — или "зависает" при выполнении, или оказывается не в состоянии заражать файлы. Иногда происходит обратный процесс — вирус выполняет непредусмотренные действия, которые ведут к порче информац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"/>
          <p:cNvSpPr/>
          <p:nvPr/>
        </p:nvSpPr>
        <p:spPr>
          <a:xfrm>
            <a:off x="7315200" y="579132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7392" y="7493"/>
                </a:moveTo>
                <a:lnTo>
                  <a:pt x="10899" y="7493"/>
                </a:lnTo>
                <a:lnTo>
                  <a:pt x="10899" y="12828"/>
                </a:lnTo>
                <a:cubicBezTo>
                  <a:pt x="10899" y="13751"/>
                  <a:pt x="11700" y="14482"/>
                  <a:pt x="12736" y="14482"/>
                </a:cubicBezTo>
                <a:lnTo>
                  <a:pt x="14398" y="14482"/>
                </a:lnTo>
                <a:cubicBezTo>
                  <a:pt x="15434" y="14482"/>
                  <a:pt x="16235" y="13751"/>
                  <a:pt x="16235" y="12828"/>
                </a:cubicBezTo>
                <a:lnTo>
                  <a:pt x="16235" y="7493"/>
                </a:lnTo>
                <a:lnTo>
                  <a:pt x="14398" y="7493"/>
                </a:lnTo>
                <a:lnTo>
                  <a:pt x="17906" y="3985"/>
                </a:lnTo>
                <a:lnTo>
                  <a:pt x="21579" y="7493"/>
                </a:lnTo>
                <a:lnTo>
                  <a:pt x="19742" y="7493"/>
                </a:lnTo>
                <a:lnTo>
                  <a:pt x="19742" y="12828"/>
                </a:lnTo>
                <a:cubicBezTo>
                  <a:pt x="19742" y="15596"/>
                  <a:pt x="17166" y="18155"/>
                  <a:pt x="14398" y="18155"/>
                </a:cubicBezTo>
                <a:lnTo>
                  <a:pt x="12736" y="18155"/>
                </a:lnTo>
                <a:cubicBezTo>
                  <a:pt x="9968" y="18155"/>
                  <a:pt x="7392" y="15596"/>
                  <a:pt x="7392" y="12828"/>
                </a:cubicBezTo>
                <a:close/>
              </a:path>
            </a:pathLst>
          </a:custGeom>
          <a:gradFill rotWithShape="0">
            <a:gsLst>
              <a:gs pos="0">
                <a:srgbClr val="0099cc"/>
              </a:gs>
              <a:gs pos="100000">
                <a:srgbClr val="00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Вирус 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44197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Биологический вирус – это неклеточная и  неживая форма является паразитическим микроорганизмом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114800" y="1676160"/>
            <a:ext cx="5029200" cy="284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Компьютерный вирус - это специально написанная небольшая по размерам программа, которая может "приписывать" себя к другим программам (т.е. "заражать" их) , а также выполнять различные нежелательные действия на компьютере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4648320"/>
            <a:ext cx="2286000" cy="2209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248520" y="4724280"/>
            <a:ext cx="2895480" cy="2133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410080" y="838080"/>
            <a:ext cx="914400" cy="762120"/>
          </a:xfrm>
          <a:prstGeom prst="line">
            <a:avLst/>
          </a:prstGeom>
          <a:noFill/>
          <a:ln w="93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104800" y="4343400"/>
            <a:ext cx="609480" cy="685800"/>
          </a:xfrm>
          <a:prstGeom prst="line">
            <a:avLst/>
          </a:prstGeom>
          <a:noFill/>
          <a:ln w="9360">
            <a:solidFill>
              <a:srgbClr val="ffffff"/>
            </a:solidFill>
            <a:miter/>
            <a:tailEnd len="lg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3352680"/>
            <a:ext cx="914400" cy="1447920"/>
          </a:xfrm>
          <a:prstGeom prst="line">
            <a:avLst/>
          </a:prstGeom>
          <a:noFill/>
          <a:ln w="936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971080" y="685800"/>
            <a:ext cx="762120" cy="838080"/>
          </a:xfrm>
          <a:prstGeom prst="line">
            <a:avLst/>
          </a:prstGeom>
          <a:noFill/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86000" y="4783320"/>
            <a:ext cx="41911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Вирус компьютерный и биологическ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схожи в том что они могут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саморазмножаться и оба вид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вируса приносят вред оди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человеку другой его компьютеру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65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80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Вывод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ирусы очень опасны, но существую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программы которые находят 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уничтожают вирусы, и о них я ва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расскажу дальш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Профилактика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Установка антивирусной программ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Копирование важной информации на съемные носител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канирование антивирусной системой подозрительных файлов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Антивирусы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Антивирус-это программа созданная для защиты компьютера от зловредных программ(вирусов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2057400" y="3733920"/>
            <a:ext cx="5019840" cy="26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Виды антивирусов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Всего на сегодняшний день существуют тысяч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вирусов, но только в нескольких десятках из них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реализованы оригинальные идеи, остальные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являются лишь "вариациями на тему"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Средства защиты от вирусов подразделяются на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группы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2286000" y="3809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Детекторы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Фаги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Ревизоры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Сторожа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Вакцин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Детекторы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Детекторы (сканеры) . Их задачей является постановка диагноза, лечением же будет заниматься другая антивирусная программа или профессиональный программист-"вирусолог"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">
            <a:hlinkClick r:id="rId1" action="ppaction://hlinksldjump"/>
          </p:cNvPr>
          <p:cNvSpPr/>
          <p:nvPr/>
        </p:nvSpPr>
        <p:spPr>
          <a:xfrm>
            <a:off x="7391520" y="5486400"/>
            <a:ext cx="533160" cy="60948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90">
                <a:moveTo>
                  <a:pt x="0" y="0"/>
                </a:moveTo>
                <a:lnTo>
                  <a:pt x="21600" y="0"/>
                </a:lnTo>
                <a:lnTo>
                  <a:pt x="21600" y="24690"/>
                </a:lnTo>
                <a:lnTo>
                  <a:pt x="0" y="24690"/>
                </a:lnTo>
                <a:close/>
              </a:path>
              <a:path fill="lightenLess" w="21600" h="2469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90">
                <a:moveTo>
                  <a:pt x="21600" y="0"/>
                </a:moveTo>
                <a:lnTo>
                  <a:pt x="21600" y="24690"/>
                </a:lnTo>
                <a:lnTo>
                  <a:pt x="20200" y="23290"/>
                </a:lnTo>
                <a:lnTo>
                  <a:pt x="20200" y="1400"/>
                </a:lnTo>
                <a:close/>
              </a:path>
              <a:path fill="darkenLess" w="21600" h="24690">
                <a:moveTo>
                  <a:pt x="21600" y="24690"/>
                </a:moveTo>
                <a:lnTo>
                  <a:pt x="0" y="24690"/>
                </a:lnTo>
                <a:lnTo>
                  <a:pt x="1400" y="23290"/>
                </a:lnTo>
                <a:lnTo>
                  <a:pt x="20200" y="23290"/>
                </a:lnTo>
                <a:close/>
              </a:path>
              <a:path fill="lighten" w="21600" h="24690">
                <a:moveTo>
                  <a:pt x="0" y="24690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90"/>
                </a:lnTo>
                <a:close/>
              </a:path>
              <a:path fill="darken" w="21600" h="24690">
                <a:moveTo>
                  <a:pt x="3794" y="9038"/>
                </a:moveTo>
                <a:lnTo>
                  <a:pt x="7301" y="9038"/>
                </a:lnTo>
                <a:lnTo>
                  <a:pt x="7301" y="14373"/>
                </a:lnTo>
                <a:cubicBezTo>
                  <a:pt x="7301" y="15295"/>
                  <a:pt x="8102" y="16027"/>
                  <a:pt x="9138" y="16027"/>
                </a:cubicBezTo>
                <a:lnTo>
                  <a:pt x="10800" y="16027"/>
                </a:lnTo>
                <a:cubicBezTo>
                  <a:pt x="11836" y="16027"/>
                  <a:pt x="12636" y="15295"/>
                  <a:pt x="12636" y="14373"/>
                </a:cubicBezTo>
                <a:lnTo>
                  <a:pt x="12636" y="9038"/>
                </a:lnTo>
                <a:lnTo>
                  <a:pt x="10800" y="9038"/>
                </a:lnTo>
                <a:lnTo>
                  <a:pt x="14308" y="5530"/>
                </a:lnTo>
                <a:lnTo>
                  <a:pt x="17981" y="9038"/>
                </a:lnTo>
                <a:lnTo>
                  <a:pt x="16144" y="9038"/>
                </a:lnTo>
                <a:lnTo>
                  <a:pt x="16144" y="14373"/>
                </a:lnTo>
                <a:cubicBezTo>
                  <a:pt x="16144" y="17141"/>
                  <a:pt x="13568" y="19700"/>
                  <a:pt x="10800" y="19700"/>
                </a:cubicBezTo>
                <a:lnTo>
                  <a:pt x="9138" y="19700"/>
                </a:lnTo>
                <a:cubicBezTo>
                  <a:pt x="6370" y="19700"/>
                  <a:pt x="3794" y="17141"/>
                  <a:pt x="3794" y="14373"/>
                </a:cubicBezTo>
                <a:close/>
              </a:path>
            </a:pathLst>
          </a:custGeom>
          <a:gradFill rotWithShape="0">
            <a:gsLst>
              <a:gs pos="0">
                <a:srgbClr val="0099cc"/>
              </a:gs>
              <a:gs pos="100000">
                <a:srgbClr val="00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Фаги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Фаги (полифаги) . Программы, способные обнаружить и уничтожить вирус (фаги) или несколько вирусов (полифаги) . Современные версии полифагов, как правило, обладают возможностью проведения эвристического анализа файлов — они исследуют файлы на предмет наличия кода, характерного для вируса (внедрения части этой программы в другую, шифрования кода и т.п.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1" name="">
            <a:hlinkClick r:id="rId1" action="ppaction://hlinksldjump"/>
          </p:cNvPr>
          <p:cNvSpPr/>
          <p:nvPr/>
        </p:nvSpPr>
        <p:spPr>
          <a:xfrm>
            <a:off x="7391520" y="609588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" w="21600" h="21615">
                <a:moveTo>
                  <a:pt x="3794" y="7500"/>
                </a:moveTo>
                <a:lnTo>
                  <a:pt x="7301" y="7500"/>
                </a:lnTo>
                <a:lnTo>
                  <a:pt x="7301" y="12835"/>
                </a:lnTo>
                <a:cubicBezTo>
                  <a:pt x="7301" y="13758"/>
                  <a:pt x="8102" y="14489"/>
                  <a:pt x="9138" y="14489"/>
                </a:cubicBezTo>
                <a:lnTo>
                  <a:pt x="10800" y="14489"/>
                </a:lnTo>
                <a:cubicBezTo>
                  <a:pt x="11836" y="14489"/>
                  <a:pt x="12636" y="13758"/>
                  <a:pt x="12636" y="12835"/>
                </a:cubicBezTo>
                <a:lnTo>
                  <a:pt x="12636" y="7500"/>
                </a:lnTo>
                <a:lnTo>
                  <a:pt x="10800" y="7500"/>
                </a:lnTo>
                <a:lnTo>
                  <a:pt x="14308" y="3992"/>
                </a:lnTo>
                <a:lnTo>
                  <a:pt x="17981" y="7500"/>
                </a:lnTo>
                <a:lnTo>
                  <a:pt x="16144" y="7500"/>
                </a:lnTo>
                <a:lnTo>
                  <a:pt x="16144" y="12835"/>
                </a:lnTo>
                <a:cubicBezTo>
                  <a:pt x="16144" y="15603"/>
                  <a:pt x="13568" y="18162"/>
                  <a:pt x="10800" y="18162"/>
                </a:cubicBezTo>
                <a:lnTo>
                  <a:pt x="9138" y="18162"/>
                </a:lnTo>
                <a:cubicBezTo>
                  <a:pt x="6370" y="18162"/>
                  <a:pt x="3794" y="15603"/>
                  <a:pt x="3794" y="12835"/>
                </a:cubicBezTo>
                <a:close/>
              </a:path>
            </a:pathLst>
          </a:custGeom>
          <a:gradFill rotWithShape="0">
            <a:gsLst>
              <a:gs pos="0">
                <a:srgbClr val="0099cc"/>
              </a:gs>
              <a:gs pos="100000">
                <a:srgbClr val="00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Ревизоры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Ревизоры. Этот тип антивирусов контролирует все (по крайней мере, все известные на момент выпуска программы) возможные способы заражения компьютера. Таким образом, можно обнаружить вирус, созданный уже после выхода программы-ревизора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">
            <a:hlinkClick r:id="rId1" action="ppaction://hlinksldjump"/>
          </p:cNvPr>
          <p:cNvSpPr/>
          <p:nvPr/>
        </p:nvSpPr>
        <p:spPr>
          <a:xfrm>
            <a:off x="769608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  <a:path fill="darken" w="21600" h="25186">
                <a:moveTo>
                  <a:pt x="3794" y="9286"/>
                </a:moveTo>
                <a:lnTo>
                  <a:pt x="7301" y="9286"/>
                </a:lnTo>
                <a:lnTo>
                  <a:pt x="7301" y="14621"/>
                </a:lnTo>
                <a:cubicBezTo>
                  <a:pt x="7301" y="15543"/>
                  <a:pt x="8102" y="16275"/>
                  <a:pt x="9138" y="16275"/>
                </a:cubicBezTo>
                <a:lnTo>
                  <a:pt x="10800" y="16275"/>
                </a:lnTo>
                <a:cubicBezTo>
                  <a:pt x="11836" y="16275"/>
                  <a:pt x="12636" y="15543"/>
                  <a:pt x="12636" y="14621"/>
                </a:cubicBezTo>
                <a:lnTo>
                  <a:pt x="12636" y="9286"/>
                </a:lnTo>
                <a:lnTo>
                  <a:pt x="10800" y="9286"/>
                </a:lnTo>
                <a:lnTo>
                  <a:pt x="14308" y="5778"/>
                </a:lnTo>
                <a:lnTo>
                  <a:pt x="17981" y="9286"/>
                </a:lnTo>
                <a:lnTo>
                  <a:pt x="16144" y="9286"/>
                </a:lnTo>
                <a:lnTo>
                  <a:pt x="16144" y="14621"/>
                </a:lnTo>
                <a:cubicBezTo>
                  <a:pt x="16144" y="17389"/>
                  <a:pt x="13568" y="19948"/>
                  <a:pt x="10800" y="19948"/>
                </a:cubicBezTo>
                <a:lnTo>
                  <a:pt x="9138" y="19948"/>
                </a:lnTo>
                <a:cubicBezTo>
                  <a:pt x="6370" y="19948"/>
                  <a:pt x="3794" y="17389"/>
                  <a:pt x="3794" y="14621"/>
                </a:cubicBezTo>
                <a:close/>
              </a:path>
            </a:pathLst>
          </a:custGeom>
          <a:gradFill rotWithShape="0">
            <a:gsLst>
              <a:gs pos="0">
                <a:srgbClr val="0099cc"/>
              </a:gs>
              <a:gs pos="100000">
                <a:srgbClr val="00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Сторожа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торожа. Резидентные программы, постоянно находящиеся в памяти компьютера и контролирующие все операции (не пользуются особой популярностью главным образом из-за большого количества ложных срабатываний, которые в отдельных случаях способны если не парализовать, то уж наверняка серьезно застопорить работу) 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">
            <a:hlinkClick r:id="rId1" action="ppaction://hlinksldjump"/>
          </p:cNvPr>
          <p:cNvSpPr/>
          <p:nvPr/>
        </p:nvSpPr>
        <p:spPr>
          <a:xfrm>
            <a:off x="7467480" y="5791320"/>
            <a:ext cx="609840" cy="685800"/>
          </a:xfrm>
          <a:custGeom>
            <a:avLst/>
            <a:gdLst>
              <a:gd name="textAreaLeft" fmla="*/ 39240 w 609840"/>
              <a:gd name="textAreaRight" fmla="*/ 570600 w 609840"/>
              <a:gd name="textAreaTop" fmla="*/ 39240 h 685800"/>
              <a:gd name="textAreaBottom" fmla="*/ 646560 h 685800"/>
            </a:gdLst>
            <a:ahLst/>
            <a:rect l="textAreaLeft" t="textAreaTop" r="textAreaRight" b="textAreaBottom"/>
            <a:pathLst>
              <a:path w="21600" h="24289">
                <a:moveTo>
                  <a:pt x="0" y="0"/>
                </a:moveTo>
                <a:lnTo>
                  <a:pt x="21600" y="0"/>
                </a:lnTo>
                <a:lnTo>
                  <a:pt x="21600" y="24289"/>
                </a:lnTo>
                <a:lnTo>
                  <a:pt x="0" y="24289"/>
                </a:lnTo>
                <a:close/>
              </a:path>
              <a:path fill="lightenLess" w="21600" h="242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89">
                <a:moveTo>
                  <a:pt x="21600" y="0"/>
                </a:moveTo>
                <a:lnTo>
                  <a:pt x="21600" y="24289"/>
                </a:lnTo>
                <a:lnTo>
                  <a:pt x="20200" y="22889"/>
                </a:lnTo>
                <a:lnTo>
                  <a:pt x="20200" y="1400"/>
                </a:lnTo>
                <a:close/>
              </a:path>
              <a:path fill="darkenLess" w="21600" h="24289">
                <a:moveTo>
                  <a:pt x="21600" y="24289"/>
                </a:moveTo>
                <a:lnTo>
                  <a:pt x="0" y="24289"/>
                </a:lnTo>
                <a:lnTo>
                  <a:pt x="1400" y="22889"/>
                </a:lnTo>
                <a:lnTo>
                  <a:pt x="20200" y="22889"/>
                </a:lnTo>
                <a:close/>
              </a:path>
              <a:path fill="lighten" w="21600" h="24289">
                <a:moveTo>
                  <a:pt x="0" y="242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89"/>
                </a:lnTo>
                <a:close/>
              </a:path>
              <a:path fill="darken" w="21600" h="24289">
                <a:moveTo>
                  <a:pt x="3794" y="8837"/>
                </a:moveTo>
                <a:lnTo>
                  <a:pt x="7301" y="8837"/>
                </a:lnTo>
                <a:lnTo>
                  <a:pt x="7301" y="14172"/>
                </a:lnTo>
                <a:cubicBezTo>
                  <a:pt x="7301" y="15095"/>
                  <a:pt x="8102" y="15826"/>
                  <a:pt x="9138" y="15826"/>
                </a:cubicBezTo>
                <a:lnTo>
                  <a:pt x="10800" y="15826"/>
                </a:lnTo>
                <a:cubicBezTo>
                  <a:pt x="11836" y="15826"/>
                  <a:pt x="12636" y="15095"/>
                  <a:pt x="12636" y="14172"/>
                </a:cubicBezTo>
                <a:lnTo>
                  <a:pt x="12636" y="8837"/>
                </a:lnTo>
                <a:lnTo>
                  <a:pt x="10800" y="8837"/>
                </a:lnTo>
                <a:lnTo>
                  <a:pt x="14308" y="5329"/>
                </a:lnTo>
                <a:lnTo>
                  <a:pt x="17981" y="8837"/>
                </a:lnTo>
                <a:lnTo>
                  <a:pt x="16144" y="8837"/>
                </a:lnTo>
                <a:lnTo>
                  <a:pt x="16144" y="14172"/>
                </a:lnTo>
                <a:cubicBezTo>
                  <a:pt x="16144" y="16940"/>
                  <a:pt x="13568" y="19499"/>
                  <a:pt x="10800" y="19499"/>
                </a:cubicBezTo>
                <a:lnTo>
                  <a:pt x="9138" y="19499"/>
                </a:lnTo>
                <a:cubicBezTo>
                  <a:pt x="6370" y="19499"/>
                  <a:pt x="3794" y="16940"/>
                  <a:pt x="3794" y="14172"/>
                </a:cubicBezTo>
                <a:close/>
              </a:path>
            </a:pathLst>
          </a:custGeom>
          <a:gradFill rotWithShape="0">
            <a:gsLst>
              <a:gs pos="0">
                <a:srgbClr val="0099cc"/>
              </a:gs>
              <a:gs pos="100000">
                <a:srgbClr val="00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Вакцины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91440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акцины. Используются для обработки файлов и загрузочных секторов с целью предотвращения заражения известными вирусами (в последнее время этот метод применяется все реже — вакцинировать можно только от конкретного вируса, причем некоторые антивирусы такую вакцинацию вполне могут спутать с самой болезнью, поскольку отличие вируса от вакцины на самом деле исчезающе мало) 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Вывод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уществует множество вирусов програм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редителей но для каждого вируса есть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свой антивирус который его уничтожит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Классы вирусов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 action="ppaction://hlinksldjump"/>
              </a:rPr>
              <a:t>Особенности алгоритма работы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2" action="ppaction://hlinksldjump"/>
              </a:rPr>
              <a:t>Среда обита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3" action="ppaction://hlinksldjump"/>
              </a:rPr>
              <a:t>Деструктивные возможност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"/>
          <p:cNvSpPr/>
          <p:nvPr/>
        </p:nvSpPr>
        <p:spPr>
          <a:xfrm>
            <a:off x="7315200" y="5410080"/>
            <a:ext cx="1066680" cy="762120"/>
          </a:xfrm>
          <a:custGeom>
            <a:avLst/>
            <a:gdLst>
              <a:gd name="textAreaLeft" fmla="*/ 49320 w 1066680"/>
              <a:gd name="textAreaRight" fmla="*/ 1017360 w 10666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3794"/>
                </a:moveTo>
                <a:lnTo>
                  <a:pt x="22120" y="10800"/>
                </a:lnTo>
                <a:lnTo>
                  <a:pt x="8107" y="17806"/>
                </a:lnTo>
                <a:close/>
              </a:path>
            </a:pathLst>
          </a:custGeom>
          <a:gradFill rotWithShape="0">
            <a:gsLst>
              <a:gs pos="0">
                <a:srgbClr val="0099cc"/>
              </a:gs>
              <a:gs pos="100000">
                <a:srgbClr val="00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Среда обитан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1" action="ppaction://hlinksldjump"/>
              </a:rPr>
              <a:t>Файловые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2" action="ppaction://hlinksldjump"/>
              </a:rPr>
              <a:t>Загрузочные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3" action="ppaction://hlinksldjump"/>
              </a:rPr>
              <a:t>Макро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Garamond"/>
                <a:hlinkClick r:id="rId4" action="ppaction://hlinksldjump"/>
              </a:rPr>
              <a:t>Сетевы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"/>
          <p:cNvSpPr/>
          <p:nvPr/>
        </p:nvSpPr>
        <p:spPr>
          <a:xfrm>
            <a:off x="7391520" y="6019920"/>
            <a:ext cx="838080" cy="457200"/>
          </a:xfrm>
          <a:custGeom>
            <a:avLst/>
            <a:gdLst>
              <a:gd name="textAreaLeft" fmla="*/ 29520 w 838080"/>
              <a:gd name="textAreaRight" fmla="*/ 808560 w 8380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9580" h="21600">
                <a:moveTo>
                  <a:pt x="0" y="0"/>
                </a:moveTo>
                <a:lnTo>
                  <a:pt x="39580" y="0"/>
                </a:lnTo>
                <a:lnTo>
                  <a:pt x="39580" y="21600"/>
                </a:lnTo>
                <a:lnTo>
                  <a:pt x="0" y="21600"/>
                </a:lnTo>
                <a:close/>
              </a:path>
              <a:path fill="lightenLess" w="39580" h="21600">
                <a:moveTo>
                  <a:pt x="0" y="0"/>
                </a:moveTo>
                <a:lnTo>
                  <a:pt x="39580" y="0"/>
                </a:lnTo>
                <a:lnTo>
                  <a:pt x="38180" y="1400"/>
                </a:lnTo>
                <a:lnTo>
                  <a:pt x="1400" y="1400"/>
                </a:lnTo>
                <a:close/>
              </a:path>
              <a:path fill="darken" w="39580" h="21600">
                <a:moveTo>
                  <a:pt x="39580" y="0"/>
                </a:moveTo>
                <a:lnTo>
                  <a:pt x="39580" y="21600"/>
                </a:lnTo>
                <a:lnTo>
                  <a:pt x="38180" y="20200"/>
                </a:lnTo>
                <a:lnTo>
                  <a:pt x="38180" y="1400"/>
                </a:lnTo>
                <a:close/>
              </a:path>
              <a:path fill="darkenLess" w="39580" h="21600">
                <a:moveTo>
                  <a:pt x="395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0" y="20200"/>
                </a:lnTo>
                <a:close/>
              </a:path>
              <a:path fill="lighten" w="395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0" h="21600">
                <a:moveTo>
                  <a:pt x="12784" y="7493"/>
                </a:moveTo>
                <a:lnTo>
                  <a:pt x="16291" y="7493"/>
                </a:lnTo>
                <a:lnTo>
                  <a:pt x="16291" y="12828"/>
                </a:lnTo>
                <a:cubicBezTo>
                  <a:pt x="16291" y="13751"/>
                  <a:pt x="17092" y="14482"/>
                  <a:pt x="18128" y="14482"/>
                </a:cubicBezTo>
                <a:lnTo>
                  <a:pt x="19790" y="14482"/>
                </a:lnTo>
                <a:cubicBezTo>
                  <a:pt x="20826" y="14482"/>
                  <a:pt x="21627" y="13751"/>
                  <a:pt x="21627" y="12828"/>
                </a:cubicBezTo>
                <a:lnTo>
                  <a:pt x="21627" y="7493"/>
                </a:lnTo>
                <a:lnTo>
                  <a:pt x="19790" y="7493"/>
                </a:lnTo>
                <a:lnTo>
                  <a:pt x="23298" y="3985"/>
                </a:lnTo>
                <a:lnTo>
                  <a:pt x="26971" y="7493"/>
                </a:lnTo>
                <a:lnTo>
                  <a:pt x="25134" y="7493"/>
                </a:lnTo>
                <a:lnTo>
                  <a:pt x="25134" y="12828"/>
                </a:lnTo>
                <a:cubicBezTo>
                  <a:pt x="25134" y="15596"/>
                  <a:pt x="22558" y="18155"/>
                  <a:pt x="19790" y="18155"/>
                </a:cubicBezTo>
                <a:lnTo>
                  <a:pt x="18128" y="18155"/>
                </a:lnTo>
                <a:cubicBezTo>
                  <a:pt x="15360" y="18155"/>
                  <a:pt x="12784" y="15596"/>
                  <a:pt x="12784" y="12828"/>
                </a:cubicBezTo>
                <a:close/>
              </a:path>
            </a:pathLst>
          </a:custGeom>
          <a:gradFill rotWithShape="0">
            <a:gsLst>
              <a:gs pos="0">
                <a:srgbClr val="0099cc"/>
              </a:gs>
              <a:gs pos="100000">
                <a:srgbClr val="00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Файловые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Вирусы, которые при своем размножении тем или иным способом используют файловую систему операционной системы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"/>
          <p:cNvSpPr/>
          <p:nvPr/>
        </p:nvSpPr>
        <p:spPr>
          <a:xfrm>
            <a:off x="7924680" y="61722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7493"/>
                </a:moveTo>
                <a:lnTo>
                  <a:pt x="15006" y="7493"/>
                </a:lnTo>
                <a:lnTo>
                  <a:pt x="15006" y="12828"/>
                </a:lnTo>
                <a:cubicBezTo>
                  <a:pt x="15006" y="13751"/>
                  <a:pt x="15807" y="14482"/>
                  <a:pt x="16843" y="14482"/>
                </a:cubicBezTo>
                <a:lnTo>
                  <a:pt x="18505" y="14482"/>
                </a:lnTo>
                <a:cubicBezTo>
                  <a:pt x="19541" y="14482"/>
                  <a:pt x="20341" y="13751"/>
                  <a:pt x="20341" y="12828"/>
                </a:cubicBezTo>
                <a:lnTo>
                  <a:pt x="20341" y="7493"/>
                </a:lnTo>
                <a:lnTo>
                  <a:pt x="18505" y="7493"/>
                </a:lnTo>
                <a:lnTo>
                  <a:pt x="22013" y="3985"/>
                </a:lnTo>
                <a:lnTo>
                  <a:pt x="25685" y="7493"/>
                </a:lnTo>
                <a:lnTo>
                  <a:pt x="23849" y="7493"/>
                </a:lnTo>
                <a:lnTo>
                  <a:pt x="23849" y="12828"/>
                </a:lnTo>
                <a:cubicBezTo>
                  <a:pt x="23849" y="15596"/>
                  <a:pt x="21273" y="18155"/>
                  <a:pt x="18505" y="18155"/>
                </a:cubicBezTo>
                <a:lnTo>
                  <a:pt x="16843" y="18155"/>
                </a:lnTo>
                <a:cubicBezTo>
                  <a:pt x="14075" y="18155"/>
                  <a:pt x="11498" y="15596"/>
                  <a:pt x="11498" y="12828"/>
                </a:cubicBezTo>
                <a:close/>
              </a:path>
            </a:pathLst>
          </a:custGeom>
          <a:gradFill rotWithShape="0">
            <a:gsLst>
              <a:gs pos="0">
                <a:srgbClr val="0099cc"/>
              </a:gs>
              <a:gs pos="100000">
                <a:srgbClr val="00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Загрузочные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аписывают себя либо в загрузочный сектор диска(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oot-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ектор), либо в сектор, содержащий системный загрузчик винчестера (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aster Boot Record)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,либо меняют указатель на активный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oot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сектор.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1" name=""/>
          <p:cNvSpPr/>
          <p:nvPr/>
        </p:nvSpPr>
        <p:spPr>
          <a:xfrm>
            <a:off x="7315200" y="5791320"/>
            <a:ext cx="1143000" cy="761760"/>
          </a:xfrm>
          <a:custGeom>
            <a:avLst/>
            <a:gdLst>
              <a:gd name="textAreaLeft" fmla="*/ 49320 w 1143000"/>
              <a:gd name="textAreaRight" fmla="*/ 1093680 w 11430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32405" h="21600">
                <a:moveTo>
                  <a:pt x="0" y="0"/>
                </a:moveTo>
                <a:lnTo>
                  <a:pt x="32405" y="0"/>
                </a:lnTo>
                <a:lnTo>
                  <a:pt x="32405" y="21600"/>
                </a:lnTo>
                <a:lnTo>
                  <a:pt x="0" y="21600"/>
                </a:lnTo>
                <a:close/>
              </a:path>
              <a:path fill="lightenLess" w="32405" h="21600">
                <a:moveTo>
                  <a:pt x="0" y="0"/>
                </a:moveTo>
                <a:lnTo>
                  <a:pt x="32405" y="0"/>
                </a:lnTo>
                <a:lnTo>
                  <a:pt x="31005" y="1400"/>
                </a:lnTo>
                <a:lnTo>
                  <a:pt x="1400" y="1400"/>
                </a:lnTo>
                <a:close/>
              </a:path>
              <a:path fill="darken" w="32405" h="21600">
                <a:moveTo>
                  <a:pt x="32405" y="0"/>
                </a:moveTo>
                <a:lnTo>
                  <a:pt x="32405" y="21600"/>
                </a:lnTo>
                <a:lnTo>
                  <a:pt x="31005" y="20200"/>
                </a:lnTo>
                <a:lnTo>
                  <a:pt x="31005" y="1400"/>
                </a:lnTo>
                <a:close/>
              </a:path>
              <a:path fill="darkenLess" w="32405" h="21600">
                <a:moveTo>
                  <a:pt x="32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5" y="20200"/>
                </a:lnTo>
                <a:close/>
              </a:path>
              <a:path fill="lighten" w="32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5" h="21600">
                <a:moveTo>
                  <a:pt x="9196" y="7493"/>
                </a:moveTo>
                <a:lnTo>
                  <a:pt x="12704" y="7493"/>
                </a:lnTo>
                <a:lnTo>
                  <a:pt x="12704" y="12828"/>
                </a:lnTo>
                <a:cubicBezTo>
                  <a:pt x="12704" y="13751"/>
                  <a:pt x="13504" y="14482"/>
                  <a:pt x="14540" y="14482"/>
                </a:cubicBezTo>
                <a:lnTo>
                  <a:pt x="16203" y="14482"/>
                </a:lnTo>
                <a:cubicBezTo>
                  <a:pt x="17238" y="14482"/>
                  <a:pt x="18039" y="13751"/>
                  <a:pt x="18039" y="12828"/>
                </a:cubicBezTo>
                <a:lnTo>
                  <a:pt x="18039" y="7493"/>
                </a:lnTo>
                <a:lnTo>
                  <a:pt x="16203" y="7493"/>
                </a:lnTo>
                <a:lnTo>
                  <a:pt x="19710" y="3985"/>
                </a:lnTo>
                <a:lnTo>
                  <a:pt x="23383" y="7493"/>
                </a:lnTo>
                <a:lnTo>
                  <a:pt x="21547" y="7493"/>
                </a:lnTo>
                <a:lnTo>
                  <a:pt x="21547" y="12828"/>
                </a:lnTo>
                <a:cubicBezTo>
                  <a:pt x="21547" y="15596"/>
                  <a:pt x="18970" y="18155"/>
                  <a:pt x="16203" y="18155"/>
                </a:cubicBezTo>
                <a:lnTo>
                  <a:pt x="14540" y="18155"/>
                </a:lnTo>
                <a:cubicBezTo>
                  <a:pt x="11772" y="18155"/>
                  <a:pt x="9196" y="15596"/>
                  <a:pt x="9196" y="12828"/>
                </a:cubicBezTo>
                <a:close/>
              </a:path>
            </a:pathLst>
          </a:custGeom>
          <a:gradFill rotWithShape="0">
            <a:gsLst>
              <a:gs pos="0">
                <a:srgbClr val="0099cc"/>
              </a:gs>
              <a:gs pos="100000">
                <a:srgbClr val="00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Макро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аражают файлы, документы, и электронные таблицы некоторых популярных редакторов, таких как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ord, Excel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"/>
          <p:cNvSpPr/>
          <p:nvPr/>
        </p:nvSpPr>
        <p:spPr>
          <a:xfrm>
            <a:off x="6934320" y="5943600"/>
            <a:ext cx="1066680" cy="533520"/>
          </a:xfrm>
          <a:custGeom>
            <a:avLst/>
            <a:gdLst>
              <a:gd name="textAreaLeft" fmla="*/ 34560 w 1066680"/>
              <a:gd name="textAreaRight" fmla="*/ 1032120 w 10666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3171" h="21600">
                <a:moveTo>
                  <a:pt x="0" y="0"/>
                </a:moveTo>
                <a:lnTo>
                  <a:pt x="43171" y="0"/>
                </a:lnTo>
                <a:lnTo>
                  <a:pt x="43171" y="21600"/>
                </a:lnTo>
                <a:lnTo>
                  <a:pt x="0" y="21600"/>
                </a:lnTo>
                <a:close/>
              </a:path>
              <a:path fill="lightenLess" w="43171" h="21600">
                <a:moveTo>
                  <a:pt x="0" y="0"/>
                </a:moveTo>
                <a:lnTo>
                  <a:pt x="43171" y="0"/>
                </a:lnTo>
                <a:lnTo>
                  <a:pt x="41771" y="1400"/>
                </a:lnTo>
                <a:lnTo>
                  <a:pt x="1400" y="1400"/>
                </a:lnTo>
                <a:close/>
              </a:path>
              <a:path fill="darken" w="43171" h="21600">
                <a:moveTo>
                  <a:pt x="43171" y="0"/>
                </a:moveTo>
                <a:lnTo>
                  <a:pt x="43171" y="21600"/>
                </a:lnTo>
                <a:lnTo>
                  <a:pt x="41771" y="20200"/>
                </a:lnTo>
                <a:lnTo>
                  <a:pt x="41771" y="1400"/>
                </a:lnTo>
                <a:close/>
              </a:path>
              <a:path fill="darkenLess" w="43171" h="21600">
                <a:moveTo>
                  <a:pt x="431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1" y="20200"/>
                </a:lnTo>
                <a:close/>
              </a:path>
              <a:path fill="lighten" w="431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1" h="21600">
                <a:moveTo>
                  <a:pt x="14579" y="7493"/>
                </a:moveTo>
                <a:lnTo>
                  <a:pt x="18087" y="7493"/>
                </a:lnTo>
                <a:lnTo>
                  <a:pt x="18087" y="12828"/>
                </a:lnTo>
                <a:cubicBezTo>
                  <a:pt x="18087" y="13751"/>
                  <a:pt x="18887" y="14482"/>
                  <a:pt x="19923" y="14482"/>
                </a:cubicBezTo>
                <a:lnTo>
                  <a:pt x="21585" y="14482"/>
                </a:lnTo>
                <a:cubicBezTo>
                  <a:pt x="22621" y="14482"/>
                  <a:pt x="23422" y="13751"/>
                  <a:pt x="23422" y="12828"/>
                </a:cubicBezTo>
                <a:lnTo>
                  <a:pt x="23422" y="7493"/>
                </a:lnTo>
                <a:lnTo>
                  <a:pt x="21585" y="7493"/>
                </a:lnTo>
                <a:lnTo>
                  <a:pt x="25093" y="3985"/>
                </a:lnTo>
                <a:lnTo>
                  <a:pt x="28766" y="7493"/>
                </a:lnTo>
                <a:lnTo>
                  <a:pt x="26930" y="7493"/>
                </a:lnTo>
                <a:lnTo>
                  <a:pt x="26930" y="12828"/>
                </a:lnTo>
                <a:cubicBezTo>
                  <a:pt x="26930" y="15596"/>
                  <a:pt x="24353" y="18155"/>
                  <a:pt x="21585" y="18155"/>
                </a:cubicBezTo>
                <a:lnTo>
                  <a:pt x="19923" y="18155"/>
                </a:lnTo>
                <a:cubicBezTo>
                  <a:pt x="17155" y="18155"/>
                  <a:pt x="14579" y="15596"/>
                  <a:pt x="14579" y="12828"/>
                </a:cubicBezTo>
                <a:close/>
              </a:path>
            </a:pathLst>
          </a:custGeom>
          <a:gradFill rotWithShape="0">
            <a:gsLst>
              <a:gs pos="0">
                <a:srgbClr val="0099cc"/>
              </a:gs>
              <a:gs pos="100000">
                <a:srgbClr val="00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Сетевые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спользуют для своего распространения протоколы или команды компьютерных сетей и электронные почты одним из таких  является вирус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I Love You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09480" y="3657600"/>
            <a:ext cx="4800600" cy="3200400"/>
          </a:xfrm>
          <a:prstGeom prst="rect">
            <a:avLst/>
          </a:prstGeom>
          <a:ln w="0">
            <a:noFill/>
          </a:ln>
        </p:spPr>
      </p:pic>
      <p:sp>
        <p:nvSpPr>
          <p:cNvPr id="128" name="">
            <a:hlinkClick r:id="rId2" action="ppaction://hlinksldjump"/>
          </p:cNvPr>
          <p:cNvSpPr/>
          <p:nvPr/>
        </p:nvSpPr>
        <p:spPr>
          <a:xfrm>
            <a:off x="7315200" y="586728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010" h="21600">
                <a:moveTo>
                  <a:pt x="11498" y="7493"/>
                </a:moveTo>
                <a:lnTo>
                  <a:pt x="15006" y="7493"/>
                </a:lnTo>
                <a:lnTo>
                  <a:pt x="15006" y="12828"/>
                </a:lnTo>
                <a:cubicBezTo>
                  <a:pt x="15006" y="13751"/>
                  <a:pt x="15807" y="14482"/>
                  <a:pt x="16843" y="14482"/>
                </a:cubicBezTo>
                <a:lnTo>
                  <a:pt x="18505" y="14482"/>
                </a:lnTo>
                <a:cubicBezTo>
                  <a:pt x="19541" y="14482"/>
                  <a:pt x="20341" y="13751"/>
                  <a:pt x="20341" y="12828"/>
                </a:cubicBezTo>
                <a:lnTo>
                  <a:pt x="20341" y="7493"/>
                </a:lnTo>
                <a:lnTo>
                  <a:pt x="18505" y="7493"/>
                </a:lnTo>
                <a:lnTo>
                  <a:pt x="22013" y="3985"/>
                </a:lnTo>
                <a:lnTo>
                  <a:pt x="25685" y="7493"/>
                </a:lnTo>
                <a:lnTo>
                  <a:pt x="23849" y="7493"/>
                </a:lnTo>
                <a:lnTo>
                  <a:pt x="23849" y="12828"/>
                </a:lnTo>
                <a:cubicBezTo>
                  <a:pt x="23849" y="15596"/>
                  <a:pt x="21273" y="18155"/>
                  <a:pt x="18505" y="18155"/>
                </a:cubicBezTo>
                <a:lnTo>
                  <a:pt x="16843" y="18155"/>
                </a:lnTo>
                <a:cubicBezTo>
                  <a:pt x="14075" y="18155"/>
                  <a:pt x="11498" y="15596"/>
                  <a:pt x="11498" y="12828"/>
                </a:cubicBezTo>
                <a:close/>
              </a:path>
            </a:pathLst>
          </a:custGeom>
          <a:gradFill rotWithShape="0">
            <a:gsLst>
              <a:gs pos="0">
                <a:srgbClr val="0099cc"/>
              </a:gs>
              <a:gs pos="100000">
                <a:srgbClr val="00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Деструктивные возможност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Безвредные - практически не вредя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Неопасные - незначительный вред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пасные  - серьезный вред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000514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Очень опасные – практически полное программное уничтожение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">
            <a:hlinkClick r:id="rId1" action="ppaction://hlinksldjump"/>
          </p:cNvPr>
          <p:cNvSpPr/>
          <p:nvPr/>
        </p:nvSpPr>
        <p:spPr>
          <a:xfrm>
            <a:off x="7238880" y="59436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7493"/>
                </a:moveTo>
                <a:lnTo>
                  <a:pt x="11926" y="7493"/>
                </a:lnTo>
                <a:lnTo>
                  <a:pt x="11926" y="12828"/>
                </a:lnTo>
                <a:cubicBezTo>
                  <a:pt x="11926" y="13751"/>
                  <a:pt x="12726" y="14482"/>
                  <a:pt x="13762" y="14482"/>
                </a:cubicBezTo>
                <a:lnTo>
                  <a:pt x="15424" y="14482"/>
                </a:lnTo>
                <a:cubicBezTo>
                  <a:pt x="16460" y="14482"/>
                  <a:pt x="17261" y="13751"/>
                  <a:pt x="17261" y="12828"/>
                </a:cubicBezTo>
                <a:lnTo>
                  <a:pt x="17261" y="7493"/>
                </a:lnTo>
                <a:lnTo>
                  <a:pt x="15424" y="7493"/>
                </a:lnTo>
                <a:lnTo>
                  <a:pt x="18932" y="3985"/>
                </a:lnTo>
                <a:lnTo>
                  <a:pt x="22605" y="7493"/>
                </a:lnTo>
                <a:lnTo>
                  <a:pt x="20768" y="7493"/>
                </a:lnTo>
                <a:lnTo>
                  <a:pt x="20768" y="12828"/>
                </a:lnTo>
                <a:cubicBezTo>
                  <a:pt x="20768" y="15596"/>
                  <a:pt x="18192" y="18155"/>
                  <a:pt x="15424" y="18155"/>
                </a:cubicBezTo>
                <a:lnTo>
                  <a:pt x="13762" y="18155"/>
                </a:lnTo>
                <a:cubicBezTo>
                  <a:pt x="10994" y="18155"/>
                  <a:pt x="8418" y="15596"/>
                  <a:pt x="8418" y="12828"/>
                </a:cubicBezTo>
                <a:close/>
              </a:path>
            </a:pathLst>
          </a:custGeom>
          <a:gradFill rotWithShape="0">
            <a:gsLst>
              <a:gs pos="0">
                <a:srgbClr val="0099cc"/>
              </a:gs>
              <a:gs pos="100000">
                <a:srgbClr val="00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4T07:02:25Z</dcterms:created>
  <dc:creator>Алекс</dc:creator>
  <dc:description/>
  <dc:language>en-US</dc:language>
  <cp:lastModifiedBy>я</cp:lastModifiedBy>
  <dcterms:modified xsi:type="dcterms:W3CDTF">2010-01-27T11:54:21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