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0491-B612-4717-B1C2-A6B29D116B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182-E64C-401A-B4EA-57D194C1A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5D9-3061-40C7-843E-6FD5ED0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00A-7662-4607-9B5C-BF79CD61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435-03EC-478F-BAE9-BDD692E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4EE-9A9A-45C2-8200-8CCCA1F9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EC4-9402-4812-8D1B-3C337729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6D7B-A85A-4F50-8A5D-AF07989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07C-EA0F-40CB-8E96-D1D826D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A0E-B0BA-407C-A326-B00DD33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0DC9-230B-45D9-B509-60A42EF9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590C-5CA6-4C4E-8806-51762A2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363-49AF-439A-9EF5-8FC15C0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975-254D-41F4-9649-B0C60D3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9DC7-771A-4396-A46B-7D3AEC9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6E8E-0613-4F3A-AEDB-CCA3778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74C0-31BC-4B7B-A881-8E26B5B8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D9F-7920-45E7-A37E-1EC7EF32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5757-6196-4F91-B57D-DA52501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BEE6-BABC-4408-BC47-AC9EEF36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CAEF-3A08-4229-AA15-E32D35E0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7F85-3754-4168-AD9A-5B66CFC8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AFCE-920E-466D-8495-36F21FDC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C5D9-CC42-4DAD-B2DB-6B77C488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3C6-CE10-488C-85B0-2F4C0A7E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40EA-8F16-4F65-9FF6-493C3927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A93F-7915-442B-A6DF-89E92F9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B857-ED0A-4C5D-9325-50CB43F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D27A-C23A-461D-8F1B-92019DF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782B-72F4-43B5-932E-C4E3239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40EE-C8CD-4A44-A13F-F6506A57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9DDF-425F-4A35-B5C3-ADF92E1D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E6DB-38D7-464D-AEA0-FB942AE7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15A5-1FB4-4246-BAFB-E83DB08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026F-DD12-4696-B751-99465F7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19D-F19E-480D-9225-E518A8C2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6EF7-5DAE-4E86-8803-B84A038A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CF9E-36E9-41C6-8107-5EF82A8F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18FA-DD3B-4A04-9815-D06209C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4913-FC42-4772-ADD9-C4BA1D3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CD4A-E9AD-419C-92A2-E6ECF8D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D55A-39DC-4095-BC61-1964789F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5406-0A7D-43DA-974D-2361583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5D9B-0B50-4D7A-853D-010241B3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FA86-210A-4E80-9551-4C963CC1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28E-3BA0-49A4-B616-25F00D7F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ED6-A4C8-44F7-B4EF-C3A065F4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EAF-2F37-4332-BFD6-B80DF99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9E3-2A64-4D46-A0DD-7AD8383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15D-2ED1-420E-83C4-DC4A80F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03E9-F67D-45BB-87A2-C498D8136F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2BA-1078-4D5D-A38D-F1F680040AC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0EA-B32F-46DA-A52F-7D8C114DFE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253-67FE-48D3-A644-5593EA44FBA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41212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929200" y="4785840"/>
            <a:ext cx="2843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елков Артем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еник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 класс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БУ гимназии№1 г.Мелеуз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99920" y="704880"/>
            <a:ext cx="5186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тоги    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28760" y="1500120"/>
          <a:ext cx="3357360" cy="2514600"/>
        </p:xfrm>
        <a:graphic>
          <a:graphicData uri="http://schemas.openxmlformats.org/drawingml/2006/table">
            <a:tbl>
              <a:tblPr/>
              <a:tblGrid>
                <a:gridCol w="571320"/>
                <a:gridCol w="357120"/>
                <a:gridCol w="428760"/>
                <a:gridCol w="357120"/>
                <a:gridCol w="642960"/>
                <a:gridCol w="1000080"/>
              </a:tblGrid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колько раз встреч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Диаграмма 3" descr=""/>
          <p:cNvPicPr/>
          <p:nvPr/>
        </p:nvPicPr>
        <p:blipFill>
          <a:blip r:embed="rId1"/>
          <a:srcRect l="1553" t="2593" r="31535" b="3981"/>
          <a:stretch/>
        </p:blipFill>
        <p:spPr>
          <a:xfrm>
            <a:off x="5072040" y="15001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j0424178.wmf"/>
          <p:cNvPicPr/>
          <p:nvPr/>
        </p:nvPicPr>
        <p:blipFill>
          <a:blip r:embed="rId2"/>
          <a:stretch/>
        </p:blipFill>
        <p:spPr>
          <a:xfrm>
            <a:off x="1285920" y="4429080"/>
            <a:ext cx="15969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равн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85560" y="1642680"/>
            <a:ext cx="26146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мма 9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6; 2  ;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5 ; 3 ;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5 ; 2  ; 2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4; 4 ;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4 ; 3 ; 2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3 ; 3 ;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0" y="15717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мма 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6; 3 ;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6; 2 ; 2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5 ; 4 ;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5 ; 3 ; 2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4 ; 4 ; 2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4 ; 3 ; 3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Рисунок 5" descr="j0433868.png"/>
          <p:cNvPicPr/>
          <p:nvPr/>
        </p:nvPicPr>
        <p:blipFill>
          <a:blip r:embed="rId1"/>
          <a:stretch/>
        </p:blipFill>
        <p:spPr>
          <a:xfrm>
            <a:off x="6786720" y="4572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тоговые комбин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85880" y="1214280"/>
          <a:ext cx="7358040" cy="512136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96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;2;1), (6;1;2),(2;6;1),(2;1;6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;6;2), (1;2;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;3;1), (6;1;3),(3;6;1),(3;1;6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;6;3), (1;3;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;3;1), (5;1;3), (3;1;5), (3;5;1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;5;3), (1;3;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;4;1), (5;1;4), (4;1;5), (4;5;1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;5;4), (1;4;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;3;2), (4;2;3), (3;2;4), (3;4;2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;3;4), (2;4;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;3;2), (5;2;3), (3;2;5), (3;5;2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;3;5), (2;5;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;2;2), (2;5;2), (2;2;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;2;2), (2;6;2), (2;2;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;1;1), (1;4;1), (1;1;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;3;3), (3;4;3), (3;3;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;3;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476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;4;4), (4;2;4), (4;4;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воды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рия игральных кубиков уходит корнями в историю древнего мира, когда кубики использовались для развлечений, гаданий и предсказ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стоверность некоторого факта (появление суммы 10) можно проверить лишь очень большим количеством опы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адочность в поведении игральных кубиков является «мнимой», так как появление суммы 10 является закономер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пулярность игры в кост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357280" y="1714680"/>
            <a:ext cx="419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43200" y="928440"/>
            <a:ext cx="5043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В начале XVII века к великому Галилею явился приятель, который захотел получить разъяснение по следующему поводу. 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Играя в три кости, он заметил, что число 10, как сумма очков на трех костях, появляется чаще чем число 9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galileo-galilei-1633-inkvizice.jpg"/>
          <p:cNvPicPr/>
          <p:nvPr/>
        </p:nvPicPr>
        <p:blipFill>
          <a:blip r:embed="rId1"/>
          <a:stretch/>
        </p:blipFill>
        <p:spPr>
          <a:xfrm>
            <a:off x="214200" y="1000080"/>
            <a:ext cx="3348000" cy="25718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357120" y="39290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к же так, – спрашивал игрок, – ведь как в случае девятки, так и в случае десятки эти числа набираются одинаковым числом способов, а именно шестью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85920" y="6429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Цели и задач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7120" y="12139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 исслед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снить какая из возможных сумм при подбрасывании трех кубиков появляется чащ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и исслед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историей игральных кубиков и задач, возникающих с этими игр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игру-опыт по выявлению наиболее часто выпадаемой сум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теоретическое рассуждение о суммах, которые выпадают при подбрасывании трех игральных куби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99760" y="713880"/>
            <a:ext cx="635796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Таблица возможных исходов в подбрасывании трех кубиков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0" y="1571760"/>
          <a:ext cx="4286160" cy="4572000"/>
        </p:xfrm>
        <a:graphic>
          <a:graphicData uri="http://schemas.openxmlformats.org/drawingml/2006/table">
            <a:tbl>
              <a:tblPr/>
              <a:tblGrid>
                <a:gridCol w="623880"/>
                <a:gridCol w="3662280"/>
              </a:tblGrid>
              <a:tr h="6714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ор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,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,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2,2); (1,1,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,4); (1,2,3); (2,2,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,5); (1,2,4); (1,3,3); (2,2,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,6); (1,2,5); (1,3,4); (2,2,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2,1); (5,3,1); (5,2,2); (4,4,1); (4,3,2); (3,3,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3,1); (6,2,2); (5,4,1); (5,3,2); (4,4,2); (4,3,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Рисунок 4" descr="кубики.jpeg"/>
          <p:cNvPicPr/>
          <p:nvPr/>
        </p:nvPicPr>
        <p:blipFill>
          <a:blip r:embed="rId1"/>
          <a:stretch/>
        </p:blipFill>
        <p:spPr>
          <a:xfrm>
            <a:off x="714240" y="1785960"/>
            <a:ext cx="27147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811600" y="1812960"/>
          <a:ext cx="3332160" cy="4205160"/>
        </p:xfrm>
        <a:graphic>
          <a:graphicData uri="http://schemas.openxmlformats.org/drawingml/2006/table">
            <a:tbl>
              <a:tblPr/>
              <a:tblGrid>
                <a:gridCol w="598320"/>
                <a:gridCol w="595440"/>
                <a:gridCol w="598320"/>
                <a:gridCol w="1540080"/>
              </a:tblGrid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мм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 txBox="1"/>
          <p:nvPr/>
        </p:nvSpPr>
        <p:spPr>
          <a:xfrm>
            <a:off x="57168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Arial Black"/>
              </a:rPr>
              <a:t>Фрагмент  таблицы  моих опы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3" descr="куб.jpeg"/>
          <p:cNvPicPr/>
          <p:nvPr/>
        </p:nvPicPr>
        <p:blipFill>
          <a:blip r:embed="rId1"/>
          <a:srcRect l="30621" t="0" r="0" b="0"/>
          <a:stretch/>
        </p:blipFill>
        <p:spPr>
          <a:xfrm>
            <a:off x="428760" y="1714680"/>
            <a:ext cx="2043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аграмма по игре-опыт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Диаграмма 1" descr=""/>
          <p:cNvPicPr/>
          <p:nvPr/>
        </p:nvPicPr>
        <p:blipFill>
          <a:blip r:embed="rId1"/>
          <a:srcRect l="2063" t="1611" r="50522" b="3221"/>
          <a:stretch/>
        </p:blipFill>
        <p:spPr>
          <a:xfrm>
            <a:off x="2928960" y="1428840"/>
            <a:ext cx="3286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ервые опыты на компьютер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29080" y="1357200"/>
          <a:ext cx="4429080" cy="4286520"/>
        </p:xfrm>
        <a:graphic>
          <a:graphicData uri="http://schemas.openxmlformats.org/drawingml/2006/table">
            <a:tbl>
              <a:tblPr/>
              <a:tblGrid>
                <a:gridCol w="316080"/>
                <a:gridCol w="317520"/>
                <a:gridCol w="315720"/>
                <a:gridCol w="395280"/>
                <a:gridCol w="1344600"/>
                <a:gridCol w="1739880"/>
              </a:tblGrid>
              <a:tr h="4492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колько раз встречается в опы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Диаграмма 1" descr=""/>
          <p:cNvPicPr/>
          <p:nvPr/>
        </p:nvPicPr>
        <p:blipFill>
          <a:blip r:embed="rId1"/>
          <a:srcRect l="1553" t="2593" r="45542" b="3981"/>
          <a:stretch/>
        </p:blipFill>
        <p:spPr>
          <a:xfrm>
            <a:off x="357120" y="1357200"/>
            <a:ext cx="2428920" cy="2571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j0424178.wmf"/>
          <p:cNvPicPr/>
          <p:nvPr/>
        </p:nvPicPr>
        <p:blipFill>
          <a:blip r:embed="rId2"/>
          <a:stretch/>
        </p:blipFill>
        <p:spPr>
          <a:xfrm>
            <a:off x="1285920" y="4357800"/>
            <a:ext cx="15969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рагмент  программы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ce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1056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7:05:08Z</dcterms:created>
  <dc:creator>учитель</dc:creator>
  <dc:description/>
  <dc:language>en-US</dc:language>
  <cp:lastModifiedBy>Ольга</cp:lastModifiedBy>
  <dcterms:modified xsi:type="dcterms:W3CDTF">2010-01-26T05:32:22Z</dcterms:modified>
  <cp:revision>18</cp:revision>
  <dc:subject/>
  <dc:title>Мнимая загадочность в поведении  игральных кубиков</dc:title>
</cp:coreProperties>
</file>