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wmf" ContentType="image/x-wmf"/>
  <Override PartName="/ppt/media/image11.png" ContentType="image/png"/>
  <Override PartName="/ppt/media/image6.wmf" ContentType="image/x-wmf"/>
  <Override PartName="/ppt/media/image9.png" ContentType="image/png"/>
  <Override PartName="/ppt/media/image17.wmf" ContentType="image/x-wmf"/>
  <Override PartName="/ppt/media/image7.png" ContentType="image/png"/>
  <Override PartName="/ppt/media/image1.jpeg" ContentType="image/jpeg"/>
  <Override PartName="/ppt/media/image4.png" ContentType="image/png"/>
  <Override PartName="/ppt/media/image3.jpeg" ContentType="image/jpeg"/>
  <Override PartName="/ppt/media/image15.png" ContentType="image/png"/>
  <Override PartName="/ppt/media/image26.gif" ContentType="image/gif"/>
  <Override PartName="/ppt/media/image24.png" ContentType="image/png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9.wmf" ContentType="image/x-wmf"/>
  <Override PartName="/ppt/media/image16.wmf" ContentType="image/x-wmf"/>
  <Override PartName="/ppt/media/image1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367B-126E-4CC2-A0B7-A53928DF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6A4D-E29A-40F4-81F8-D86626BF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FEE-28F5-4600-8DD5-902A728D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6630-32E0-4DAD-9984-9D4C336A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9D93-76F3-4684-B8C5-CFD4F46E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8BB5-0AC7-489F-B49E-EE1C7508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D814-905F-4131-A578-3D1D3913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DE97-94BC-450B-A112-FCE3B32F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5DD8-F78C-4877-A630-690C4F4C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ED41-5AA5-45CD-BC46-744017A1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A3A0-ED64-45A1-B7BF-648EE240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46D0-5A57-4188-9696-03A618D4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6779-3F0F-4B20-ACBA-5C15AA30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472D-8DB1-41B6-B62D-729B58EB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93D1-C773-4699-A32F-52F8E066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BC23-60B7-4715-B306-1731D900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3DCC-E9B3-4F07-8314-634B49F7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64B7-5382-481B-A2B0-1BC3CE7A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B04-A6F1-4A37-93C8-3A086EC3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3902-8058-46D6-B244-B9FD83D6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E17C-3913-4DD9-BA42-7E0C3176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7D21-0F55-4951-A356-8111993A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1EE1-2269-4A6E-BFF6-7F62C4C8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D1CB-7DF3-4847-9862-D405FCCF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DCA6-70B2-42E0-89B6-C02BBBDB27F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04EA-3885-4172-AE69-8E324D6EF17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3.xml"/><Relationship Id="rId3" Type="http://schemas.openxmlformats.org/officeDocument/2006/relationships/slide" Target="slide5.xml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89000"/>
            <a:ext cx="777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Теорема</a:t>
            </a:r>
            <a:r>
              <a:rPr b="1" lang="en-US" sz="8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132000" y="1844640"/>
            <a:ext cx="2719440" cy="3048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874880" y="4876920"/>
            <a:ext cx="548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Пифагор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4920" y="-459000"/>
            <a:ext cx="8459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Древнекитайское доказательство.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        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2" descr=""/>
          <p:cNvPicPr/>
          <p:nvPr/>
        </p:nvPicPr>
        <p:blipFill>
          <a:blip r:embed="rId1"/>
          <a:stretch/>
        </p:blipFill>
        <p:spPr>
          <a:xfrm>
            <a:off x="2411280" y="1052640"/>
            <a:ext cx="4067280" cy="3816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88000" y="31741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4941720"/>
            <a:ext cx="83883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квадрат со стороной с вырезать и оставшиеся 4 затушеванных треугольника уложить в два прямоугольника , то ясно, что образовавшаяся пустота, с одной стороны, равна с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а с другой — 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Ь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т.е. с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Ь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3280" y="6461280"/>
            <a:ext cx="25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33ff"/>
                </a:solidFill>
                <a:latin typeface="Arial"/>
              </a:rPr>
              <a:t>Теорема доказа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0920" y="1916280"/>
          <a:ext cx="4608360" cy="38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16280"/>
                    <a:ext cx="460836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4932360" y="2781360"/>
            <a:ext cx="421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десь теорема Пифагора рассмотрена для египетского треугольника с катетами 3, 4 и гипотенузой 5 единиц измер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0200" y="333360"/>
            <a:ext cx="803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еорема Пифагора для египетского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реуголь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475560"/>
            <a:ext cx="78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ревнеиндийское доказательство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4" descr=""/>
          <p:cNvPicPr/>
          <p:nvPr/>
        </p:nvPicPr>
        <p:blipFill>
          <a:blip r:embed="rId1"/>
          <a:stretch/>
        </p:blipFill>
        <p:spPr>
          <a:xfrm>
            <a:off x="5867280" y="1341360"/>
            <a:ext cx="2787840" cy="5040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2961360"/>
            <a:ext cx="504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угольные треугольники уложены здесь гипотенузой наружу и квадрат с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ерекладывается в «кресло невесты» 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рис.б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-360" y="1484280"/>
            <a:ext cx="61563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F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по двум сторонам и углу между ни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B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B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1/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JL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т. к. у 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ABD и прямоугольника BJLD общее основани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D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общая высот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алогичн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B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1\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FH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общее основание, АВ—общая высот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сюда, учитывая, чт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B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имее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JL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F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алогично, используя равенство 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СК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АСЕ, доказывается, чт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CE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K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Итак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F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K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JL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CE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CE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, что и требовалось доказа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084720" y="1700280"/>
          <a:ext cx="280836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700280"/>
                    <a:ext cx="280836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817280" y="466560"/>
            <a:ext cx="556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оказательство Евкли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2887560" cy="4032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315440" y="83268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Доказательство Перигаля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3159720"/>
            <a:ext cx="532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учебниках нередко встречается разложение указанное на рисунке (так называемое "колесо с лопастями"; это доказательство нашел Перигаль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557360"/>
            <a:ext cx="575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вадрат, построенный на гипотенузе прямоугольного треугольника, равносоставлен с квадратами, построенными на катетах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684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42480"/>
            <a:ext cx="5688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Доказательство Гутхейл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зображенное на рисунке разложение принадлежит Гутхейлю; для него характерно наглядное расположение отдельных частей, что позволяет сразу увидеть, какие упрощения повлечет за собой случай равнобедренного прямоугольного треуголь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Гиппократовы луночки"/>
          <p:cNvPicPr/>
          <p:nvPr/>
        </p:nvPicPr>
        <p:blipFill>
          <a:blip r:embed="rId1"/>
          <a:stretch/>
        </p:blipFill>
        <p:spPr>
          <a:xfrm>
            <a:off x="5508720" y="1197000"/>
            <a:ext cx="3456000" cy="4032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68720" cy="4030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50920" y="1894320"/>
            <a:ext cx="525600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Доказательство Энштей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ссмотрим  доказательство Энштейна ; его преимуществом является то, что здесь в качестве составных частей разложения фигурируют исключительно треугольни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378720"/>
            <a:ext cx="853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Практическое                        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применение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теоремы Пифагор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Монета с изображением Пифагора"/>
          <p:cNvPicPr/>
          <p:nvPr/>
        </p:nvPicPr>
        <p:blipFill>
          <a:blip r:embed="rId1"/>
          <a:stretch/>
        </p:blipFill>
        <p:spPr>
          <a:xfrm>
            <a:off x="4356000" y="4076640"/>
            <a:ext cx="3024360" cy="252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wipe dir="d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98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780000" y="2492280"/>
            <a:ext cx="4471920" cy="3456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84360" y="978840"/>
            <a:ext cx="751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Теорема Пифагора используется  при построении сечений в объемных фигурах, таких как куб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1913400"/>
            <a:ext cx="63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у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и построении сечений в конусе также используется теорема Пифагор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818080" cy="453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2205000"/>
            <a:ext cx="748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Введени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970920"/>
            <a:ext cx="489600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рами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йти s (длину боковых ребер пирамиды)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бра будут гипотенузами прямоугольных треугольников, у которых один из катетов - высота h, а другой - половина диагонали квадрата (1/2*a√2). Вследствие этого имее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² = h² + a²/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тем можем вычислить высоту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боковых гран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3384360" cy="42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98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98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1125360"/>
            <a:ext cx="889308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ahoma"/>
              </a:rPr>
              <a:t>ТЕОРЕМА ПИФАГО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МЕНЕН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300720" y="4292640"/>
            <a:ext cx="23749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ОБЛАСТИ ПРИМЕНЕНИЯ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Строительств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Астроном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Мобильная связ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5292720" y="2133720"/>
            <a:ext cx="3556080" cy="3987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Tahoma"/>
              </a:rPr>
              <a:t>Мобильная связ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акую наибольшую высоту должна иметь антенна мобильного оператора, чтобы передачу можно было принимать в радиусе R=200 км? (радиус Земли равен 6380 км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обильная связ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4969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Решение: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усть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AB= x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BC=R=200 к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OC= r =6380 к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OB=OA+AB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OB=r + x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уя теорему Пифагора, получим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твет: 2,3 к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3240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600"/>
                            </p:stCondLst>
                            <p:childTnLst>
                              <p:par>
                                <p:cTn id="5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Строительство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2565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Ок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Крыш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Молниеот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5003640" y="2276640"/>
            <a:ext cx="3942000" cy="3743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оманской архитектур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часто встречается мотив, представленный на рисунке. Если b по-прежнему обозначает ширину окна, то радиусы полуокружностей будут равны R = b / 2 и r = b / 4. Радиус p внутренней окружности можно вычислить из прямоугольного треугольника, изображенного на рис. пунктиром. Гипотенуза этого треугольника, проходящая через точку касания окружностей, равна b/4+p, один катет равен b/4, а другой b/2-p. По теореме Пифагора имеем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b/4+p)=( b/4)+( b/4-p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b/16+ bp/2+p=b/16+b/4-bp+p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куд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bp/2=b/4-bp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делив на b и приводя подобные члены, получим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3/2)p=b/4, p=b/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372360" y="5229360"/>
            <a:ext cx="23032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роительство крыш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84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доме задумано построить двускатную крышу (форма в сечении). Какой длины должны быть стропила, если изготовлены балки AC=8 м., и AB=B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угольник ADC - равнобедренный AB=BC=4 м., BF=4 м. Если предположить, что FD=1,5 м., тогд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) Из треугольника DBC: DB=2,5 м.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Из треугольника ABF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64000" y="4365720"/>
            <a:ext cx="3132360" cy="1766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042920" y="5589720"/>
            <a:ext cx="3529080" cy="49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Tahoma"/>
              </a:rPr>
              <a:t>Молниеотвод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вестно, что молниеотвод защищает от молнии все предметы, расстояние которых от его основания не превышает его удвоенной высоты. Необходимо определить оптимальное положение молниеотвода на двускатной крыше, обеспечивающее наименьшую его доступную высот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08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олниеотв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ru-RU" sz="3600" spc="-1" strike="noStrike">
                <a:solidFill>
                  <a:srgbClr val="ffcc66"/>
                </a:solidFill>
                <a:latin typeface="Tahoma"/>
              </a:rPr>
              <a:t>Решение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    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теореме Пифагора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h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≥ a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+b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, значит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h≥(a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+b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)1/2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340000" y="3933720"/>
            <a:ext cx="5184720" cy="252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Причина  популярности теоремы Пифагора триедина: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эт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простота 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расота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значимост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Астроном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этом рисунке показаны точки A и B и путь светового луча от A к B и обратно. Путь луча показан изогнутой стрелкой для наглядности, на самом деле, световой луч - прям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ой путь проходит луч? Поскольку свет идет туда и обратно одинаковый путь, спросим сразу: чему равно расстояние между точка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dilatrest" descr=""/>
          <p:cNvPicPr/>
          <p:nvPr/>
        </p:nvPicPr>
        <p:blipFill>
          <a:blip r:embed="rId1"/>
          <a:stretch/>
        </p:blipFill>
        <p:spPr>
          <a:xfrm>
            <a:off x="5940360" y="3716280"/>
            <a:ext cx="2160720" cy="2997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0" y="0"/>
          <a:ext cx="9144000" cy="517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0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64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этом рисунке показан путь светового луча только с другой точки зрения, например из космического корабля. Предположим, что корабль движется влево. Тогда две точки, между которыми движется световой луч, станут двигаться вправо с той же скоростью. Причем, в то время, пока луч пробегает свой путь, исходная точка A смещается и луч возвращается уже в новую точку 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dilatmove" descr=""/>
          <p:cNvPicPr/>
          <p:nvPr/>
        </p:nvPicPr>
        <p:blipFill>
          <a:blip r:embed="rId1"/>
          <a:stretch/>
        </p:blipFill>
        <p:spPr>
          <a:xfrm>
            <a:off x="4788000" y="3068640"/>
            <a:ext cx="27367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шутку, хотя и не совсем безосновательно , было решено 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передать обитателям Марса сигнал      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в виде теоремы Пифагора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979640" y="3716280"/>
            <a:ext cx="4608360" cy="201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628280"/>
            <a:ext cx="8569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Теорема Пифагора проста, но не очевидна. Это сочетание двух противоречивых начал и придает ей особую притягательную силу, делает ее красивой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23948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Существует около 500 различных доказательств этой теоремы (геометрических, алгебраических, механических и т.д.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Это свидетельствует о гигантском числе ее конкретных реализац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98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873720" y="210240"/>
            <a:ext cx="653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Биография Пифаго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907200"/>
            <a:ext cx="867564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Пифагор родился в Сидоне, Финик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около 570 года до нашей эр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4872960"/>
            <a:ext cx="81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FF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276720" y="3357720"/>
            <a:ext cx="2879640" cy="3311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wheel spokes="1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907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ифагор с ранних лет стремится узнать как можно больше. Он обучается в нескольких храмах Грец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3141720"/>
            <a:ext cx="89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ифагор в 18-летнем возрасте покинул родной остров и, объехав мудрецов в разных краях света, добрался до Египта, где пробыл 22 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3356280" cy="426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250920" y="715680"/>
            <a:ext cx="48290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 Южной Италии Пифагор основывает школу – пифагорейский союз. Только тех, кто прошел многие ступени знаний, Пифагор называет своими ближайшими учениками и допускает во двор своего дома, где беседует с ними. Пифагорейцы занимаются геометрией, математикой, гармонией, астрономи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ифагор одним из первых заявляет, что Земля  имеет форму шара, а Солнце, Луна и прочие планеты имеют собственную траекторию движ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3744720" cy="3527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067280" y="2849760"/>
            <a:ext cx="4824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адрат, построенный на гипотенузе АС, содержит 4 исходных     треугольника, а квадраты, построенные на катетах,— по д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0200" y="12664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"Квадрат, построенный на гипотенузе прямоугольного треугольника, равновелик сумме квадратов, построенных на его катетах."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14760" y="638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97640" y="404640"/>
            <a:ext cx="665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Пифагоровы штан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20:27:27Z</dcterms:created>
  <dc:creator>Zver</dc:creator>
  <dc:description/>
  <dc:language>en-US</dc:language>
  <cp:lastModifiedBy>школа4</cp:lastModifiedBy>
  <dcterms:modified xsi:type="dcterms:W3CDTF">2009-03-20T06:13:47Z</dcterms:modified>
  <cp:revision>23</cp:revision>
  <dc:subject/>
  <dc:title>Слайд 1</dc:title>
</cp:coreProperties>
</file>