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936-7865-4984-A216-A3A195CB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450-4F79-416F-AF2B-3FBB8AE7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A3F-F2F4-49BD-8954-FB16AAE6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4FD-1524-46C6-ADFB-9875E1A4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764CE-7BB9-4E88-B4E5-E7492318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0FEB2-4E7E-4E3C-8994-4BCCA486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A0342-C5BE-4B1B-9B5F-A2A11B1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DE898-6417-40C7-BF29-AC2612B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1E982-36C9-4EFB-9D24-02EB048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28199-908B-4807-BC20-DE4E07C1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A5685-3646-4FD5-BA0D-A89EE88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C1C-D83E-49DA-8FB6-64919E47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505FA-EDDB-4E41-BC4C-B05E1FD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B23B-6A65-41B8-A5DA-01C0016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506DF-BCC5-4A7F-80DE-892FC622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EFF9A-23FE-40B5-9EEF-00EDBF68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2B744-CAC7-4AA1-9BEC-4B3F8D13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5C07-6492-4FBF-9515-0F82EE5E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A7DF-3ACF-4B5D-8357-F174079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2752-1B18-453D-BC61-1E638F37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A0F2-C83C-4C6F-95E6-4E1B2DE3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C87B-3C72-40CD-8ADA-90A5DF30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E6F-AEAB-48F0-BA92-DC09B2DB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57A3-F8B1-4DE8-9C7E-040357C3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B59F-C5DC-4F7F-BB37-D2DAC72F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D879-E363-4D40-A138-744DF59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DC05-70AB-4552-AB73-D32E636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1ACA-57F5-45B5-A20D-6FCFAD8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2188-E48B-4C2D-8B81-03B20B8A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2C0D-E1DA-4AD7-ABED-903FF319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27D76-B1B4-46F6-8CDB-BCF9F57E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9BE43-07A4-4FF2-9647-599DCAD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3A1D5-F129-4FAD-BDC0-A11B97F3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09A-0FFF-4FD8-9B11-9AC4F3B7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901A9-F0DF-4C1F-9B80-97C4BC1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3E727-26E2-4FE3-B42A-398FDD9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97298-408E-4DF3-ADA9-C09E64A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A7A2C-D362-4D37-941D-13C0BA18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23389-1F59-4428-A238-6709668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3DCE5-0317-440B-8A6F-2BFD44E2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714B8-ED4E-48A6-9937-3669FFE7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3AE2F-D50B-4089-B777-33BDE804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31EF4-CF37-4335-9EEB-F63DDA4E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EAC9-3113-435D-9644-8A7104DD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2AB-9B54-445B-B9BB-797A1C26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7119-BC72-4A69-AAA4-B96DE8D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5FE7D-BED9-456D-B3BE-105AF35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A955-5D4C-47F0-BE14-86ECA65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1EBCD-A5CA-4512-84EF-E6BCAF8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66EB2-6BC3-4452-9508-E57C98F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AB3B-7F88-408E-944C-5AD8FC4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D533-1787-4F2A-88CF-1526DE5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1EC5-C35A-4D68-AFF2-77EFA4E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D396C-B0A6-4099-B809-CB28A0C9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B5C2-06ED-4BE4-833F-B20009C2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E04-89EB-490D-A6ED-0443F898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6A0CB-841D-4097-8699-E39C87F9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D7D5-0AA2-427B-B760-FEE359B6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9BA7-303F-4162-96CD-D01A0299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FC536-8EDC-40D6-B5A9-39E134C3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8491-EDFB-4DF7-B561-9352A6E1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B9261-A6F8-4BFC-BE12-F0FBD73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809D-C0C9-41D6-B28A-B823BBC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D8B50-3634-44D9-B581-EBD8108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3288-364F-4595-ADB8-CF71CAA8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7873-527E-4418-992D-DFDA8BFC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6F3-4452-414F-8089-392B028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7ABD-3F95-45CD-B7C0-9AF5CFE1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AC33-2540-472D-A384-E1AA4B63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4949A-32EA-468C-90E5-CD7CF1A7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BBB-27C0-4594-A383-2483AF21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E62-AEA6-4071-BD6C-50A6B6E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6D38-763F-4B0F-94D2-1A09C9287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0E1-6E50-431F-8B44-583FA6FB5F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6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D77-54E0-4C1F-8170-BE0778BF2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7025-5948-4CD4-84B7-CEF34749B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D3E5-2A36-4630-A837-BF9C5F119E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1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4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7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2D3E-85F1-4F44-A0F4-C1BB463776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72360" cy="2190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гадка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живой» и «мертвой»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вод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539640" y="4581360"/>
            <a:ext cx="8136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ельская работа по окружающему ми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4 класса Волковской М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нтемировой Юл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: Грабко Ирина Пет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Плохие слова вызвали разло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9" descr="SDC12626"/>
          <p:cNvPicPr/>
          <p:nvPr/>
        </p:nvPicPr>
        <p:blipFill>
          <a:blip r:embed="rId2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4" descr="SDC12619"/>
          <p:cNvPicPr/>
          <p:nvPr/>
        </p:nvPicPr>
        <p:blipFill>
          <a:blip r:embed="rId2"/>
          <a:stretch/>
        </p:blipFill>
        <p:spPr>
          <a:xfrm>
            <a:off x="500040" y="2786040"/>
            <a:ext cx="24084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SDC12620"/>
          <p:cNvPicPr/>
          <p:nvPr/>
        </p:nvPicPr>
        <p:blipFill>
          <a:blip r:embed="rId3"/>
          <a:stretch/>
        </p:blipFill>
        <p:spPr>
          <a:xfrm>
            <a:off x="3714840" y="3214800"/>
            <a:ext cx="2278080" cy="2286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SDC12625"/>
          <p:cNvPicPr/>
          <p:nvPr/>
        </p:nvPicPr>
        <p:blipFill>
          <a:blip r:embed="rId4"/>
          <a:stretch/>
        </p:blipFill>
        <p:spPr>
          <a:xfrm>
            <a:off x="6500880" y="4000680"/>
            <a:ext cx="2224080" cy="21430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0040" y="291960"/>
            <a:ext cx="8215200" cy="14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Наличие пены и плохих осадков во 2м и3м стакан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1008720" y="178596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333333"/>
                </a:solidFill>
                <a:latin typeface="Tahoma"/>
              </a:rPr>
              <a:t> ста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020840" y="257184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II</a:t>
            </a:r>
            <a:r>
              <a:rPr b="1" lang="ru-RU" sz="2000" spc="-1" strike="noStrike">
                <a:solidFill>
                  <a:srgbClr val="333333"/>
                </a:solidFill>
                <a:latin typeface="Tahoma"/>
              </a:rPr>
              <a:t> ста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908760" y="3429000"/>
            <a:ext cx="14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ahoma"/>
              </a:rPr>
              <a:t>III </a:t>
            </a:r>
            <a:r>
              <a:rPr b="1" lang="ru-RU" sz="2000" spc="-1" strike="noStrike">
                <a:solidFill>
                  <a:srgbClr val="333333"/>
                </a:solidFill>
                <a:latin typeface="Tahoma"/>
              </a:rPr>
              <a:t>ста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sh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«Живая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да – это чистая, родниковая, талая, глубинная, святая, щелочная (католит); такая вода, которой говорят добрые слова; та вода, к которой относятся с любовью и она отвечает нам взаимностью – благотворно влияет на наше здоров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«Мертвая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вода –  анолит (может помочь людям), но если сами люди губят воду, загрязняют ее, отравляют химическими отходами, может и вправду  погубить все человече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емая литератур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1989000"/>
            <a:ext cx="808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волод Арабаджи «Загадки простой воды», Москва, 2006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Кульский, В. Даль, Л. Ленчина «Вода: знакомая и загадочная», Москва, 2005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.С. Лосев «Вода» - Л., Гидрометеоиздат, 1989. -272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. Медведев «Какая вода лучше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«Вода!   У тебя нет ни вкуса, ни цвета, </a:t>
            </a:r>
            <a:br>
              <a:rPr sz="2800"/>
            </a:b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ни запаха, тобой наслаждаешься, не понимая, что ты такое. Ты не просто необходима для жизни, ты и есть жизнь. С тобой во всем существе разливается блаженство, которое не объяснить только лишь нашими пятью чувствами… </a:t>
            </a:r>
            <a:br>
              <a:rPr sz="2800"/>
            </a:br>
            <a:r>
              <a:rPr b="0" lang="ru-RU" sz="2800" spc="-1" strike="noStrike">
                <a:solidFill>
                  <a:srgbClr val="66ffff"/>
                </a:solidFill>
                <a:latin typeface="Tahoma"/>
              </a:rPr>
              <a:t>         Ты - величайшее в мире богатство…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743200" y="587700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ahoma"/>
              </a:rPr>
              <a:t>Антуан де Сент Экзюпе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 - самое привычное вещество на земл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5" descr="2"/>
          <p:cNvPicPr/>
          <p:nvPr/>
        </p:nvPicPr>
        <p:blipFill>
          <a:blip r:embed="rId1"/>
          <a:stretch/>
        </p:blipFill>
        <p:spPr>
          <a:xfrm>
            <a:off x="714240" y="1214280"/>
            <a:ext cx="3168720" cy="2584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1"/>
          <p:cNvPicPr/>
          <p:nvPr/>
        </p:nvPicPr>
        <p:blipFill>
          <a:blip r:embed="rId2"/>
          <a:stretch/>
        </p:blipFill>
        <p:spPr>
          <a:xfrm>
            <a:off x="468360" y="4149720"/>
            <a:ext cx="3139920" cy="2359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4"/>
          <p:cNvPicPr/>
          <p:nvPr/>
        </p:nvPicPr>
        <p:blipFill>
          <a:blip r:embed="rId3"/>
          <a:stretch/>
        </p:blipFill>
        <p:spPr>
          <a:xfrm>
            <a:off x="5364000" y="1197000"/>
            <a:ext cx="3456000" cy="2575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5"/>
          <p:cNvPicPr/>
          <p:nvPr/>
        </p:nvPicPr>
        <p:blipFill>
          <a:blip r:embed="rId4"/>
          <a:stretch/>
        </p:blipFill>
        <p:spPr>
          <a:xfrm>
            <a:off x="5364000" y="4076640"/>
            <a:ext cx="3384720" cy="236844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казка ложь, да в ней намек…сбрызнули Ивана мёртвой водой и срослось его тело, сбрызнули живой водой и ожил он, встрепенулс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28760" y="292896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считаю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то «живая» и «мертвая» вода действительно существую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ь: узнать влияние воды на здоровье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ить мнение окружающих: как они думают, что такое живая и мертвая в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из научной литературы: что такое живая и мертвая в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опыт: влияние плохих и хороших слов человека на рис и воду в стак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101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9144000" cy="6680160"/>
        </p:xfrm>
        <a:graphic>
          <a:graphicData uri="http://schemas.openxmlformats.org/drawingml/2006/table">
            <a:tbl>
              <a:tblPr/>
              <a:tblGrid>
                <a:gridCol w="2556000"/>
                <a:gridCol w="3095640"/>
                <a:gridCol w="34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живая» 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мертвая» 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едулова О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я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дня Ант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ников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от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ко Н.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я вода в природе жив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быкина Л.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торая находится глубоко под земл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ированная, кипяче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рова Е.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ятая, тал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ная в быту, загрязненная химическими отход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бко И.П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огласна с мнением ученых-медиков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щелочная (католи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чит заболевания у людей, помогает росту растени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слая (аноли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рилизует, дезинфицирует, помогает заживать ранкам, пореза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тины кристаллов капель замороженной вод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5" name="Picture 4" descr="Родниковая вода"/>
          <p:cNvPicPr/>
          <p:nvPr/>
        </p:nvPicPr>
        <p:blipFill>
          <a:blip r:embed="rId1"/>
          <a:stretch/>
        </p:blipFill>
        <p:spPr>
          <a:xfrm>
            <a:off x="571680" y="183672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5"/>
          <p:cNvSpPr/>
          <p:nvPr/>
        </p:nvSpPr>
        <p:spPr>
          <a:xfrm>
            <a:off x="1000080" y="471492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428760" y="51436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никовая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Вода после воздействия музыки стиля тяжелый рок"/>
          <p:cNvPicPr/>
          <p:nvPr/>
        </p:nvPicPr>
        <p:blipFill>
          <a:blip r:embed="rId2"/>
          <a:stretch/>
        </p:blipFill>
        <p:spPr>
          <a:xfrm>
            <a:off x="5929200" y="185724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6"/>
          <p:cNvSpPr/>
          <p:nvPr/>
        </p:nvSpPr>
        <p:spPr>
          <a:xfrm>
            <a:off x="6736320" y="507204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язная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6868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орошие слова     плохие сл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14" descr="грязная вода"/>
          <p:cNvPicPr/>
          <p:nvPr/>
        </p:nvPicPr>
        <p:blipFill>
          <a:blip r:embed="rId1"/>
          <a:stretch/>
        </p:blipFill>
        <p:spPr>
          <a:xfrm>
            <a:off x="5357880" y="1643040"/>
            <a:ext cx="1857240" cy="17794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17"/>
          <p:cNvSpPr/>
          <p:nvPr/>
        </p:nvSpPr>
        <p:spPr>
          <a:xfrm>
            <a:off x="7072200" y="2286000"/>
            <a:ext cx="23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оз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яжелый р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7" descr="Вода после слова: спасибо"/>
          <p:cNvPicPr/>
          <p:nvPr/>
        </p:nvPicPr>
        <p:blipFill>
          <a:blip r:embed="rId2"/>
          <a:stretch/>
        </p:blipFill>
        <p:spPr>
          <a:xfrm>
            <a:off x="0" y="1214280"/>
            <a:ext cx="1887480" cy="18878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8"/>
          <p:cNvSpPr/>
          <p:nvPr/>
        </p:nvSpPr>
        <p:spPr>
          <a:xfrm>
            <a:off x="0" y="3143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пасиб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5" name="Picture 9" descr="Вода после молитвы"/>
          <p:cNvPicPr/>
          <p:nvPr/>
        </p:nvPicPr>
        <p:blipFill>
          <a:blip r:embed="rId3"/>
          <a:stretch/>
        </p:blipFill>
        <p:spPr>
          <a:xfrm>
            <a:off x="2357280" y="1928880"/>
            <a:ext cx="18734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0"/>
          <p:cNvSpPr/>
          <p:nvPr/>
        </p:nvSpPr>
        <p:spPr>
          <a:xfrm>
            <a:off x="2353680" y="400068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ит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Picture 11" descr="Вода после слова: любовь"/>
          <p:cNvPicPr/>
          <p:nvPr/>
        </p:nvPicPr>
        <p:blipFill>
          <a:blip r:embed="rId4"/>
          <a:stretch/>
        </p:blipFill>
        <p:spPr>
          <a:xfrm>
            <a:off x="0" y="43578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2"/>
          <p:cNvSpPr/>
          <p:nvPr/>
        </p:nvSpPr>
        <p:spPr>
          <a:xfrm>
            <a:off x="995400" y="614376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я тебя люблю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Picture 15" descr="Вода после слов: я тебя убью"/>
          <p:cNvPicPr/>
          <p:nvPr/>
        </p:nvPicPr>
        <p:blipFill>
          <a:blip r:embed="rId5"/>
          <a:stretch/>
        </p:blipFill>
        <p:spPr>
          <a:xfrm>
            <a:off x="6072120" y="4286160"/>
            <a:ext cx="1871640" cy="16560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8"/>
          <p:cNvSpPr/>
          <p:nvPr/>
        </p:nvSpPr>
        <p:spPr>
          <a:xfrm>
            <a:off x="6286680" y="6021360"/>
            <a:ext cx="23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я тебя убью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ультат проведенного опы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0" y="1484280"/>
          <a:ext cx="9144000" cy="55659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так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так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так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тался без измен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това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зрач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зрач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мутн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верх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большая прозрачная пленоч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т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е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лась плесень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ятный (хлебны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сл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ухл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л ро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чал разлага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чал разлага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5:13:01Z</dcterms:created>
  <dc:creator>NT</dc:creator>
  <dc:description/>
  <dc:language>en-US</dc:language>
  <cp:lastModifiedBy>User</cp:lastModifiedBy>
  <dcterms:modified xsi:type="dcterms:W3CDTF">2010-01-11T05:40:15Z</dcterms:modified>
  <cp:revision>29</cp:revision>
  <dc:subject/>
  <dc:title>Загадка  «живой» и «мертвой»  воды.</dc:title>
</cp:coreProperties>
</file>