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1FC-2091-433B-BDCE-A1E32C4B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A57-7749-4BFD-860C-A12827F1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F00-8886-4438-B729-9A37BB99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FC8-7CA1-4E8A-9457-D80B4E3A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E83-6F65-4BBD-B2E2-BBD0B080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BE0-EEE3-4B01-952D-60CC73A7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29F-C6B4-423A-8EE8-62596D5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BDC-9374-443E-B306-266B2BE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6E5-A0F8-4944-8BAC-460BBA1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CB0-DEB0-4DC3-B9E5-6FD1E59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E56-1B8F-497B-90EC-A24C52E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A6E-AB7C-4551-8F29-58855EE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076-9795-485E-8D7B-6874B691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27000" y="-36360"/>
            <a:ext cx="6885000" cy="918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57000" y="1547640"/>
            <a:ext cx="4103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61b00"/>
                </a:solidFill>
                <a:latin typeface="Monotype Corsiva"/>
              </a:rPr>
              <a:t>Практикум по решению задач на проц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ученица 11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МОУ «Лицей №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Быковская Ма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Коломиец Т.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76280" y="610920"/>
            <a:ext cx="590544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Monotype Corsiva"/>
              </a:rPr>
              <a:t>Правило смеш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Воспользуемся формулой: ω = (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) / (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тог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· 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= ω · (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· ω =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· ω –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l-GR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 (ω</a:t>
            </a:r>
            <a:r>
              <a:rPr b="0" lang="el-GR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 – ω) =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l-GR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 (ω – ω</a:t>
            </a:r>
            <a:r>
              <a:rPr b="0" lang="el-GR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/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= (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) / (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Таким образом, отношение массы первого раствора к массе второго равно отношению разности массовых долей смеси и второго раствора к разности массовых долей первого раствора и смес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Эта формула удобна тем, что на практике, как правило, массы веществ не отвешиваются, а берутся в определенном отношен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Monotype Corsiva"/>
              </a:rPr>
              <a:t>Правило крес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Правилом креста называют диагональную схему правила смешения для случая с двумя раствор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1-й раствор                         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                                       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\                  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/                  \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2-й раствор                       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                                     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el-GR" sz="1900" spc="-1" strike="noStrike">
                <a:solidFill>
                  <a:srgbClr val="000000"/>
                </a:solidFill>
                <a:latin typeface="Monotype Corsiva"/>
              </a:rPr>
              <a:t>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Monotype Corsiva"/>
              </a:rPr>
              <a:t>Слева на концах отрезков записывают исходные массовые доли растворов, на пересечении отрезков – заданная, а справа на их концах записываются разности между исходными и заданной массовыми долями. Получаемые массовые части показывают, в каком отношении надо слить исходные раство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33000" y="394920"/>
            <a:ext cx="6048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Графически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трезок прямой (основание графика) представляет собой массу смеси, а на осях ординат откладывают точки, соответствующие массовым долям растворенного вещества в исходных растворах. Соединив прямой точки на осях ординат, получают прямую, которая отображает функциональную зависимость массовой доли растворенного вещества в смеси от массы смешанных растворов в обратной пропорциональной завис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 =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 · ω1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 · ω2) /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) , у =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лученная функциональная прямая позволяет решать задачи по определению массы смешанных растворов и обратные, по массе смешанных растворов находить массовую долю полученной см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87560" y="3205080"/>
            <a:ext cx="3313080" cy="28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3360" y="6012000"/>
            <a:ext cx="604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остроим график зависимости массовой доли растворенного вещества от массы смешанных растворов. На одной из осей ординат откладываем точку, соответствующую массовой доле ω1, а на другой – ω2. Обозначим на оси абсцисс точки с координатами (0,0) и (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 +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,0). В направлении от одной точки к другой возрастает содержание в смеси второго раствора от 0 до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 +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 и убывает содержание первого раствора от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 +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 до 0. Таким образом, любая точка на отрезке будет представлять собой смесь, имеющую одну и ту же массу с определенным содержанием каждого раствора, которое влияет на массовую долю растворенного вещества в сме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2280" y="611280"/>
            <a:ext cx="5424480" cy="770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4640" y="539280"/>
            <a:ext cx="604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лгебраически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адачи на смешивание растворов решают также с помощью составления уравнения или системы урав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1 (ЕГЭ –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100 г 20% раствора соли добавили 300 г её 10% раствора. Определите процентную концентрацию раст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 помощью расчетной форм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1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3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 =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 /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 = (0,2 · 100 + 0,1 · 300) / (100 + 300) = 0,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 = 12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Графи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844640" y="5078520"/>
            <a:ext cx="3295800" cy="2865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04640" y="539640"/>
            <a:ext cx="6048720" cy="77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утем последовательных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колько растворенного вещества содерж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100 г 20% раствора;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00 · 0,2 = 20(г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300 г 10% раствора;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00 · 0,1 = 30(г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колько вещества содержится в образовавшемся раствор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0 г + 30 г = 5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му равна масса образовавшегося раст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00 г + 300 г = 40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кова процентная концентрация полученного раст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50 / 400) · 100% = 12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лгебра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усть х – процентная концентрация полученного раствора. В первом растворе содержится 0,2 · 100(г) соли, а во втором 0,1 · 300(г), а в полученном растворе х · (100+300)(г) соли. Составим и 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0,2 · 100 + 0,1 · 300 = х · (100 + 3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х = 0,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х = 12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12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4640" y="611280"/>
            <a:ext cx="604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2 (ЕГЭ –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Смешали 10%-ный и 25%-ный растворы соли и получили 3 кг 20%-ого раствора. Какое количество каждого раствора в килограммах было использова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Алгебраи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С помощью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Пусть х (кг) – масса первого раствора, тогда масса второго раствора – (3 – х) (к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Тогда 0,1 · х (кг) содержится соли в первом растворе, 0,25 · (3 – х) (кг) содержится соли во втором растворе, 0,2 · 3 или 0,6 (кг) содержится соли в см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Учитывая, что масса соли в первом  и втором растворах равна массе соли в смеси, составим и решим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0,1 · х + 0,25 · (3 – х) = 0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0,15 · х = 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х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1 кг – масса первого раствора, тогда 2 кг – масса второго раст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С помощью системы урав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Пусть х (кг) – масса первого раствора, а у (кг) – масса второго раствора. Тогда 0,1 · х (кг) содержится соли в первом растворе, 0,25 · у (кг) содержится соли во втором раст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Система уравнений име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05000" y="6589800"/>
            <a:ext cx="2362320" cy="97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3360" y="7669080"/>
            <a:ext cx="6048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Решая систему уравнений методом сложения, получим, что 0,15 · у = 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у = 2, значит х =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0640" y="900000"/>
            <a:ext cx="5684760" cy="734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052280" y="53928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Графич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22600" y="900000"/>
            <a:ext cx="3362040" cy="277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0800" y="3635280"/>
            <a:ext cx="619128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Правило см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(</a:t>
            </a:r>
            <a:r>
              <a:rPr b="0" lang="el-GR" sz="18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el-GR" sz="18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 / (</a:t>
            </a:r>
            <a:r>
              <a:rPr b="0" lang="el-GR" sz="18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el-GR" sz="18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(0,2 – 0,25) / (0,1 – 0,2) = 0,05 / 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0,5 ·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ледовательно,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1 кг,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2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Правило кр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оставим диагональную сх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-й раствор                                         0,25                                       0,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\                 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/                 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-й раствор                                         0,1                                     0,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0,1 / 0,05 = 2 /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1 кг, 2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04640" y="756720"/>
            <a:ext cx="6048720" cy="79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2100" spc="-1" strike="noStrike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В двух сосудах по 5 л каждый содержится раствор соли. Первый сосуд содержит 3 л 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-процентного раствора, а второй 4 л 2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-процентного раствора одной и той же соли. Сколько литров надо перелить из второго сосуда в первый, чтобы получить в нем 10%-й раствор соли? При каких значениях р задача имеет решени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Monotype Corsiva"/>
              </a:rPr>
              <a:t>С помощью расчетной формул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= 3 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= 0,01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= 0,02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ω = 0,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= (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· 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+ 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· 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ω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) / (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 + 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0,1 = (0,01р 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 3 + 0,02р 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· 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х) / (3 + 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х = 3 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 (р – 10) / 2 </a:t>
            </a: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 (5 – р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Найдем при каких значениях р задача имеет решение. По условию задачи 5-литровый сосуд содержит 3 л первого раствора, следовательно, в него можно долить от 0 л до 2 л второго раство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Имеем 0 ≤ 3 · (р – 10) / 2 · (5 – р) ≤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Решая неравенство, получаем 50 / 7 ≤ р ≤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ru-RU" sz="2100" spc="-1" strike="noStrike">
                <a:solidFill>
                  <a:srgbClr val="000000"/>
                </a:solidFill>
                <a:latin typeface="Monotype Corsiva"/>
              </a:rPr>
              <a:t> из второго сосуда в первый надо перелить 3 · (р – 10) / 2 · (5 – р) л, задача имеет решение при 50 / 7 ≤ р ≤ 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5640" y="539280"/>
            <a:ext cx="6453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4 (ЕГЭ –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 4 кг сплава меди и олова содержится 40% олова. Сколько килограммов олова надо добавить к этому сплаву, чтобы содержание олова в новом сплаве было равно 7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5680" y="1979640"/>
            <a:ext cx="399096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4360" y="2989440"/>
            <a:ext cx="6453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Так сумма масс олова, указанных в первой части схемы (до смешения сплавов), равна массе олова в новом сплаве, можно составить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4 · 0,4 + х = 0,7 · (4 + х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откуда х =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4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9000" y="4573440"/>
            <a:ext cx="64530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Свежие грибы содержат 90% влаги, а сушеные – 12% влаги. Сколько сушеных грибов получится из 10 кг свеж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490760" y="5829480"/>
            <a:ext cx="3809880" cy="104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6000" y="6805440"/>
            <a:ext cx="645300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Можно составить уравнение на основе подсчета масс влаги, учитывая, что она удаляется из гриб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0,9 · 10 – (10 – х) = 0,12 ·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х = 25 /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25 / 22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6157800"/>
            <a:ext cx="6083640" cy="19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61b00"/>
                </a:solidFill>
                <a:latin typeface="Monotype Corsiva"/>
              </a:rPr>
              <a:t>Задачи на смеси и сплав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9360" y="1116000"/>
            <a:ext cx="5715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04280" y="468000"/>
            <a:ext cx="59770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Из 40 т железной руды выплавляют 20 т стали, содержащей 6% примесей. Каков процент примесей в ру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13000" y="1585800"/>
            <a:ext cx="3905280" cy="11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0280" y="2741760"/>
            <a:ext cx="61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0,01 · х · 40 – 20 = 0,06 ·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х =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Из бака емкостью 54 л, наполненного кислотой, вылили несколько литров и долили водой. Потом опять вылили столько же литров смеси, после чего в баке осталось  24 л чистой кислоты. Сколько кислоты вылили в первый 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07920" y="5796000"/>
            <a:ext cx="5334120" cy="111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3360" y="6877080"/>
            <a:ext cx="61927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Определим процентное содержание воды в отлитой смеси. После второй операции (когда кислоту заменили водой) в баке получилась смесь, в которой на 54 л приходится х л воды. Следовательно,  процентное содержание воды в этой смеси равно х / 54 · 100%. Кроме того, после третьей операции (когда вылили х л смеси) в баке стало (54 – х) – 24 = (30 – х) л воды. Добавим эти данные в схем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33360" y="1730160"/>
            <a:ext cx="59752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Ясно, что количество воды указанное в схеме слева и справа от знака равенства, одно и то же, т. 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х – х · х / 54 = 30 –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Корни уравнения: х = 90 и х = 18. первый корень не подходит по смыслу (нельзя отлить 90 л из бочки, вмещающей всего 54 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18 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4640" y="658800"/>
            <a:ext cx="6121440" cy="1033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84280" y="3708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0920" y="324000"/>
            <a:ext cx="6597720" cy="84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2300" spc="-1" strike="noStrike">
                <a:solidFill>
                  <a:srgbClr val="000000"/>
                </a:solidFill>
                <a:latin typeface="Monotype Corsiva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В лаборатории имеются растворы с массовой долей хлорида натрия 10 и 20%. Какую массу каждого раствора надо взять для получения раствора с массовой долей соли 12% массой 300 г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Monotype Corsiva"/>
              </a:rPr>
              <a:t>Путем последовательных вычислений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Введем обозначения: </a:t>
            </a: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 = 0,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10%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= 0,2 (20%), </a:t>
            </a: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= 0,12 (12%).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Из определения массовой доли следует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/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0,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/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= 0,1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Аналогично получаем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/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,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 = 0,2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Масса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NaCl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в растворе, который надо приготовить, составляет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 +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Учитывая предыдущие равенства, получаем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= 0,1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+ 0,2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Для раствора с </a:t>
            </a: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= 0,12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</a:rPr>
              <a:t>записываем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ω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=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NaCl)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 /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, 0,12 = (0,1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 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+ 0,2 </a:t>
            </a:r>
            <a:r>
              <a:rPr b="0" lang="en-US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Monotype Corsiva"/>
                <a:ea typeface="Arial"/>
              </a:rPr>
              <a:t>) / 3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5240" y="826920"/>
            <a:ext cx="6432480" cy="77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Отсюда следуе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+ 2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 = 360,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массы растворов, которые необходимо взя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Находим массу раствора, который надо приготови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m = m1 + m2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m1 + m2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= 3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Решая систему уравнений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m1 + m2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= 300 и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+ 2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 = 360,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получаем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= 240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= 60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Правило смеш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Записываем друг под другом массовые доли исходных растворов, а правее между ними – массовую долю раствора, который необходимо приготовить. Из большей массовой доли вычитаем заданную и записываем результат справа вверху. Числа 0,02 и 0,08 показывают, в каком массовом отношении надо взять растворы с долями 0,2 и 0,1. таким образом, масса раствора с долей 0,2 составляе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2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= 300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0,02 / (0,08 + 0,02) = 60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Определяем массу раствора с долей 0,1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m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 = 300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0,08 / (0,08 + 0,02) = 240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60 г и 240 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04640" y="539280"/>
            <a:ext cx="590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onotype Corsiva"/>
              </a:rPr>
              <a:t>Задачи для самостоятельного реш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onotype Corsiva"/>
              </a:rPr>
              <a:t>1)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Морская вода содержит 5% соли. Сколько пресной воды надо добавить к 30 кг морской воды, чтобы она содержала 1,5% соли? Ответ: 70 к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onotype Corsiva"/>
              </a:rPr>
              <a:t>2)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Из 10 кг свежих фруктов получается 3,5 кг сушеных фруктов, содержащих 20% влаги. Чему равно процентное содержание влаги в свежих фруктах? Ответ: 72%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onotype Corsiva"/>
              </a:rPr>
              <a:t>3)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К 40% раствору серной кислоты добавили 50 г серной кислоты, после чего ее концентрация увеличилась до 60%. Определите первоначальный вес раствора. Ответ: 100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onotype Corsiva"/>
              </a:rPr>
              <a:t>4)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Если к сплаву меди и цинка добавить 20 г меди, ее содержание в сплаве станет равно 70%. А если к этому же сплаву добавить 70 г сплава, содержащего 40% меди, содержание меди станет равно 52%. Определите первоначальный вес сплава. Ответ: 80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73360" y="4716360"/>
            <a:ext cx="307152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9920" y="428472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Имеются два раствора спирта в воде. Если смешать по 5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каждого раствора и добавить 5 л воды, получится 20% 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спирта. Если же взять 4 л первого раствора, 2 л второго и доб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к ним 4 л 60% раствора, то получится 40% раствор спирта. Ч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равно процентное содержание спирта в первом растворе?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2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В какой пропорции надо смешать 10% и 35% 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аммиачной кислоты, чтобы приготовить 15% раствор? Ответ: 4: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7)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в двух сосудах находятся растворы кислоты: в первом – 70%, а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тором – 46%. Из первого сосуда перелили во второй 1 л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Затем из второго сосуда перелили в первый 1 л получивш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раствора и также перемешали. После этого концентрация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 первом сосуде стала равна 68%. Сколько жидкости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первоначально во втором сосуде, если известно, что  в первом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было 10 л? Ответ: 5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9000" y="468360"/>
            <a:ext cx="24354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9920" y="503280"/>
            <a:ext cx="6172200" cy="85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Элективный курс. Текстовые задачи: Сложности и пути их решения. Алгебра. 9 класс. / Сост. Г. И. Григорьева. – Волгоград. – 112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мся решать задачи на смеси и сплавы. – А. Е. Захарова. – Журнал «Математика для школьников». Советы к уроку. 3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06. – 17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дачи по химии для поступающих в вузы: Учеб. пособие – 2-е изд. – М.: Высш. шк., 1995. – 302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кстовые задачи на ЕГЭ. / Н. К. Варшавский, Ю. А. Глазунов. – Журнал «Математика для школьников». Иду на экзамен. 3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05. – 19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амые новые задания ЕГЭ-2009: Математика / авт. – сост. В. И. Ишина, Л. О. Денищева, Ю. А. Глазков и др. – М.: АСТ: Астрель, 2009, - 125,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 – (Федеральный институт педагогических измерен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89000" y="635040"/>
            <a:ext cx="640872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В работе разговор пойдет о задачах, решение которых связано с понятиями «концентрация» и «процентное содержание». Обычно в их условиях речь идет о составлении сплавов, растворов или смесей двух или более вещест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33000" y="5724360"/>
            <a:ext cx="6120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0280" y="5292720"/>
            <a:ext cx="59040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У многих учеников такие задачи вызывают затруднения. Вероятно, это связано с тем, что таким задачам в школьном курсе математики уделяют совсем мало внимания. Вместе с  тем они входят в различные сборники заданий по подготовке к итоговой аттестации по математике за курс основной школы, нередко включаются в варианты ЕГЭ и вступительных экзаменов в вуз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16280" y="2700360"/>
            <a:ext cx="2857320" cy="254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9920" y="1042920"/>
            <a:ext cx="6193080" cy="82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я решения такого вида задач необходимо знать, что такое концентрация вещества в смеси (растворе или сплаве). Пусть в смесь входят компоненты А,В и С с массами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,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и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соответственно. Будем считать, что масс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меси равна сумме масс компонентов, т. е.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. Тогда концентрацией компонента А по массе будем называть отношение массы этого компонента к массе всей смеси и обозначать как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 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/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/ (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налогично для компонентов В и 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 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/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/ (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С 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/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/ (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+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центрац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безразмерная величина. Понятно, что сумма концентраций всех компонентов смеси равна 1, т. е. СА +  СВ + СС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центным содержанием компонента А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зывается число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= сА · 100%, т. е. это концентрация вещества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налогично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= сВ · 100%  и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= сС ·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75920" y="610920"/>
            <a:ext cx="597708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ри решении задач данного типа полезно пользоваться наглядной моделью – схемой, в которой смесь (раствор или сплав) изображается в виде прямоугольника, разбитого на фрагменты в соответствии с числом входящих в нее (в него) компонентов, а непосредственно при составлении уравнения – проследить содержание какого-нибудь одного ком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ример 1.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Имеются два сплава меди со свинцом. Один сплав содержит 15% меди, а другой 65%. Сколько нужно взять каждого сплава, чтобы получилось 200г сплава, содержащего 30% ме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Изобразим каждый сплав в виде прямоугольника, разбитого на два фрагмента. Поскольку данные сплавы соединяют в новый (на схеме эту операцию обозначим знаком «+» между прямоугольниками, а тот факт, что третий сплав – результат смешения двух первых, покажем с помощью знака «=») и он содержит те же самые компоненты, изобразим получающийся сплав в виде такого же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8000" y="6805440"/>
            <a:ext cx="648000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4280" y="68400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Сверху подпишем названия компонентов сплава. Обычно бывает достаточно указать первые буквы в их названиях. В данном случае это буквы М (медь) и С (свинец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Теперь внутри соответствующих фрагментов каждого прямоугольника запишем данное в условии процентное содержание элементов, а под прямоугольником укажем массу спл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В результате получим следующую модель рассматриваемой в задаче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68280" y="2916360"/>
            <a:ext cx="42195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6280" y="4068720"/>
            <a:ext cx="59770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ешим задачу двумя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способ.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усть масса первого сплава х г, тогда масса второго сплава (200 – х) г. Дополним модель данн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79360" y="5078520"/>
            <a:ext cx="441036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6280" y="6227640"/>
            <a:ext cx="5977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Зная, что сумма масс меди в исходных сплава равна массе меди в новом сплаве, составим урав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0,15х + 0,65(200 – х) = 0,3 · 2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Из которого х=14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Следовательно, надо взять 140г первого сплава и 200 – 140 = 60г втор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4280" y="468000"/>
            <a:ext cx="59770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способ.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Можно обозначить х г и у г массу первого и второго сплава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68280" y="826920"/>
            <a:ext cx="4381560" cy="123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640" y="2050920"/>
            <a:ext cx="60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чевидно, х + у = 200 – первое уравнение системы. Второе уравнение получим, приравняв сумму масс меди в исходных сплавах и в новом сплаве. Таким образ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89000" y="3132000"/>
            <a:ext cx="2657520" cy="163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6280" y="4788000"/>
            <a:ext cx="60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140 г, 6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68280" y="5148360"/>
            <a:ext cx="446436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4640" y="4716360"/>
            <a:ext cx="59770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onotype Corsiva"/>
              </a:rPr>
              <a:t>При решении задач о смесях, сплавах и растворах используются следующие допущен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Все полученные смеси, сплавы и растворы считаются однородны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Не делается различия между литром как мерой вместимости сосуда и литром как мерой количества жидкости (или газа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Смешивание различных растворов происходит мгновенно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Объем смеси равен сумме объемов смешиваемых раствор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Объемы растворов и массы сплавов не могут быть отрицательны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otype Corsiva"/>
              </a:rPr>
              <a:t>Массовая доля растворенного вещества в растворе – это отношение массы этого вещества к массе раствора (процентное содержание компонента). (ω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20640" y="611280"/>
            <a:ext cx="5472360" cy="4027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33000" y="539640"/>
            <a:ext cx="60390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Основными методами решения задач на смешивание растворов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 помощью расчетной форм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авило с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авило кр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рафически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лгебраически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 помощью расчетной форм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сса полученного при смешивании раствора равна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р-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ссы растворенных веществ: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в-в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в-в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сса растворенного вещества в полученном растворе: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в-в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в-в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в-в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ассовая доля растворенного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 =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 /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р-р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ω =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· ω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 /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При решении задач удобно составлять следующую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49360" y="5797440"/>
          <a:ext cx="5761080" cy="2705040"/>
        </p:xfrm>
        <a:graphic>
          <a:graphicData uri="http://schemas.openxmlformats.org/drawingml/2006/table">
            <a:tbl>
              <a:tblPr/>
              <a:tblGrid>
                <a:gridCol w="1439640"/>
                <a:gridCol w="1368720"/>
                <a:gridCol w="151272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раст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раст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ь раст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раствор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ая доля растворенного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вещества в раство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2:12:27Z</dcterms:created>
  <dc:creator>SamLab.ws</dc:creator>
  <dc:description/>
  <dc:language>en-US</dc:language>
  <cp:lastModifiedBy>Майя</cp:lastModifiedBy>
  <dcterms:modified xsi:type="dcterms:W3CDTF">2010-01-18T18:34:56Z</dcterms:modified>
  <cp:revision>20</cp:revision>
  <dc:subject/>
  <dc:title>Задачи на смеси и сплавы</dc:title>
</cp:coreProperties>
</file>