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1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13.png" ContentType="image/png"/>
  <Override PartName="/ppt/media/image33.wmf" ContentType="image/x-wmf"/>
  <Override PartName="/ppt/media/image36.wmf" ContentType="image/x-wmf"/>
  <Override PartName="/ppt/media/image16.png" ContentType="image/png"/>
  <Override PartName="/ppt/media/image9.png" ContentType="image/png"/>
  <Override PartName="/ppt/media/image40.jpeg" ContentType="image/jpeg"/>
  <Override PartName="/ppt/media/image37.wmf" ContentType="image/x-wmf"/>
  <Override PartName="/ppt/media/image39.jpeg" ContentType="image/jpe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964-7902-4666-9A8E-25950876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AFA-34F5-4AA7-BDF8-6CB46B3E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26F-254E-4662-9981-8F63B59C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FC9-4462-498D-B309-7FF1ADBE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314-482A-471A-A2C3-E1ADED39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CCA-19A0-43BF-988D-88FFA926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AC0-EA25-4718-A73A-B8B4D989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DC1-E887-4DCE-B68F-5238EEA5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6848-05BD-423F-8F0D-FC4A5E67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4DC-7B4A-4FFF-AB7E-51840227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955-3C5A-441A-91AD-44BECC8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F13-FA5C-4B85-A3A9-9063A3A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7700-4BAD-4204-ABF3-8F052DEE62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sehobby.ru/" TargetMode="External"/><Relationship Id="rId2" Type="http://schemas.openxmlformats.org/officeDocument/2006/relationships/hyperlink" Target="http://www.vsehobby.ru/" TargetMode="External"/><Relationship Id="rId3" Type="http://schemas.openxmlformats.org/officeDocument/2006/relationships/hyperlink" Target="http://www.vsehobby.ru/" TargetMode="External"/><Relationship Id="rId4" Type="http://schemas.openxmlformats.org/officeDocument/2006/relationships/hyperlink" Target="http://www.vsehobby.ru/" TargetMode="External"/><Relationship Id="rId5" Type="http://schemas.openxmlformats.org/officeDocument/2006/relationships/hyperlink" Target="http://www.vsehobby.ru/" TargetMode="External"/><Relationship Id="rId6" Type="http://schemas.openxmlformats.org/officeDocument/2006/relationships/hyperlink" Target="http://www.vsehobby.ru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:\творческий проект 2009\b_fp67801_4_med.jpg"/>
          <p:cNvPicPr/>
          <p:nvPr/>
        </p:nvPicPr>
        <p:blipFill>
          <a:blip r:embed="rId1"/>
          <a:stretch/>
        </p:blipFill>
        <p:spPr>
          <a:xfrm>
            <a:off x="14400" y="-19080"/>
            <a:ext cx="8986680" cy="6305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928680" y="3643200"/>
            <a:ext cx="500076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Проектан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Учащиеся 9 «Б»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ахвалов С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Тыква А.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уководители про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усин М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Цызов В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566640" y="182520"/>
            <a:ext cx="8223480" cy="2048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0" y="64008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Arial"/>
                <a:ea typeface="Times New Roman"/>
              </a:rPr>
              <a:t>Ноябрьск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Света\Мои документы\первое сентября\портфолио\1.jpg"/>
          <p:cNvPicPr/>
          <p:nvPr/>
        </p:nvPicPr>
        <p:blipFill>
          <a:blip r:embed="rId3"/>
          <a:stretch/>
        </p:blipFill>
        <p:spPr>
          <a:xfrm>
            <a:off x="214200" y="2428920"/>
            <a:ext cx="3214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214200" y="214200"/>
          <a:ext cx="33591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14200"/>
                    <a:ext cx="33591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3"/>
          <p:cNvGraphicFramePr/>
          <p:nvPr/>
        </p:nvGraphicFramePr>
        <p:xfrm>
          <a:off x="5143680" y="0"/>
          <a:ext cx="3732120" cy="36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3680" y="0"/>
                    <a:ext cx="37321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4"/>
          <p:cNvGraphicFramePr/>
          <p:nvPr/>
        </p:nvGraphicFramePr>
        <p:xfrm>
          <a:off x="3214800" y="2857680"/>
          <a:ext cx="2565360" cy="29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14800" y="2857680"/>
                    <a:ext cx="2565360" cy="29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428760" y="3857760"/>
          <a:ext cx="2612880" cy="27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760" y="3857760"/>
                    <a:ext cx="2612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6"/>
          <p:cNvGraphicFramePr/>
          <p:nvPr/>
        </p:nvGraphicFramePr>
        <p:xfrm>
          <a:off x="5715000" y="3714840"/>
          <a:ext cx="3152880" cy="271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3714840"/>
                    <a:ext cx="315288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-225360"/>
            <a:ext cx="8242560" cy="1652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C:\Documents and Settings\Света\Мои документы\первое сентября\портфолио\1.jpg"/>
          <p:cNvPicPr/>
          <p:nvPr/>
        </p:nvPicPr>
        <p:blipFill>
          <a:blip r:embed="rId2"/>
          <a:stretch/>
        </p:blipFill>
        <p:spPr>
          <a:xfrm>
            <a:off x="2643120" y="1500120"/>
            <a:ext cx="3911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5580000"/>
          <p:cNvPicPr/>
          <p:nvPr/>
        </p:nvPicPr>
        <p:blipFill>
          <a:blip r:embed="rId1"/>
          <a:stretch/>
        </p:blipFill>
        <p:spPr>
          <a:xfrm>
            <a:off x="285840" y="1785960"/>
            <a:ext cx="345600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428760" y="292680"/>
            <a:ext cx="828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Хотите создавать такие шедевр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s45_6"/>
          <p:cNvPicPr/>
          <p:nvPr/>
        </p:nvPicPr>
        <p:blipFill>
          <a:blip r:embed="rId2"/>
          <a:stretch/>
        </p:blipFill>
        <p:spPr>
          <a:xfrm>
            <a:off x="3786120" y="2143080"/>
            <a:ext cx="4923000" cy="39798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786120" y="2223720"/>
            <a:ext cx="5000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НОВИНКА! Только у на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Революционное устрой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для автоматического нанизывания бисе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«СПИНЕ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214200" y="197640"/>
            <a:ext cx="86439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Ботвинников А.Д. Черчение. - М.: Просвещение,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Григорьев М.А. Справочник молодого столяра и плотника.- М.: Лесная промышленность, 197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Соломатина Н.А. Настольная книга плотника-столяра. – М.: Эксмо-пресс,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Технология. Учебник для учащихся 6 класса (вариант для мальчиков) общеобразовательной школы. Под ред. В.Д.Симоненко.- М.: Вентана–Граф,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 Технология. Учебник для учащихся 7 класса (вариант для мальчиков) общеобразовательной школы. Под ред. В.Д.Симоненко.- М.: Вентана–Граф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 Веб-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vsehobby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s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www.womanshobby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20840" y="12600"/>
            <a:ext cx="8242200" cy="1779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Calibri"/>
              </a:rPr>
              <a:t>Использование материалов, обеспечивающих прочность, эстетичность, длительный срок службы, удовлетворяющих технологические требования к издели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Calibri"/>
              </a:rPr>
              <a:t>Добиться простоты конструкции, наименьшего веса и габаритных размеров, удобства в эксплуатации и хранен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Calibri"/>
              </a:rPr>
              <a:t>Обеспечить возможность разборки для замены комплектующих деталей, эстетичность форм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Calibri"/>
              </a:rPr>
              <a:t>Добиться наименьшей себестоимости изделия. Изделие должно привлекать внимание потребителей невысокой себестоимостью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Calibri"/>
              </a:rPr>
              <a:t>Механизация устрой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14680" y="901800"/>
          <a:ext cx="7429320" cy="5956200"/>
        </p:xfrm>
        <a:graphic>
          <a:graphicData uri="http://schemas.openxmlformats.org/drawingml/2006/table">
            <a:tbl>
              <a:tblPr/>
              <a:tblGrid>
                <a:gridCol w="407880"/>
                <a:gridCol w="1712880"/>
                <a:gridCol w="2951280"/>
                <a:gridCol w="235728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вариа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ранн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приспособ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, береза, д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аритные разме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браны опытным пут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вращ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учную, механическ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еск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установки электродвигателя и питания к не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аружи, внутри, в отдельной короб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соединения основания и волч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вое соединение, осевое соединение с применением подшип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вое соединение с применением подшип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ь электромото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браны опытным пут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отдел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лифование, лакирование, покрас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иров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, бумага, карто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9" name="Rectangle 1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156960" cy="105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Картинка 15 из 975248"/>
          <p:cNvPicPr/>
          <p:nvPr/>
        </p:nvPicPr>
        <p:blipFill>
          <a:blip r:embed="rId2"/>
          <a:stretch/>
        </p:blipFill>
        <p:spPr>
          <a:xfrm>
            <a:off x="0" y="1928880"/>
            <a:ext cx="16527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14200" y="1071720"/>
          <a:ext cx="8715600" cy="4940280"/>
        </p:xfrm>
        <a:graphic>
          <a:graphicData uri="http://schemas.openxmlformats.org/drawingml/2006/table">
            <a:tbl>
              <a:tblPr/>
              <a:tblGrid>
                <a:gridCol w="711360"/>
                <a:gridCol w="2940120"/>
                <a:gridCol w="2884320"/>
                <a:gridCol w="2179800"/>
              </a:tblGrid>
              <a:tr h="1077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выполнения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 приспособ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заготов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ьник, линей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нка и склеивание бру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стак, рубанок, клей, струбц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цевание заготов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стак, угольник, нож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82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огать ребра до получения восьмигран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стак, руба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" name="Группа 10"/>
          <p:cNvGrpSpPr/>
          <p:nvPr/>
        </p:nvGrpSpPr>
        <p:grpSpPr>
          <a:xfrm>
            <a:off x="4429080" y="2214720"/>
            <a:ext cx="1803600" cy="3643200"/>
            <a:chOff x="4429080" y="2214720"/>
            <a:chExt cx="1803600" cy="3643200"/>
          </a:xfrm>
        </p:grpSpPr>
        <p:pic>
          <p:nvPicPr>
            <p:cNvPr id="53" name="Picture 5" descr=""/>
            <p:cNvPicPr/>
            <p:nvPr/>
          </p:nvPicPr>
          <p:blipFill>
            <a:blip r:embed="rId1"/>
            <a:stretch/>
          </p:blipFill>
          <p:spPr>
            <a:xfrm>
              <a:off x="4786200" y="2214720"/>
              <a:ext cx="7999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4" descr=""/>
            <p:cNvPicPr/>
            <p:nvPr/>
          </p:nvPicPr>
          <p:blipFill>
            <a:blip r:embed="rId2"/>
            <a:stretch/>
          </p:blipFill>
          <p:spPr>
            <a:xfrm>
              <a:off x="4643280" y="2500200"/>
              <a:ext cx="111420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" descr=""/>
            <p:cNvPicPr/>
            <p:nvPr/>
          </p:nvPicPr>
          <p:blipFill>
            <a:blip r:embed="rId3"/>
            <a:stretch/>
          </p:blipFill>
          <p:spPr>
            <a:xfrm>
              <a:off x="4643280" y="2928960"/>
              <a:ext cx="92844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" descr=""/>
            <p:cNvPicPr/>
            <p:nvPr/>
          </p:nvPicPr>
          <p:blipFill>
            <a:blip r:embed="rId4"/>
            <a:stretch/>
          </p:blipFill>
          <p:spPr>
            <a:xfrm>
              <a:off x="4714560" y="4000680"/>
              <a:ext cx="1214280" cy="81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" descr=""/>
            <p:cNvPicPr/>
            <p:nvPr/>
          </p:nvPicPr>
          <p:blipFill>
            <a:blip r:embed="rId5"/>
            <a:stretch/>
          </p:blipFill>
          <p:spPr>
            <a:xfrm>
              <a:off x="4429080" y="5000760"/>
              <a:ext cx="180360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Rectangle 6" descr=""/>
          <p:cNvPicPr/>
          <p:nvPr/>
        </p:nvPicPr>
        <p:blipFill>
          <a:blip r:embed="rId6"/>
          <a:stretch/>
        </p:blipFill>
        <p:spPr>
          <a:xfrm>
            <a:off x="208080" y="-115920"/>
            <a:ext cx="87278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14200" y="214200"/>
          <a:ext cx="8572680" cy="6458040"/>
        </p:xfrm>
        <a:graphic>
          <a:graphicData uri="http://schemas.openxmlformats.org/drawingml/2006/table">
            <a:tbl>
              <a:tblPr/>
              <a:tblGrid>
                <a:gridCol w="700200"/>
                <a:gridCol w="2892600"/>
                <a:gridCol w="2836800"/>
                <a:gridCol w="2143080"/>
              </a:tblGrid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ить заготовку на планшай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шайба, шурупы, отвер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8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ить заготовку в токарный ста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арный станок, клю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29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чить заготовку до ø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арный станок, штангенциркуль, полукруглая и косая стам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9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тить заготовку по дли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, линей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чить ø 87 на длину 60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арный станок, штангенциркуль, полукруглая и косая стам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500720" y="214200"/>
            <a:ext cx="1357200" cy="750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500720" y="1785960"/>
            <a:ext cx="103500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4500720" y="3857760"/>
            <a:ext cx="1535040" cy="85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4"/>
          <a:stretch/>
        </p:blipFill>
        <p:spPr>
          <a:xfrm>
            <a:off x="4357800" y="5286240"/>
            <a:ext cx="17859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14200" y="285840"/>
          <a:ext cx="8572680" cy="6288120"/>
        </p:xfrm>
        <a:graphic>
          <a:graphicData uri="http://schemas.openxmlformats.org/drawingml/2006/table">
            <a:tbl>
              <a:tblPr/>
              <a:tblGrid>
                <a:gridCol w="700200"/>
                <a:gridCol w="2892600"/>
                <a:gridCol w="2836800"/>
                <a:gridCol w="2143080"/>
              </a:tblGrid>
              <a:tr h="14796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зать на конус до ø 77 на длину 55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арный станок, штангенциркуль, полукруглая и косая стаме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95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истить поверхность, отрезать основание и зачистить тор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арный станок, косая стамеска, наждачная бума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9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чить ø 87 на длину 52мм и ø 15 на длину 40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арный станок, линейка,  штангенциркуль, полукруглая и косая стаме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9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углить корпус вол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арный станок, линейка,  штангенциркуль, полукруглая и косая стаме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000680" y="357120"/>
            <a:ext cx="21366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214880" y="1785960"/>
            <a:ext cx="138888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4000680" y="3071880"/>
            <a:ext cx="2336760" cy="12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"/>
          <p:cNvPicPr/>
          <p:nvPr/>
        </p:nvPicPr>
        <p:blipFill>
          <a:blip r:embed="rId4"/>
          <a:stretch/>
        </p:blipFill>
        <p:spPr>
          <a:xfrm>
            <a:off x="3929040" y="4786200"/>
            <a:ext cx="19242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85840" y="285840"/>
          <a:ext cx="8501040" cy="6121440"/>
        </p:xfrm>
        <a:graphic>
          <a:graphicData uri="http://schemas.openxmlformats.org/drawingml/2006/table">
            <a:tbl>
              <a:tblPr/>
              <a:tblGrid>
                <a:gridCol w="693720"/>
                <a:gridCol w="2868480"/>
                <a:gridCol w="2813040"/>
                <a:gridCol w="2125800"/>
              </a:tblGrid>
              <a:tr h="1829880">
                <a:tc>
                  <a:txBody>
                    <a:bodyPr lIns="64800" rIns="648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рать внутреннюю ч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арный станок, линейка,  штангенциркуль, полукруглая и косая стам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2320">
                <a:tc>
                  <a:txBody>
                    <a:bodyPr lIns="64800" rIns="648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чить по размерам ось вращения волч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арный станок, линейка,  штангенциркуль, полукруглая и косая стам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9880">
                <a:tc>
                  <a:txBody>
                    <a:bodyPr lIns="64800" rIns="648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рать выступ и зачистить поверх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арный станок, линейка,  штангенциркуль, полукруглая и косая стамески, наждачная бум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9360">
                <a:tc>
                  <a:txBody>
                    <a:bodyPr lIns="64800" rIns="648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езать волчок и зачистить тор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 стамеска, наждачная бум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286160" y="500040"/>
            <a:ext cx="1621080" cy="135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286160" y="2214720"/>
            <a:ext cx="1428840" cy="133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4429080" y="3768840"/>
            <a:ext cx="1214640" cy="1514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"/>
          <p:cNvPicPr/>
          <p:nvPr/>
        </p:nvPicPr>
        <p:blipFill>
          <a:blip r:embed="rId4"/>
          <a:stretch/>
        </p:blipFill>
        <p:spPr>
          <a:xfrm>
            <a:off x="4643280" y="5572080"/>
            <a:ext cx="7146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57120" y="214200"/>
          <a:ext cx="8429760" cy="6311880"/>
        </p:xfrm>
        <a:graphic>
          <a:graphicData uri="http://schemas.openxmlformats.org/drawingml/2006/table">
            <a:tbl>
              <a:tblPr/>
              <a:tblGrid>
                <a:gridCol w="677880"/>
                <a:gridCol w="2825640"/>
                <a:gridCol w="2800440"/>
                <a:gridCol w="2125800"/>
              </a:tblGrid>
              <a:tr h="186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центре волчка просверлить отверстие ø 8, глубиной 20мм и установить металлический стерж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точный циркуль, карандаш, сверлильный ста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центре основания просверлить отверстие ø 18 и глубину 9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точный циркуль, карандаш, сверлильный ста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центра отложить расстояние равное 30мм и просверлить ø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точный циркуль, карандаш, сверлильный ста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95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рать места под электромотор и кнопку пу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стак, линейка, карандаш, нож-кося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1970280" cy="1500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500720" y="3714840"/>
            <a:ext cx="1342800" cy="121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4572000" y="2286000"/>
            <a:ext cx="1071720" cy="1247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"/>
          <p:cNvPicPr/>
          <p:nvPr/>
        </p:nvPicPr>
        <p:blipFill>
          <a:blip r:embed="rId4"/>
          <a:stretch/>
        </p:blipFill>
        <p:spPr>
          <a:xfrm>
            <a:off x="4357800" y="5143680"/>
            <a:ext cx="15714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28760" y="214200"/>
          <a:ext cx="8286480" cy="6357960"/>
        </p:xfrm>
        <a:graphic>
          <a:graphicData uri="http://schemas.openxmlformats.org/drawingml/2006/table">
            <a:tbl>
              <a:tblPr/>
              <a:tblGrid>
                <a:gridCol w="666720"/>
                <a:gridCol w="2778120"/>
                <a:gridCol w="2751120"/>
                <a:gridCol w="2090520"/>
              </a:tblGrid>
              <a:tr h="14241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тить место под установку элементов питания и просверл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точные инструменты и сверлильный ста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8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ить электромотор,  кнопку пуска, прокинуть провода и установить подшип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стак, плоскогубцы и круглогуб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снование приклеить матери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стак, ткань, ножницы, к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65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ь лаком обе ч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стак, кисти, лак, ИС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контролировать качество изд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214880" y="285840"/>
            <a:ext cx="1706400" cy="1071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4149720" y="1714680"/>
            <a:ext cx="1851120" cy="140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4459320" y="3643200"/>
            <a:ext cx="118908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4"/>
          <a:stretch/>
        </p:blipFill>
        <p:spPr>
          <a:xfrm>
            <a:off x="4714920" y="4572000"/>
            <a:ext cx="8190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0:27:06Z</dcterms:created>
  <dc:creator>User</dc:creator>
  <dc:description/>
  <dc:language>en-US</dc:language>
  <cp:lastModifiedBy>Света</cp:lastModifiedBy>
  <dcterms:modified xsi:type="dcterms:W3CDTF">2010-01-29T18:29:26Z</dcterms:modified>
  <cp:revision>9</cp:revision>
  <dc:subject/>
  <dc:title>Слайд 1</dc:title>
</cp:coreProperties>
</file>