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C619-4D11-41C7-8EDE-CEA77954A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5EBA-2254-4ABB-9A84-A62B2DF3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F659-4092-4C6E-BB58-6DBA33876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6924-29D9-49A3-B431-49D220768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7895C-0614-4910-8C9D-573244E0C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D0A9-4CFA-4563-9D93-E8FAFB7B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134F-1ECC-4CCA-BFA8-EBB83910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B498-6C91-44EF-84F1-565CB3938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3E93-0E14-4DDC-B34F-5B43BFF5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14A50-C3A1-4364-8575-A715BD5E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1AA8-0B70-40CD-BF04-362B3A75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071A-AA4E-48F9-BA56-CC57491A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79677-13D6-4DD8-8E80-A3BF0D34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B498-BBBF-483B-B72C-E026DE73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66479-0DA1-4FCF-A581-1097BB06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4BCB-9CC1-4076-B406-1A9A3189D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0F73-4E65-421D-8BD3-AE02313D1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EDCB-43AC-4F40-9E6B-1D09893B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499F-1FB2-41B1-8F38-68D49376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E00B-0149-493D-B041-E5D80DF4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5378-0B5D-4435-9556-47D97B4C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50BA-2D51-4B84-9544-AA321046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6604-ACF8-4C5C-A51B-E9B9D6F8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5FB9-E47C-474F-85AC-50EC1CBA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60FD-B251-487C-A6A1-7EA18646762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9BE5-35E8-4877-B9AE-AD8F37AE02D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42.radikal.ru/i096/0901/d1/97e2cd6ca6ee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g-2005-11.photosight.ru/09/1123412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280" y="1197000"/>
            <a:ext cx="79786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da1040"/>
                </a:solidFill>
                <a:latin typeface="Garamond"/>
              </a:rPr>
              <a:t>БЕЗДОМНЫЕ   СОБАКИ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03280" y="2924280"/>
            <a:ext cx="6553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107e3"/>
                </a:solidFill>
                <a:latin typeface="Arial"/>
              </a:rPr>
              <a:t>Они не злые – они несчастны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i-main-pic" descr="Картинка 43 из 1621"/>
          <p:cNvPicPr/>
          <p:nvPr/>
        </p:nvPicPr>
        <p:blipFill>
          <a:blip r:embed="rId1"/>
          <a:stretch/>
        </p:blipFill>
        <p:spPr>
          <a:xfrm>
            <a:off x="928800" y="3643200"/>
            <a:ext cx="3889440" cy="29163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"/>
          <p:cNvSpPr/>
          <p:nvPr/>
        </p:nvSpPr>
        <p:spPr>
          <a:xfrm>
            <a:off x="5429160" y="4214880"/>
            <a:ext cx="3500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у выполн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к 3 А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Гимназия №5» г. Пер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каев Алексей Олегови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подаватель: Шува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рина Александров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da1040"/>
                </a:solidFill>
                <a:latin typeface="Garamond"/>
              </a:rPr>
              <a:t>Когда-то давно это произошло в первый раз. Человек бросил свою собаку, оставил её одну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0000ff"/>
                </a:solidFill>
                <a:latin typeface="Arial"/>
              </a:rPr>
              <a:t>А потом на улице оказались ещё собаки, и ещё, и ещё.… У бездомных собак появляются щенки, они тоже никому не нужны. Теперь на улицах разных городов Земли живёт много бездомных собак. Никому не нужных, грязных и несчастных.</a:t>
            </a: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i-main-pic" descr="Картинка 36 из 2220"/>
          <p:cNvPicPr/>
          <p:nvPr/>
        </p:nvPicPr>
        <p:blipFill>
          <a:blip r:embed="rId1"/>
          <a:stretch/>
        </p:blipFill>
        <p:spPr>
          <a:xfrm>
            <a:off x="457200" y="2193840"/>
            <a:ext cx="403848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da1040"/>
                </a:solidFill>
                <a:latin typeface="Garamond"/>
              </a:rPr>
              <a:t>Очень многие бездомные собаки больны, и они распространяют заразу. Они становятся опасными для людей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0" name="i-main-pic" descr="Картинка 228 из 40980"/>
          <p:cNvPicPr/>
          <p:nvPr/>
        </p:nvPicPr>
        <p:blipFill>
          <a:blip r:embed="rId1"/>
          <a:stretch/>
        </p:blipFill>
        <p:spPr>
          <a:xfrm>
            <a:off x="1828800" y="2089080"/>
            <a:ext cx="548640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da1040"/>
                </a:solidFill>
                <a:latin typeface="Garamond"/>
              </a:rPr>
              <a:t>От голода, болезней, от обиды собаки становятся злыми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2" name="Picture 5" descr="Картинка 3 из 18"/>
          <p:cNvPicPr/>
          <p:nvPr/>
        </p:nvPicPr>
        <p:blipFill>
          <a:blip r:embed="rId1"/>
          <a:stretch/>
        </p:blipFill>
        <p:spPr>
          <a:xfrm>
            <a:off x="476280" y="1865160"/>
            <a:ext cx="3735360" cy="40006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356000" y="1483920"/>
            <a:ext cx="46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Они уже не играют, как щенки, а просто лежат. А ещё они кидаются на прохожих, могут их обидеть и даже сильно покусать. А в Перми собачья стая не выпускала из школы учеников и учите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Каждый день на жителей Перми нападают бездомные собаки. Это очень страшно! Ведь собаки могут искусать даже ребёнка!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8680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da1040"/>
                </a:solidFill>
                <a:latin typeface="Garamond"/>
              </a:rPr>
              <a:t>Как  себя  вести, чтобы бездомные собаки  вас  не  обидели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Обходить собачьи стаи стороной – лучше пройти по другому пути. А еще не махать руками на собак, не бегать от них, так как собаки думают, что такой человек опасен или испуган – и напад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da1040"/>
                </a:solidFill>
                <a:latin typeface="Garamond"/>
              </a:rPr>
              <a:t>Но собаки не хотят быть злыми!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700" spc="-1" strike="noStrike">
                <a:solidFill>
                  <a:srgbClr val="0000ff"/>
                </a:solidFill>
                <a:latin typeface="Arial"/>
              </a:rPr>
              <a:t>Они хотят быть добрыми, ласковыми, верными, нужными. Хотят, чтобы их любили. Они ждут того Человека, который станет их другом, за которого не жалко ничего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i-main-pic" descr="Картинка 345 из 40980"/>
          <p:cNvPicPr/>
          <p:nvPr/>
        </p:nvPicPr>
        <p:blipFill>
          <a:blip r:embed="rId1"/>
          <a:stretch/>
        </p:blipFill>
        <p:spPr>
          <a:xfrm>
            <a:off x="3132000" y="4437000"/>
            <a:ext cx="29196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539640" y="371592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ru-RU" sz="2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ru-RU" sz="2300" spc="-1" strike="noStrike">
                <a:solidFill>
                  <a:srgbClr val="0000ff"/>
                </a:solidFill>
                <a:latin typeface="Arial"/>
              </a:rPr>
              <a:t>И ни одна домашняя собака не представляет себе, что её могут выбросить из дома, и что её хозяин перестанет быть её Другом и забудет про неё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i-main-pic" descr="Картинка 106 из 2364"/>
          <p:cNvPicPr/>
          <p:nvPr/>
        </p:nvPicPr>
        <p:blipFill>
          <a:blip r:embed="rId1"/>
          <a:stretch/>
        </p:blipFill>
        <p:spPr>
          <a:xfrm>
            <a:off x="2340000" y="620640"/>
            <a:ext cx="431964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da1040"/>
                </a:solidFill>
                <a:latin typeface="Garamond"/>
              </a:rPr>
              <a:t>Некоторые люди пытаются помочь бездомным собакам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0000ff"/>
                </a:solidFill>
                <a:latin typeface="Arial"/>
              </a:rPr>
              <a:t>Они берут собак к себе, пристраивают в добрые руки. А ещё создают приюты для собак, в которых собак кормят и лечат. Но мест в  этих приютах не хватает для всех собак, а у многих приютов просто нет денег на корм и лекарства.</a:t>
            </a: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i-main-pic" descr="Картинка 19 из 2220"/>
          <p:cNvPicPr/>
          <p:nvPr/>
        </p:nvPicPr>
        <p:blipFill>
          <a:blip r:embed="rId1"/>
          <a:stretch/>
        </p:blipFill>
        <p:spPr>
          <a:xfrm>
            <a:off x="5292720" y="2133720"/>
            <a:ext cx="350532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000" y="277560"/>
            <a:ext cx="8002440" cy="171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da1040"/>
                </a:solidFill>
                <a:latin typeface="Garamond"/>
              </a:rPr>
              <a:t>А другие люди отлавливают собак!</a:t>
            </a:r>
            <a:br>
              <a:rPr sz="4800"/>
            </a:br>
            <a:r>
              <a:rPr b="0" i="1" lang="ru-RU" sz="4800" spc="-1" strike="noStrike">
                <a:solidFill>
                  <a:srgbClr val="da1040"/>
                </a:solidFill>
                <a:latin typeface="Garamond"/>
              </a:rPr>
              <a:t>И убивают!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8229600" cy="33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000" spc="-1" strike="noStrike">
                <a:solidFill>
                  <a:srgbClr val="0000ff"/>
                </a:solidFill>
                <a:latin typeface="Arial"/>
              </a:rPr>
              <a:t>Они уничтожают собак, чтобы на улицах бездомных собак стало меньше. Эти люди выполняют свою работу, но ведь собаки не виноваты, что оказались на улице совсем одни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da1040"/>
                </a:solidFill>
                <a:latin typeface="Garamond"/>
              </a:rPr>
              <a:t>Как решить проблему бездомных животных?</a:t>
            </a:r>
            <a:br>
              <a:rPr sz="3800"/>
            </a:br>
            <a:r>
              <a:rPr b="1" lang="ru-RU" sz="3800" spc="-1" strike="noStrike">
                <a:solidFill>
                  <a:srgbClr val="da1040"/>
                </a:solidFill>
                <a:latin typeface="Garamond"/>
              </a:rPr>
              <a:t>Так, чтобы на улицах их было меньше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8229600" cy="33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000" spc="-1" strike="noStrike">
                <a:solidFill>
                  <a:srgbClr val="0000ff"/>
                </a:solidFill>
                <a:latin typeface="Arial"/>
              </a:rPr>
              <a:t>Собак отлавливают, прививают от бешенства, вживляют им микрочипы с информацией о прививках. Делают собакам операции, чтобы у них больше не появлялись щенки. Их помещают в приюты, кормят и леча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da1040"/>
                </a:solidFill>
                <a:latin typeface="Garamond"/>
              </a:rPr>
              <a:t>Но очень нужен специальный закон, который защищал бы собак от людей!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Чтобы люди не могли обижать собак и выкидывать их на улицу. Потому что сейчас плохие люди, обижающие животных, ни за что не отвечаю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250920" y="3716280"/>
            <a:ext cx="827244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1040"/>
                </a:solidFill>
                <a:latin typeface="Garamond"/>
              </a:rPr>
              <a:t>А ещё главнее –  САМОЕ  ГЛАВНОЕ – чтобы люди перестали выбрасывать собак на улицу, чтобы люди отвечали за тех, кого они приручи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da1040"/>
                </a:solidFill>
                <a:latin typeface="Garamond"/>
              </a:rPr>
              <a:t>Почему  я  выбрал  эту  тему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55280" y="1628640"/>
            <a:ext cx="694548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Вот живет обыкновенный пёс. Собака, простая и никому неизвестная. И чаще всего его так и называют – Собака. Потому что настоящего имени у него нет. И у него нет дома,  потому что он -  </a:t>
            </a:r>
            <a:r>
              <a:rPr b="0" i="1" lang="ru-RU" sz="2000" spc="-1" strike="noStrike">
                <a:solidFill>
                  <a:srgbClr val="da1040"/>
                </a:solidFill>
                <a:latin typeface="Arial"/>
              </a:rPr>
              <a:t>БЕЗДОМНАЯ СОБА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-main-pic" descr="Картинка 27 из 40980"/>
          <p:cNvPicPr/>
          <p:nvPr/>
        </p:nvPicPr>
        <p:blipFill>
          <a:blip r:embed="rId1"/>
          <a:stretch/>
        </p:blipFill>
        <p:spPr>
          <a:xfrm>
            <a:off x="4859280" y="4221000"/>
            <a:ext cx="347184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1484280"/>
            <a:ext cx="822960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a1040"/>
                </a:solidFill>
                <a:latin typeface="Garamond"/>
              </a:rPr>
              <a:t>Люди, пожалуйста,</a:t>
            </a:r>
            <a:br>
              <a:rPr sz="5400"/>
            </a:br>
            <a:r>
              <a:rPr b="1" lang="ru-RU" sz="5400" spc="-1" strike="noStrike">
                <a:solidFill>
                  <a:srgbClr val="da1040"/>
                </a:solidFill>
                <a:latin typeface="Garamond"/>
              </a:rPr>
              <a:t>не   бросайте   собак!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da1040"/>
                </a:solidFill>
                <a:latin typeface="Garamond"/>
              </a:rPr>
              <a:t>Я  очень  вас  прошу!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3" name="i-main-pic" descr="Картинка 87 из 40980"/>
          <p:cNvPicPr/>
          <p:nvPr/>
        </p:nvPicPr>
        <p:blipFill>
          <a:blip r:embed="rId1"/>
          <a:stretch/>
        </p:blipFill>
        <p:spPr>
          <a:xfrm>
            <a:off x="1149480" y="1600200"/>
            <a:ext cx="6843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da1040"/>
                </a:solidFill>
                <a:latin typeface="Garamond"/>
              </a:rPr>
              <a:t>В городе Кемерово есть памятник бездомным собакам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5" name="Picture 6" descr="http://img-fotki.yandex.ru/get/2708/gintari.7/0_22dee_e183691e_L"/>
          <p:cNvPicPr/>
          <p:nvPr/>
        </p:nvPicPr>
        <p:blipFill>
          <a:blip r:embed="rId1"/>
          <a:stretch/>
        </p:blipFill>
        <p:spPr>
          <a:xfrm>
            <a:off x="2797200" y="1600200"/>
            <a:ext cx="3606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000" spc="-1" strike="noStrike">
                <a:solidFill>
                  <a:srgbClr val="0000ff"/>
                </a:solidFill>
                <a:latin typeface="Arial"/>
              </a:rPr>
              <a:t>Люди переживают за собак. За тех собак, которым так хочется быть чьими-то. Так хочется найти своего Друга. Хозяина, который протянет руку – и погладит. Не оттолкнёт, не обидит. И никогда не бросит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a1040"/>
                </a:solidFill>
                <a:latin typeface="Garamond"/>
              </a:rPr>
              <a:t>Потому что друзей не бросают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324000" y="695160"/>
            <a:ext cx="843408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a1040"/>
                </a:solidFill>
                <a:latin typeface="Arial"/>
              </a:rPr>
              <a:t>ДАВАЙТЕ  БУДЕМ  ДРУЖИ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a1040"/>
                </a:solidFill>
                <a:latin typeface="Arial"/>
              </a:rPr>
              <a:t>А НЕ ОБИЖА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a1040"/>
                </a:solidFill>
                <a:latin typeface="Arial"/>
              </a:rPr>
              <a:t>ПОМОГАТЬ ТЕ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a1040"/>
                </a:solidFill>
                <a:latin typeface="Arial"/>
              </a:rPr>
              <a:t>КТО СЛАБЕЕ НА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a1040"/>
                </a:solidFill>
                <a:latin typeface="Arial"/>
              </a:rPr>
              <a:t>И  ОТ  НАС  ЗАВИСИ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af3b46"/>
                </a:solidFill>
                <a:latin typeface="Garamond"/>
              </a:rPr>
              <a:t>Я сегодня вам ничего не принёс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9" name="Picture 4" descr="0112808"/>
          <p:cNvPicPr/>
          <p:nvPr/>
        </p:nvPicPr>
        <p:blipFill>
          <a:blip r:embed="rId1"/>
          <a:stretch/>
        </p:blipFill>
        <p:spPr>
          <a:xfrm>
            <a:off x="3708360" y="4900680"/>
            <a:ext cx="1957320" cy="195732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755640" y="1268280"/>
            <a:ext cx="712944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107e3"/>
                </a:solidFill>
                <a:latin typeface="Arial"/>
              </a:rPr>
              <a:t>Ведь бездомные собаки не могут нам ничего дать, кроме любви к тому человеку, который станет  Дру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107e3"/>
                </a:solidFill>
                <a:latin typeface="Arial"/>
              </a:rPr>
              <a:t>А вот вы можете помочь бездомным собакам – принести в приют теплые вещи, лекарства для собак, крупы, корма, игрушки и многое друг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Я выбрал эту тему, потому что бездомные собаки – это очень большая проблема. Они страдают сами, а еще приносят вред людям. И надо как-то эту проблему решать. А еще надо – пожалеть этих несчастных собак.</a:t>
            </a:r>
            <a:br>
              <a:rPr sz="2400"/>
            </a:br>
            <a:r>
              <a:rPr b="0" i="1" lang="ru-RU" sz="24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6920" y="3429000"/>
            <a:ext cx="763272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Этим летом я наблюдал за бездомными собаками, живущими в нашем дворе, а еще -  в нашем городе Перми. И  пытался  узнать – как же так произошло, что на улицах городов в России так много бездомных животных. И как сделать так, чтобы их было мень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Вот эти щенки родились у бездомной собаки, живущей в нашем дворе. И всё лето они прожили под гаражом. А потом люди забрали их к себе.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4" descr="PICT1234"/>
          <p:cNvPicPr/>
          <p:nvPr/>
        </p:nvPicPr>
        <p:blipFill>
          <a:blip r:embed="rId1"/>
          <a:stretch/>
        </p:blipFill>
        <p:spPr>
          <a:xfrm rot="20954400">
            <a:off x="539280" y="1915920"/>
            <a:ext cx="2759040" cy="3671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6" descr="PICT1235"/>
          <p:cNvPicPr/>
          <p:nvPr/>
        </p:nvPicPr>
        <p:blipFill>
          <a:blip r:embed="rId2"/>
          <a:stretch/>
        </p:blipFill>
        <p:spPr>
          <a:xfrm rot="607800">
            <a:off x="5724000" y="1844280"/>
            <a:ext cx="2579760" cy="3444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7" descr="PICT1237"/>
          <p:cNvPicPr/>
          <p:nvPr/>
        </p:nvPicPr>
        <p:blipFill>
          <a:blip r:embed="rId3"/>
          <a:stretch/>
        </p:blipFill>
        <p:spPr>
          <a:xfrm>
            <a:off x="2987640" y="4149720"/>
            <a:ext cx="326232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690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da1040"/>
                </a:solidFill>
                <a:latin typeface="Garamond"/>
              </a:rPr>
              <a:t>Собака  и  человек  –  друзья!?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94920" y="1341000"/>
            <a:ext cx="5761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4107e3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0000ff"/>
                </a:solidFill>
                <a:latin typeface="Arial"/>
              </a:rPr>
              <a:t>Всем с детства известно,что собака – друг человека. Это повелось давно, еще с древних времён. Собаки стали помогать человеку много тысяч лет назад. С давних времен они служат человеку: охраняют его дом, сообщают о приходе гостя, помогают охотиться, возят сани и телеги, пасут стада, спасают люд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107e3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i-main-pic" descr="Картинка 108 из 281"/>
          <p:cNvPicPr/>
          <p:nvPr/>
        </p:nvPicPr>
        <p:blipFill>
          <a:blip r:embed="rId1"/>
          <a:stretch/>
        </p:blipFill>
        <p:spPr>
          <a:xfrm>
            <a:off x="6300720" y="1773360"/>
            <a:ext cx="248436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4600" spc="-1" strike="noStrike">
                <a:solidFill>
                  <a:srgbClr val="da1040"/>
                </a:solidFill>
                <a:latin typeface="Garamond"/>
              </a:rPr>
              <a:t>Собаки – очень верные, преданные животные.</a:t>
            </a:r>
            <a:r>
              <a:rPr b="0" i="1" lang="ru-RU" sz="3800" spc="-1" strike="noStrike">
                <a:solidFill>
                  <a:srgbClr val="0000ff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ru-RU" sz="2600" spc="-1" strike="noStrike">
                <a:solidFill>
                  <a:srgbClr val="0000ff"/>
                </a:solidFill>
                <a:latin typeface="Arial"/>
              </a:rPr>
              <a:t>Каждая собака готова защищать своего хозяина, даже если она сама совсем маленькая, а враг – огромный!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i-main-pic" descr="Картинка 197 из 50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a1040"/>
                </a:solidFill>
                <a:latin typeface="Garamond"/>
              </a:rPr>
              <a:t>Очень много легенд о смелых собаках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591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Это история про собаку Балто, который помог спасти детей от болезни. Это и другие истории. Например, собака Бэк, про которую написал писатель Джек Лондон, была очень предана своему хозяину, защищала его от злых и нечестных людей, а после смерти хозяина ушла в лес и стала вожаком волчьей ста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i-main-pic" descr="Картинка 9 из 50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2060640"/>
            <a:ext cx="403848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da1040"/>
                </a:solidFill>
                <a:latin typeface="Garamond"/>
              </a:rPr>
              <a:t>Люди любят собак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ru-RU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ru-RU" sz="2600" spc="-1" strike="noStrike">
                <a:solidFill>
                  <a:srgbClr val="0000ff"/>
                </a:solidFill>
                <a:latin typeface="Arial"/>
              </a:rPr>
              <a:t>Люди любят собак! Да-да, почти всем нравятся щенята, маленькие пушистые комочки с черными носиками. Нравится, как они возятся и играют, как тычутся своими любопытными носами в ладонь и радуются Человек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i-main-pic" descr="Картинка 30 из 40980"/>
          <p:cNvPicPr/>
          <p:nvPr/>
        </p:nvPicPr>
        <p:blipFill>
          <a:blip r:embed="rId1"/>
          <a:stretch/>
        </p:blipFill>
        <p:spPr>
          <a:xfrm>
            <a:off x="2916360" y="4005360"/>
            <a:ext cx="36003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da1040"/>
                </a:solidFill>
                <a:latin typeface="Garamond"/>
              </a:rPr>
              <a:t>Но люди бросают собак!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402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Они забывают, что собака их друг, что так здорово было им вместе. Вот так некоторые собаки становятся бездом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Они живут на улице, греются в подвалах и подъездах, ищут себе еду на помойках, и … МЕЧТАЮТ.          О тёплом доме, вкусной еде,          О  ХОЗЯИНЕ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i-main-pic" descr="Картинка 4 из 2220"/>
          <p:cNvPicPr/>
          <p:nvPr/>
        </p:nvPicPr>
        <p:blipFill>
          <a:blip r:embed="rId1"/>
          <a:stretch/>
        </p:blipFill>
        <p:spPr>
          <a:xfrm>
            <a:off x="5037120" y="1600200"/>
            <a:ext cx="3259080" cy="2189160"/>
          </a:xfrm>
          <a:prstGeom prst="rect">
            <a:avLst/>
          </a:prstGeom>
          <a:ln w="0">
            <a:noFill/>
          </a:ln>
        </p:spPr>
      </p:pic>
      <p:pic>
        <p:nvPicPr>
          <p:cNvPr id="115" name="i-main-pic" descr="Картинка 3 из 2220"/>
          <p:cNvPicPr/>
          <p:nvPr/>
        </p:nvPicPr>
        <p:blipFill>
          <a:blip r:embed="rId2"/>
          <a:stretch/>
        </p:blipFill>
        <p:spPr>
          <a:xfrm>
            <a:off x="5021280" y="3941640"/>
            <a:ext cx="32925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2T23:16:10Z</dcterms:created>
  <dc:creator>Лада Лукаева</dc:creator>
  <dc:description/>
  <dc:language>en-US</dc:language>
  <cp:lastModifiedBy>User</cp:lastModifiedBy>
  <dcterms:modified xsi:type="dcterms:W3CDTF">2010-01-31T09:22:08Z</dcterms:modified>
  <cp:revision>22</cp:revision>
  <dc:subject/>
  <dc:title>Здравствуйте, Люди!</dc:title>
</cp:coreProperties>
</file>