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64F1-A3C2-438F-BEB6-6BA7DA08E2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975D-DC5F-446D-A5B2-7E073A4EE2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483-E5AB-4907-999D-88C56D74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07B-3B8B-4F26-A86E-A449C0A9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FD4-9397-4BAE-9093-212B4088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B7D-6794-48CE-B5CE-93C9B50F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AE47-D73A-4E80-B5DB-4E8163DB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492B-EA54-4F76-B4E1-5B68A5DF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318E-0DF6-43B2-A79A-08934C2E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F65E-75FE-4CAD-A147-4617B68B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ADDB-B29A-46F7-8D5E-4C531833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AFDD-7C1A-4717-9477-695799C5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64C9-2612-4322-99CB-0FBA8C4A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B03-2076-4963-AD44-3D7A4BA8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975F-31D4-4247-9FF0-66E5DC1F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CB10-313F-4C0C-B57E-D0955980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9038-AB7A-4A51-BCAC-00D80AE3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C1E1-A93D-442C-ACD2-22330CC6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F8DF-EFC7-4B93-A8FC-97EC218F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F29-268E-455E-B827-D3762D2D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CBA-BCB8-4D24-9DE5-BC610780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289-EC6D-482F-8DD5-7FFD3C8E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51A-96DD-4D36-AAF6-75BF06C4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001-EE0F-4D1F-8455-5B64EC27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3D9-097C-4E2C-8231-85D6D730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0B0-37BE-466F-B2E2-1791CC16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13f9a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de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13f9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13f9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000000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ac66bb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ac66bb"/>
                </a:gs>
                <a:gs pos="50000">
                  <a:srgbClr val="b13f9a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ac66bb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ac66bb"/>
                </a:gs>
                <a:gs pos="50000">
                  <a:srgbClr val="b13f9a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CA93-C8C0-49DB-824F-6AB19128CE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13f9a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de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13f9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13f9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000000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ac66bb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ac66bb"/>
                </a:gs>
                <a:gs pos="50000">
                  <a:srgbClr val="b13f9a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ac66bb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ac66bb"/>
                </a:gs>
                <a:gs pos="50000">
                  <a:srgbClr val="b13f9a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F9F0-1691-4838-9723-2173558EF4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file:///../&#1075;&#1083;&#1072;&#1074;&#1085;&#1072;&#1103;.pps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Группа 25"/>
          <p:cNvGrpSpPr/>
          <p:nvPr/>
        </p:nvGrpSpPr>
        <p:grpSpPr>
          <a:xfrm>
            <a:off x="2786040" y="428760"/>
            <a:ext cx="6608880" cy="1928520"/>
            <a:chOff x="2786040" y="428760"/>
            <a:chExt cx="6608880" cy="1928520"/>
          </a:xfrm>
        </p:grpSpPr>
        <p:grpSp>
          <p:nvGrpSpPr>
            <p:cNvPr id="108" name="Прямоугольник 29"/>
            <p:cNvGrpSpPr/>
            <p:nvPr/>
          </p:nvGrpSpPr>
          <p:grpSpPr>
            <a:xfrm>
              <a:off x="2786040" y="428760"/>
              <a:ext cx="6608880" cy="1928520"/>
              <a:chOff x="2786040" y="428760"/>
              <a:chExt cx="6608880" cy="1928520"/>
            </a:xfrm>
          </p:grpSpPr>
          <p:pic>
            <p:nvPicPr>
              <p:cNvPr id="109" name="Прямоугольник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2786040" y="428760"/>
                <a:ext cx="6608880" cy="192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2816280" y="460080"/>
                <a:ext cx="6549480" cy="186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Прямоугольник 24"/>
            <p:cNvSpPr/>
            <p:nvPr/>
          </p:nvSpPr>
          <p:spPr>
            <a:xfrm>
              <a:off x="2957760" y="667440"/>
              <a:ext cx="368136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Что такое восемь? Всех подумать просим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Солнце пригревает, на дворе тепло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От улыбки мамы радостно, светло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Это цифра восемь полюбилась нам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День Восьмого марта – праздник наших мам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Прямоугольник 14"/>
          <p:cNvGrpSpPr/>
          <p:nvPr/>
        </p:nvGrpSpPr>
        <p:grpSpPr>
          <a:xfrm>
            <a:off x="-317520" y="4614840"/>
            <a:ext cx="9852120" cy="487440"/>
            <a:chOff x="-317520" y="4614840"/>
            <a:chExt cx="9852120" cy="487440"/>
          </a:xfrm>
        </p:grpSpPr>
        <p:pic>
          <p:nvPicPr>
            <p:cNvPr id="113" name="Прямоугольник 14" descr=""/>
            <p:cNvPicPr/>
            <p:nvPr/>
          </p:nvPicPr>
          <p:blipFill>
            <a:blip r:embed="rId2"/>
            <a:stretch/>
          </p:blipFill>
          <p:spPr>
            <a:xfrm>
              <a:off x="-317520" y="4614840"/>
              <a:ext cx="98521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-285840" y="4643280"/>
              <a:ext cx="978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Beresta"/>
                </a:rPr>
                <a:t>Крылатые выраж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Группа 27"/>
          <p:cNvGrpSpPr/>
          <p:nvPr/>
        </p:nvGrpSpPr>
        <p:grpSpPr>
          <a:xfrm>
            <a:off x="-142920" y="142920"/>
            <a:ext cx="2357640" cy="2019240"/>
            <a:chOff x="-142920" y="142920"/>
            <a:chExt cx="2357640" cy="2019240"/>
          </a:xfrm>
        </p:grpSpPr>
        <p:grpSp>
          <p:nvGrpSpPr>
            <p:cNvPr id="116" name="Прямоугольник 18"/>
            <p:cNvGrpSpPr/>
            <p:nvPr/>
          </p:nvGrpSpPr>
          <p:grpSpPr>
            <a:xfrm>
              <a:off x="-142920" y="846720"/>
              <a:ext cx="2357640" cy="594000"/>
              <a:chOff x="-142920" y="846720"/>
              <a:chExt cx="2357640" cy="594000"/>
            </a:xfrm>
          </p:grpSpPr>
          <p:pic>
            <p:nvPicPr>
              <p:cNvPr id="117" name="Прямоугольник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-142920" y="846720"/>
                <a:ext cx="2357640" cy="59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 rot="10800000">
                <a:off x="-115560" y="873000"/>
                <a:ext cx="23025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9" name="Picture 32" descr="C:\Documents and Settings\Igorёк\Рабочий стол\математика\рисунки\8а.jpg"/>
            <p:cNvPicPr/>
            <p:nvPr/>
          </p:nvPicPr>
          <p:blipFill>
            <a:blip r:embed="rId4"/>
            <a:stretch/>
          </p:blipFill>
          <p:spPr>
            <a:xfrm>
              <a:off x="106920" y="142920"/>
              <a:ext cx="1714680" cy="20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Группа 31"/>
          <p:cNvGrpSpPr/>
          <p:nvPr/>
        </p:nvGrpSpPr>
        <p:grpSpPr>
          <a:xfrm>
            <a:off x="-142920" y="2643120"/>
            <a:ext cx="3071880" cy="1468440"/>
            <a:chOff x="-142920" y="2643120"/>
            <a:chExt cx="3071880" cy="1468440"/>
          </a:xfrm>
        </p:grpSpPr>
        <p:grpSp>
          <p:nvGrpSpPr>
            <p:cNvPr id="121" name="Прямоугольник 21"/>
            <p:cNvGrpSpPr/>
            <p:nvPr/>
          </p:nvGrpSpPr>
          <p:grpSpPr>
            <a:xfrm>
              <a:off x="-142920" y="3132360"/>
              <a:ext cx="3071880" cy="523440"/>
              <a:chOff x="-142920" y="3132360"/>
              <a:chExt cx="3071880" cy="523440"/>
            </a:xfrm>
          </p:grpSpPr>
          <p:pic>
            <p:nvPicPr>
              <p:cNvPr id="122" name="Прямоугольник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2920" y="3132360"/>
                <a:ext cx="307188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rot="10800000">
                <a:off x="-115560" y="3157920"/>
                <a:ext cx="3017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24" name="Picture 33" descr="C:\Documents and Settings\Igorёк\Рабочий стол\математика\рисунки\8в.jpg"/>
            <p:cNvPicPr/>
            <p:nvPr/>
          </p:nvPicPr>
          <p:blipFill>
            <a:blip r:embed="rId6"/>
            <a:stretch/>
          </p:blipFill>
          <p:spPr>
            <a:xfrm>
              <a:off x="108360" y="2643120"/>
              <a:ext cx="2514960" cy="146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Прямоугольник 23"/>
          <p:cNvSpPr/>
          <p:nvPr/>
        </p:nvSpPr>
        <p:spPr>
          <a:xfrm>
            <a:off x="6643800" y="500040"/>
            <a:ext cx="2286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колько на море ветров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копыт у двух слонов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Щупалец у осьминог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клопов у пары дог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колько ног у паук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аука – крестовик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сли мы про это спроси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м ответят – цифра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Группа 33"/>
          <p:cNvGrpSpPr/>
          <p:nvPr/>
        </p:nvGrpSpPr>
        <p:grpSpPr>
          <a:xfrm>
            <a:off x="3357720" y="3000240"/>
            <a:ext cx="6000480" cy="928800"/>
            <a:chOff x="3357720" y="3000240"/>
            <a:chExt cx="6000480" cy="928800"/>
          </a:xfrm>
        </p:grpSpPr>
        <p:grpSp>
          <p:nvGrpSpPr>
            <p:cNvPr id="127" name="Прямоугольник 11"/>
            <p:cNvGrpSpPr/>
            <p:nvPr/>
          </p:nvGrpSpPr>
          <p:grpSpPr>
            <a:xfrm>
              <a:off x="3357720" y="3000240"/>
              <a:ext cx="6000480" cy="928800"/>
              <a:chOff x="3357720" y="3000240"/>
              <a:chExt cx="6000480" cy="928800"/>
            </a:xfrm>
          </p:grpSpPr>
          <p:pic>
            <p:nvPicPr>
              <p:cNvPr id="128" name="Прямоугольник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3000240"/>
                <a:ext cx="600048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3386520" y="3029760"/>
                <a:ext cx="5942520" cy="86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Заголовок 1"/>
            <p:cNvSpPr/>
            <p:nvPr/>
          </p:nvSpPr>
          <p:spPr>
            <a:xfrm>
              <a:off x="3457080" y="3096360"/>
              <a:ext cx="565956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4e7ed"/>
                  </a:solidFill>
                  <a:latin typeface="Times New Roman"/>
                </a:rPr>
                <a:t>Цифру восемь, цифру восемь на носу всегда мы носим.</a:t>
              </a:r>
              <a:br>
                <a:rPr sz="1700"/>
              </a:br>
              <a:r>
                <a:rPr b="0" lang="ru-RU" sz="1700" spc="-1" strike="noStrike">
                  <a:solidFill>
                    <a:srgbClr val="f4e7ed"/>
                  </a:solidFill>
                  <a:latin typeface="Times New Roman"/>
                </a:rPr>
                <a:t>Цифра восемь плюс крючки – получаются очки</a:t>
              </a:r>
              <a:r>
                <a:rPr b="0" lang="ru-RU" sz="2000" spc="-1" strike="noStrike">
                  <a:solidFill>
                    <a:srgbClr val="f4e7ed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Группа 35"/>
          <p:cNvGrpSpPr/>
          <p:nvPr/>
        </p:nvGrpSpPr>
        <p:grpSpPr>
          <a:xfrm>
            <a:off x="-285840" y="5214960"/>
            <a:ext cx="9786960" cy="1928880"/>
            <a:chOff x="-285840" y="5214960"/>
            <a:chExt cx="9786960" cy="1928880"/>
          </a:xfrm>
        </p:grpSpPr>
        <p:grpSp>
          <p:nvGrpSpPr>
            <p:cNvPr id="132" name="Прямоугольник 13"/>
            <p:cNvGrpSpPr/>
            <p:nvPr/>
          </p:nvGrpSpPr>
          <p:grpSpPr>
            <a:xfrm>
              <a:off x="-285840" y="5214960"/>
              <a:ext cx="9786960" cy="1468440"/>
              <a:chOff x="-285840" y="5214960"/>
              <a:chExt cx="9786960" cy="1468440"/>
            </a:xfrm>
          </p:grpSpPr>
          <p:pic>
            <p:nvPicPr>
              <p:cNvPr id="133" name="Прямоугольник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-285840" y="5214960"/>
                <a:ext cx="9786960" cy="14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-254520" y="5247720"/>
                <a:ext cx="9723240" cy="14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Содержимое 2"/>
            <p:cNvSpPr/>
            <p:nvPr/>
          </p:nvSpPr>
          <p:spPr>
            <a:xfrm>
              <a:off x="1732320" y="5388120"/>
              <a:ext cx="6032520" cy="17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 Весна да осень – на дню погод восемь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 Восемь гривен до рубля не хватает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 Восьмое чудо свет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Прямоугольник 19">
            <a:hlinkClick r:id="rId9"/>
          </p:cNvPr>
          <p:cNvSpPr/>
          <p:nvPr/>
        </p:nvSpPr>
        <p:spPr>
          <a:xfrm>
            <a:off x="8429760" y="6500880"/>
            <a:ext cx="714240" cy="357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12:35Z</dcterms:created>
  <dc:creator>Игорь</dc:creator>
  <dc:description/>
  <dc:language>en-US</dc:language>
  <cp:lastModifiedBy>Игорь</cp:lastModifiedBy>
  <dcterms:modified xsi:type="dcterms:W3CDTF">2010-02-05T16:40:53Z</dcterms:modified>
  <cp:revision>23</cp:revision>
  <dc:subject/>
  <dc:title>Слайд 1</dc:title>
</cp:coreProperties>
</file>