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6c00d9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4f2f5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4f2f5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6959A-240B-40C7-B099-695F5B2AF40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08C1E-697C-4A78-A895-37727ECA5B1B}" type="slidenum">
              <a:rPr b="0" lang="ru-RU" sz="1200" spc="-1" strike="noStrike">
                <a:solidFill>
                  <a:srgbClr val="6c00d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c00d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AB0F-B855-4702-B689-7D8D677FE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f2f5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c00d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c00d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B7F6-B575-4724-B3E0-9AB7E8164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f2f5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c00d9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c00d9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c00d9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c00d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CF70-48F9-4C1F-AB74-01246AD02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f2f5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c00d9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c00d9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c00d9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c00d9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c00d9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c00d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0C47-DC75-461A-BB6B-D991123E9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5285D-6D54-4E63-9AFB-C02E7C0CC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f2f5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c00d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3C555-0ABC-4DE4-87D3-8C913824D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f2f5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c00d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CB71F-C7F5-4BDF-B686-DBE6FFFFB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f2f5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c00d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c00d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057DD-F91F-4ABB-A28B-375EE6DAF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f2f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D20F0-452C-4558-AD13-D2F95D59C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c00d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1593C-8C9A-464E-A04F-3E15ADD22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f2f5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c00d9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c00d9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c00d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43985-CDFC-4090-B32A-F20575E3A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f2f5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c00d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52F6-561F-4549-B42B-4862424E1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f2f5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c00d9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c00d9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c00d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6E121-55C9-4358-9CB3-13F296C1A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f2f5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c00d9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c00d9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c00d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951D8-A7F6-4AF7-9E4B-5CE4E49DC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f2f5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c00d9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c00d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4CD7C-75E8-4E4C-A33E-063BD28A9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f2f5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c00d9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c00d9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c00d9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c00d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19B06-83D2-4A67-9954-5DC6E1B93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f2f5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c00d9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c00d9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c00d9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c00d9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c00d9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c00d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59202-FCEC-481A-AF37-006BA4046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f2f5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c00d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65DD-8B17-44A7-9EC3-B1326D564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f2f5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c00d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c00d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0CA8-855E-4EDD-85F4-9ED8AD675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f2f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42E8-D451-41CA-8E28-26A841197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c00d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BF97-38EA-4CD0-8021-0FB880480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f2f5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c00d9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c00d9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c00d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9885-E4A9-472E-823B-E318C876A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f2f5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c00d9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c00d9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c00d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7D9C-7C29-4F62-AE13-4C112FDA4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f2f5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c00d9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c00d9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c00d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5D1D-2022-4C0B-8950-E67B37455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b3ff"/>
            </a:gs>
            <a:gs pos="50000">
              <a:srgbClr val="69676d"/>
            </a:gs>
            <a:gs pos="100000">
              <a:srgbClr val="d9b3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d9b3ff"/>
                </a:gs>
                <a:gs pos="50000">
                  <a:srgbClr val="410082"/>
                </a:gs>
                <a:gs pos="100000">
                  <a:srgbClr val="d9b3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c00d9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2133720"/>
            </a:xfrm>
            <a:prstGeom prst="pie">
              <a:avLst/>
            </a:prstGeom>
            <a:gradFill rotWithShape="0">
              <a:gsLst>
                <a:gs pos="0">
                  <a:srgbClr val="d9b3ff"/>
                </a:gs>
                <a:gs pos="50000">
                  <a:srgbClr val="69676d"/>
                </a:gs>
                <a:gs pos="100000">
                  <a:srgbClr val="d9b3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c00d9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1163520"/>
              <a:ext cx="9144000" cy="5694480"/>
            </a:xfrm>
            <a:prstGeom prst="pie">
              <a:avLst/>
            </a:prstGeom>
            <a:gradFill rotWithShape="0">
              <a:gsLst>
                <a:gs pos="0">
                  <a:srgbClr val="d9b3ff"/>
                </a:gs>
                <a:gs pos="50000">
                  <a:srgbClr val="69676d"/>
                </a:gs>
                <a:gs pos="100000">
                  <a:srgbClr val="d9b3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c00d9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291960"/>
              <a:ext cx="9144000" cy="854280"/>
            </a:xfrm>
            <a:prstGeom prst="pie">
              <a:avLst/>
            </a:prstGeom>
            <a:gradFill rotWithShape="0">
              <a:gsLst>
                <a:gs pos="0">
                  <a:srgbClr val="69676d"/>
                </a:gs>
                <a:gs pos="50000">
                  <a:srgbClr val="d9b3ff"/>
                </a:gs>
                <a:gs pos="100000">
                  <a:srgbClr val="69676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c00d9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2405160"/>
              <a:ext cx="9144000" cy="1069920"/>
            </a:xfrm>
            <a:prstGeom prst="pie">
              <a:avLst/>
            </a:prstGeom>
            <a:gradFill rotWithShape="0">
              <a:gsLst>
                <a:gs pos="0">
                  <a:srgbClr val="69676d"/>
                </a:gs>
                <a:gs pos="50000">
                  <a:srgbClr val="d3ecb9"/>
                </a:gs>
                <a:gs pos="100000">
                  <a:srgbClr val="69676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c00d9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2476440" y="1522440"/>
              <a:ext cx="6667560" cy="5335560"/>
            </a:xfrm>
            <a:prstGeom prst="pie">
              <a:avLst/>
            </a:prstGeom>
            <a:gradFill rotWithShape="0">
              <a:gsLst>
                <a:gs pos="0">
                  <a:srgbClr val="d3ecb9"/>
                </a:gs>
                <a:gs pos="50000">
                  <a:srgbClr val="69676d"/>
                </a:gs>
                <a:gs pos="100000">
                  <a:srgbClr val="d3ec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c00d9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3443400"/>
              <a:ext cx="9144000" cy="3055680"/>
            </a:xfrm>
            <a:prstGeom prst="pie">
              <a:avLst/>
            </a:prstGeom>
            <a:gradFill rotWithShape="0">
              <a:gsLst>
                <a:gs pos="0">
                  <a:srgbClr val="69676d"/>
                </a:gs>
                <a:gs pos="50000">
                  <a:srgbClr val="d3ecb9"/>
                </a:gs>
                <a:gs pos="100000">
                  <a:srgbClr val="69676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c00d9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3552840"/>
              <a:ext cx="6237360" cy="3365640"/>
            </a:xfrm>
            <a:prstGeom prst="pie">
              <a:avLst/>
            </a:prstGeom>
            <a:gradFill rotWithShape="0">
              <a:gsLst>
                <a:gs pos="0">
                  <a:srgbClr val="d3ecb9"/>
                </a:gs>
                <a:gs pos="50000">
                  <a:srgbClr val="69676d"/>
                </a:gs>
                <a:gs pos="100000">
                  <a:srgbClr val="d3ec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c00d9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4f2f5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4f2f5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c00d9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22969-1CA5-43E5-BF5E-E4DC156246D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c00d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c00d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c00d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c00d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c00d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c00d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c00d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c00d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c00d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c00d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c00d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c00d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c00d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c00d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c00d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6c00d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c00d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c00d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6c00d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c00d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c00d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b3ff"/>
            </a:gs>
            <a:gs pos="50000">
              <a:srgbClr val="69676d"/>
            </a:gs>
            <a:gs pos="100000">
              <a:srgbClr val="d9b3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d9b3ff"/>
                </a:gs>
                <a:gs pos="50000">
                  <a:srgbClr val="410082"/>
                </a:gs>
                <a:gs pos="100000">
                  <a:srgbClr val="d9b3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c00d9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0" y="0"/>
              <a:ext cx="9144000" cy="2133720"/>
            </a:xfrm>
            <a:prstGeom prst="pie">
              <a:avLst/>
            </a:prstGeom>
            <a:gradFill rotWithShape="0">
              <a:gsLst>
                <a:gs pos="0">
                  <a:srgbClr val="d9b3ff"/>
                </a:gs>
                <a:gs pos="50000">
                  <a:srgbClr val="69676d"/>
                </a:gs>
                <a:gs pos="100000">
                  <a:srgbClr val="d9b3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c00d9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0" y="1163520"/>
              <a:ext cx="9144000" cy="5694480"/>
            </a:xfrm>
            <a:prstGeom prst="pie">
              <a:avLst/>
            </a:prstGeom>
            <a:gradFill rotWithShape="0">
              <a:gsLst>
                <a:gs pos="0">
                  <a:srgbClr val="d9b3ff"/>
                </a:gs>
                <a:gs pos="50000">
                  <a:srgbClr val="69676d"/>
                </a:gs>
                <a:gs pos="100000">
                  <a:srgbClr val="d9b3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c00d9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0" y="291960"/>
              <a:ext cx="9144000" cy="854280"/>
            </a:xfrm>
            <a:prstGeom prst="pie">
              <a:avLst/>
            </a:prstGeom>
            <a:gradFill rotWithShape="0">
              <a:gsLst>
                <a:gs pos="0">
                  <a:srgbClr val="69676d"/>
                </a:gs>
                <a:gs pos="50000">
                  <a:srgbClr val="d9b3ff"/>
                </a:gs>
                <a:gs pos="100000">
                  <a:srgbClr val="69676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c00d9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0" y="2405160"/>
              <a:ext cx="9144000" cy="1069920"/>
            </a:xfrm>
            <a:prstGeom prst="pie">
              <a:avLst/>
            </a:prstGeom>
            <a:gradFill rotWithShape="0">
              <a:gsLst>
                <a:gs pos="0">
                  <a:srgbClr val="69676d"/>
                </a:gs>
                <a:gs pos="50000">
                  <a:srgbClr val="d3ecb9"/>
                </a:gs>
                <a:gs pos="100000">
                  <a:srgbClr val="69676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c00d9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2476440" y="1522440"/>
              <a:ext cx="6667560" cy="5335560"/>
            </a:xfrm>
            <a:prstGeom prst="pie">
              <a:avLst/>
            </a:prstGeom>
            <a:gradFill rotWithShape="0">
              <a:gsLst>
                <a:gs pos="0">
                  <a:srgbClr val="d3ecb9"/>
                </a:gs>
                <a:gs pos="50000">
                  <a:srgbClr val="69676d"/>
                </a:gs>
                <a:gs pos="100000">
                  <a:srgbClr val="d3ec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c00d9"/>
                </a:solidFill>
                <a:latin typeface="Arial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0" y="3443400"/>
              <a:ext cx="9144000" cy="3055680"/>
            </a:xfrm>
            <a:prstGeom prst="pie">
              <a:avLst/>
            </a:prstGeom>
            <a:gradFill rotWithShape="0">
              <a:gsLst>
                <a:gs pos="0">
                  <a:srgbClr val="69676d"/>
                </a:gs>
                <a:gs pos="50000">
                  <a:srgbClr val="d3ecb9"/>
                </a:gs>
                <a:gs pos="100000">
                  <a:srgbClr val="69676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c00d9"/>
                </a:solidFill>
                <a:latin typeface="Arial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3552840"/>
              <a:ext cx="6237360" cy="3365640"/>
            </a:xfrm>
            <a:prstGeom prst="pie">
              <a:avLst/>
            </a:prstGeom>
            <a:gradFill rotWithShape="0">
              <a:gsLst>
                <a:gs pos="0">
                  <a:srgbClr val="d3ecb9"/>
                </a:gs>
                <a:gs pos="50000">
                  <a:srgbClr val="69676d"/>
                </a:gs>
                <a:gs pos="100000">
                  <a:srgbClr val="d3ec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c00d9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4f2f5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4f2f5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c00d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c00d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c00d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c00d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c00d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c00d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c00d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c00d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c00d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c00d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c00d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c00d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c00d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c00d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c00d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6c00d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c00d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c00d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6c00d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c00d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c00d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c00d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c00d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c00d9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c00d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F3157-90A3-4800-B4A9-A9C6747C798F}" type="slidenum">
              <a:rPr b="0" lang="ru-RU" sz="1400" spc="-1" strike="noStrike">
                <a:solidFill>
                  <a:srgbClr val="6c00d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hyperlink" Target="file:///../&#1075;&#1083;&#1072;&#1074;&#1085;&#1072;&#1103;.pps" TargetMode="External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Прямоугольник 14"/>
          <p:cNvGrpSpPr/>
          <p:nvPr/>
        </p:nvGrpSpPr>
        <p:grpSpPr>
          <a:xfrm>
            <a:off x="-317520" y="4614840"/>
            <a:ext cx="9852120" cy="487440"/>
            <a:chOff x="-317520" y="4614840"/>
            <a:chExt cx="9852120" cy="487440"/>
          </a:xfrm>
        </p:grpSpPr>
        <p:pic>
          <p:nvPicPr>
            <p:cNvPr id="108" name="Прямоугольник 14" descr=""/>
            <p:cNvPicPr/>
            <p:nvPr/>
          </p:nvPicPr>
          <p:blipFill>
            <a:blip r:embed="rId1"/>
            <a:stretch/>
          </p:blipFill>
          <p:spPr>
            <a:xfrm>
              <a:off x="-317520" y="4614840"/>
              <a:ext cx="985212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-285840" y="4643280"/>
              <a:ext cx="97869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36006d"/>
                  </a:solidFill>
                  <a:latin typeface="Beresta"/>
                </a:rPr>
                <a:t>Крылатые выражения</a:t>
              </a:r>
              <a:endParaRPr b="0" lang="en-US" sz="2000" spc="-1" strike="noStrike">
                <a:solidFill>
                  <a:srgbClr val="6c00d9"/>
                </a:solidFill>
                <a:latin typeface="Arial"/>
              </a:endParaRPr>
            </a:p>
          </p:txBody>
        </p:sp>
      </p:grpSp>
      <p:grpSp>
        <p:nvGrpSpPr>
          <p:cNvPr id="110" name="Группа 25"/>
          <p:cNvGrpSpPr/>
          <p:nvPr/>
        </p:nvGrpSpPr>
        <p:grpSpPr>
          <a:xfrm>
            <a:off x="-142920" y="214200"/>
            <a:ext cx="2571840" cy="2000520"/>
            <a:chOff x="-142920" y="214200"/>
            <a:chExt cx="2571840" cy="2000520"/>
          </a:xfrm>
        </p:grpSpPr>
        <p:grpSp>
          <p:nvGrpSpPr>
            <p:cNvPr id="111" name="Прямоугольник 18"/>
            <p:cNvGrpSpPr/>
            <p:nvPr/>
          </p:nvGrpSpPr>
          <p:grpSpPr>
            <a:xfrm>
              <a:off x="-142920" y="849960"/>
              <a:ext cx="2571840" cy="595440"/>
              <a:chOff x="-142920" y="849960"/>
              <a:chExt cx="2571840" cy="595440"/>
            </a:xfrm>
          </p:grpSpPr>
          <p:pic>
            <p:nvPicPr>
              <p:cNvPr id="112" name="Прямоугольник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-142920" y="849960"/>
                <a:ext cx="2571840" cy="59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 rot="10800000">
                <a:off x="-115920" y="875880"/>
                <a:ext cx="2517480" cy="54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c00d9"/>
                  </a:solidFill>
                  <a:latin typeface="Arial"/>
                </a:endParaRPr>
              </a:p>
            </p:txBody>
          </p:sp>
        </p:grpSp>
        <p:pic>
          <p:nvPicPr>
            <p:cNvPr id="114" name="Picture 32" descr="C:\Documents and Settings\Igorёк\Рабочий стол\математика\рисунки\6а.jpg"/>
            <p:cNvPicPr/>
            <p:nvPr/>
          </p:nvPicPr>
          <p:blipFill>
            <a:blip r:embed="rId3"/>
            <a:stretch/>
          </p:blipFill>
          <p:spPr>
            <a:xfrm>
              <a:off x="107640" y="214200"/>
              <a:ext cx="1790280" cy="2000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5" name="Группа 24"/>
          <p:cNvGrpSpPr/>
          <p:nvPr/>
        </p:nvGrpSpPr>
        <p:grpSpPr>
          <a:xfrm>
            <a:off x="-142920" y="2428920"/>
            <a:ext cx="2643120" cy="1714320"/>
            <a:chOff x="-142920" y="2428920"/>
            <a:chExt cx="2643120" cy="1714320"/>
          </a:xfrm>
        </p:grpSpPr>
        <p:grpSp>
          <p:nvGrpSpPr>
            <p:cNvPr id="116" name="Прямоугольник 21"/>
            <p:cNvGrpSpPr/>
            <p:nvPr/>
          </p:nvGrpSpPr>
          <p:grpSpPr>
            <a:xfrm>
              <a:off x="-142920" y="3125880"/>
              <a:ext cx="2643120" cy="525600"/>
              <a:chOff x="-142920" y="3125880"/>
              <a:chExt cx="2643120" cy="525600"/>
            </a:xfrm>
          </p:grpSpPr>
          <p:pic>
            <p:nvPicPr>
              <p:cNvPr id="117" name="Прямоугольник 21" descr=""/>
              <p:cNvPicPr/>
              <p:nvPr/>
            </p:nvPicPr>
            <p:blipFill>
              <a:blip r:embed="rId4"/>
              <a:stretch/>
            </p:blipFill>
            <p:spPr>
              <a:xfrm>
                <a:off x="-142920" y="3125880"/>
                <a:ext cx="2643120" cy="525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" name=""/>
              <p:cNvSpPr/>
              <p:nvPr/>
            </p:nvSpPr>
            <p:spPr>
              <a:xfrm rot="10800000">
                <a:off x="-115920" y="3152160"/>
                <a:ext cx="2587320" cy="46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c00d9"/>
                  </a:solidFill>
                  <a:latin typeface="Arial"/>
                </a:endParaRPr>
              </a:p>
            </p:txBody>
          </p:sp>
        </p:grpSp>
        <p:pic>
          <p:nvPicPr>
            <p:cNvPr id="119" name="Picture 33" descr="C:\Documents and Settings\Igorёк\Рабочий стол\математика\рисунки\6в.jpg"/>
            <p:cNvPicPr/>
            <p:nvPr/>
          </p:nvPicPr>
          <p:blipFill>
            <a:blip r:embed="rId5"/>
            <a:stretch/>
          </p:blipFill>
          <p:spPr>
            <a:xfrm>
              <a:off x="179280" y="2428920"/>
              <a:ext cx="1599120" cy="171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0" name="Группа 23"/>
          <p:cNvGrpSpPr/>
          <p:nvPr/>
        </p:nvGrpSpPr>
        <p:grpSpPr>
          <a:xfrm>
            <a:off x="-285840" y="5214960"/>
            <a:ext cx="9786960" cy="1500120"/>
            <a:chOff x="-285840" y="5214960"/>
            <a:chExt cx="9786960" cy="1500120"/>
          </a:xfrm>
        </p:grpSpPr>
        <p:grpSp>
          <p:nvGrpSpPr>
            <p:cNvPr id="121" name="Прямоугольник 13"/>
            <p:cNvGrpSpPr/>
            <p:nvPr/>
          </p:nvGrpSpPr>
          <p:grpSpPr>
            <a:xfrm>
              <a:off x="-285840" y="5214960"/>
              <a:ext cx="9786960" cy="1461240"/>
              <a:chOff x="-285840" y="5214960"/>
              <a:chExt cx="9786960" cy="1461240"/>
            </a:xfrm>
          </p:grpSpPr>
          <p:pic>
            <p:nvPicPr>
              <p:cNvPr id="122" name="Прямоугольник 13" descr=""/>
              <p:cNvPicPr/>
              <p:nvPr/>
            </p:nvPicPr>
            <p:blipFill>
              <a:blip r:embed="rId6"/>
              <a:stretch/>
            </p:blipFill>
            <p:spPr>
              <a:xfrm>
                <a:off x="-285840" y="5214960"/>
                <a:ext cx="9786960" cy="146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" name=""/>
              <p:cNvSpPr/>
              <p:nvPr/>
            </p:nvSpPr>
            <p:spPr>
              <a:xfrm>
                <a:off x="-254520" y="5247360"/>
                <a:ext cx="9723240" cy="139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c00d9"/>
                  </a:solidFill>
                  <a:latin typeface="Arial"/>
                </a:endParaRPr>
              </a:p>
            </p:txBody>
          </p:sp>
        </p:grpSp>
        <p:sp>
          <p:nvSpPr>
            <p:cNvPr id="124" name="Содержимое 2"/>
            <p:cNvSpPr/>
            <p:nvPr/>
          </p:nvSpPr>
          <p:spPr>
            <a:xfrm>
              <a:off x="2370960" y="5317200"/>
              <a:ext cx="4116240" cy="139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36006d"/>
                  </a:solidFill>
                  <a:latin typeface="Times New Roman"/>
                </a:rPr>
                <a:t>Саша шустро сушит сушки</a:t>
              </a:r>
              <a:endParaRPr b="0" lang="en-US" sz="2000" spc="-1" strike="noStrike">
                <a:solidFill>
                  <a:srgbClr val="6c00d9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36006d"/>
                  </a:solidFill>
                  <a:latin typeface="Times New Roman"/>
                </a:rPr>
                <a:t>Саша высушил штук шесть</a:t>
              </a:r>
              <a:endParaRPr b="0" lang="en-US" sz="2000" spc="-1" strike="noStrike">
                <a:solidFill>
                  <a:srgbClr val="6c00d9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36006d"/>
                  </a:solidFill>
                  <a:latin typeface="Times New Roman"/>
                </a:rPr>
                <a:t>И смешно спешат старушки</a:t>
              </a:r>
              <a:endParaRPr b="0" lang="en-US" sz="2000" spc="-1" strike="noStrike">
                <a:solidFill>
                  <a:srgbClr val="6c00d9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36006d"/>
                  </a:solidFill>
                  <a:latin typeface="Times New Roman"/>
                </a:rPr>
                <a:t>Сушек Сашиных поесть</a:t>
              </a:r>
              <a:r>
                <a:rPr b="1" lang="ru-RU" sz="2000" spc="-1" strike="noStrike">
                  <a:solidFill>
                    <a:srgbClr val="36006d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6c00d9"/>
                </a:solidFill>
                <a:latin typeface="Arial"/>
              </a:endParaRPr>
            </a:p>
          </p:txBody>
        </p:sp>
      </p:grpSp>
      <p:grpSp>
        <p:nvGrpSpPr>
          <p:cNvPr id="125" name="Группа 27"/>
          <p:cNvGrpSpPr/>
          <p:nvPr/>
        </p:nvGrpSpPr>
        <p:grpSpPr>
          <a:xfrm>
            <a:off x="3357720" y="3000240"/>
            <a:ext cx="6000480" cy="928800"/>
            <a:chOff x="3357720" y="3000240"/>
            <a:chExt cx="6000480" cy="928800"/>
          </a:xfrm>
        </p:grpSpPr>
        <p:grpSp>
          <p:nvGrpSpPr>
            <p:cNvPr id="126" name="Прямоугольник 11"/>
            <p:cNvGrpSpPr/>
            <p:nvPr/>
          </p:nvGrpSpPr>
          <p:grpSpPr>
            <a:xfrm>
              <a:off x="3357720" y="3000240"/>
              <a:ext cx="6000480" cy="928800"/>
              <a:chOff x="3357720" y="3000240"/>
              <a:chExt cx="6000480" cy="928800"/>
            </a:xfrm>
          </p:grpSpPr>
          <p:pic>
            <p:nvPicPr>
              <p:cNvPr id="127" name="Прямоугольник 11" descr=""/>
              <p:cNvPicPr/>
              <p:nvPr/>
            </p:nvPicPr>
            <p:blipFill>
              <a:blip r:embed="rId7"/>
              <a:stretch/>
            </p:blipFill>
            <p:spPr>
              <a:xfrm>
                <a:off x="3357720" y="3000240"/>
                <a:ext cx="6000480" cy="928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" name=""/>
              <p:cNvSpPr/>
              <p:nvPr/>
            </p:nvSpPr>
            <p:spPr>
              <a:xfrm>
                <a:off x="3386520" y="3029760"/>
                <a:ext cx="5942520" cy="86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6c00d9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6c00d9"/>
                  </a:solidFill>
                  <a:latin typeface="Arial"/>
                </a:endParaRPr>
              </a:p>
            </p:txBody>
          </p:sp>
        </p:grpSp>
        <p:sp>
          <p:nvSpPr>
            <p:cNvPr id="129" name="Заголовок 1"/>
            <p:cNvSpPr/>
            <p:nvPr/>
          </p:nvSpPr>
          <p:spPr>
            <a:xfrm>
              <a:off x="3457080" y="3096360"/>
              <a:ext cx="5588640" cy="73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36006d"/>
                  </a:solidFill>
                  <a:latin typeface="Times New Roman"/>
                </a:rPr>
                <a:t>Цифра шесть –дверной замочек:</a:t>
              </a:r>
              <a:br>
                <a:rPr sz="2000"/>
              </a:br>
              <a:r>
                <a:rPr b="0" lang="ru-RU" sz="2000" spc="-1" strike="noStrike">
                  <a:solidFill>
                    <a:srgbClr val="36006d"/>
                  </a:solidFill>
                  <a:latin typeface="Times New Roman"/>
                </a:rPr>
                <a:t>Сверху крюк, внизу кружочек.</a:t>
              </a:r>
              <a:endParaRPr b="0" lang="en-US" sz="2000" spc="-1" strike="noStrike">
                <a:solidFill>
                  <a:srgbClr val="6c00d9"/>
                </a:solidFill>
                <a:latin typeface="Arial"/>
              </a:endParaRPr>
            </a:p>
          </p:txBody>
        </p:sp>
      </p:grpSp>
      <p:grpSp>
        <p:nvGrpSpPr>
          <p:cNvPr id="130" name="Группа 31"/>
          <p:cNvGrpSpPr/>
          <p:nvPr/>
        </p:nvGrpSpPr>
        <p:grpSpPr>
          <a:xfrm>
            <a:off x="2786040" y="428760"/>
            <a:ext cx="6608880" cy="1643040"/>
            <a:chOff x="2786040" y="428760"/>
            <a:chExt cx="6608880" cy="1643040"/>
          </a:xfrm>
        </p:grpSpPr>
        <p:grpSp>
          <p:nvGrpSpPr>
            <p:cNvPr id="131" name="Прямоугольник 29"/>
            <p:cNvGrpSpPr/>
            <p:nvPr/>
          </p:nvGrpSpPr>
          <p:grpSpPr>
            <a:xfrm>
              <a:off x="2786040" y="428760"/>
              <a:ext cx="6608880" cy="1643040"/>
              <a:chOff x="2786040" y="428760"/>
              <a:chExt cx="6608880" cy="1643040"/>
            </a:xfrm>
          </p:grpSpPr>
          <p:pic>
            <p:nvPicPr>
              <p:cNvPr id="132" name="Прямоугольник 29" descr=""/>
              <p:cNvPicPr/>
              <p:nvPr/>
            </p:nvPicPr>
            <p:blipFill>
              <a:blip r:embed="rId8"/>
              <a:stretch/>
            </p:blipFill>
            <p:spPr>
              <a:xfrm>
                <a:off x="2786040" y="428760"/>
                <a:ext cx="6608880" cy="1643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" name=""/>
              <p:cNvSpPr/>
              <p:nvPr/>
            </p:nvSpPr>
            <p:spPr>
              <a:xfrm>
                <a:off x="2816280" y="459720"/>
                <a:ext cx="6549480" cy="158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c00d9"/>
                  </a:solidFill>
                  <a:latin typeface="Arial"/>
                </a:endParaRPr>
              </a:p>
            </p:txBody>
          </p:sp>
        </p:grpSp>
        <p:sp>
          <p:nvSpPr>
            <p:cNvPr id="134" name="Содержимое 2"/>
            <p:cNvSpPr/>
            <p:nvPr/>
          </p:nvSpPr>
          <p:spPr>
            <a:xfrm>
              <a:off x="2957760" y="528480"/>
              <a:ext cx="2760840" cy="11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36006d"/>
                  </a:solidFill>
                  <a:latin typeface="Times New Roman"/>
                </a:rPr>
                <a:t>Чёрен, да не ворон,</a:t>
              </a:r>
              <a:endParaRPr b="0" lang="en-US" sz="1800" spc="-1" strike="noStrike">
                <a:solidFill>
                  <a:srgbClr val="6c00d9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36006d"/>
                  </a:solidFill>
                  <a:latin typeface="Times New Roman"/>
                </a:rPr>
                <a:t>Рогат, да не бык,</a:t>
              </a:r>
              <a:endParaRPr b="0" lang="en-US" sz="1800" spc="-1" strike="noStrike">
                <a:solidFill>
                  <a:srgbClr val="6c00d9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36006d"/>
                  </a:solidFill>
                  <a:latin typeface="Times New Roman"/>
                </a:rPr>
                <a:t>Шесть ног без копыт,</a:t>
              </a:r>
              <a:endParaRPr b="0" lang="en-US" sz="1800" spc="-1" strike="noStrike">
                <a:solidFill>
                  <a:srgbClr val="6c00d9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36006d"/>
                  </a:solidFill>
                  <a:latin typeface="Times New Roman"/>
                </a:rPr>
                <a:t>Летит жужжит,</a:t>
              </a:r>
              <a:endParaRPr b="0" lang="en-US" sz="1800" spc="-1" strike="noStrike">
                <a:solidFill>
                  <a:srgbClr val="6c00d9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36006d"/>
                  </a:solidFill>
                  <a:latin typeface="Times New Roman"/>
                </a:rPr>
                <a:t>Упадёт – землю роет.</a:t>
              </a:r>
              <a:endParaRPr b="0" lang="en-US" sz="1800" spc="-1" strike="noStrike">
                <a:solidFill>
                  <a:srgbClr val="6c00d9"/>
                </a:solidFill>
                <a:latin typeface="Arial"/>
              </a:endParaRPr>
            </a:p>
          </p:txBody>
        </p:sp>
        <p:sp>
          <p:nvSpPr>
            <p:cNvPr id="135" name="Содержимое 2"/>
            <p:cNvSpPr/>
            <p:nvPr/>
          </p:nvSpPr>
          <p:spPr>
            <a:xfrm>
              <a:off x="5365080" y="597240"/>
              <a:ext cx="3228120" cy="12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36006d"/>
                  </a:solidFill>
                  <a:latin typeface="Times New Roman"/>
                </a:rPr>
                <a:t>На дворе переполох,</a:t>
              </a:r>
              <a:endParaRPr b="0" lang="en-US" sz="1800" spc="-1" strike="noStrike">
                <a:solidFill>
                  <a:srgbClr val="6c00d9"/>
                </a:solidFill>
                <a:latin typeface="Arial"/>
              </a:endParaRPr>
            </a:p>
            <a:p>
              <a:pPr algn="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36006d"/>
                  </a:solidFill>
                  <a:latin typeface="Times New Roman"/>
                </a:rPr>
                <a:t>С неба сыплется горох.</a:t>
              </a:r>
              <a:endParaRPr b="0" lang="en-US" sz="1800" spc="-1" strike="noStrike">
                <a:solidFill>
                  <a:srgbClr val="6c00d9"/>
                </a:solidFill>
                <a:latin typeface="Arial"/>
              </a:endParaRPr>
            </a:p>
            <a:p>
              <a:pPr algn="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36006d"/>
                  </a:solidFill>
                  <a:latin typeface="Times New Roman"/>
                </a:rPr>
                <a:t>Съела шесть горошин Нина,</a:t>
              </a:r>
              <a:endParaRPr b="0" lang="en-US" sz="1800" spc="-1" strike="noStrike">
                <a:solidFill>
                  <a:srgbClr val="6c00d9"/>
                </a:solidFill>
                <a:latin typeface="Arial"/>
              </a:endParaRPr>
            </a:p>
            <a:p>
              <a:pPr algn="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36006d"/>
                  </a:solidFill>
                  <a:latin typeface="Times New Roman"/>
                </a:rPr>
                <a:t>У неё теперь ангина.</a:t>
              </a:r>
              <a:endParaRPr b="0" lang="en-US" sz="1800" spc="-1" strike="noStrike">
                <a:solidFill>
                  <a:srgbClr val="6c00d9"/>
                </a:solidFill>
                <a:latin typeface="Arial"/>
              </a:endParaRPr>
            </a:p>
            <a:p>
              <a:pPr algn="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c00d9"/>
                </a:solidFill>
                <a:latin typeface="Arial"/>
              </a:endParaRPr>
            </a:p>
          </p:txBody>
        </p:sp>
      </p:grpSp>
      <p:sp>
        <p:nvSpPr>
          <p:cNvPr id="136" name="Прямоугольник 19">
            <a:hlinkClick r:id="rId9"/>
          </p:cNvPr>
          <p:cNvSpPr/>
          <p:nvPr/>
        </p:nvSpPr>
        <p:spPr>
          <a:xfrm>
            <a:off x="8429760" y="6500880"/>
            <a:ext cx="714240" cy="357120"/>
          </a:xfrm>
          <a:prstGeom prst="rect">
            <a:avLst/>
          </a:prstGeom>
          <a:solidFill>
            <a:srgbClr val="d3ec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c00d9"/>
                </a:solidFill>
                <a:latin typeface="Times New Roman"/>
              </a:rPr>
              <a:t>назад</a:t>
            </a:r>
            <a:endParaRPr b="0" lang="en-US" sz="1800" spc="-1" strike="noStrike">
              <a:solidFill>
                <a:srgbClr val="6c00d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5T13:12:35Z</dcterms:created>
  <dc:creator>Игорь</dc:creator>
  <dc:description/>
  <dc:language>en-US</dc:language>
  <cp:lastModifiedBy>Игорь</cp:lastModifiedBy>
  <dcterms:modified xsi:type="dcterms:W3CDTF">2010-02-05T16:40:31Z</dcterms:modified>
  <cp:revision>21</cp:revision>
  <dc:subject/>
  <dc:title>Слайд 1</dc:title>
</cp:coreProperties>
</file>