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09A-8A6B-4934-A0F1-5016A22D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22B-7243-440F-8904-7901B365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CEC-6D02-4CB3-B289-927E133A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72B-00A3-4ADF-8C8C-B33B2B20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EF80-6FCE-49C0-9BF8-F8B8F533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69CA-C6E9-4873-9312-4514C21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6C7-0DD3-4F31-A041-AE45030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BBAE-0749-43D2-AB33-D6458578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5F31-3405-461C-9A1D-5B6AC50C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C3BE-5185-462D-AC89-A530694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FE4-5C00-4E56-ACAF-5052C86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E8F-39BF-4449-9870-F36B1A1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28C6-8E90-412F-8A5D-7F699DAB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AF4B-89A0-4A17-81A2-E76AE06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463E-FECD-4240-9070-6C358D6A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78BE-FF9C-474B-B442-B5FFE08D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79AF-BBE6-4234-A807-1AE73BDE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F06-FADD-49CA-A816-C48B325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C81-A662-47E7-B168-3B5FDCC0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922-1B82-4307-87CB-5CFD667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C9F-744B-4F7C-B1A8-912E00E0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BC1-0755-477E-9AA3-6F11747E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C5A-0A59-449B-B492-5291243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BD3-F5FC-4116-AF54-059E60A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D346-62B7-4F50-A430-994B25EAB0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E99-0BB2-43EF-ABEE-268ED71227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Beresta"/>
                </a:rPr>
                <a:t>Крылатые выра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Группа 20"/>
          <p:cNvGrpSpPr/>
          <p:nvPr/>
        </p:nvGrpSpPr>
        <p:grpSpPr>
          <a:xfrm>
            <a:off x="3000240" y="2357280"/>
            <a:ext cx="6929640" cy="1428840"/>
            <a:chOff x="3000240" y="2357280"/>
            <a:chExt cx="6929640" cy="1428840"/>
          </a:xfrm>
        </p:grpSpPr>
        <p:grpSp>
          <p:nvGrpSpPr>
            <p:cNvPr id="104" name="Прямоугольник 11"/>
            <p:cNvGrpSpPr/>
            <p:nvPr/>
          </p:nvGrpSpPr>
          <p:grpSpPr>
            <a:xfrm>
              <a:off x="3000240" y="2357280"/>
              <a:ext cx="6929640" cy="1428840"/>
              <a:chOff x="3000240" y="2357280"/>
              <a:chExt cx="6929640" cy="1428840"/>
            </a:xfrm>
          </p:grpSpPr>
          <p:pic>
            <p:nvPicPr>
              <p:cNvPr id="105" name="Прямоугольник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000240" y="2357280"/>
                <a:ext cx="692964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10800000">
                <a:off x="3031200" y="2383920"/>
                <a:ext cx="68677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Заголовок 1"/>
            <p:cNvSpPr/>
            <p:nvPr/>
          </p:nvSpPr>
          <p:spPr>
            <a:xfrm>
              <a:off x="3173040" y="2522160"/>
              <a:ext cx="623052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2f2f2"/>
                  </a:solidFill>
                  <a:latin typeface="Times New Roman"/>
                </a:rPr>
                <a:t>З – это заклинатель змей, вышел с дудочкой своей.</a:t>
              </a:r>
              <a:br>
                <a:rPr sz="1800"/>
              </a:br>
              <a:r>
                <a:rPr b="0" lang="ru-RU" sz="1800" spc="-1" strike="noStrike">
                  <a:solidFill>
                    <a:srgbClr val="f2f2f2"/>
                  </a:solidFill>
                  <a:latin typeface="Times New Roman"/>
                </a:rPr>
                <a:t>Перед ним танцует змейка, хвост крючком, дугою шейка.</a:t>
              </a:r>
              <a:br>
                <a:rPr sz="1800"/>
              </a:br>
              <a:r>
                <a:rPr b="0" lang="ru-RU" sz="1800" spc="-1" strike="noStrike">
                  <a:solidFill>
                    <a:srgbClr val="f2f2f2"/>
                  </a:solidFill>
                  <a:latin typeface="Times New Roman"/>
                </a:rPr>
                <a:t>Ты на змейку посмотри, да ведь это цифра тр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Группа 27"/>
          <p:cNvGrpSpPr/>
          <p:nvPr/>
        </p:nvGrpSpPr>
        <p:grpSpPr>
          <a:xfrm>
            <a:off x="-142920" y="214200"/>
            <a:ext cx="2428920" cy="1901880"/>
            <a:chOff x="-142920" y="214200"/>
            <a:chExt cx="2428920" cy="1901880"/>
          </a:xfrm>
        </p:grpSpPr>
        <p:grpSp>
          <p:nvGrpSpPr>
            <p:cNvPr id="109" name="Прямоугольник 3"/>
            <p:cNvGrpSpPr/>
            <p:nvPr/>
          </p:nvGrpSpPr>
          <p:grpSpPr>
            <a:xfrm>
              <a:off x="-142920" y="682560"/>
              <a:ext cx="2428920" cy="774360"/>
              <a:chOff x="-142920" y="682560"/>
              <a:chExt cx="2428920" cy="774360"/>
            </a:xfrm>
          </p:grpSpPr>
          <p:pic>
            <p:nvPicPr>
              <p:cNvPr id="110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2920" y="682560"/>
                <a:ext cx="242892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10800000">
                <a:off x="-115920" y="713160"/>
                <a:ext cx="2372040" cy="71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2" name="Picture 32" descr="C:\Documents and Settings\Igorёк\Рабочий стол\математика\рисунки\3а.jpg"/>
            <p:cNvPicPr/>
            <p:nvPr/>
          </p:nvPicPr>
          <p:blipFill>
            <a:blip r:embed="rId4"/>
            <a:srcRect l="4760" t="3984" r="4760" b="4434"/>
            <a:stretch/>
          </p:blipFill>
          <p:spPr>
            <a:xfrm>
              <a:off x="180720" y="214200"/>
              <a:ext cx="1630800" cy="19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26"/>
          <p:cNvGrpSpPr/>
          <p:nvPr/>
        </p:nvGrpSpPr>
        <p:grpSpPr>
          <a:xfrm>
            <a:off x="-357120" y="2357280"/>
            <a:ext cx="2571840" cy="1681200"/>
            <a:chOff x="-357120" y="2357280"/>
            <a:chExt cx="2571840" cy="1681200"/>
          </a:xfrm>
        </p:grpSpPr>
        <p:grpSp>
          <p:nvGrpSpPr>
            <p:cNvPr id="114" name="Прямоугольник 23"/>
            <p:cNvGrpSpPr/>
            <p:nvPr/>
          </p:nvGrpSpPr>
          <p:grpSpPr>
            <a:xfrm>
              <a:off x="-357120" y="2828160"/>
              <a:ext cx="2571840" cy="774360"/>
              <a:chOff x="-357120" y="2828160"/>
              <a:chExt cx="2571840" cy="774360"/>
            </a:xfrm>
          </p:grpSpPr>
          <p:pic>
            <p:nvPicPr>
              <p:cNvPr id="115" name="Прямоугольник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-357120" y="2828160"/>
                <a:ext cx="257184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10800000">
                <a:off x="-325080" y="2856960"/>
                <a:ext cx="251172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" name="Picture 33" descr="C:\Documents and Settings\Igorёк\Рабочий стол\математика\рисунки\3в.jpg"/>
            <p:cNvPicPr/>
            <p:nvPr/>
          </p:nvPicPr>
          <p:blipFill>
            <a:blip r:embed="rId6"/>
            <a:stretch/>
          </p:blipFill>
          <p:spPr>
            <a:xfrm>
              <a:off x="177120" y="2357280"/>
              <a:ext cx="1449720" cy="16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Группа 32"/>
          <p:cNvGrpSpPr/>
          <p:nvPr/>
        </p:nvGrpSpPr>
        <p:grpSpPr>
          <a:xfrm>
            <a:off x="3000240" y="500040"/>
            <a:ext cx="6972480" cy="1285920"/>
            <a:chOff x="3000240" y="500040"/>
            <a:chExt cx="6972480" cy="1285920"/>
          </a:xfrm>
        </p:grpSpPr>
        <p:grpSp>
          <p:nvGrpSpPr>
            <p:cNvPr id="119" name="Прямоугольник 29"/>
            <p:cNvGrpSpPr/>
            <p:nvPr/>
          </p:nvGrpSpPr>
          <p:grpSpPr>
            <a:xfrm>
              <a:off x="3000240" y="500040"/>
              <a:ext cx="6499800" cy="1285920"/>
              <a:chOff x="3000240" y="500040"/>
              <a:chExt cx="6499800" cy="1285920"/>
            </a:xfrm>
          </p:grpSpPr>
          <p:pic>
            <p:nvPicPr>
              <p:cNvPr id="120" name="Прямоугольник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000240" y="500040"/>
                <a:ext cx="6499800" cy="12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3031200" y="528840"/>
                <a:ext cx="6437160" cy="12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Содержимое 2"/>
            <p:cNvSpPr/>
            <p:nvPr/>
          </p:nvSpPr>
          <p:spPr>
            <a:xfrm>
              <a:off x="3097800" y="802080"/>
              <a:ext cx="687492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 одной мыши три хвос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дин льёт, другой пьёт, третий зеленеет и растёт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.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рое одним плугом пашут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Группа 34"/>
          <p:cNvGrpSpPr/>
          <p:nvPr/>
        </p:nvGrpSpPr>
        <p:grpSpPr>
          <a:xfrm>
            <a:off x="-285840" y="5214960"/>
            <a:ext cx="9786960" cy="1285920"/>
            <a:chOff x="-285840" y="5214960"/>
            <a:chExt cx="9786960" cy="1285920"/>
          </a:xfrm>
        </p:grpSpPr>
        <p:grpSp>
          <p:nvGrpSpPr>
            <p:cNvPr id="124" name="Прямоугольник 13"/>
            <p:cNvGrpSpPr/>
            <p:nvPr/>
          </p:nvGrpSpPr>
          <p:grpSpPr>
            <a:xfrm>
              <a:off x="-285840" y="5214960"/>
              <a:ext cx="9786960" cy="1285920"/>
              <a:chOff x="-285840" y="5214960"/>
              <a:chExt cx="9786960" cy="1285920"/>
            </a:xfrm>
          </p:grpSpPr>
          <p:pic>
            <p:nvPicPr>
              <p:cNvPr id="125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2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 rot="10800000">
                <a:off x="-254880" y="5246280"/>
                <a:ext cx="9723240" cy="12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Содержимое 2"/>
            <p:cNvSpPr/>
            <p:nvPr/>
          </p:nvSpPr>
          <p:spPr>
            <a:xfrm>
              <a:off x="951480" y="5314680"/>
              <a:ext cx="735264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Не узнавай друга в три дня – узнавай в три года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От горшка три вершка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Плакать в три ручья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7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С три короба</a:t>
              </a: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Прямоугольник 17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36:56Z</dcterms:modified>
  <cp:revision>10</cp:revision>
  <dc:subject/>
  <dc:title>Слайд 1</dc:title>
</cp:coreProperties>
</file>