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7C9-3195-4A01-AEC4-FE54816E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AF1-2E65-432B-9C89-8D4D7F87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AD9-CAB7-4365-9414-3CC6A3BE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DB3-432B-41BE-BA39-26D074CC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3462-493D-4D5E-8CC3-5C99317D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DCD9-E4DB-4572-9B2C-67ED9133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3DC2-8D1C-46E5-8783-D61B742E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C9B4-E336-410E-8DE1-1E79CCD4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CEB8-8952-43E9-916C-4771F0B2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C136-AE33-4707-90E7-47B8467C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D1DD-3045-4373-AAB7-BE628574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387-DACA-4CC4-8F2C-F0EAF181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3D24-C708-47BC-AC2E-34336F88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5085-AC6B-431B-B75C-54DE9289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BDFC-F129-4F02-929A-ECFBD700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2E97-EE4A-49DD-9CE3-677C1852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F360-2E72-480A-B36F-3B2BE309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633-9401-4858-94AF-C6D7680A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3C5-FBCB-4123-B877-D7AC593C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B9F-545F-4D9F-ACD2-AE93DCD9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E3C-F9E6-4544-9736-14A17F39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500-92CE-456D-9E87-BA8DCFEE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63F-801F-44D9-8613-06E6879C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6BB-6772-4911-AC31-4CECC6B6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50000">
              <a:srgbClr val="ffffff"/>
            </a:gs>
            <a:gs pos="100000">
              <a:srgbClr val="ffc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50000">
                  <a:srgbClr val="0000ff"/>
                </a:gs>
                <a:gs pos="100000">
                  <a:srgbClr val="ffc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ffc000"/>
                </a:gs>
                <a:gs pos="50000">
                  <a:srgbClr val="ffffff"/>
                </a:gs>
                <a:gs pos="100000">
                  <a:srgbClr val="ffc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ffc000"/>
                </a:gs>
                <a:gs pos="50000">
                  <a:srgbClr val="ffffff"/>
                </a:gs>
                <a:gs pos="100000">
                  <a:srgbClr val="ffc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0504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0504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8A63-37D8-4563-ACA5-FBA92BA241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50000">
              <a:srgbClr val="ffffff"/>
            </a:gs>
            <a:gs pos="100000">
              <a:srgbClr val="ffc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50000">
                  <a:srgbClr val="0000ff"/>
                </a:gs>
                <a:gs pos="100000">
                  <a:srgbClr val="ffc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ffc000"/>
                </a:gs>
                <a:gs pos="50000">
                  <a:srgbClr val="ffffff"/>
                </a:gs>
                <a:gs pos="100000">
                  <a:srgbClr val="ffc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ffc000"/>
                </a:gs>
                <a:gs pos="50000">
                  <a:srgbClr val="ffffff"/>
                </a:gs>
                <a:gs pos="100000">
                  <a:srgbClr val="ffc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0504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0504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3820-DE93-4C94-A309-D90F5C60D9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file:///../&#1075;&#1083;&#1072;&#1074;&#1085;&#1072;&#1103;.pps" TargetMode="External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оугольник 14"/>
          <p:cNvGrpSpPr/>
          <p:nvPr/>
        </p:nvGrpSpPr>
        <p:grpSpPr>
          <a:xfrm>
            <a:off x="-317520" y="4614840"/>
            <a:ext cx="9852120" cy="487440"/>
            <a:chOff x="-317520" y="4614840"/>
            <a:chExt cx="9852120" cy="487440"/>
          </a:xfrm>
        </p:grpSpPr>
        <p:pic>
          <p:nvPicPr>
            <p:cNvPr id="101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-317520" y="4614840"/>
              <a:ext cx="98521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-285840" y="4643280"/>
              <a:ext cx="978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32523"/>
                  </a:solidFill>
                  <a:latin typeface="Beresta"/>
                </a:rPr>
                <a:t>Крылатые выра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Группа 30"/>
          <p:cNvGrpSpPr/>
          <p:nvPr/>
        </p:nvGrpSpPr>
        <p:grpSpPr>
          <a:xfrm>
            <a:off x="-142920" y="214200"/>
            <a:ext cx="2500200" cy="1928880"/>
            <a:chOff x="-142920" y="214200"/>
            <a:chExt cx="2500200" cy="1928880"/>
          </a:xfrm>
        </p:grpSpPr>
        <p:grpSp>
          <p:nvGrpSpPr>
            <p:cNvPr id="104" name="Прямоугольник 18"/>
            <p:cNvGrpSpPr/>
            <p:nvPr/>
          </p:nvGrpSpPr>
          <p:grpSpPr>
            <a:xfrm>
              <a:off x="-142920" y="828720"/>
              <a:ext cx="2500200" cy="774360"/>
              <a:chOff x="-142920" y="828720"/>
              <a:chExt cx="2500200" cy="774360"/>
            </a:xfrm>
          </p:grpSpPr>
          <p:pic>
            <p:nvPicPr>
              <p:cNvPr id="105" name="Прямоугольник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-142920" y="828720"/>
                <a:ext cx="2500200" cy="7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10800000">
                <a:off x="-115920" y="856080"/>
                <a:ext cx="2441880" cy="71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" name="Picture 30" descr="C:\Documents and Settings\Igorёк\Рабочий стол\математика\рисунки\4 а.jpg"/>
            <p:cNvPicPr/>
            <p:nvPr/>
          </p:nvPicPr>
          <p:blipFill>
            <a:blip r:embed="rId3"/>
            <a:stretch/>
          </p:blipFill>
          <p:spPr>
            <a:xfrm>
              <a:off x="302760" y="214200"/>
              <a:ext cx="1744200" cy="192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Группа 32"/>
          <p:cNvGrpSpPr/>
          <p:nvPr/>
        </p:nvGrpSpPr>
        <p:grpSpPr>
          <a:xfrm>
            <a:off x="-214200" y="2428920"/>
            <a:ext cx="2786040" cy="1785960"/>
            <a:chOff x="-214200" y="2428920"/>
            <a:chExt cx="2786040" cy="1785960"/>
          </a:xfrm>
        </p:grpSpPr>
        <p:grpSp>
          <p:nvGrpSpPr>
            <p:cNvPr id="109" name="Прямоугольник 21"/>
            <p:cNvGrpSpPr/>
            <p:nvPr/>
          </p:nvGrpSpPr>
          <p:grpSpPr>
            <a:xfrm>
              <a:off x="-214200" y="2895480"/>
              <a:ext cx="2786040" cy="707040"/>
              <a:chOff x="-214200" y="2895480"/>
              <a:chExt cx="2786040" cy="707040"/>
            </a:xfrm>
          </p:grpSpPr>
          <p:pic>
            <p:nvPicPr>
              <p:cNvPr id="110" name="Прямоугольник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4200" y="2895480"/>
                <a:ext cx="2786040" cy="70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10800000">
                <a:off x="-185040" y="2928600"/>
                <a:ext cx="272664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2" name="Picture 31" descr="C:\Documents and Settings\Igorёк\Рабочий стол\математика\рисунки\4б.jpg"/>
            <p:cNvPicPr/>
            <p:nvPr/>
          </p:nvPicPr>
          <p:blipFill>
            <a:blip r:embed="rId5"/>
            <a:srcRect l="0" t="0" r="0" b="3121"/>
            <a:stretch/>
          </p:blipFill>
          <p:spPr>
            <a:xfrm>
              <a:off x="234000" y="2428920"/>
              <a:ext cx="2018160" cy="178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Группа 34"/>
          <p:cNvGrpSpPr/>
          <p:nvPr/>
        </p:nvGrpSpPr>
        <p:grpSpPr>
          <a:xfrm>
            <a:off x="3000240" y="500040"/>
            <a:ext cx="6465960" cy="1571760"/>
            <a:chOff x="3000240" y="500040"/>
            <a:chExt cx="6465960" cy="1571760"/>
          </a:xfrm>
        </p:grpSpPr>
        <p:grpSp>
          <p:nvGrpSpPr>
            <p:cNvPr id="114" name="Прямоугольник 29"/>
            <p:cNvGrpSpPr/>
            <p:nvPr/>
          </p:nvGrpSpPr>
          <p:grpSpPr>
            <a:xfrm>
              <a:off x="3000240" y="500040"/>
              <a:ext cx="6465960" cy="1571760"/>
              <a:chOff x="3000240" y="500040"/>
              <a:chExt cx="6465960" cy="1571760"/>
            </a:xfrm>
          </p:grpSpPr>
          <p:pic>
            <p:nvPicPr>
              <p:cNvPr id="115" name="Прямоугольник 29" descr=""/>
              <p:cNvPicPr/>
              <p:nvPr/>
            </p:nvPicPr>
            <p:blipFill>
              <a:blip r:embed="rId6"/>
              <a:stretch/>
            </p:blipFill>
            <p:spPr>
              <a:xfrm>
                <a:off x="3000240" y="500040"/>
                <a:ext cx="6465960" cy="15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3031560" y="529200"/>
                <a:ext cx="6403680" cy="151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Содержимое 2"/>
            <p:cNvSpPr/>
            <p:nvPr/>
          </p:nvSpPr>
          <p:spPr>
            <a:xfrm>
              <a:off x="3173040" y="666720"/>
              <a:ext cx="594324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32523"/>
                  </a:solidFill>
                  <a:latin typeface="Times New Roman"/>
                </a:rPr>
                <a:t>1.</a:t>
              </a:r>
              <a:r>
                <a:rPr b="0" lang="ru-RU" sz="2000" spc="-1" strike="noStrike">
                  <a:solidFill>
                    <a:srgbClr val="632523"/>
                  </a:solidFill>
                  <a:latin typeface="Times New Roman"/>
                </a:rPr>
                <a:t>Четыре братца под одной крышей живу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32523"/>
                  </a:solidFill>
                  <a:latin typeface="Times New Roman"/>
                </a:rPr>
                <a:t>2.</a:t>
              </a:r>
              <a:r>
                <a:rPr b="0" lang="ru-RU" sz="2000" spc="-1" strike="noStrike">
                  <a:solidFill>
                    <a:srgbClr val="632523"/>
                  </a:solidFill>
                  <a:latin typeface="Times New Roman"/>
                </a:rPr>
                <a:t>Шевелились у цветка все четыре лепестка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32523"/>
                  </a:solidFill>
                  <a:latin typeface="Times New Roman"/>
                </a:rPr>
                <a:t>Я сорвать его хотел, он вспорхнул и улете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32523"/>
                  </a:solidFill>
                  <a:latin typeface="Times New Roman"/>
                </a:rPr>
                <a:t>3.</a:t>
              </a:r>
              <a:r>
                <a:rPr b="0" lang="ru-RU" sz="2000" spc="-1" strike="noStrike">
                  <a:solidFill>
                    <a:srgbClr val="632523"/>
                  </a:solidFill>
                  <a:latin typeface="Times New Roman"/>
                </a:rPr>
                <a:t>Живёт между камнями голова с четырьмя ногами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Группа 35"/>
          <p:cNvGrpSpPr/>
          <p:nvPr/>
        </p:nvGrpSpPr>
        <p:grpSpPr>
          <a:xfrm>
            <a:off x="3714840" y="2357280"/>
            <a:ext cx="6215040" cy="1428840"/>
            <a:chOff x="3714840" y="2357280"/>
            <a:chExt cx="6215040" cy="1428840"/>
          </a:xfrm>
        </p:grpSpPr>
        <p:grpSp>
          <p:nvGrpSpPr>
            <p:cNvPr id="119" name="Прямоугольник 11"/>
            <p:cNvGrpSpPr/>
            <p:nvPr/>
          </p:nvGrpSpPr>
          <p:grpSpPr>
            <a:xfrm>
              <a:off x="3714840" y="2357280"/>
              <a:ext cx="6215040" cy="1428840"/>
              <a:chOff x="3714840" y="2357280"/>
              <a:chExt cx="6215040" cy="1428840"/>
            </a:xfrm>
          </p:grpSpPr>
          <p:pic>
            <p:nvPicPr>
              <p:cNvPr id="120" name="Прямоугольник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3714840" y="2357280"/>
                <a:ext cx="621504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3747240" y="2384640"/>
                <a:ext cx="615204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Заголовок 1"/>
            <p:cNvSpPr/>
            <p:nvPr/>
          </p:nvSpPr>
          <p:spPr>
            <a:xfrm>
              <a:off x="3959280" y="2522160"/>
              <a:ext cx="5162040" cy="10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32523"/>
                  </a:solidFill>
                  <a:latin typeface="Times New Roman"/>
                </a:rPr>
                <a:t>Делал Егорка сам уборку. </a:t>
              </a:r>
              <a:br>
                <a:rPr sz="2000"/>
              </a:br>
              <a:r>
                <a:rPr b="0" lang="ru-RU" sz="2000" spc="-1" strike="noStrike">
                  <a:solidFill>
                    <a:srgbClr val="632523"/>
                  </a:solidFill>
                  <a:latin typeface="Times New Roman"/>
                </a:rPr>
                <a:t>Опрокинул стул в квартир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32523"/>
                  </a:solidFill>
                  <a:latin typeface="Times New Roman"/>
                </a:rPr>
                <a:t>стал похож он на четыр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16"/>
          <p:cNvGrpSpPr/>
          <p:nvPr/>
        </p:nvGrpSpPr>
        <p:grpSpPr>
          <a:xfrm>
            <a:off x="-285840" y="5214960"/>
            <a:ext cx="9786960" cy="1357200"/>
            <a:chOff x="-285840" y="5214960"/>
            <a:chExt cx="9786960" cy="1357200"/>
          </a:xfrm>
        </p:grpSpPr>
        <p:grpSp>
          <p:nvGrpSpPr>
            <p:cNvPr id="124" name="Прямоугольник 13"/>
            <p:cNvGrpSpPr/>
            <p:nvPr/>
          </p:nvGrpSpPr>
          <p:grpSpPr>
            <a:xfrm>
              <a:off x="-285840" y="5214960"/>
              <a:ext cx="9786960" cy="1357200"/>
              <a:chOff x="-285840" y="5214960"/>
              <a:chExt cx="9786960" cy="1357200"/>
            </a:xfrm>
          </p:grpSpPr>
          <p:pic>
            <p:nvPicPr>
              <p:cNvPr id="125" name="Прямоугольник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-285840" y="5214960"/>
                <a:ext cx="9786960" cy="13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 rot="10800000">
                <a:off x="-254880" y="5245920"/>
                <a:ext cx="9723240" cy="12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Прямоугольник 27"/>
            <p:cNvSpPr/>
            <p:nvPr/>
          </p:nvSpPr>
          <p:spPr>
            <a:xfrm>
              <a:off x="241920" y="5315040"/>
              <a:ext cx="865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32523"/>
                  </a:solidFill>
                  <a:latin typeface="Times New Roman"/>
                </a:rPr>
                <a:t>- Без четырёх углов изба не рубитс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32523"/>
                  </a:solidFill>
                  <a:latin typeface="Times New Roman"/>
                </a:rPr>
                <a:t>- Жить в четырёх стенах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32523"/>
                  </a:solidFill>
                  <a:latin typeface="Times New Roman"/>
                </a:rPr>
                <a:t>- Конь на четырёх ногах и тот спотыкаетс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32523"/>
                  </a:solidFill>
                  <a:latin typeface="Times New Roman"/>
                </a:rPr>
                <a:t>- Четыре угла дому не строение, четыре времени году не свершени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Прямоугольник 17">
            <a:hlinkClick r:id="rId9"/>
          </p:cNvPr>
          <p:cNvSpPr/>
          <p:nvPr/>
        </p:nvSpPr>
        <p:spPr>
          <a:xfrm>
            <a:off x="8429760" y="6572160"/>
            <a:ext cx="71424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12:35Z</dcterms:created>
  <dc:creator>Игорь</dc:creator>
  <dc:description/>
  <dc:language>en-US</dc:language>
  <cp:lastModifiedBy>Игорь</cp:lastModifiedBy>
  <dcterms:modified xsi:type="dcterms:W3CDTF">2010-02-05T16:37:21Z</dcterms:modified>
  <cp:revision>14</cp:revision>
  <dc:subject/>
  <dc:title>Слайд 1</dc:title>
</cp:coreProperties>
</file>