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44B-389D-4585-9ACC-CB278274A3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1819-0176-47D1-B130-A7B5EEF7889A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7EC-ACEB-4408-A42A-C7882D4F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532-F86F-48DB-94D5-37DE48F3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53B-AF8A-46C2-BBE0-F2D0275F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BD7-AAA5-4426-B0F2-CFEC1CA4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AB92-DD05-4F9F-B931-06B570B3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039F-9168-4A95-9CDB-DD5A8DB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C107-98C9-4CC7-9B64-03709922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F135-2119-443A-9370-524A805B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0BB9-6F3D-4FCA-BF3E-92641425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584D-BBFB-4C03-A57E-046F8074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13C3-9A8E-4C26-B9B0-4DDD3308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E21-733B-416B-A05D-5BD69FF7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8288-6B44-443F-89DD-276F6987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E180-5AFE-4A92-AFA8-B051F10E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270B-FC30-4C5D-ADFC-698097D1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E4F4-063A-440F-A369-732F31D5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28BF-0673-4B7C-9F5D-77C8D41F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127-C37D-4900-9F5D-E4F130DC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7DF-AD57-4FD5-8E52-4120321B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795-346C-402E-A472-02A5C2D3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590-5C4A-4792-AA97-7116E803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04D-EEFB-404F-88A5-9167050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FE6-CE59-4192-903B-D40B25E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681-B8F2-4270-B6D6-5914BF34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522-A2B4-4E6D-9290-A6A3E654E4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3C0E-388D-4BEA-95B2-2744AB6551F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file:///../&#1075;&#1083;&#1072;&#1074;&#1085;&#1072;&#1103;.pps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Прямоугольник 14"/>
          <p:cNvGrpSpPr/>
          <p:nvPr/>
        </p:nvGrpSpPr>
        <p:grpSpPr>
          <a:xfrm>
            <a:off x="-317520" y="4614840"/>
            <a:ext cx="9852120" cy="487440"/>
            <a:chOff x="-317520" y="4614840"/>
            <a:chExt cx="9852120" cy="487440"/>
          </a:xfrm>
        </p:grpSpPr>
        <p:pic>
          <p:nvPicPr>
            <p:cNvPr id="108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317520" y="4614840"/>
              <a:ext cx="9852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285840" y="4643280"/>
              <a:ext cx="978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cc"/>
                  </a:solidFill>
                  <a:latin typeface="Beresta"/>
                </a:rPr>
                <a:t>Крылатые выражения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10" name="Группа 52"/>
          <p:cNvGrpSpPr/>
          <p:nvPr/>
        </p:nvGrpSpPr>
        <p:grpSpPr>
          <a:xfrm>
            <a:off x="-142920" y="214200"/>
            <a:ext cx="2571840" cy="2152800"/>
            <a:chOff x="-142920" y="214200"/>
            <a:chExt cx="2571840" cy="2152800"/>
          </a:xfrm>
        </p:grpSpPr>
        <p:grpSp>
          <p:nvGrpSpPr>
            <p:cNvPr id="111" name="Прямоугольник 18"/>
            <p:cNvGrpSpPr/>
            <p:nvPr/>
          </p:nvGrpSpPr>
          <p:grpSpPr>
            <a:xfrm>
              <a:off x="-142920" y="829080"/>
              <a:ext cx="2571840" cy="700920"/>
              <a:chOff x="-142920" y="829080"/>
              <a:chExt cx="2571840" cy="700920"/>
            </a:xfrm>
          </p:grpSpPr>
          <p:pic>
            <p:nvPicPr>
              <p:cNvPr id="112" name="Прямоугольник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2920" y="829080"/>
                <a:ext cx="257184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10800000">
                <a:off x="-115920" y="856800"/>
                <a:ext cx="251748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pic>
          <p:nvPicPr>
            <p:cNvPr id="114" name="Picture 34" descr="C:\Documents and Settings\Igorёк\Рабочий стол\математика\рисунки\7а.jpg"/>
            <p:cNvPicPr/>
            <p:nvPr/>
          </p:nvPicPr>
          <p:blipFill>
            <a:blip r:embed="rId3"/>
            <a:srcRect l="6329" t="2550" r="4033" b="4478"/>
            <a:stretch/>
          </p:blipFill>
          <p:spPr>
            <a:xfrm>
              <a:off x="233640" y="214200"/>
              <a:ext cx="1748160" cy="2152800"/>
            </a:xfrm>
            <a:prstGeom prst="rect">
              <a:avLst/>
            </a:prstGeom>
            <a:ln w="38160">
              <a:solidFill>
                <a:srgbClr val="990073"/>
              </a:solidFill>
              <a:miter/>
            </a:ln>
          </p:spPr>
        </p:pic>
      </p:grpSp>
      <p:grpSp>
        <p:nvGrpSpPr>
          <p:cNvPr id="115" name="Группа 53"/>
          <p:cNvGrpSpPr/>
          <p:nvPr/>
        </p:nvGrpSpPr>
        <p:grpSpPr>
          <a:xfrm>
            <a:off x="-142920" y="2571840"/>
            <a:ext cx="3000600" cy="1714320"/>
            <a:chOff x="-142920" y="2571840"/>
            <a:chExt cx="3000600" cy="1714320"/>
          </a:xfrm>
        </p:grpSpPr>
        <p:grpSp>
          <p:nvGrpSpPr>
            <p:cNvPr id="116" name="Прямоугольник 21"/>
            <p:cNvGrpSpPr/>
            <p:nvPr/>
          </p:nvGrpSpPr>
          <p:grpSpPr>
            <a:xfrm>
              <a:off x="-142920" y="3182040"/>
              <a:ext cx="3000600" cy="707040"/>
              <a:chOff x="-142920" y="3182040"/>
              <a:chExt cx="3000600" cy="707040"/>
            </a:xfrm>
          </p:grpSpPr>
          <p:pic>
            <p:nvPicPr>
              <p:cNvPr id="117" name="Прямоугольник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2920" y="3182040"/>
                <a:ext cx="3000600" cy="70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 rot="10800000">
                <a:off x="-115920" y="3214440"/>
                <a:ext cx="294228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pic>
          <p:nvPicPr>
            <p:cNvPr id="119" name="Picture 35" descr="C:\Documents and Settings\Igorёк\Рабочий стол\математика\рисунки\7в.jpg"/>
            <p:cNvPicPr/>
            <p:nvPr/>
          </p:nvPicPr>
          <p:blipFill>
            <a:blip r:embed="rId5"/>
            <a:stretch/>
          </p:blipFill>
          <p:spPr>
            <a:xfrm>
              <a:off x="234360" y="2571840"/>
              <a:ext cx="2187000" cy="1714320"/>
            </a:xfrm>
            <a:prstGeom prst="rect">
              <a:avLst/>
            </a:prstGeom>
            <a:ln w="38160">
              <a:solidFill>
                <a:srgbClr val="990073"/>
              </a:solidFill>
              <a:miter/>
            </a:ln>
          </p:spPr>
        </p:pic>
      </p:grpSp>
      <p:grpSp>
        <p:nvGrpSpPr>
          <p:cNvPr id="120" name="Группа 47"/>
          <p:cNvGrpSpPr/>
          <p:nvPr/>
        </p:nvGrpSpPr>
        <p:grpSpPr>
          <a:xfrm>
            <a:off x="2786040" y="500040"/>
            <a:ext cx="6608880" cy="1428840"/>
            <a:chOff x="2786040" y="500040"/>
            <a:chExt cx="6608880" cy="1428840"/>
          </a:xfrm>
        </p:grpSpPr>
        <p:grpSp>
          <p:nvGrpSpPr>
            <p:cNvPr id="121" name="Прямоугольник 29"/>
            <p:cNvGrpSpPr/>
            <p:nvPr/>
          </p:nvGrpSpPr>
          <p:grpSpPr>
            <a:xfrm>
              <a:off x="2786040" y="500040"/>
              <a:ext cx="6608880" cy="1390680"/>
              <a:chOff x="2786040" y="500040"/>
              <a:chExt cx="6608880" cy="1390680"/>
            </a:xfrm>
          </p:grpSpPr>
          <p:pic>
            <p:nvPicPr>
              <p:cNvPr id="122" name="Прямоугольник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2786040" y="500040"/>
                <a:ext cx="6608880" cy="13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2816280" y="529920"/>
                <a:ext cx="6549480" cy="13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24" name="Содержимое 2"/>
            <p:cNvSpPr/>
            <p:nvPr/>
          </p:nvSpPr>
          <p:spPr>
            <a:xfrm>
              <a:off x="2957760" y="599760"/>
              <a:ext cx="2902680" cy="13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cc"/>
                  </a:solidFill>
                  <a:latin typeface="Times New Roman"/>
                </a:rPr>
                <a:t>Сколько в радуге цветов,</a:t>
              </a:r>
              <a:endParaRPr b="0" lang="en-US" sz="17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cc"/>
                  </a:solidFill>
                  <a:latin typeface="Times New Roman"/>
                </a:rPr>
                <a:t>Дней в неделе у китов,</a:t>
              </a:r>
              <a:endParaRPr b="0" lang="en-US" sz="17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cc"/>
                  </a:solidFill>
                  <a:latin typeface="Times New Roman"/>
                </a:rPr>
                <a:t>Гномиков у Белоснежки,</a:t>
              </a:r>
              <a:endParaRPr b="0" lang="en-US" sz="17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cc"/>
                  </a:solidFill>
                  <a:latin typeface="Times New Roman"/>
                </a:rPr>
                <a:t>Братьев близнецов у печки,</a:t>
              </a:r>
              <a:endParaRPr b="0" lang="en-US" sz="17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Прямоугольник 46"/>
            <p:cNvSpPr/>
            <p:nvPr/>
          </p:nvSpPr>
          <p:spPr>
            <a:xfrm>
              <a:off x="5860440" y="599760"/>
              <a:ext cx="325656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cc"/>
                  </a:solidFill>
                  <a:latin typeface="Times New Roman"/>
                </a:rPr>
                <a:t>Нот, что знают даже дети,</a:t>
              </a:r>
              <a:endParaRPr b="0" lang="en-US" sz="17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cc"/>
                  </a:solidFill>
                  <a:latin typeface="Times New Roman"/>
                </a:rPr>
                <a:t>И всего чудес на свете,</a:t>
              </a:r>
              <a:endParaRPr b="0" lang="en-US" sz="17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cc"/>
                  </a:solidFill>
                  <a:latin typeface="Times New Roman"/>
                </a:rPr>
                <a:t>Разобраться с этим всем</a:t>
              </a:r>
              <a:endParaRPr b="0" lang="en-US" sz="17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cc"/>
                  </a:solidFill>
                  <a:latin typeface="Times New Roman"/>
                </a:rPr>
                <a:t>Нам поможет цифра  …</a:t>
              </a:r>
              <a:endParaRPr b="0" lang="en-US" sz="17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6" name="Группа 49"/>
          <p:cNvGrpSpPr/>
          <p:nvPr/>
        </p:nvGrpSpPr>
        <p:grpSpPr>
          <a:xfrm>
            <a:off x="3429000" y="3000240"/>
            <a:ext cx="6000840" cy="928800"/>
            <a:chOff x="3429000" y="3000240"/>
            <a:chExt cx="6000840" cy="928800"/>
          </a:xfrm>
        </p:grpSpPr>
        <p:grpSp>
          <p:nvGrpSpPr>
            <p:cNvPr id="127" name="Прямоугольник 11"/>
            <p:cNvGrpSpPr/>
            <p:nvPr/>
          </p:nvGrpSpPr>
          <p:grpSpPr>
            <a:xfrm>
              <a:off x="3429000" y="3000240"/>
              <a:ext cx="6000840" cy="928800"/>
              <a:chOff x="3429000" y="3000240"/>
              <a:chExt cx="6000840" cy="928800"/>
            </a:xfrm>
          </p:grpSpPr>
          <p:pic>
            <p:nvPicPr>
              <p:cNvPr id="128" name="Прямоугольник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3429000" y="3000240"/>
                <a:ext cx="60008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3456000" y="3029760"/>
                <a:ext cx="5942880" cy="86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30" name="Заголовок 1"/>
            <p:cNvSpPr/>
            <p:nvPr/>
          </p:nvSpPr>
          <p:spPr>
            <a:xfrm>
              <a:off x="3597480" y="3096360"/>
              <a:ext cx="530604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Times New Roman"/>
                </a:rPr>
                <a:t>Вьётся по ветру коса,</a:t>
              </a:r>
              <a:br>
                <a:rPr sz="1800"/>
              </a:br>
              <a:r>
                <a:rPr b="0" lang="ru-RU" sz="1800" spc="-1" strike="noStrike">
                  <a:solidFill>
                    <a:srgbClr val="ffffcc"/>
                  </a:solidFill>
                  <a:latin typeface="Times New Roman"/>
                </a:rPr>
                <a:t>А средь спинки полоса.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1" name="Группа 51"/>
          <p:cNvGrpSpPr/>
          <p:nvPr/>
        </p:nvGrpSpPr>
        <p:grpSpPr>
          <a:xfrm>
            <a:off x="-285840" y="5214960"/>
            <a:ext cx="9786960" cy="1428840"/>
            <a:chOff x="-285840" y="5214960"/>
            <a:chExt cx="9786960" cy="1428840"/>
          </a:xfrm>
        </p:grpSpPr>
        <p:grpSp>
          <p:nvGrpSpPr>
            <p:cNvPr id="132" name="Прямоугольник 13"/>
            <p:cNvGrpSpPr/>
            <p:nvPr/>
          </p:nvGrpSpPr>
          <p:grpSpPr>
            <a:xfrm>
              <a:off x="-285840" y="5214960"/>
              <a:ext cx="9786960" cy="1428840"/>
              <a:chOff x="-285840" y="5214960"/>
              <a:chExt cx="9786960" cy="1428840"/>
            </a:xfrm>
          </p:grpSpPr>
          <p:pic>
            <p:nvPicPr>
              <p:cNvPr id="133" name="Прямоугольник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-285840" y="5214960"/>
                <a:ext cx="978696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-254520" y="5246640"/>
                <a:ext cx="9723240" cy="13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35" name="Содержимое 2"/>
            <p:cNvSpPr/>
            <p:nvPr/>
          </p:nvSpPr>
          <p:spPr>
            <a:xfrm>
              <a:off x="2016360" y="5315040"/>
              <a:ext cx="610380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cc"/>
                  </a:solidFill>
                  <a:latin typeface="Times New Roman"/>
                </a:rPr>
                <a:t>Сем бед один ответ.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cc"/>
                  </a:solidFill>
                  <a:latin typeface="Times New Roman"/>
                </a:rPr>
                <a:t>Семеро одного не ждут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36" name="Прямоугольник 19">
            <a:hlinkClick r:id="rId9"/>
          </p:cNvPr>
          <p:cNvSpPr/>
          <p:nvPr/>
        </p:nvSpPr>
        <p:spPr>
          <a:xfrm>
            <a:off x="8429760" y="6500880"/>
            <a:ext cx="714240" cy="357120"/>
          </a:xfrm>
          <a:prstGeom prst="rect">
            <a:avLst/>
          </a:prstGeom>
          <a:solidFill>
            <a:srgbClr val="560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40:45Z</dcterms:modified>
  <cp:revision>20</cp:revision>
  <dc:subject/>
  <dc:title>Слайд 1</dc:title>
</cp:coreProperties>
</file>