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980-6291-4E04-81AB-FB2A9C3D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69D-46FE-476B-B793-3396B465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5DC-4696-4384-9629-CBBC6C75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07A-BECE-4281-A13E-072B30EA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BEA8-8718-496C-9801-2B0CDE9B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8CE9-ED9D-46CC-A6B2-7D7A57D1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67F2-234B-436C-B40A-62477443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0A33-6D16-4691-B273-4FA294DB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DB33-94BD-4709-AF72-5D8095BA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CE80-38BB-476B-922A-BA22B36B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1BD8-F785-4CD4-A23C-A2C45884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5A1-00D0-4596-AE33-C917C507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DE34-8177-4F56-B5E7-BBDE0B16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7ECE-D3CA-45C8-9A33-4DDAA7C1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178E-933E-4EEB-84C0-0DB6F16B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96AF-58D9-495F-B368-06DDDD0C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9FC0-E34F-4C3B-9986-A08487F7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9F4-DD04-46FE-9233-D0BD3638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9F8-434C-411F-B41A-90FF2D42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F6F-1151-4BA7-81AF-1236E458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7F7-597C-4542-BBD1-71937EC7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ACE-77C1-4047-8E45-D2E7F2F9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9F0-D11B-4074-AF62-DD4E3637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603-70E7-497C-A6DB-FAA9277D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EA9A-5EF0-4FB8-AE4E-F0D69A1F64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762E-D07C-4DA0-8B94-2F492C1B0BC6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file:///../&#1075;&#1083;&#1072;&#1074;&#1085;&#1072;&#1103;.pps" TargetMode="External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Группа 16"/>
          <p:cNvGrpSpPr/>
          <p:nvPr/>
        </p:nvGrpSpPr>
        <p:grpSpPr>
          <a:xfrm>
            <a:off x="-2428920" y="142920"/>
            <a:ext cx="2286000" cy="1855800"/>
            <a:chOff x="-2428920" y="142920"/>
            <a:chExt cx="2286000" cy="1855800"/>
          </a:xfrm>
        </p:grpSpPr>
        <p:grpSp>
          <p:nvGrpSpPr>
            <p:cNvPr id="101" name="Прямоугольник 3"/>
            <p:cNvGrpSpPr/>
            <p:nvPr/>
          </p:nvGrpSpPr>
          <p:grpSpPr>
            <a:xfrm>
              <a:off x="-2428920" y="701280"/>
              <a:ext cx="2286000" cy="738720"/>
              <a:chOff x="-2428920" y="701280"/>
              <a:chExt cx="2286000" cy="738720"/>
            </a:xfrm>
          </p:grpSpPr>
          <p:pic>
            <p:nvPicPr>
              <p:cNvPr id="102" name="Прямоугольник 3" descr=""/>
              <p:cNvPicPr/>
              <p:nvPr/>
            </p:nvPicPr>
            <p:blipFill>
              <a:blip r:embed="rId1"/>
              <a:stretch/>
            </p:blipFill>
            <p:spPr>
              <a:xfrm>
                <a:off x="-2428920" y="701280"/>
                <a:ext cx="2286000" cy="73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10800000">
                <a:off x="-2401560" y="731160"/>
                <a:ext cx="2226960" cy="68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pic>
          <p:nvPicPr>
            <p:cNvPr id="104" name="Picture 2" descr="C:\Documents and Settings\Igorёк\Рабочий стол\математика\рисунки\2а.jpg"/>
            <p:cNvPicPr/>
            <p:nvPr/>
          </p:nvPicPr>
          <p:blipFill>
            <a:blip r:embed="rId2"/>
            <a:stretch/>
          </p:blipFill>
          <p:spPr>
            <a:xfrm>
              <a:off x="-2096280" y="142920"/>
              <a:ext cx="1543680" cy="18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Группа 17"/>
          <p:cNvGrpSpPr/>
          <p:nvPr/>
        </p:nvGrpSpPr>
        <p:grpSpPr>
          <a:xfrm>
            <a:off x="-2714760" y="2357280"/>
            <a:ext cx="2571840" cy="1906920"/>
            <a:chOff x="-2714760" y="2357280"/>
            <a:chExt cx="2571840" cy="1906920"/>
          </a:xfrm>
        </p:grpSpPr>
        <p:grpSp>
          <p:nvGrpSpPr>
            <p:cNvPr id="106" name="Прямоугольник 6"/>
            <p:cNvGrpSpPr/>
            <p:nvPr/>
          </p:nvGrpSpPr>
          <p:grpSpPr>
            <a:xfrm>
              <a:off x="-2714760" y="2912760"/>
              <a:ext cx="2571840" cy="748800"/>
              <a:chOff x="-2714760" y="2912760"/>
              <a:chExt cx="2571840" cy="748800"/>
            </a:xfrm>
          </p:grpSpPr>
          <p:pic>
            <p:nvPicPr>
              <p:cNvPr id="107" name="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-2714760" y="2912760"/>
                <a:ext cx="2571840" cy="74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10800000">
                <a:off x="-2686320" y="2944440"/>
                <a:ext cx="2511720" cy="68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pic>
          <p:nvPicPr>
            <p:cNvPr id="109" name="Picture 3" descr="C:\Documents and Settings\Igorёк\Рабочий стол\математика\рисунки\2в.jpg"/>
            <p:cNvPicPr/>
            <p:nvPr/>
          </p:nvPicPr>
          <p:blipFill>
            <a:blip r:embed="rId4"/>
            <a:stretch/>
          </p:blipFill>
          <p:spPr>
            <a:xfrm>
              <a:off x="-2446560" y="2357280"/>
              <a:ext cx="2036160" cy="190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Группа 18"/>
          <p:cNvGrpSpPr/>
          <p:nvPr/>
        </p:nvGrpSpPr>
        <p:grpSpPr>
          <a:xfrm>
            <a:off x="9144000" y="571680"/>
            <a:ext cx="6572160" cy="1071360"/>
            <a:chOff x="9144000" y="571680"/>
            <a:chExt cx="6572160" cy="1071360"/>
          </a:xfrm>
        </p:grpSpPr>
        <p:grpSp>
          <p:nvGrpSpPr>
            <p:cNvPr id="111" name="Прямоугольник 11"/>
            <p:cNvGrpSpPr/>
            <p:nvPr/>
          </p:nvGrpSpPr>
          <p:grpSpPr>
            <a:xfrm>
              <a:off x="9144000" y="571680"/>
              <a:ext cx="6572160" cy="1071360"/>
              <a:chOff x="9144000" y="571680"/>
              <a:chExt cx="6572160" cy="1071360"/>
            </a:xfrm>
          </p:grpSpPr>
          <p:pic>
            <p:nvPicPr>
              <p:cNvPr id="112" name="Прямоугольник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0" y="571680"/>
                <a:ext cx="6572160" cy="107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10800000">
                <a:off x="9173520" y="598320"/>
                <a:ext cx="6512760" cy="10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14" name="Прямоугольник 7"/>
            <p:cNvSpPr/>
            <p:nvPr/>
          </p:nvSpPr>
          <p:spPr>
            <a:xfrm>
              <a:off x="9315720" y="801360"/>
              <a:ext cx="453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Times New Roman"/>
                </a:rPr>
                <a:t>Чёрненькая, хвостатенькая, не лает, не кусает, а из класса в класс не пускает. 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15" name="Группа 20"/>
          <p:cNvGrpSpPr/>
          <p:nvPr/>
        </p:nvGrpSpPr>
        <p:grpSpPr>
          <a:xfrm>
            <a:off x="9144000" y="2500200"/>
            <a:ext cx="6500880" cy="1543320"/>
            <a:chOff x="9144000" y="2500200"/>
            <a:chExt cx="6500880" cy="1543320"/>
          </a:xfrm>
        </p:grpSpPr>
        <p:grpSp>
          <p:nvGrpSpPr>
            <p:cNvPr id="116" name="Группа 19"/>
            <p:cNvGrpSpPr/>
            <p:nvPr/>
          </p:nvGrpSpPr>
          <p:grpSpPr>
            <a:xfrm>
              <a:off x="9144000" y="2500200"/>
              <a:ext cx="6500880" cy="1543320"/>
              <a:chOff x="9144000" y="2500200"/>
              <a:chExt cx="6500880" cy="1543320"/>
            </a:xfrm>
          </p:grpSpPr>
          <p:grpSp>
            <p:nvGrpSpPr>
              <p:cNvPr id="117" name="Прямоугольник 12"/>
              <p:cNvGrpSpPr/>
              <p:nvPr/>
            </p:nvGrpSpPr>
            <p:grpSpPr>
              <a:xfrm>
                <a:off x="9186480" y="2500200"/>
                <a:ext cx="6458400" cy="1464120"/>
                <a:chOff x="9186480" y="2500200"/>
                <a:chExt cx="6458400" cy="1464120"/>
              </a:xfrm>
            </p:grpSpPr>
            <p:pic>
              <p:nvPicPr>
                <p:cNvPr id="118" name="Прямоугольник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186480" y="2500200"/>
                  <a:ext cx="6458400" cy="146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 rot="10800000">
                  <a:off x="9214560" y="2530080"/>
                  <a:ext cx="6401880" cy="140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Содержимое 2"/>
              <p:cNvSpPr/>
              <p:nvPr/>
            </p:nvSpPr>
            <p:spPr>
              <a:xfrm>
                <a:off x="9144000" y="2601000"/>
                <a:ext cx="2674440" cy="14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cc"/>
                    </a:solidFill>
                    <a:latin typeface="Times New Roman"/>
                  </a:rPr>
                  <a:t>А вот это цифра два.</a:t>
                </a:r>
                <a:endParaRPr b="0" lang="en-US" sz="16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cc"/>
                    </a:solidFill>
                    <a:latin typeface="Times New Roman"/>
                  </a:rPr>
                  <a:t>Полюбуйся, какова:</a:t>
                </a:r>
                <a:endParaRPr b="0" lang="en-US" sz="16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cc"/>
                    </a:solidFill>
                    <a:latin typeface="Times New Roman"/>
                  </a:rPr>
                  <a:t>выгибает двойка шею,</a:t>
                </a:r>
                <a:endParaRPr b="0" lang="en-US" sz="16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cc"/>
                    </a:solidFill>
                    <a:latin typeface="Times New Roman"/>
                  </a:rPr>
                  <a:t>волочиться хвост за нею.</a:t>
                </a:r>
                <a:endParaRPr b="0" lang="en-US" sz="16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21" name="Содержимое 2"/>
            <p:cNvSpPr/>
            <p:nvPr/>
          </p:nvSpPr>
          <p:spPr>
            <a:xfrm>
              <a:off x="12144240" y="2643120"/>
              <a:ext cx="23572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cc"/>
                  </a:solidFill>
                  <a:latin typeface="Times New Roman"/>
                </a:rPr>
                <a:t>Два похожа на гусёнка</a:t>
              </a: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cc"/>
                  </a:solidFill>
                  <a:latin typeface="Times New Roman"/>
                </a:rPr>
                <a:t>С длинной шеей,</a:t>
              </a: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cc"/>
                  </a:solidFill>
                  <a:latin typeface="Times New Roman"/>
                </a:rPr>
                <a:t>Шеей тонкой.</a:t>
              </a: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2" name="Прямоугольник 14"/>
          <p:cNvGrpSpPr/>
          <p:nvPr/>
        </p:nvGrpSpPr>
        <p:grpSpPr>
          <a:xfrm>
            <a:off x="-317520" y="4541760"/>
            <a:ext cx="9852120" cy="487440"/>
            <a:chOff x="-317520" y="4541760"/>
            <a:chExt cx="9852120" cy="487440"/>
          </a:xfrm>
        </p:grpSpPr>
        <p:pic>
          <p:nvPicPr>
            <p:cNvPr id="123" name="Прямоугольник 14" descr=""/>
            <p:cNvPicPr/>
            <p:nvPr/>
          </p:nvPicPr>
          <p:blipFill>
            <a:blip r:embed="rId7"/>
            <a:stretch/>
          </p:blipFill>
          <p:spPr>
            <a:xfrm>
              <a:off x="-317520" y="4541760"/>
              <a:ext cx="98521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-285840" y="4572000"/>
              <a:ext cx="978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Beresta"/>
                </a:rPr>
                <a:t>Крылатые выражения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5" name="Группа 21"/>
          <p:cNvGrpSpPr/>
          <p:nvPr/>
        </p:nvGrpSpPr>
        <p:grpSpPr>
          <a:xfrm>
            <a:off x="-285840" y="5143680"/>
            <a:ext cx="9786960" cy="1285560"/>
            <a:chOff x="-285840" y="5143680"/>
            <a:chExt cx="9786960" cy="1285560"/>
          </a:xfrm>
        </p:grpSpPr>
        <p:grpSp>
          <p:nvGrpSpPr>
            <p:cNvPr id="126" name="Прямоугольник 13"/>
            <p:cNvGrpSpPr/>
            <p:nvPr/>
          </p:nvGrpSpPr>
          <p:grpSpPr>
            <a:xfrm>
              <a:off x="-285840" y="5143680"/>
              <a:ext cx="9786960" cy="1285560"/>
              <a:chOff x="-285840" y="5143680"/>
              <a:chExt cx="9786960" cy="1285560"/>
            </a:xfrm>
          </p:grpSpPr>
          <p:pic>
            <p:nvPicPr>
              <p:cNvPr id="127" name="Прямоугольник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-285840" y="5143680"/>
                <a:ext cx="9786960" cy="12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 rot="10800000">
                <a:off x="-254880" y="5170320"/>
                <a:ext cx="9723240" cy="122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29" name="Содержимое 2"/>
            <p:cNvSpPr/>
            <p:nvPr/>
          </p:nvSpPr>
          <p:spPr>
            <a:xfrm>
              <a:off x="525600" y="5171040"/>
              <a:ext cx="830376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cc"/>
                  </a:solidFill>
                  <a:latin typeface="Times New Roman"/>
                </a:rPr>
                <a:t>Горе на двоих – полгоря, радость на двоих – две радости.</a:t>
              </a: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cc"/>
                  </a:solidFill>
                  <a:latin typeface="Times New Roman"/>
                </a:rPr>
                <a:t>Два сапога – пара.</a:t>
              </a: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cc"/>
                  </a:solidFill>
                  <a:latin typeface="Times New Roman"/>
                </a:rPr>
                <a:t>Как две капли воды.</a:t>
              </a: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cc"/>
                  </a:solidFill>
                  <a:latin typeface="Times New Roman"/>
                </a:rPr>
                <a:t>Лентяй дважды работает.</a:t>
              </a: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30" name="Прямоугольник 21">
            <a:hlinkClick r:id="rId9"/>
          </p:cNvPr>
          <p:cNvSpPr/>
          <p:nvPr/>
        </p:nvSpPr>
        <p:spPr>
          <a:xfrm>
            <a:off x="8429760" y="6500880"/>
            <a:ext cx="714240" cy="357120"/>
          </a:xfrm>
          <a:prstGeom prst="rect">
            <a:avLst/>
          </a:prstGeom>
          <a:solidFill>
            <a:srgbClr val="5600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-0.70973 0.00278 E">
                                      <p:cBhvr>
                                        <p:cTn id="6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1.48148E-006 L 0.25469 -0.00255 E">
                                      <p:cBhvr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-0.6743 0.00186 E">
                                      <p:cBhvr>
                                        <p:cTn id="13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1.11111E-006 L 0.28611 -0.0037 E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12:35Z</dcterms:created>
  <dc:creator>Игорь</dc:creator>
  <dc:description/>
  <dc:language>en-US</dc:language>
  <cp:lastModifiedBy>Игорь</cp:lastModifiedBy>
  <dcterms:modified xsi:type="dcterms:W3CDTF">2010-02-05T16:36:33Z</dcterms:modified>
  <cp:revision>9</cp:revision>
  <dc:subject/>
  <dc:title>Слайд 1</dc:title>
</cp:coreProperties>
</file>