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B3C3-CA6B-44B5-A211-6D3306D8D6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CA4C-E6F8-401C-9146-D587828D7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653-6130-48D5-A514-0E9FF174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FE0-D4EE-4E37-9113-D291CC2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494-A63A-4D06-9689-3CEB4EC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891-C9A4-47F2-AAA4-F6E4D1D9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2EA8-E8A1-4668-A5E3-A07F01A4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4821-1A60-4489-9F3D-7A4667E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5FAA-B812-47F6-8566-865D81B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A04E-0E6A-4618-A6A0-AAB29E89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8B65-764C-4175-9879-9563A6D6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E9F-C814-4DCD-BF99-918348EA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10B3-D41F-4BA5-AC3A-5A6267D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91E-9008-4236-BCEA-70EBCB1B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3603-DC2A-4AF1-AE46-9D1B2E3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F54F-2EE7-4E44-B652-14C8142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35CE-8729-4C8E-8BA8-AD8F20A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D43C-6396-41D2-A159-6A42B237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6B85-1007-4737-A8C3-DC107719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2F7-A194-42B2-865B-3186028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528-38F8-4FD5-A558-885E88FE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620-90E0-489A-8BB6-2FAA015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E29-A10F-4979-919D-B209D91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6AA-8E48-40D6-A307-BE632DB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3A2-D1B2-40E8-9E24-14A4E81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03F-0F5C-4817-8CF6-332EC1D5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50000">
              <a:srgbClr val="ffffff"/>
            </a:gs>
            <a:gs pos="100000">
              <a:srgbClr val="ffc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0000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6BB-792E-4EBF-B486-CEE44A8014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50000">
              <a:srgbClr val="ffffff"/>
            </a:gs>
            <a:gs pos="100000">
              <a:srgbClr val="ffc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0000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60A5-EF6F-4E2A-A42E-BB6D7453A0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0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Beresta"/>
                </a:rPr>
                <a:t>Крылатые выра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Прямоугольник 11"/>
          <p:cNvGrpSpPr/>
          <p:nvPr/>
        </p:nvGrpSpPr>
        <p:grpSpPr>
          <a:xfrm>
            <a:off x="3255840" y="2682720"/>
            <a:ext cx="6278760" cy="1133640"/>
            <a:chOff x="3255840" y="2682720"/>
            <a:chExt cx="6278760" cy="1133640"/>
          </a:xfrm>
        </p:grpSpPr>
        <p:pic>
          <p:nvPicPr>
            <p:cNvPr id="111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3255840" y="2682720"/>
              <a:ext cx="6278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86080" y="2714760"/>
              <a:ext cx="62150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   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А потом пошла плясать по бумаге цифра пять</a:t>
              </a:r>
              <a:br>
                <a:rPr sz="2000"/>
              </a:b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   Руку вправо протянула, ножку круто изогнул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22"/>
          <p:cNvGrpSpPr/>
          <p:nvPr/>
        </p:nvGrpSpPr>
        <p:grpSpPr>
          <a:xfrm>
            <a:off x="-142920" y="214200"/>
            <a:ext cx="2428920" cy="1822680"/>
            <a:chOff x="-142920" y="214200"/>
            <a:chExt cx="2428920" cy="1822680"/>
          </a:xfrm>
        </p:grpSpPr>
        <p:grpSp>
          <p:nvGrpSpPr>
            <p:cNvPr id="114" name="Прямоугольник 18"/>
            <p:cNvGrpSpPr/>
            <p:nvPr/>
          </p:nvGrpSpPr>
          <p:grpSpPr>
            <a:xfrm>
              <a:off x="-142920" y="829080"/>
              <a:ext cx="2428920" cy="700920"/>
              <a:chOff x="-142920" y="829080"/>
              <a:chExt cx="2428920" cy="700920"/>
            </a:xfrm>
          </p:grpSpPr>
          <p:pic>
            <p:nvPicPr>
              <p:cNvPr id="115" name="Прямоугольник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2920" y="829080"/>
                <a:ext cx="24289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10800000">
                <a:off x="-115920" y="856080"/>
                <a:ext cx="237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30" descr="C:\Documents and Settings\Igorёк\Рабочий стол\математика\рисунки\5а.jpg"/>
            <p:cNvPicPr/>
            <p:nvPr/>
          </p:nvPicPr>
          <p:blipFill>
            <a:blip r:embed="rId4"/>
            <a:srcRect l="0" t="3117" r="1732" b="0"/>
            <a:stretch/>
          </p:blipFill>
          <p:spPr>
            <a:xfrm>
              <a:off x="302760" y="214200"/>
              <a:ext cx="1535040" cy="1822680"/>
            </a:xfrm>
            <a:prstGeom prst="rect">
              <a:avLst/>
            </a:prstGeom>
            <a:ln w="9360">
              <a:solidFill>
                <a:srgbClr val="632523"/>
              </a:solidFill>
              <a:miter/>
            </a:ln>
          </p:spPr>
        </p:pic>
      </p:grpSp>
      <p:grpSp>
        <p:nvGrpSpPr>
          <p:cNvPr id="118" name="Группа 23"/>
          <p:cNvGrpSpPr/>
          <p:nvPr/>
        </p:nvGrpSpPr>
        <p:grpSpPr>
          <a:xfrm>
            <a:off x="-214200" y="2357280"/>
            <a:ext cx="2786040" cy="2013120"/>
            <a:chOff x="-214200" y="2357280"/>
            <a:chExt cx="2786040" cy="2013120"/>
          </a:xfrm>
        </p:grpSpPr>
        <p:grpSp>
          <p:nvGrpSpPr>
            <p:cNvPr id="119" name="Прямоугольник 21"/>
            <p:cNvGrpSpPr/>
            <p:nvPr/>
          </p:nvGrpSpPr>
          <p:grpSpPr>
            <a:xfrm>
              <a:off x="-214200" y="2895480"/>
              <a:ext cx="2786040" cy="707040"/>
              <a:chOff x="-214200" y="2895480"/>
              <a:chExt cx="2786040" cy="707040"/>
            </a:xfrm>
          </p:grpSpPr>
          <p:pic>
            <p:nvPicPr>
              <p:cNvPr id="120" name="Прямоугольник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4200" y="2895480"/>
                <a:ext cx="2786040" cy="7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0800000">
                <a:off x="-185040" y="2928600"/>
                <a:ext cx="272664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31" descr="C:\Documents and Settings\Igorёк\Рабочий стол\математика\рисунки\5б.jpg"/>
            <p:cNvPicPr/>
            <p:nvPr/>
          </p:nvPicPr>
          <p:blipFill>
            <a:blip r:embed="rId6"/>
            <a:stretch/>
          </p:blipFill>
          <p:spPr>
            <a:xfrm>
              <a:off x="303840" y="2357280"/>
              <a:ext cx="1677960" cy="2013120"/>
            </a:xfrm>
            <a:prstGeom prst="rect">
              <a:avLst/>
            </a:prstGeom>
            <a:ln w="9360">
              <a:solidFill>
                <a:srgbClr val="632523"/>
              </a:solidFill>
              <a:miter/>
            </a:ln>
          </p:spPr>
        </p:pic>
      </p:grpSp>
      <p:grpSp>
        <p:nvGrpSpPr>
          <p:cNvPr id="123" name="Группа 30"/>
          <p:cNvGrpSpPr/>
          <p:nvPr/>
        </p:nvGrpSpPr>
        <p:grpSpPr>
          <a:xfrm>
            <a:off x="2643120" y="214200"/>
            <a:ext cx="6751800" cy="2000520"/>
            <a:chOff x="2643120" y="214200"/>
            <a:chExt cx="6751800" cy="2000520"/>
          </a:xfrm>
        </p:grpSpPr>
        <p:grpSp>
          <p:nvGrpSpPr>
            <p:cNvPr id="124" name="Группа 28"/>
            <p:cNvGrpSpPr/>
            <p:nvPr/>
          </p:nvGrpSpPr>
          <p:grpSpPr>
            <a:xfrm>
              <a:off x="2643120" y="214200"/>
              <a:ext cx="6751800" cy="1929240"/>
              <a:chOff x="2643120" y="214200"/>
              <a:chExt cx="6751800" cy="1929240"/>
            </a:xfrm>
          </p:grpSpPr>
          <p:grpSp>
            <p:nvGrpSpPr>
              <p:cNvPr id="125" name="Прямоугольник 29"/>
              <p:cNvGrpSpPr/>
              <p:nvPr/>
            </p:nvGrpSpPr>
            <p:grpSpPr>
              <a:xfrm>
                <a:off x="2643120" y="214200"/>
                <a:ext cx="6751800" cy="1929240"/>
                <a:chOff x="2643120" y="214200"/>
                <a:chExt cx="6751800" cy="1929240"/>
              </a:xfrm>
            </p:grpSpPr>
            <p:pic>
              <p:nvPicPr>
                <p:cNvPr id="126" name="Прямоугольник 2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43120" y="214200"/>
                  <a:ext cx="6751800" cy="192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2670840" y="244440"/>
                  <a:ext cx="6694920" cy="186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Содержимое 2"/>
              <p:cNvSpPr/>
              <p:nvPr/>
            </p:nvSpPr>
            <p:spPr>
              <a:xfrm>
                <a:off x="5858280" y="520920"/>
                <a:ext cx="2833200" cy="11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32523"/>
                    </a:solidFill>
                    <a:latin typeface="Times New Roman"/>
                  </a:rPr>
                  <a:t>На руке малышка Ле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32523"/>
                    </a:solidFill>
                    <a:latin typeface="Times New Roman"/>
                  </a:rPr>
                  <a:t>Любит пальчики считать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32523"/>
                    </a:solidFill>
                    <a:latin typeface="Times New Roman"/>
                  </a:rPr>
                  <a:t>У неё на удивленье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32523"/>
                    </a:solidFill>
                    <a:latin typeface="Times New Roman"/>
                  </a:rPr>
                  <a:t>Каждый раз выходи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Содержимое 2"/>
            <p:cNvSpPr/>
            <p:nvPr/>
          </p:nvSpPr>
          <p:spPr>
            <a:xfrm>
              <a:off x="2714400" y="356760"/>
              <a:ext cx="3143160" cy="18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Смотрит мама с нетерпень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На страницы днев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Ждёт заветную оцен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У сына – озор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Но опять одни четвёр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Нет красав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32"/>
          <p:cNvGrpSpPr/>
          <p:nvPr/>
        </p:nvGrpSpPr>
        <p:grpSpPr>
          <a:xfrm>
            <a:off x="-285840" y="5214960"/>
            <a:ext cx="9786960" cy="1428840"/>
            <a:chOff x="-285840" y="5214960"/>
            <a:chExt cx="9786960" cy="1428840"/>
          </a:xfrm>
        </p:grpSpPr>
        <p:grpSp>
          <p:nvGrpSpPr>
            <p:cNvPr id="131" name="Прямоугольник 13"/>
            <p:cNvGrpSpPr/>
            <p:nvPr/>
          </p:nvGrpSpPr>
          <p:grpSpPr>
            <a:xfrm>
              <a:off x="-285840" y="5214960"/>
              <a:ext cx="9786960" cy="1428840"/>
              <a:chOff x="-285840" y="5214960"/>
              <a:chExt cx="9786960" cy="1428840"/>
            </a:xfrm>
          </p:grpSpPr>
          <p:pic>
            <p:nvPicPr>
              <p:cNvPr id="132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-254520" y="5246640"/>
                <a:ext cx="9723240" cy="13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Прямоугольник 31"/>
            <p:cNvSpPr/>
            <p:nvPr/>
          </p:nvSpPr>
          <p:spPr>
            <a:xfrm>
              <a:off x="28800" y="5315040"/>
              <a:ext cx="9084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- </a:t>
              </a:r>
              <a:r>
                <a:rPr b="1" lang="ru-RU" sz="2000" spc="-1" strike="noStrike">
                  <a:solidFill>
                    <a:srgbClr val="632523"/>
                  </a:solidFill>
                  <a:latin typeface="Times New Roman"/>
                </a:rPr>
                <a:t>Пятое колесо в телеге 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( лишний, ненужный в каком – либо деле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32523"/>
                  </a:solidFill>
                  <a:latin typeface="Times New Roman"/>
                </a:rPr>
                <a:t>- Как свои пять пальцев. 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(значит очень хорошо, досконально, основательно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32523"/>
                  </a:solidFill>
                  <a:latin typeface="Times New Roman"/>
                </a:rPr>
                <a:t>- С пятого на десятое. 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(выражение, употребляемое вместо подробного перечисления, названия чего - либо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7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37:41Z</dcterms:modified>
  <cp:revision>17</cp:revision>
  <dc:subject/>
  <dc:title>Слайд 1</dc:title>
</cp:coreProperties>
</file>