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C28B-18BF-4B07-B7B6-F437141D29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15C8-5512-4148-815F-9A30F2D40C1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CC3C-94E5-4158-A610-CD7BBBC89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8630-C9E4-41F2-96A4-177A6F2B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134F-FBFC-407E-BB2D-A19D5EE2A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B6E9-7676-4B0A-8B43-FC5431CE6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9976-D13F-460D-A05A-1F9370D81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F3725-2CCB-4AA6-BBC8-8C05BD3A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5B34-15D4-4044-BC3B-CB8AE829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DA35-2710-4E83-9AE1-11614DE3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9A513-FC56-47C6-95CF-8AF310B3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1F23-1731-478D-935A-4F21B4AD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5ED7-C8F2-4E23-8F38-B31BBF67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0309-4613-4A49-AB84-E00DF3E1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0664-12B3-4AD9-96B6-7F22A531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1DA8-2CA5-4C06-87C9-DF827158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E655-687A-49A0-8F68-7750F248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36A2-73A0-47B4-B9DA-3EA060521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8103-A6C3-416C-86A5-7BAA0FAC6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10C6-5636-469F-AF93-4F1C7AB0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D7A8-520A-401C-9C6A-87A5154B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82C2-B055-43AF-A5BB-AB330BA5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2C73-72E7-4117-8662-56D384C2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2482-2713-440C-99AB-7B262419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9795-827A-4217-B1D1-87817F26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1A17-4A68-4DB0-8C31-D8D0AFF9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b13f9a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de6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13f9a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13f9a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b13f9a"/>
                </a:gs>
                <a:gs pos="50000">
                  <a:srgbClr val="000000"/>
                </a:gs>
                <a:gs pos="100000">
                  <a:srgbClr val="b13f9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b13f9a"/>
                </a:gs>
                <a:gs pos="50000">
                  <a:srgbClr val="ac66bb"/>
                </a:gs>
                <a:gs pos="100000">
                  <a:srgbClr val="b13f9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ac66bb"/>
                </a:gs>
                <a:gs pos="50000">
                  <a:srgbClr val="b13f9a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b13f9a"/>
                </a:gs>
                <a:gs pos="50000">
                  <a:srgbClr val="ac66bb"/>
                </a:gs>
                <a:gs pos="100000">
                  <a:srgbClr val="b13f9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ac66bb"/>
                </a:gs>
                <a:gs pos="50000">
                  <a:srgbClr val="b13f9a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AB41-D7CC-42BB-99B6-421184C8E88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b13f9a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de6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13f9a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13f9a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b13f9a"/>
                </a:gs>
                <a:gs pos="50000">
                  <a:srgbClr val="000000"/>
                </a:gs>
                <a:gs pos="100000">
                  <a:srgbClr val="b13f9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b13f9a"/>
                </a:gs>
                <a:gs pos="50000">
                  <a:srgbClr val="ac66bb"/>
                </a:gs>
                <a:gs pos="100000">
                  <a:srgbClr val="b13f9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ac66bb"/>
                </a:gs>
                <a:gs pos="50000">
                  <a:srgbClr val="b13f9a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b13f9a"/>
                </a:gs>
                <a:gs pos="50000">
                  <a:srgbClr val="ac66bb"/>
                </a:gs>
                <a:gs pos="100000">
                  <a:srgbClr val="b13f9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ac66bb"/>
                </a:gs>
                <a:gs pos="50000">
                  <a:srgbClr val="b13f9a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F321-B690-42CC-B67F-2933387EB6C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hyperlink" Target="file:///../&#1075;&#1083;&#1072;&#1074;&#1085;&#1072;&#1103;.pps" TargetMode="External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Прямоугольник 14"/>
          <p:cNvGrpSpPr/>
          <p:nvPr/>
        </p:nvGrpSpPr>
        <p:grpSpPr>
          <a:xfrm>
            <a:off x="-317520" y="4614840"/>
            <a:ext cx="9852120" cy="487440"/>
            <a:chOff x="-317520" y="4614840"/>
            <a:chExt cx="9852120" cy="487440"/>
          </a:xfrm>
        </p:grpSpPr>
        <p:pic>
          <p:nvPicPr>
            <p:cNvPr id="108" name="Прямоугольник 14" descr=""/>
            <p:cNvPicPr/>
            <p:nvPr/>
          </p:nvPicPr>
          <p:blipFill>
            <a:blip r:embed="rId1"/>
            <a:stretch/>
          </p:blipFill>
          <p:spPr>
            <a:xfrm>
              <a:off x="-317520" y="4614840"/>
              <a:ext cx="985212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-285840" y="4643280"/>
              <a:ext cx="9786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Beresta"/>
                </a:rPr>
                <a:t>Крылатые выраж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Группа 25"/>
          <p:cNvGrpSpPr/>
          <p:nvPr/>
        </p:nvGrpSpPr>
        <p:grpSpPr>
          <a:xfrm>
            <a:off x="-142920" y="214200"/>
            <a:ext cx="2428920" cy="1657440"/>
            <a:chOff x="-142920" y="214200"/>
            <a:chExt cx="2428920" cy="1657440"/>
          </a:xfrm>
        </p:grpSpPr>
        <p:grpSp>
          <p:nvGrpSpPr>
            <p:cNvPr id="111" name="Прямоугольник 18"/>
            <p:cNvGrpSpPr/>
            <p:nvPr/>
          </p:nvGrpSpPr>
          <p:grpSpPr>
            <a:xfrm>
              <a:off x="-142920" y="896040"/>
              <a:ext cx="2428920" cy="560880"/>
              <a:chOff x="-142920" y="896040"/>
              <a:chExt cx="2428920" cy="560880"/>
            </a:xfrm>
          </p:grpSpPr>
          <p:pic>
            <p:nvPicPr>
              <p:cNvPr id="112" name="Прямоугольник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-142920" y="896040"/>
                <a:ext cx="2428920" cy="56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 rot="10800000">
                <a:off x="-115920" y="927720"/>
                <a:ext cx="237204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4" name="Picture 32" descr="C:\Documents and Settings\Igorёк\Рабочий стол\математика\рисунки\10а.jpg"/>
            <p:cNvPicPr/>
            <p:nvPr/>
          </p:nvPicPr>
          <p:blipFill>
            <a:blip r:embed="rId3"/>
            <a:stretch/>
          </p:blipFill>
          <p:spPr>
            <a:xfrm>
              <a:off x="232920" y="214200"/>
              <a:ext cx="1674360" cy="165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Группа 28"/>
          <p:cNvGrpSpPr/>
          <p:nvPr/>
        </p:nvGrpSpPr>
        <p:grpSpPr>
          <a:xfrm>
            <a:off x="-142920" y="2214720"/>
            <a:ext cx="2928960" cy="2133360"/>
            <a:chOff x="-142920" y="2214720"/>
            <a:chExt cx="2928960" cy="2133360"/>
          </a:xfrm>
        </p:grpSpPr>
        <p:grpSp>
          <p:nvGrpSpPr>
            <p:cNvPr id="116" name="Прямоугольник 21"/>
            <p:cNvGrpSpPr/>
            <p:nvPr/>
          </p:nvGrpSpPr>
          <p:grpSpPr>
            <a:xfrm>
              <a:off x="-142920" y="3115080"/>
              <a:ext cx="2928960" cy="560520"/>
              <a:chOff x="-142920" y="3115080"/>
              <a:chExt cx="2928960" cy="560520"/>
            </a:xfrm>
          </p:grpSpPr>
          <p:pic>
            <p:nvPicPr>
              <p:cNvPr id="117" name="Прямоугольник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-142920" y="3115080"/>
                <a:ext cx="292896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"/>
              <p:cNvSpPr/>
              <p:nvPr/>
            </p:nvSpPr>
            <p:spPr>
              <a:xfrm rot="10800000">
                <a:off x="-115560" y="3142800"/>
                <a:ext cx="2872080" cy="5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9" name="Picture 33" descr="C:\Documents and Settings\Igorёк\Рабочий стол\математика\рисунки\10б.jpg"/>
            <p:cNvPicPr/>
            <p:nvPr/>
          </p:nvPicPr>
          <p:blipFill>
            <a:blip r:embed="rId5"/>
            <a:stretch/>
          </p:blipFill>
          <p:spPr>
            <a:xfrm>
              <a:off x="234360" y="2214720"/>
              <a:ext cx="1961280" cy="213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" name="Группа 24"/>
          <p:cNvGrpSpPr/>
          <p:nvPr/>
        </p:nvGrpSpPr>
        <p:grpSpPr>
          <a:xfrm>
            <a:off x="2571840" y="642960"/>
            <a:ext cx="8143920" cy="1214280"/>
            <a:chOff x="2571840" y="642960"/>
            <a:chExt cx="8143920" cy="1214280"/>
          </a:xfrm>
        </p:grpSpPr>
        <p:grpSp>
          <p:nvGrpSpPr>
            <p:cNvPr id="121" name="Прямоугольник 29"/>
            <p:cNvGrpSpPr/>
            <p:nvPr/>
          </p:nvGrpSpPr>
          <p:grpSpPr>
            <a:xfrm>
              <a:off x="2571840" y="642960"/>
              <a:ext cx="6784560" cy="1214280"/>
              <a:chOff x="2571840" y="642960"/>
              <a:chExt cx="6784560" cy="1214280"/>
            </a:xfrm>
          </p:grpSpPr>
          <p:pic>
            <p:nvPicPr>
              <p:cNvPr id="122" name="Прямоугольник 29" descr=""/>
              <p:cNvPicPr/>
              <p:nvPr/>
            </p:nvPicPr>
            <p:blipFill>
              <a:blip r:embed="rId6"/>
              <a:stretch/>
            </p:blipFill>
            <p:spPr>
              <a:xfrm>
                <a:off x="2571840" y="642960"/>
                <a:ext cx="6784560" cy="121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>
                <a:off x="2601360" y="674280"/>
                <a:ext cx="6727320" cy="115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4" name="Прямоугольник 22"/>
            <p:cNvSpPr/>
            <p:nvPr/>
          </p:nvSpPr>
          <p:spPr>
            <a:xfrm>
              <a:off x="2743560" y="810000"/>
              <a:ext cx="3416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Есть у меня работники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Всем помочь охотники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Целый десяток верных ребяток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Прямоугольник 23"/>
            <p:cNvSpPr/>
            <p:nvPr/>
          </p:nvSpPr>
          <p:spPr>
            <a:xfrm>
              <a:off x="6160320" y="742320"/>
              <a:ext cx="45554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</a:rPr>
                <a:t>По десятку на шесточке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</a:rPr>
                <a:t>Сели умные кружочк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</a:rPr>
                <a:t>И считают громко вслух,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</a:rPr>
                <a:t>Только слышно: стук да стук!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" name="Группа 32"/>
          <p:cNvGrpSpPr/>
          <p:nvPr/>
        </p:nvGrpSpPr>
        <p:grpSpPr>
          <a:xfrm>
            <a:off x="3357720" y="2928960"/>
            <a:ext cx="6000480" cy="928800"/>
            <a:chOff x="3357720" y="2928960"/>
            <a:chExt cx="6000480" cy="928800"/>
          </a:xfrm>
        </p:grpSpPr>
        <p:grpSp>
          <p:nvGrpSpPr>
            <p:cNvPr id="127" name="Прямоугольник 11"/>
            <p:cNvGrpSpPr/>
            <p:nvPr/>
          </p:nvGrpSpPr>
          <p:grpSpPr>
            <a:xfrm>
              <a:off x="3357720" y="2928960"/>
              <a:ext cx="6000480" cy="928800"/>
              <a:chOff x="3357720" y="2928960"/>
              <a:chExt cx="6000480" cy="928800"/>
            </a:xfrm>
          </p:grpSpPr>
          <p:pic>
            <p:nvPicPr>
              <p:cNvPr id="128" name="Прямоугольник 11" descr=""/>
              <p:cNvPicPr/>
              <p:nvPr/>
            </p:nvPicPr>
            <p:blipFill>
              <a:blip r:embed="rId7"/>
              <a:stretch/>
            </p:blipFill>
            <p:spPr>
              <a:xfrm>
                <a:off x="3357720" y="2928960"/>
                <a:ext cx="6000480" cy="92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3386520" y="2959920"/>
                <a:ext cx="5942520" cy="86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0" name="Заголовок 1"/>
            <p:cNvSpPr/>
            <p:nvPr/>
          </p:nvSpPr>
          <p:spPr>
            <a:xfrm>
              <a:off x="3528000" y="2959920"/>
              <a:ext cx="558864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4e7ed"/>
                  </a:solidFill>
                  <a:latin typeface="Times New Roman"/>
                </a:rPr>
                <a:t>С нулём гуляет единица не может с ним наговориться.</a:t>
              </a:r>
              <a:br>
                <a:rPr sz="1800"/>
              </a:br>
              <a:r>
                <a:rPr b="0" lang="ru-RU" sz="1800" spc="-1" strike="noStrike">
                  <a:solidFill>
                    <a:srgbClr val="f4e7ed"/>
                  </a:solidFill>
                  <a:latin typeface="Times New Roman"/>
                </a:rPr>
                <a:t>Ноль встаёт за единицей – цифра 10 на странице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Группа 35"/>
          <p:cNvGrpSpPr/>
          <p:nvPr/>
        </p:nvGrpSpPr>
        <p:grpSpPr>
          <a:xfrm>
            <a:off x="-285840" y="5214960"/>
            <a:ext cx="9786960" cy="1428840"/>
            <a:chOff x="-285840" y="5214960"/>
            <a:chExt cx="9786960" cy="1428840"/>
          </a:xfrm>
        </p:grpSpPr>
        <p:grpSp>
          <p:nvGrpSpPr>
            <p:cNvPr id="132" name="Прямоугольник 13"/>
            <p:cNvGrpSpPr/>
            <p:nvPr/>
          </p:nvGrpSpPr>
          <p:grpSpPr>
            <a:xfrm>
              <a:off x="-285840" y="5214960"/>
              <a:ext cx="9786960" cy="1428840"/>
              <a:chOff x="-285840" y="5214960"/>
              <a:chExt cx="9786960" cy="1428840"/>
            </a:xfrm>
          </p:grpSpPr>
          <p:pic>
            <p:nvPicPr>
              <p:cNvPr id="133" name="Прямоугольник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-285840" y="5214960"/>
                <a:ext cx="9786960" cy="142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" name=""/>
              <p:cNvSpPr/>
              <p:nvPr/>
            </p:nvSpPr>
            <p:spPr>
              <a:xfrm>
                <a:off x="-254520" y="5246640"/>
                <a:ext cx="9723240" cy="136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" name="Содержимое 2"/>
            <p:cNvSpPr/>
            <p:nvPr/>
          </p:nvSpPr>
          <p:spPr>
            <a:xfrm>
              <a:off x="667800" y="5315040"/>
              <a:ext cx="8232840" cy="11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ru-RU" sz="1700" spc="-1" strike="noStrike">
                  <a:solidFill>
                    <a:srgbClr val="ffffff"/>
                  </a:solidFill>
                  <a:latin typeface="Times New Roman"/>
                </a:rPr>
                <a:t>-  Без десятков и счёту нет.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ru-RU" sz="1700" spc="-1" strike="noStrike">
                  <a:solidFill>
                    <a:srgbClr val="ffffff"/>
                  </a:solidFill>
                  <a:latin typeface="Times New Roman"/>
                </a:rPr>
                <a:t>- Лучше десять раз попробовать, чем один раз на мель сесть.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ru-RU" sz="1700" spc="-1" strike="noStrike">
                  <a:solidFill>
                    <a:srgbClr val="ffffff"/>
                  </a:solidFill>
                  <a:latin typeface="Times New Roman"/>
                </a:rPr>
                <a:t>- Дело десятое.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ru-RU" sz="1700" spc="-1" strike="noStrike">
                  <a:solidFill>
                    <a:srgbClr val="ffffff"/>
                  </a:solidFill>
                  <a:latin typeface="Times New Roman"/>
                </a:rPr>
                <a:t>- С пятого на десятое.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Прямоугольник 19">
            <a:hlinkClick r:id="rId9"/>
          </p:cNvPr>
          <p:cNvSpPr/>
          <p:nvPr/>
        </p:nvSpPr>
        <p:spPr>
          <a:xfrm>
            <a:off x="8429760" y="6500880"/>
            <a:ext cx="714240" cy="3571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3:12:35Z</dcterms:created>
  <dc:creator>Игорь</dc:creator>
  <dc:description/>
  <dc:language>en-US</dc:language>
  <cp:lastModifiedBy>Игорь</cp:lastModifiedBy>
  <dcterms:modified xsi:type="dcterms:W3CDTF">2010-02-05T16:41:09Z</dcterms:modified>
  <cp:revision>26</cp:revision>
  <dc:subject/>
  <dc:title>Слайд 1</dc:title>
</cp:coreProperties>
</file>