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D8D9-4661-445B-AD8F-B12E39E463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506-3B82-49C6-8FAB-6E8A86795C15}" type="slidenum">
              <a:rPr b="0" lang="ru-RU" sz="1200" spc="-1" strike="noStrike">
                <a:solidFill>
                  <a:srgbClr val="6c00d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c00d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BEC-B5D4-4A80-9BC2-71204819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3AC-E317-497A-89C5-9646F2E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33A-7FD9-4412-A1D8-8BCF587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3B6-9F18-4296-A773-4961F146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348-BF5D-4164-9E80-F0D1D933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9EA-9990-435D-94DE-8FB292B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2629-7B05-45ED-BC8D-C994451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3D6-F223-4001-9407-71F4B8B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0AF8-359B-4F24-BEBF-0DBBD33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4FB0-19BE-403F-A58C-B9CF895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EF4-3367-4697-9646-601E074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CD2-A752-4F7E-9C40-524F0519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F55C-353C-4B3A-B580-D407395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492-D677-414F-B2EA-70BB9BF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D78-3CC1-4B24-8A91-3295FEC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F4D5-1B79-4865-B72E-6CA42597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E44D-A8FC-47B0-AEA9-E62DE03D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003-CDF2-4D57-BE48-9BF22DE5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173-49FE-4550-A524-E1F01358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8AC-7B0D-45B9-B25F-FABB958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8DD-B96B-4CA0-A6AC-0834A717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56C-F6A0-4C9F-8B1F-1032BB1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3D8-DC44-461D-A64E-F786D41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A42-E562-47A1-BE64-C169E7B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b3ff"/>
            </a:gs>
            <a:gs pos="50000">
              <a:srgbClr val="69676d"/>
            </a:gs>
            <a:gs pos="100000">
              <a:srgbClr val="d9b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410082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9b3ff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B76-F955-497A-890D-FFCDC9739F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b3ff"/>
            </a:gs>
            <a:gs pos="50000">
              <a:srgbClr val="69676d"/>
            </a:gs>
            <a:gs pos="100000">
              <a:srgbClr val="d9b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410082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d9b3ff"/>
                </a:gs>
                <a:gs pos="50000">
                  <a:srgbClr val="69676d"/>
                </a:gs>
                <a:gs pos="100000">
                  <a:srgbClr val="d9b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9b3ff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50000">
                  <a:srgbClr val="d3ecb9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d3ecb9"/>
                </a:gs>
                <a:gs pos="50000">
                  <a:srgbClr val="69676d"/>
                </a:gs>
                <a:gs pos="100000">
                  <a:srgbClr val="d3ec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2f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4f2f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c00d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d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c00d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c00d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c00d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c00d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0E3-D869-40EF-93E8-A0A5185088A8}" type="slidenum">
              <a:rPr b="0" lang="ru-RU" sz="1400" spc="-1" strike="noStrike">
                <a:solidFill>
                  <a:srgbClr val="6c00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file:///../&#1075;&#1083;&#1072;&#1074;&#1085;&#1072;&#1103;.pps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13"/>
          <p:cNvGrpSpPr/>
          <p:nvPr/>
        </p:nvGrpSpPr>
        <p:grpSpPr>
          <a:xfrm>
            <a:off x="182520" y="2395440"/>
            <a:ext cx="8705880" cy="3919680"/>
            <a:chOff x="182520" y="2395440"/>
            <a:chExt cx="8705880" cy="3919680"/>
          </a:xfrm>
        </p:grpSpPr>
        <p:pic>
          <p:nvPicPr>
            <p:cNvPr id="108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182520" y="2395440"/>
              <a:ext cx="870588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14200" y="2428920"/>
              <a:ext cx="864396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grpSp>
        <p:nvGrpSpPr>
          <p:cNvPr id="110" name="Прямоугольник 21"/>
          <p:cNvGrpSpPr/>
          <p:nvPr/>
        </p:nvGrpSpPr>
        <p:grpSpPr>
          <a:xfrm>
            <a:off x="-30240" y="1042920"/>
            <a:ext cx="9204480" cy="560520"/>
            <a:chOff x="-30240" y="1042920"/>
            <a:chExt cx="9204480" cy="560520"/>
          </a:xfrm>
        </p:grpSpPr>
        <p:pic>
          <p:nvPicPr>
            <p:cNvPr id="111" name="Прямоугольник 21" descr=""/>
            <p:cNvPicPr/>
            <p:nvPr/>
          </p:nvPicPr>
          <p:blipFill>
            <a:blip r:embed="rId2"/>
            <a:stretch/>
          </p:blipFill>
          <p:spPr>
            <a:xfrm>
              <a:off x="-30240" y="1042920"/>
              <a:ext cx="9204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107172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5f1e0"/>
                  </a:solidFill>
                  <a:latin typeface="Beresta"/>
                </a:rPr>
                <a:t>Крылатые выражения</a:t>
              </a:r>
              <a:endParaRPr b="0" lang="en-US" sz="2400" spc="-1" strike="noStrike">
                <a:solidFill>
                  <a:srgbClr val="6c00d9"/>
                </a:solidFill>
                <a:latin typeface="Arial"/>
              </a:endParaRPr>
            </a:p>
          </p:txBody>
        </p:sp>
      </p:grpSp>
      <p:pic>
        <p:nvPicPr>
          <p:cNvPr id="113" name="Picture 33" descr="C:\Documents and Settings\Igorёк\Рабочий стол\математика\рисунки\1в.jpg"/>
          <p:cNvPicPr/>
          <p:nvPr/>
        </p:nvPicPr>
        <p:blipFill>
          <a:blip r:embed="rId3"/>
          <a:stretch/>
        </p:blipFill>
        <p:spPr>
          <a:xfrm>
            <a:off x="7016760" y="85680"/>
            <a:ext cx="1755720" cy="2187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5"/>
          <p:cNvSpPr/>
          <p:nvPr/>
        </p:nvSpPr>
        <p:spPr>
          <a:xfrm>
            <a:off x="1571760" y="2857680"/>
            <a:ext cx="59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Один за всех, все за одного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Первый блин комом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Беда никогда не приходит одна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За одного битого, двух небитых дают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Семь бед – один ответ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Один в поле не воин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Семеро одного не ждут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- Семь раз примерь, один раз отрежь.</a:t>
            </a:r>
            <a:endParaRPr b="0" lang="en-US" sz="2400" spc="-1" strike="noStrike">
              <a:solidFill>
                <a:srgbClr val="6c00d9"/>
              </a:solidFill>
              <a:latin typeface="Arial"/>
            </a:endParaRPr>
          </a:p>
        </p:txBody>
      </p:sp>
      <p:pic>
        <p:nvPicPr>
          <p:cNvPr id="115" name="Picture 32" descr="C:\Documents and Settings\Igorёк\Рабочий стол\математика\рисунки\1а.jpg"/>
          <p:cNvPicPr/>
          <p:nvPr/>
        </p:nvPicPr>
        <p:blipFill>
          <a:blip r:embed="rId4"/>
          <a:stretch/>
        </p:blipFill>
        <p:spPr>
          <a:xfrm>
            <a:off x="291960" y="146160"/>
            <a:ext cx="170208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>
            <a:hlinkClick r:id="rId5"/>
          </p:cNvPr>
          <p:cNvSpPr/>
          <p:nvPr/>
        </p:nvSpPr>
        <p:spPr>
          <a:xfrm>
            <a:off x="7429680" y="6500880"/>
            <a:ext cx="714240" cy="35712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d9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6c00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2:35Z</dcterms:created>
  <dc:creator>Игорь</dc:creator>
  <dc:description/>
  <dc:language>en-US</dc:language>
  <cp:lastModifiedBy>Игорь</cp:lastModifiedBy>
  <dcterms:modified xsi:type="dcterms:W3CDTF">2010-02-05T16:36:19Z</dcterms:modified>
  <cp:revision>24</cp:revision>
  <dc:subject/>
  <dc:title>Слайд 1</dc:title>
</cp:coreProperties>
</file>