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1A59-F33B-40D9-B60F-2C3525B558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F661-F59E-4640-9DB4-347311B122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C23F-BD0E-43CB-8D8E-ED265AB7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C00-3525-419D-9FA4-50E43376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ABE-B41D-4DDC-869D-0A2894CD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BB16-44FA-483D-A32D-8426AA7A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7DDF-8339-47EA-9B6A-6E0A83B9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242D-64DF-4AAC-BA28-61F23549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264A-4601-4880-A8AE-03360719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9EDB-CD2B-45B9-9EF7-E75E949F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B86B-B682-4FE4-84A4-D8D259AE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54EA-E9F4-4EAD-BD50-DE054B2A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D259-1DCD-4D22-8C9F-B54F6765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48B-B299-4996-B86D-20DFD6CF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3E3F-239A-4AD4-AB1D-E0C71B53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BC82-9E84-4721-A520-335E967D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1C29-CEC3-497E-9F5E-A1EC14D9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E227-207D-4819-B1CE-87A7BC94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1B82-60DA-4138-8507-B9465AFE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9A9-49C5-47DF-8DE1-FAF55654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9B1-F2F0-4C6E-A4CB-B4C807FA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B476-766F-42C8-AF4A-1F6CD516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ED64-1CF9-41AA-B42B-6BEA13A2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BD26-D616-46F7-A5F1-FBAA6277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38F-AB28-49AD-8CB5-59EA5364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041C-584B-4A98-8D23-076630E8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13f9a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de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13f9a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13f9a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50000">
                  <a:srgbClr val="000000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50000">
                  <a:srgbClr val="ac66bb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ac66bb"/>
                </a:gs>
                <a:gs pos="50000">
                  <a:srgbClr val="b13f9a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50000">
                  <a:srgbClr val="ac66bb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ac66bb"/>
                </a:gs>
                <a:gs pos="50000">
                  <a:srgbClr val="b13f9a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9174-8D62-4E2E-8E9C-6EFB29EB618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13f9a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de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13f9a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13f9a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50000">
                  <a:srgbClr val="000000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50000">
                  <a:srgbClr val="ac66bb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ac66bb"/>
                </a:gs>
                <a:gs pos="50000">
                  <a:srgbClr val="b13f9a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50000">
                  <a:srgbClr val="ac66bb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ac66bb"/>
                </a:gs>
                <a:gs pos="50000">
                  <a:srgbClr val="b13f9a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5DFE-0F76-4304-89EC-7169F9FA7FE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file:///../&#1075;&#1083;&#1072;&#1074;&#1085;&#1072;&#1103;.pps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Группа 28"/>
          <p:cNvGrpSpPr/>
          <p:nvPr/>
        </p:nvGrpSpPr>
        <p:grpSpPr>
          <a:xfrm>
            <a:off x="2571840" y="642960"/>
            <a:ext cx="6751440" cy="1214280"/>
            <a:chOff x="2571840" y="642960"/>
            <a:chExt cx="6751440" cy="1214280"/>
          </a:xfrm>
        </p:grpSpPr>
        <p:grpSp>
          <p:nvGrpSpPr>
            <p:cNvPr id="108" name="Прямоугольник 29"/>
            <p:cNvGrpSpPr/>
            <p:nvPr/>
          </p:nvGrpSpPr>
          <p:grpSpPr>
            <a:xfrm>
              <a:off x="2571840" y="642960"/>
              <a:ext cx="6751440" cy="1214280"/>
              <a:chOff x="2571840" y="642960"/>
              <a:chExt cx="6751440" cy="1214280"/>
            </a:xfrm>
          </p:grpSpPr>
          <p:pic>
            <p:nvPicPr>
              <p:cNvPr id="109" name="Прямоугольник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1840" y="642960"/>
                <a:ext cx="6751440" cy="121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2601000" y="674280"/>
                <a:ext cx="6694560" cy="11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Содержимое 2"/>
            <p:cNvSpPr/>
            <p:nvPr/>
          </p:nvSpPr>
          <p:spPr>
            <a:xfrm>
              <a:off x="2742840" y="742320"/>
              <a:ext cx="5355000" cy="94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К девяти без десяти надо в школу нам идти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В девять слышится звонок – начинается урок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К девяти без десяти детям спать пора идти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А не ляжете в кровать – носом будете клевать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Прямоугольник 14"/>
          <p:cNvGrpSpPr/>
          <p:nvPr/>
        </p:nvGrpSpPr>
        <p:grpSpPr>
          <a:xfrm>
            <a:off x="-317520" y="4614840"/>
            <a:ext cx="9852120" cy="487440"/>
            <a:chOff x="-317520" y="4614840"/>
            <a:chExt cx="9852120" cy="487440"/>
          </a:xfrm>
        </p:grpSpPr>
        <p:pic>
          <p:nvPicPr>
            <p:cNvPr id="113" name="Прямоугольник 14" descr=""/>
            <p:cNvPicPr/>
            <p:nvPr/>
          </p:nvPicPr>
          <p:blipFill>
            <a:blip r:embed="rId2"/>
            <a:stretch/>
          </p:blipFill>
          <p:spPr>
            <a:xfrm>
              <a:off x="-317520" y="4614840"/>
              <a:ext cx="98521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-285840" y="4643280"/>
              <a:ext cx="978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Beresta"/>
                </a:rPr>
                <a:t>Крылатые выраж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Группа 22"/>
          <p:cNvGrpSpPr/>
          <p:nvPr/>
        </p:nvGrpSpPr>
        <p:grpSpPr>
          <a:xfrm>
            <a:off x="-142920" y="142920"/>
            <a:ext cx="2357640" cy="2023920"/>
            <a:chOff x="-142920" y="142920"/>
            <a:chExt cx="2357640" cy="2023920"/>
          </a:xfrm>
        </p:grpSpPr>
        <p:grpSp>
          <p:nvGrpSpPr>
            <p:cNvPr id="116" name="Прямоугольник 18"/>
            <p:cNvGrpSpPr/>
            <p:nvPr/>
          </p:nvGrpSpPr>
          <p:grpSpPr>
            <a:xfrm>
              <a:off x="-142920" y="896040"/>
              <a:ext cx="2357640" cy="560880"/>
              <a:chOff x="-142920" y="896040"/>
              <a:chExt cx="2357640" cy="560880"/>
            </a:xfrm>
          </p:grpSpPr>
          <p:pic>
            <p:nvPicPr>
              <p:cNvPr id="117" name="Прямоугольник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-142920" y="896040"/>
                <a:ext cx="2357640" cy="56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 rot="10800000">
                <a:off x="-115560" y="928080"/>
                <a:ext cx="23025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9" name="Picture 32" descr="C:\Documents and Settings\Igorёк\Рабочий стол\математика\рисунки\9а.jpg"/>
            <p:cNvPicPr/>
            <p:nvPr/>
          </p:nvPicPr>
          <p:blipFill>
            <a:blip r:embed="rId4"/>
            <a:srcRect l="0" t="2741" r="3452" b="2691"/>
            <a:stretch/>
          </p:blipFill>
          <p:spPr>
            <a:xfrm>
              <a:off x="163080" y="142920"/>
              <a:ext cx="1604880" cy="2023920"/>
            </a:xfrm>
            <a:prstGeom prst="rect">
              <a:avLst/>
            </a:prstGeom>
            <a:ln w="38160">
              <a:solidFill>
                <a:srgbClr val="b83d68"/>
              </a:solidFill>
              <a:miter/>
            </a:ln>
          </p:spPr>
        </p:pic>
      </p:grpSp>
      <p:grpSp>
        <p:nvGrpSpPr>
          <p:cNvPr id="120" name="Группа 25"/>
          <p:cNvGrpSpPr/>
          <p:nvPr/>
        </p:nvGrpSpPr>
        <p:grpSpPr>
          <a:xfrm>
            <a:off x="-142920" y="2428920"/>
            <a:ext cx="3071880" cy="1928880"/>
            <a:chOff x="-142920" y="2428920"/>
            <a:chExt cx="3071880" cy="1928880"/>
          </a:xfrm>
        </p:grpSpPr>
        <p:grpSp>
          <p:nvGrpSpPr>
            <p:cNvPr id="121" name="Прямоугольник 21"/>
            <p:cNvGrpSpPr/>
            <p:nvPr/>
          </p:nvGrpSpPr>
          <p:grpSpPr>
            <a:xfrm>
              <a:off x="-142920" y="3115080"/>
              <a:ext cx="3071880" cy="560880"/>
              <a:chOff x="-142920" y="3115080"/>
              <a:chExt cx="3071880" cy="560880"/>
            </a:xfrm>
          </p:grpSpPr>
          <p:pic>
            <p:nvPicPr>
              <p:cNvPr id="122" name="Прямоугольник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2920" y="3115080"/>
                <a:ext cx="3071880" cy="56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 rot="10800000">
                <a:off x="-115560" y="3142800"/>
                <a:ext cx="301752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24" name="Picture 33" descr="C:\Documents and Settings\Igorёк\Рабочий стол\математика\рисунки\9в.jpg"/>
            <p:cNvPicPr/>
            <p:nvPr/>
          </p:nvPicPr>
          <p:blipFill>
            <a:blip r:embed="rId6"/>
            <a:stretch/>
          </p:blipFill>
          <p:spPr>
            <a:xfrm>
              <a:off x="164880" y="2428920"/>
              <a:ext cx="2386080" cy="192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Прямоугольник 26"/>
          <p:cNvSpPr/>
          <p:nvPr/>
        </p:nvSpPr>
        <p:spPr>
          <a:xfrm>
            <a:off x="6505560" y="714240"/>
            <a:ext cx="2638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тгадайте – ка ребятк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 за цифра – акробатк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сли на голову встанет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овно на три меньше станет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Группа 31"/>
          <p:cNvGrpSpPr/>
          <p:nvPr/>
        </p:nvGrpSpPr>
        <p:grpSpPr>
          <a:xfrm>
            <a:off x="3357720" y="2928960"/>
            <a:ext cx="6000480" cy="928800"/>
            <a:chOff x="3357720" y="2928960"/>
            <a:chExt cx="6000480" cy="928800"/>
          </a:xfrm>
        </p:grpSpPr>
        <p:grpSp>
          <p:nvGrpSpPr>
            <p:cNvPr id="127" name="Прямоугольник 11"/>
            <p:cNvGrpSpPr/>
            <p:nvPr/>
          </p:nvGrpSpPr>
          <p:grpSpPr>
            <a:xfrm>
              <a:off x="3357720" y="2928960"/>
              <a:ext cx="6000480" cy="928800"/>
              <a:chOff x="3357720" y="2928960"/>
              <a:chExt cx="6000480" cy="928800"/>
            </a:xfrm>
          </p:grpSpPr>
          <p:pic>
            <p:nvPicPr>
              <p:cNvPr id="128" name="Прямоугольник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3357720" y="2928960"/>
                <a:ext cx="600048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3386520" y="2959920"/>
                <a:ext cx="5942520" cy="86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Заголовок 1"/>
            <p:cNvSpPr/>
            <p:nvPr/>
          </p:nvSpPr>
          <p:spPr>
            <a:xfrm>
              <a:off x="3457080" y="3026880"/>
              <a:ext cx="565956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4e7ed"/>
                  </a:solidFill>
                  <a:latin typeface="Times New Roman"/>
                </a:rPr>
                <a:t>Цифра девять иль девятка, цирковая акробатка:</a:t>
              </a:r>
              <a:br>
                <a:rPr sz="1700"/>
              </a:br>
              <a:r>
                <a:rPr b="0" lang="ru-RU" sz="1700" spc="-1" strike="noStrike">
                  <a:solidFill>
                    <a:srgbClr val="f4e7ed"/>
                  </a:solidFill>
                  <a:latin typeface="Times New Roman"/>
                </a:rPr>
                <a:t>Если на голову встанет,</a:t>
              </a:r>
              <a:br>
                <a:rPr sz="1700"/>
              </a:br>
              <a:r>
                <a:rPr b="0" lang="ru-RU" sz="1700" spc="-1" strike="noStrike">
                  <a:solidFill>
                    <a:srgbClr val="f4e7ed"/>
                  </a:solidFill>
                  <a:latin typeface="Times New Roman"/>
                </a:rPr>
                <a:t>Цифрой шесть девятка станет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Группа 35"/>
          <p:cNvGrpSpPr/>
          <p:nvPr/>
        </p:nvGrpSpPr>
        <p:grpSpPr>
          <a:xfrm>
            <a:off x="-285840" y="5214960"/>
            <a:ext cx="9786960" cy="1428840"/>
            <a:chOff x="-285840" y="5214960"/>
            <a:chExt cx="9786960" cy="1428840"/>
          </a:xfrm>
        </p:grpSpPr>
        <p:grpSp>
          <p:nvGrpSpPr>
            <p:cNvPr id="132" name="Прямоугольник 13"/>
            <p:cNvGrpSpPr/>
            <p:nvPr/>
          </p:nvGrpSpPr>
          <p:grpSpPr>
            <a:xfrm>
              <a:off x="-285840" y="5214960"/>
              <a:ext cx="9786960" cy="1428840"/>
              <a:chOff x="-285840" y="5214960"/>
              <a:chExt cx="9786960" cy="1428840"/>
            </a:xfrm>
          </p:grpSpPr>
          <p:pic>
            <p:nvPicPr>
              <p:cNvPr id="133" name="Прямоугольник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-285840" y="5214960"/>
                <a:ext cx="978696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-254520" y="5246640"/>
                <a:ext cx="9723240" cy="13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Прямоугольник 33"/>
            <p:cNvSpPr/>
            <p:nvPr/>
          </p:nvSpPr>
          <p:spPr>
            <a:xfrm>
              <a:off x="1519560" y="5520240"/>
              <a:ext cx="596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Девятый вал – бурное сильное проявление чего – либо грозного: наивысший подъём, взлёт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Прямоугольник 19">
            <a:hlinkClick r:id="rId9"/>
          </p:cNvPr>
          <p:cNvSpPr/>
          <p:nvPr/>
        </p:nvSpPr>
        <p:spPr>
          <a:xfrm>
            <a:off x="8429760" y="6500880"/>
            <a:ext cx="714240" cy="3571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12:35Z</dcterms:created>
  <dc:creator>Игорь</dc:creator>
  <dc:description/>
  <dc:language>en-US</dc:language>
  <cp:lastModifiedBy>Игорь</cp:lastModifiedBy>
  <dcterms:modified xsi:type="dcterms:W3CDTF">2010-02-05T16:41:01Z</dcterms:modified>
  <cp:revision>25</cp:revision>
  <dc:subject/>
  <dc:title>Слайд 1</dc:title>
</cp:coreProperties>
</file>