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5.gif" ContentType="image/gif"/>
  <Override PartName="/ppt/media/image58.gif" ContentType="image/gif"/>
  <Override PartName="/ppt/media/image30.jpeg" ContentType="image/jpeg"/>
  <Override PartName="/ppt/media/image57.gif" ContentType="image/gif"/>
  <Override PartName="/ppt/media/image27.jpeg" ContentType="image/jpeg"/>
  <Override PartName="/ppt/media/image56.jpeg" ContentType="image/jpeg"/>
  <Override PartName="/ppt/media/image50.gif" ContentType="image/gif"/>
  <Override PartName="/ppt/media/image55.gif" ContentType="image/gif"/>
  <Override PartName="/ppt/media/image46.jpeg" ContentType="image/jpeg"/>
  <Override PartName="/ppt/media/image53.gif" ContentType="image/gif"/>
  <Override PartName="/ppt/media/image40.jpeg" ContentType="image/jpeg"/>
  <Override PartName="/ppt/media/image47.jpeg" ContentType="image/jpeg"/>
  <Override PartName="/ppt/media/image45.jpeg" ContentType="image/jpeg"/>
  <Override PartName="/ppt/media/image52.gif" ContentType="image/gif"/>
  <Override PartName="/ppt/media/image20.jpeg" ContentType="image/jpeg"/>
  <Override PartName="/ppt/media/image44.jpeg" ContentType="image/jpeg"/>
  <Override PartName="/ppt/media/image43.jpeg" ContentType="image/jpeg"/>
  <Override PartName="/ppt/media/image42.gif" ContentType="image/gif"/>
  <Override PartName="/ppt/media/image3.jpeg" ContentType="image/jpeg"/>
  <Override PartName="/ppt/media/image74.gif" ContentType="image/gif"/>
  <Override PartName="/ppt/media/image37.jpeg" ContentType="image/jpeg"/>
  <Override PartName="/ppt/media/image32.png" ContentType="image/png"/>
  <Override PartName="/ppt/media/image25.jpeg" ContentType="image/jpeg"/>
  <Override PartName="/ppt/media/image2.png" ContentType="image/png"/>
  <Override PartName="/ppt/media/image72.jpeg" ContentType="image/jpeg"/>
  <Override PartName="/ppt/media/image49.gif" ContentType="image/gif"/>
  <Override PartName="/ppt/media/image17.jpeg" ContentType="image/jpeg"/>
  <Override PartName="/ppt/media/image21.jpeg" ContentType="image/jpeg"/>
  <Override PartName="/ppt/media/image24.gif" ContentType="image/gif"/>
  <Override PartName="/ppt/media/image19.jpeg" ContentType="image/jpeg"/>
  <Override PartName="/ppt/media/image78.gif" ContentType="image/gif"/>
  <Override PartName="/ppt/media/image12.jpeg" ContentType="image/jpeg"/>
  <Override PartName="/ppt/media/image68.jpeg" ContentType="image/jpeg"/>
  <Override PartName="/ppt/media/image77.jpeg" ContentType="image/jpeg"/>
  <Override PartName="/ppt/media/image33.gif" ContentType="image/gif"/>
  <Override PartName="/ppt/media/image6.gif" ContentType="image/gif"/>
  <Override PartName="/ppt/media/image18.gif" ContentType="image/gif"/>
  <Override PartName="/ppt/media/image60.gif" ContentType="image/gif"/>
  <Override PartName="/ppt/media/image76.jpeg" ContentType="image/jpeg"/>
  <Override PartName="/ppt/media/image64.jpeg" ContentType="image/jpeg"/>
  <Override PartName="/ppt/media/image5.gif" ContentType="image/gif"/>
  <Override PartName="/ppt/media/image38.jpeg" ContentType="image/jpeg"/>
  <Override PartName="/ppt/media/image71.jpeg" ContentType="image/jpeg"/>
  <Override PartName="/ppt/media/image73.gif" ContentType="image/gif"/>
  <Override PartName="/ppt/media/image66.jpeg" ContentType="image/jpeg"/>
  <Override PartName="/ppt/media/image70.jpeg" ContentType="image/jpeg"/>
  <Override PartName="/ppt/media/image29.png" ContentType="image/png"/>
  <Override PartName="/ppt/media/image63.jpeg" ContentType="image/jpeg"/>
  <Override PartName="/ppt/media/image26.gif" ContentType="image/gif"/>
  <Override PartName="/ppt/media/image65.jpeg" ContentType="image/jpeg"/>
  <Override PartName="/ppt/media/image23.gif" ContentType="image/gif"/>
  <Override PartName="/ppt/media/image8.jpeg" ContentType="image/jpeg"/>
  <Override PartName="/ppt/media/image39.jpeg" ContentType="image/jpeg"/>
  <Override PartName="/ppt/media/image67.jpeg" ContentType="image/jpeg"/>
  <Override PartName="/ppt/media/image6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54.gif" ContentType="image/gif"/>
  <Override PartName="/ppt/media/image62.jpeg" ContentType="image/jpeg"/>
  <Override PartName="/ppt/media/image16.gif" ContentType="image/gif"/>
  <Override PartName="/ppt/media/image4.gif" ContentType="image/gif"/>
  <Override PartName="/ppt/media/image14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0.gif" ContentType="image/gif"/>
  <Override PartName="/ppt/media/image41.gif" ContentType="image/gif"/>
  <Override PartName="/ppt/media/image75.jpeg" ContentType="image/jpeg"/>
  <Override PartName="/ppt/media/image7.jpeg" ContentType="image/jpeg"/>
  <Override PartName="/ppt/media/image13.gif" ContentType="image/gif"/>
  <Override PartName="/ppt/media/image48.jpeg" ContentType="image/jpeg"/>
  <Override PartName="/ppt/media/image69.jpeg" ContentType="image/jpeg"/>
  <Override PartName="/ppt/media/image9.gif" ContentType="image/gif"/>
  <Override PartName="/ppt/media/image31.jpeg" ContentType="image/jpeg"/>
  <Override PartName="/ppt/media/image34.jpeg" ContentType="image/jpeg"/>
  <Override PartName="/ppt/media/image3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D9AA-C96C-41B7-BED3-180FCE060F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DC22-44EF-4A09-882E-68A1B32E17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9B3B-CB8C-4118-A6CA-92F80E5A2B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AB3A-B24E-4A25-82BF-B060DFD4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7E41-3355-4B34-8BB5-6EB79A96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D94A-A238-4CC1-A844-A07935F9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9DED-1EAB-4613-8477-A38EA51D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919B-4732-4E0A-A23C-BA606E0D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4C88-41D6-40A5-97FE-F909DB88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32E2-AC52-400A-B17E-5BD695CB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BB4-3DA6-4254-9DD3-D5F26B56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D41A-A25C-40DD-9EB1-414D45EC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3C84-9797-4F04-82D2-8D37C8B9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27C9-6044-45A7-AD4E-ACC367A9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7974-2B82-4079-8C8C-BE5D4BFB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992B-49F3-432B-987E-349A48E357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northural.ru/image/1229455577" TargetMode="External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gif"/><Relationship Id="rId6" Type="http://schemas.openxmlformats.org/officeDocument/2006/relationships/image" Target="../media/image5.gif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hyperlink" Target="http://northural.ru/image/1229455781" TargetMode="External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gif"/><Relationship Id="rId6" Type="http://schemas.openxmlformats.org/officeDocument/2006/relationships/image" Target="../media/image42.gif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gif"/><Relationship Id="rId6" Type="http://schemas.openxmlformats.org/officeDocument/2006/relationships/image" Target="../media/image50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53.gif"/><Relationship Id="rId3" Type="http://schemas.openxmlformats.org/officeDocument/2006/relationships/image" Target="../media/image54.gif"/><Relationship Id="rId4" Type="http://schemas.openxmlformats.org/officeDocument/2006/relationships/image" Target="../media/image55.gif"/><Relationship Id="rId5" Type="http://schemas.openxmlformats.org/officeDocument/2006/relationships/image" Target="../media/image56.jpeg"/><Relationship Id="rId6" Type="http://schemas.openxmlformats.org/officeDocument/2006/relationships/image" Target="../media/image57.gif"/><Relationship Id="rId7" Type="http://schemas.openxmlformats.org/officeDocument/2006/relationships/image" Target="../media/image58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.gif"/><Relationship Id="rId3" Type="http://schemas.openxmlformats.org/officeDocument/2006/relationships/image" Target="../media/image60.gif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image" Target="../media/image65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image" Target="../media/image72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3.gif"/><Relationship Id="rId2" Type="http://schemas.openxmlformats.org/officeDocument/2006/relationships/image" Target="../media/image74.gif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image" Target="../media/image78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Муниципальное обще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Средняя общеобразовательная школа № 4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28520" y="4928760"/>
            <a:ext cx="700092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Автор: Жихарев Данил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учащийся 3 класса МОУ СОШ № 46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Руководитель: Мирошникова Алла Александро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учитель начальных классо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П.Черноморский, Северского р-на, Краснодарского кра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тел: 66-3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2009-2010 уч.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642960" y="257184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Соль - белое золото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"/>
          <p:cNvPicPr/>
          <p:nvPr/>
        </p:nvPicPr>
        <p:blipFill>
          <a:blip r:embed="rId1"/>
          <a:stretch/>
        </p:blipFill>
        <p:spPr>
          <a:xfrm>
            <a:off x="7143840" y="1071720"/>
            <a:ext cx="1787400" cy="144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2786040" y="1285920"/>
            <a:ext cx="5286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нце XVII века Соликамск был центром российского солеварения: ежегодный объем производства в городе и уезде на 231 варнице составлял 7 млн. пудов соли, что составляло 70% от общероссийской добычи. В настоящее время варка соли в городе прекращена. Последний солеваренный Усть-Боровской завод закрыл производство в 1972 году. Завод был основан в 1878 году соликамским купцом А.В.Рязанцевым в селе Усть-Боровском. Теперь это уникальный, единственный в России солеваренный завод под открытым неб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285840" y="42876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 Black"/>
              </a:rPr>
              <a:t>Центр российского солева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d_1229453783" descr="Людмилинская скважина — один из главных символов Соликамска"/>
          <p:cNvPicPr/>
          <p:nvPr/>
        </p:nvPicPr>
        <p:blipFill>
          <a:blip r:embed="rId1"/>
          <a:stretch/>
        </p:blipFill>
        <p:spPr>
          <a:xfrm>
            <a:off x="714240" y="1143000"/>
            <a:ext cx="1500480" cy="13572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4"/>
          <p:cNvSpPr/>
          <p:nvPr/>
        </p:nvSpPr>
        <p:spPr>
          <a:xfrm>
            <a:off x="500040" y="2643120"/>
            <a:ext cx="7715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Людмилинская соляна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кважина — символ города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d_1229455577" descr="Сользавод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15080" y="4714920"/>
            <a:ext cx="1762200" cy="12096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7"/>
          <p:cNvSpPr/>
          <p:nvPr/>
        </p:nvSpPr>
        <p:spPr>
          <a:xfrm>
            <a:off x="6715080" y="592920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но так выглядел соль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9"/>
          <p:cNvSpPr/>
          <p:nvPr/>
        </p:nvSpPr>
        <p:spPr>
          <a:xfrm>
            <a:off x="500040" y="48578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 купца Рязанцева А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10" descr=""/>
          <p:cNvPicPr/>
          <p:nvPr/>
        </p:nvPicPr>
        <p:blipFill>
          <a:blip r:embed="rId4"/>
          <a:stretch/>
        </p:blipFill>
        <p:spPr>
          <a:xfrm>
            <a:off x="4786200" y="4857840"/>
            <a:ext cx="1014480" cy="1299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экология"/>
          <p:cNvPicPr/>
          <p:nvPr/>
        </p:nvPicPr>
        <p:blipFill>
          <a:blip r:embed="rId5"/>
          <a:stretch/>
        </p:blipFill>
        <p:spPr>
          <a:xfrm>
            <a:off x="714240" y="5232240"/>
            <a:ext cx="1571760" cy="1625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354516[1]"/>
          <p:cNvPicPr/>
          <p:nvPr/>
        </p:nvPicPr>
        <p:blipFill>
          <a:blip r:embed="rId6"/>
          <a:stretch/>
        </p:blipFill>
        <p:spPr>
          <a:xfrm>
            <a:off x="7858080" y="714240"/>
            <a:ext cx="1066680" cy="970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C:\Documents and Settings\Admin\Рабочий стол\39154481_IMG_2013.JPG"/>
          <p:cNvPicPr/>
          <p:nvPr/>
        </p:nvPicPr>
        <p:blipFill>
          <a:blip r:embed="rId7"/>
          <a:stretch/>
        </p:blipFill>
        <p:spPr>
          <a:xfrm>
            <a:off x="571680" y="3214800"/>
            <a:ext cx="1920600" cy="1509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C:\Documents and Settings\Admin\Рабочий стол\39155367_IMG_1991.JPG"/>
          <p:cNvPicPr/>
          <p:nvPr/>
        </p:nvPicPr>
        <p:blipFill>
          <a:blip r:embed="rId8"/>
          <a:stretch/>
        </p:blipFill>
        <p:spPr>
          <a:xfrm>
            <a:off x="571680" y="3214800"/>
            <a:ext cx="1973160" cy="1500120"/>
          </a:xfrm>
          <a:prstGeom prst="rect">
            <a:avLst/>
          </a:prstGeom>
          <a:ln w="0">
            <a:noFill/>
          </a:ln>
        </p:spPr>
      </p:pic>
      <p:pic>
        <p:nvPicPr>
          <p:cNvPr id="115" name="id_1229455781" descr="Дом купцов Рязанцевых в Соликамск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1680" y="3214800"/>
            <a:ext cx="20001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8"/>
          <p:cNvSpPr/>
          <p:nvPr/>
        </p:nvSpPr>
        <p:spPr>
          <a:xfrm>
            <a:off x="214200" y="307188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357120" y="35712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 Black"/>
              </a:rPr>
              <a:t>Пустыня из соли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0"/>
          <p:cNvSpPr/>
          <p:nvPr/>
        </p:nvSpPr>
        <p:spPr>
          <a:xfrm>
            <a:off x="3286080" y="1000080"/>
            <a:ext cx="3143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е соленое озеро. Гора соли, море соли, пустыня из соли — это Солончак Уюни Боливия, это десять миллиардов тонн соли! Естественно, местные жители не упустили это место из рук, и стали добывать соль для всех остальных стран. Добыча ведется очень простым и банальным способом: соль на поверхности просто сгребают в огромные кучи, а позже лопатами забрасывают в подъехавший грузов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14026964_1"/>
          <p:cNvPicPr/>
          <p:nvPr/>
        </p:nvPicPr>
        <p:blipFill>
          <a:blip r:embed="rId1"/>
          <a:stretch/>
        </p:blipFill>
        <p:spPr>
          <a:xfrm>
            <a:off x="642960" y="1643040"/>
            <a:ext cx="2000160" cy="1781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"/>
          <p:cNvPicPr/>
          <p:nvPr/>
        </p:nvPicPr>
        <p:blipFill>
          <a:blip r:embed="rId2"/>
          <a:stretch/>
        </p:blipFill>
        <p:spPr>
          <a:xfrm>
            <a:off x="6429240" y="1500120"/>
            <a:ext cx="2428920" cy="1806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13263953_10"/>
          <p:cNvPicPr/>
          <p:nvPr/>
        </p:nvPicPr>
        <p:blipFill>
          <a:blip r:embed="rId3"/>
          <a:stretch/>
        </p:blipFill>
        <p:spPr>
          <a:xfrm>
            <a:off x="6429240" y="3786120"/>
            <a:ext cx="2428920" cy="1839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C:\Documents and Settings\Admin\Рабочий стол\img4a706b74094ba.jpg"/>
          <p:cNvPicPr/>
          <p:nvPr/>
        </p:nvPicPr>
        <p:blipFill>
          <a:blip r:embed="rId4"/>
          <a:stretch/>
        </p:blipFill>
        <p:spPr>
          <a:xfrm>
            <a:off x="357120" y="1571760"/>
            <a:ext cx="2428920" cy="1895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j0336979[1]"/>
          <p:cNvPicPr/>
          <p:nvPr/>
        </p:nvPicPr>
        <p:blipFill>
          <a:blip r:embed="rId5"/>
          <a:stretch/>
        </p:blipFill>
        <p:spPr>
          <a:xfrm>
            <a:off x="357120" y="3571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j0365162[2]"/>
          <p:cNvPicPr/>
          <p:nvPr/>
        </p:nvPicPr>
        <p:blipFill>
          <a:blip r:embed="rId6"/>
          <a:stretch/>
        </p:blipFill>
        <p:spPr>
          <a:xfrm>
            <a:off x="7715160" y="357120"/>
            <a:ext cx="809640" cy="8334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3" descr=""/>
          <p:cNvPicPr/>
          <p:nvPr/>
        </p:nvPicPr>
        <p:blipFill>
          <a:blip r:embed="rId7"/>
          <a:stretch/>
        </p:blipFill>
        <p:spPr>
          <a:xfrm>
            <a:off x="428760" y="3857760"/>
            <a:ext cx="2500200" cy="18396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4" descr=""/>
          <p:cNvPicPr/>
          <p:nvPr/>
        </p:nvPicPr>
        <p:blipFill>
          <a:blip r:embed="rId8"/>
          <a:stretch/>
        </p:blipFill>
        <p:spPr>
          <a:xfrm>
            <a:off x="6429240" y="1500120"/>
            <a:ext cx="24703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3429000" y="1643040"/>
            <a:ext cx="2714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ляной пустыне Уюни, местные жители строят новый отель из соляных блоков. Строят собственными руками, без всякой спецтехники. В них крыша, стены, столы и стулья, стойка в баре, кровати и, конечно же, пол сложены из блоков соли, добываемой неподалеку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785880" y="28584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 Black"/>
              </a:rPr>
              <a:t>Что строят из со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Боливийцы строят новый отель из соли"/>
          <p:cNvPicPr/>
          <p:nvPr/>
        </p:nvPicPr>
        <p:blipFill>
          <a:blip r:embed="rId1"/>
          <a:stretch/>
        </p:blipFill>
        <p:spPr>
          <a:xfrm>
            <a:off x="785880" y="1071720"/>
            <a:ext cx="2520720" cy="1714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429240" y="3357720"/>
            <a:ext cx="2500560" cy="1877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C:\Documents and Settings\Admin\Рабочий стол\hotel-de-sal-playa-01.jpg"/>
          <p:cNvPicPr/>
          <p:nvPr/>
        </p:nvPicPr>
        <p:blipFill>
          <a:blip r:embed="rId3"/>
          <a:stretch/>
        </p:blipFill>
        <p:spPr>
          <a:xfrm>
            <a:off x="785880" y="3357720"/>
            <a:ext cx="2500200" cy="175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C:\Documents and Settings\Admin\Рабочий стол\12.jpg"/>
          <p:cNvPicPr/>
          <p:nvPr/>
        </p:nvPicPr>
        <p:blipFill>
          <a:blip r:embed="rId4"/>
          <a:stretch/>
        </p:blipFill>
        <p:spPr>
          <a:xfrm>
            <a:off x="6286680" y="857160"/>
            <a:ext cx="2584440" cy="1714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:\Documents and Settings\Admin\Рабочий стол\Портфель для презентаций\Анимашки\Земля\zml06.gif"/>
          <p:cNvPicPr/>
          <p:nvPr/>
        </p:nvPicPr>
        <p:blipFill>
          <a:blip r:embed="rId5"/>
          <a:stretch/>
        </p:blipFill>
        <p:spPr>
          <a:xfrm>
            <a:off x="857160" y="53578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C:\Documents and Settings\Admin\Рабочий стол\Портфель для презентаций\Анимашки\Книги\book05.gif"/>
          <p:cNvPicPr/>
          <p:nvPr/>
        </p:nvPicPr>
        <p:blipFill>
          <a:blip r:embed="rId6"/>
          <a:stretch/>
        </p:blipFill>
        <p:spPr>
          <a:xfrm>
            <a:off x="5072040" y="5072040"/>
            <a:ext cx="15336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500040" y="428760"/>
            <a:ext cx="8001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ность в соли у человека и животных (травоядных!) связана с инстинктом. Соленость не случайно поэтому - одно из четырех основных ощущений вкуса у человека. Более того, у человека, и особенно у диких животных, недостаток соли губительно сказывается на их силе и скорости реакции и, следовательно, оказывает влияние на способность животных добывать пищу, а у человека - на его работоспособность. Однако избыток соли в организме при усиленном потреблении ее не менее вреден - он вызывает различные заболевания. Отсюда видно, что необходим солевой баланс, который очень хрупок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с солевым дефицитом обычно ощущает слабость и сонливость, при длительном отсутствии соли появляются головокружение, тошнота, потеря вкуса, иногда полная утрата вкусовых ощущений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571680" y="21420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 Black"/>
              </a:rPr>
              <a:t>Соль и здоров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6" descr=""/>
          <p:cNvPicPr/>
          <p:nvPr/>
        </p:nvPicPr>
        <p:blipFill>
          <a:blip r:embed="rId1"/>
          <a:stretch/>
        </p:blipFill>
        <p:spPr>
          <a:xfrm>
            <a:off x="7000920" y="4643280"/>
            <a:ext cx="182700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500040" y="804960"/>
            <a:ext cx="7929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бы самому сделать освежитель воздуха с розовым ароматом, возьмите небольшой стеклянный пузырек и положите в него лепестки роз, пересыпав их слоем соли, и закройте колпачок. Теперь, чтобы ощутить аромат роз, достаточно открыть колпачок и слегка покачать пузы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того, чтобы вывести муравьев, разбрызгайте на местах их обитания и путях перемещения в квартире солевой раствор. Муравьи после этого должны исчезнуть, и вам не придется использовать дорогие пестициды для борьбы с н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бы с легкостью почистить вареные куриные яйца от скорлупы, добавьте в воду, в которой они будут вариться, немного соли — процесс очистки станет намного легч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144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5968"/>
                </a:solidFill>
                <a:latin typeface="Arial Black"/>
                <a:ea typeface="Times New Roman"/>
              </a:rPr>
              <a:t>Опыты с поваренной сол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C:\Documents and Settings\Admin\Рабочий стол\i2281.gif"/>
          <p:cNvPicPr/>
          <p:nvPr/>
        </p:nvPicPr>
        <p:blipFill>
          <a:blip r:embed="rId1"/>
          <a:stretch/>
        </p:blipFill>
        <p:spPr>
          <a:xfrm>
            <a:off x="7858080" y="857160"/>
            <a:ext cx="1047960" cy="1086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:\Documents and Settings\Admin\Рабочий стол\Портфель для презентаций\Разные анимашки\nasekomie009.gif"/>
          <p:cNvPicPr/>
          <p:nvPr/>
        </p:nvPicPr>
        <p:blipFill>
          <a:blip r:embed="rId2"/>
          <a:stretch/>
        </p:blipFill>
        <p:spPr>
          <a:xfrm>
            <a:off x="8072280" y="2500200"/>
            <a:ext cx="676440" cy="676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C:\Documents and Settings\Admin\Рабочий стол\Портфель для презентаций\Разные анимашки\54031.gif"/>
          <p:cNvPicPr/>
          <p:nvPr/>
        </p:nvPicPr>
        <p:blipFill>
          <a:blip r:embed="rId3"/>
          <a:stretch/>
        </p:blipFill>
        <p:spPr>
          <a:xfrm>
            <a:off x="7429680" y="500076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C:\Documents and Settings\Admin\Рабочий стол\Портфель для презентаций\Разные анимашки\54008.gif"/>
          <p:cNvPicPr/>
          <p:nvPr/>
        </p:nvPicPr>
        <p:blipFill>
          <a:blip r:embed="rId4"/>
          <a:stretch/>
        </p:blipFill>
        <p:spPr>
          <a:xfrm>
            <a:off x="500040" y="5357880"/>
            <a:ext cx="857160" cy="1036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:\Documents and Settings\Admin\Рабочий стол\Портфель для презентаций\Разные анимашки\get_img.jpg"/>
          <p:cNvPicPr/>
          <p:nvPr/>
        </p:nvPicPr>
        <p:blipFill>
          <a:blip r:embed="rId5"/>
          <a:stretch/>
        </p:blipFill>
        <p:spPr>
          <a:xfrm>
            <a:off x="4429080" y="5072040"/>
            <a:ext cx="1936800" cy="128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C:\Documents and Settings\Admin\Рабочий стол\ДАНИНА ПАПКА 2\Анимашки для школы\science09.gif"/>
          <p:cNvPicPr/>
          <p:nvPr/>
        </p:nvPicPr>
        <p:blipFill>
          <a:blip r:embed="rId6"/>
          <a:stretch/>
        </p:blipFill>
        <p:spPr>
          <a:xfrm>
            <a:off x="8143920" y="3500280"/>
            <a:ext cx="571320" cy="952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C:\Documents and Settings\Admin\Рабочий стол\Портфель для презентаций\Данина папка 2\Анимашки для школы\science17.gif"/>
          <p:cNvPicPr/>
          <p:nvPr/>
        </p:nvPicPr>
        <p:blipFill>
          <a:blip r:embed="rId7"/>
          <a:stretch/>
        </p:blipFill>
        <p:spPr>
          <a:xfrm>
            <a:off x="357120" y="0"/>
            <a:ext cx="9525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428760" y="1034640"/>
            <a:ext cx="6500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Приготовить крепкий раствор поваренной соли (пропорция должна быть 1 кг соли на 1,5 л воды) и довести его до кипения. А потом снять с плиты и погрузить в него на ночь ветки любых деревьев. При нагревании растворимость соли улучшается, а, когда раствор остывает, соль начинает кристаллизоваться. Центрами кристаллизации становятся ветки. Утром осторожно вынуть ветки и просушить. Получаются удивительной красоты, переливающиеся на свету снежные деревца.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Главная хитрость – брать соль крупного помола. Из нее кристаллы получаются крупнее и прочнее.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C:\Documents and Settings\Admin\Рабочий стол\File0033.jpg"/>
          <p:cNvPicPr/>
          <p:nvPr/>
        </p:nvPicPr>
        <p:blipFill>
          <a:blip r:embed="rId1"/>
          <a:stretch/>
        </p:blipFill>
        <p:spPr>
          <a:xfrm>
            <a:off x="7000920" y="1000080"/>
            <a:ext cx="1585800" cy="21416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3"/>
          <p:cNvSpPr/>
          <p:nvPr/>
        </p:nvSpPr>
        <p:spPr>
          <a:xfrm>
            <a:off x="1000080" y="42876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 Black"/>
                <a:ea typeface="Calibri"/>
              </a:rPr>
              <a:t>Соленый и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j0356710[1]"/>
          <p:cNvPicPr/>
          <p:nvPr/>
        </p:nvPicPr>
        <p:blipFill>
          <a:blip r:embed="rId2"/>
          <a:stretch/>
        </p:blipFill>
        <p:spPr>
          <a:xfrm>
            <a:off x="7643880" y="4786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6" descr="j0297096[1]"/>
          <p:cNvPicPr/>
          <p:nvPr/>
        </p:nvPicPr>
        <p:blipFill>
          <a:blip r:embed="rId3"/>
          <a:stretch/>
        </p:blipFill>
        <p:spPr>
          <a:xfrm>
            <a:off x="380880" y="5257800"/>
            <a:ext cx="1057320" cy="12002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6" descr="P1030767.JPG"/>
          <p:cNvPicPr/>
          <p:nvPr/>
        </p:nvPicPr>
        <p:blipFill>
          <a:blip r:embed="rId4"/>
          <a:stretch/>
        </p:blipFill>
        <p:spPr>
          <a:xfrm>
            <a:off x="1357200" y="3929040"/>
            <a:ext cx="2714760" cy="20350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7" descr="P1030768.JPG"/>
          <p:cNvPicPr/>
          <p:nvPr/>
        </p:nvPicPr>
        <p:blipFill>
          <a:blip r:embed="rId5"/>
          <a:stretch/>
        </p:blipFill>
        <p:spPr>
          <a:xfrm>
            <a:off x="1357200" y="392904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8" descr="P1030769.JPG"/>
          <p:cNvPicPr/>
          <p:nvPr/>
        </p:nvPicPr>
        <p:blipFill>
          <a:blip r:embed="rId6"/>
          <a:stretch/>
        </p:blipFill>
        <p:spPr>
          <a:xfrm>
            <a:off x="1357200" y="3857760"/>
            <a:ext cx="2905200" cy="21780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1" descr="P1030772.JPG"/>
          <p:cNvPicPr/>
          <p:nvPr/>
        </p:nvPicPr>
        <p:blipFill>
          <a:blip r:embed="rId7"/>
          <a:stretch/>
        </p:blipFill>
        <p:spPr>
          <a:xfrm>
            <a:off x="4572000" y="39290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2" descr="P1030773.JPG"/>
          <p:cNvPicPr/>
          <p:nvPr/>
        </p:nvPicPr>
        <p:blipFill>
          <a:blip r:embed="rId8"/>
          <a:stretch/>
        </p:blipFill>
        <p:spPr>
          <a:xfrm>
            <a:off x="4500720" y="3857760"/>
            <a:ext cx="2952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7715160" y="1428840"/>
            <a:ext cx="1143000" cy="162864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2"/>
          <p:cNvSpPr/>
          <p:nvPr/>
        </p:nvSpPr>
        <p:spPr>
          <a:xfrm>
            <a:off x="-203040" y="457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0" y="-72000"/>
            <a:ext cx="914400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 Black"/>
                <a:ea typeface="Times New Roman"/>
              </a:rPr>
              <a:t>Научи яйцо пла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42920" y="680040"/>
            <a:ext cx="75009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роведения опыта вам понадобятся: сырое яйцо, стакан с водой, несколько столовых ложек соли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Положим сырое яйцо в стакан с чистой водопроводной водой - яйцо опустится на дно стакана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 Вынем яйцо из стакана и растворим в воде несколько ложек соли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 Опустим яйцо в стакан с солёной водой - яйцо останется плавать на поверхности воды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оль повышает плотность воды. Чем больше соли в воде, тем сложнее в ней утонуть. В знаменитом Мёртвом море вода настолько солёная, что человек без всяких усилий может лежать на её поверхности, не боясь утону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374720" y="19479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6" descr="P1030778.JPG"/>
          <p:cNvPicPr/>
          <p:nvPr/>
        </p:nvPicPr>
        <p:blipFill>
          <a:blip r:embed="rId2"/>
          <a:stretch/>
        </p:blipFill>
        <p:spPr>
          <a:xfrm>
            <a:off x="2143080" y="4214880"/>
            <a:ext cx="2357640" cy="17683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9" descr="P1030781.JPG"/>
          <p:cNvPicPr/>
          <p:nvPr/>
        </p:nvPicPr>
        <p:blipFill>
          <a:blip r:embed="rId3"/>
          <a:stretch/>
        </p:blipFill>
        <p:spPr>
          <a:xfrm>
            <a:off x="2000160" y="4214880"/>
            <a:ext cx="2643120" cy="19828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0" descr="P1030782.JPG"/>
          <p:cNvPicPr/>
          <p:nvPr/>
        </p:nvPicPr>
        <p:blipFill>
          <a:blip r:embed="rId4"/>
          <a:stretch/>
        </p:blipFill>
        <p:spPr>
          <a:xfrm>
            <a:off x="5786280" y="41432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2" descr="P1030784.JPG"/>
          <p:cNvPicPr/>
          <p:nvPr/>
        </p:nvPicPr>
        <p:blipFill>
          <a:blip r:embed="rId5"/>
          <a:stretch/>
        </p:blipFill>
        <p:spPr>
          <a:xfrm>
            <a:off x="5643720" y="414324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3" descr="P1030785.JPG"/>
          <p:cNvPicPr/>
          <p:nvPr/>
        </p:nvPicPr>
        <p:blipFill>
          <a:blip r:embed="rId6"/>
          <a:stretch/>
        </p:blipFill>
        <p:spPr>
          <a:xfrm>
            <a:off x="5715000" y="41432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6" descr="P1030787.JPG"/>
          <p:cNvPicPr/>
          <p:nvPr/>
        </p:nvPicPr>
        <p:blipFill>
          <a:blip r:embed="rId7"/>
          <a:stretch/>
        </p:blipFill>
        <p:spPr>
          <a:xfrm>
            <a:off x="5715000" y="4160880"/>
            <a:ext cx="26431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0" y="252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2800" spc="-1" strike="noStrike">
                <a:solidFill>
                  <a:srgbClr val="215968"/>
                </a:solidFill>
                <a:latin typeface="Arial Black"/>
                <a:ea typeface="Times New Roman"/>
              </a:rPr>
              <a:t>Применение со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-785880" y="1000080"/>
            <a:ext cx="58737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пищевой с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4643280" y="571680"/>
            <a:ext cx="40006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ное производство.                                   Мясное производство.                            Рыбное производство.                       Консервирование.                                         Производство солей для ванн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ягчение воды 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блетк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оводство 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зунцы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венное производ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436320" y="4714920"/>
            <a:ext cx="35154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технической с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7"/>
          <p:cNvSpPr/>
          <p:nvPr/>
        </p:nvSpPr>
        <p:spPr>
          <a:xfrm>
            <a:off x="4643280" y="3357720"/>
            <a:ext cx="414360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ыпка дорог в зимний перио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 раствора для нефтяных скважин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водоочиска воды в котельны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ягчение воды в бытовых и промышленных аппарата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 стирального порошка, стекла, бумаги, соды , каустика и д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химические производств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Documents and Settings\Admin\Рабочий стол\Анимашки\Разное\rzn47.gif"/>
          <p:cNvPicPr/>
          <p:nvPr/>
        </p:nvPicPr>
        <p:blipFill>
          <a:blip r:embed="rId1"/>
          <a:stretch/>
        </p:blipFill>
        <p:spPr>
          <a:xfrm>
            <a:off x="214200" y="357120"/>
            <a:ext cx="642960" cy="622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Documents and Settings\Admin\Рабочий стол\ДАНИНА ПАПКА 2\Анимашки для школы\science12.gif"/>
          <p:cNvPicPr/>
          <p:nvPr/>
        </p:nvPicPr>
        <p:blipFill>
          <a:blip r:embed="rId2"/>
          <a:stretch/>
        </p:blipFill>
        <p:spPr>
          <a:xfrm>
            <a:off x="7072200" y="500040"/>
            <a:ext cx="1347840" cy="785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357120" y="142884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"/>
          <p:cNvPicPr/>
          <p:nvPr/>
        </p:nvPicPr>
        <p:blipFill>
          <a:blip r:embed="rId4"/>
          <a:stretch/>
        </p:blipFill>
        <p:spPr>
          <a:xfrm>
            <a:off x="2035080" y="3214800"/>
            <a:ext cx="2278080" cy="1498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"/>
          <p:cNvPicPr/>
          <p:nvPr/>
        </p:nvPicPr>
        <p:blipFill>
          <a:blip r:embed="rId5"/>
          <a:stretch/>
        </p:blipFill>
        <p:spPr>
          <a:xfrm>
            <a:off x="357120" y="5143680"/>
            <a:ext cx="1714680" cy="1539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flowers10"/>
          <p:cNvPicPr/>
          <p:nvPr/>
        </p:nvPicPr>
        <p:blipFill>
          <a:blip r:embed="rId6"/>
          <a:stretch/>
        </p:blipFill>
        <p:spPr>
          <a:xfrm>
            <a:off x="571680" y="3429000"/>
            <a:ext cx="101268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857160" y="571680"/>
            <a:ext cx="728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968"/>
                </a:solidFill>
                <a:latin typeface="Arial Black"/>
                <a:ea typeface="Times New Roman"/>
              </a:rPr>
              <a:t>Цель:</a:t>
            </a:r>
            <a:r>
              <a:rPr b="0" lang="ru-RU" sz="32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      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учить историю соли и ее применение в современном мир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857160" y="3500280"/>
            <a:ext cx="685800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Задачи: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знать, как была изобретена соль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 своих одноклассников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торией возникновения со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зать опыты с применением с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Поваренная соль"/>
          <p:cNvPicPr/>
          <p:nvPr/>
        </p:nvPicPr>
        <p:blipFill>
          <a:blip r:embed="rId1"/>
          <a:stretch/>
        </p:blipFill>
        <p:spPr>
          <a:xfrm>
            <a:off x="6572160" y="1714680"/>
            <a:ext cx="1714680" cy="151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пирамида из вещей"/>
          <p:cNvPicPr/>
          <p:nvPr/>
        </p:nvPicPr>
        <p:blipFill>
          <a:blip r:embed="rId2"/>
          <a:stretch/>
        </p:blipFill>
        <p:spPr>
          <a:xfrm flipH="1">
            <a:off x="7071840" y="3714840"/>
            <a:ext cx="1868760" cy="281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j0354516[1]"/>
          <p:cNvPicPr/>
          <p:nvPr/>
        </p:nvPicPr>
        <p:blipFill>
          <a:blip r:embed="rId3"/>
          <a:stretch/>
        </p:blipFill>
        <p:spPr>
          <a:xfrm>
            <a:off x="4357800" y="2286000"/>
            <a:ext cx="1066680" cy="969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j0356710[1]"/>
          <p:cNvPicPr/>
          <p:nvPr/>
        </p:nvPicPr>
        <p:blipFill>
          <a:blip r:embed="rId4"/>
          <a:stretch/>
        </p:blipFill>
        <p:spPr>
          <a:xfrm flipH="1">
            <a:off x="1213920" y="2428920"/>
            <a:ext cx="854280" cy="914400"/>
          </a:xfrm>
          <a:prstGeom prst="rect">
            <a:avLst/>
          </a:prstGeom>
          <a:ln w="0">
            <a:noFill/>
          </a:ln>
        </p:spPr>
      </p:pic>
    </p:spTree>
  </p:cSld>
  <p:transition advTm="0"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6"/>
          <p:cNvSpPr/>
          <p:nvPr/>
        </p:nvSpPr>
        <p:spPr>
          <a:xfrm>
            <a:off x="642960" y="3643200"/>
            <a:ext cx="8215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643200" y="1164600"/>
            <a:ext cx="48578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тая поваренная соль – бесцветное, не поглощающее влагу из воздуха, кристаллическое вещество, растворимое в воде и плавящееся при 801° С. В природе поваренная соль встречается в виде минерал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али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каменной соли. Слово «галит» происходит от греческого «галос», означающего и «соль», и «море». Основная масса галита чаще всего находится на глубине 5 км под поверхностью земли. Однако давление слоя горных пород, расположенных над пластом соли, превращает ее в вязкую, пластичную массу. «Всплывая» в местах пониженного давления кроющих пород, пласт соли образует соляные «купола», выходящие в ряде мест наруж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28760" y="4000680"/>
            <a:ext cx="3000240" cy="21002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428760" y="216720"/>
            <a:ext cx="8715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 Black"/>
                <a:ea typeface="Times New Roman"/>
              </a:rPr>
              <a:t>Что представляет собой поваренная с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428760" y="1143000"/>
            <a:ext cx="2857320" cy="214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j0356710[1]"/>
          <p:cNvPicPr/>
          <p:nvPr/>
        </p:nvPicPr>
        <p:blipFill>
          <a:blip r:embed="rId3"/>
          <a:stretch/>
        </p:blipFill>
        <p:spPr>
          <a:xfrm>
            <a:off x="7607160" y="5000760"/>
            <a:ext cx="15368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285840" y="2000160"/>
            <a:ext cx="471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ря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и мы узнаем, когда впервые наши далекие предки вкусили соль: нас отделяют от них десять-пятнадцать тысяч лет. Тогда еще не было посуды для приготовления пищи, все растительные продукты люди вымачивали в воде и подпекали на тлеющих углях, а мясо, насаженное на палки, обжаривали в пламени костра. «Поваренной солью» первобытных людей наверняка была зола, которая неизбежно попадала в пищу во время ее приготов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500040" y="21780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 Black"/>
                <a:ea typeface="Times New Roman"/>
              </a:rPr>
              <a:t>Что использовали древние люди вместо с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Documents and Settings\Admin\Рабочий стол\Портфель для презентаций\Анимашки\Земля\zml03.gif"/>
          <p:cNvPicPr/>
          <p:nvPr/>
        </p:nvPicPr>
        <p:blipFill>
          <a:blip r:embed="rId1"/>
          <a:stretch/>
        </p:blipFill>
        <p:spPr>
          <a:xfrm>
            <a:off x="357120" y="785880"/>
            <a:ext cx="1076400" cy="1000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:\Documents and Settings\Admin\Рабочий стол\Портфель для презентаций\Разные анимашки\23.gif"/>
          <p:cNvPicPr/>
          <p:nvPr/>
        </p:nvPicPr>
        <p:blipFill>
          <a:blip r:embed="rId2"/>
          <a:stretch/>
        </p:blipFill>
        <p:spPr>
          <a:xfrm>
            <a:off x="4071960" y="5072040"/>
            <a:ext cx="1162080" cy="1486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Documents and Settings\Admin\Рабочий стол\8d036daf_1.jpg"/>
          <p:cNvPicPr/>
          <p:nvPr/>
        </p:nvPicPr>
        <p:blipFill>
          <a:blip r:embed="rId3"/>
          <a:stretch/>
        </p:blipFill>
        <p:spPr>
          <a:xfrm>
            <a:off x="5357880" y="1214280"/>
            <a:ext cx="3238560" cy="2476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Documents and Settings\Admin\Рабочий стол\080228153008_Neanderthals.jpg"/>
          <p:cNvPicPr/>
          <p:nvPr/>
        </p:nvPicPr>
        <p:blipFill>
          <a:blip r:embed="rId4"/>
          <a:stretch/>
        </p:blipFill>
        <p:spPr>
          <a:xfrm>
            <a:off x="5357880" y="4000680"/>
            <a:ext cx="3286080" cy="2457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C:\Documents and Settings\Admin\Рабочий стол\Анимация\50.GIF"/>
          <p:cNvPicPr/>
          <p:nvPr/>
        </p:nvPicPr>
        <p:blipFill>
          <a:blip r:embed="rId5"/>
          <a:stretch/>
        </p:blipFill>
        <p:spPr>
          <a:xfrm>
            <a:off x="1285920" y="5286240"/>
            <a:ext cx="102852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3000240" y="1230480"/>
            <a:ext cx="3714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можно, однажды, за неимением пресной воды, мясо либо корни и листья растений были замочены в соленой морской или озерной воде, и еда оказалась вкуснее обычной. Может быть, добытое впрок мясо, чтобы защитить его от хищных птиц и насекомых, люди спрятали в морскую воду, а потом обнаружили, что оно приобрело приятный вк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287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 Black"/>
                <a:ea typeface="Times New Roman"/>
              </a:rPr>
              <a:t>Первое знакомство людей с сол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C:\Documents and Settings\Admin\Рабочий стол\images.jpg"/>
          <p:cNvPicPr/>
          <p:nvPr/>
        </p:nvPicPr>
        <p:blipFill>
          <a:blip r:embed="rId1"/>
          <a:stretch/>
        </p:blipFill>
        <p:spPr>
          <a:xfrm>
            <a:off x="571680" y="1285920"/>
            <a:ext cx="2293920" cy="19238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5"/>
          <p:cNvSpPr/>
          <p:nvPr/>
        </p:nvSpPr>
        <p:spPr>
          <a:xfrm>
            <a:off x="357120" y="4643280"/>
            <a:ext cx="857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блюдательные охотники первобытных племен могли заметить, что животные любят лизать солонцы – белые кристаллы каменной соли, выступающие кое-где из-под земли, и попробовали добавлять соль в пищу. Могли быть и другие случаи первого знакомства людей с этим удивительным веще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j0236235[1]"/>
          <p:cNvPicPr/>
          <p:nvPr/>
        </p:nvPicPr>
        <p:blipFill>
          <a:blip r:embed="rId2"/>
          <a:stretch/>
        </p:blipFill>
        <p:spPr>
          <a:xfrm>
            <a:off x="1000080" y="3286080"/>
            <a:ext cx="1522440" cy="20574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полив из ведра"/>
          <p:cNvPicPr/>
          <p:nvPr/>
        </p:nvPicPr>
        <p:blipFill>
          <a:blip r:embed="rId3"/>
          <a:stretch/>
        </p:blipFill>
        <p:spPr>
          <a:xfrm>
            <a:off x="6858000" y="1428840"/>
            <a:ext cx="15429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2"/>
          <p:cNvSpPr/>
          <p:nvPr/>
        </p:nvSpPr>
        <p:spPr>
          <a:xfrm>
            <a:off x="428760" y="3786120"/>
            <a:ext cx="8715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древние сведения о добыче каменной соли у праславян относятся к V в. до н. э. Торговля с Западом через Карпаты шла по соляному пути, по которому вывозили в Скифию соль из Галичского месторождения, известного еще Геродоту. Соль также добывали близ устья Днепра. Позднее, по крайней мере, с XI в., соль получали путем выварки из воды черноморских и азовских лиманов - на юге и Белого моря - на севере. Такую соль называли "морянкой". На протяжении нескольких столетий на побережье Белого моря морская вода была главным источником добычи со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571680" y="28584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 Black"/>
                <a:ea typeface="Times New Roman"/>
              </a:rPr>
              <a:t>Когда в России появилась с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:\Documents and Settings\Admin\Рабочий стол\400px-Панорама_Новопавловки.jpg"/>
          <p:cNvPicPr/>
          <p:nvPr/>
        </p:nvPicPr>
        <p:blipFill>
          <a:blip r:embed="rId1"/>
          <a:stretch/>
        </p:blipFill>
        <p:spPr>
          <a:xfrm>
            <a:off x="3857760" y="1500120"/>
            <a:ext cx="4859280" cy="1676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:\Documents and Settings\Admin\Рабочий стол\Портфель для презентаций\Анимашки\Звери и Мультики\z046.gif"/>
          <p:cNvPicPr/>
          <p:nvPr/>
        </p:nvPicPr>
        <p:blipFill>
          <a:blip r:embed="rId2"/>
          <a:stretch/>
        </p:blipFill>
        <p:spPr>
          <a:xfrm>
            <a:off x="500040" y="16430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Documents and Settings\Admin\Рабочий стол\sol10.jpg"/>
          <p:cNvPicPr/>
          <p:nvPr/>
        </p:nvPicPr>
        <p:blipFill>
          <a:blip r:embed="rId3"/>
          <a:stretch/>
        </p:blipFill>
        <p:spPr>
          <a:xfrm>
            <a:off x="2214720" y="1500120"/>
            <a:ext cx="1143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3500280" y="1087920"/>
            <a:ext cx="3357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ими солепромышленниками на Севере были Строгановы, которые, скупая дворы соседей и солеваренные угодья, полностью поглотили мелких производителей. На протяжении XVII века Строгановы только в своих варницах в Сольвычегодске производили около 3 млн. пудов со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3585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 Black"/>
              </a:rPr>
              <a:t>Крупнейшие солепромышлен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1000080" y="2714760"/>
            <a:ext cx="235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мы Строгановых. 184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вычегодский архитектурно-художественный муз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5" descr="В связи с &quot;утечкой&quot; доходов в казну издаются указ Николая I &quot;О порядке взимания акциза на частных солеваренных заводах-&quot; Устанавливаемый акциз на продажу и транспортировку соли был различным в зависимости от района. Правительство устанавливало ежегодно определенную сумму акциза с соли, добываемой в землях, принадлежащих помещикам. "/>
          <p:cNvPicPr/>
          <p:nvPr/>
        </p:nvPicPr>
        <p:blipFill>
          <a:blip r:embed="rId1"/>
          <a:stretch/>
        </p:blipFill>
        <p:spPr>
          <a:xfrm>
            <a:off x="928800" y="3929040"/>
            <a:ext cx="2352600" cy="17859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" descr=""/>
          <p:cNvPicPr/>
          <p:nvPr/>
        </p:nvPicPr>
        <p:blipFill>
          <a:blip r:embed="rId2"/>
          <a:stretch/>
        </p:blipFill>
        <p:spPr>
          <a:xfrm>
            <a:off x="6929280" y="1357200"/>
            <a:ext cx="1667160" cy="25005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7"/>
          <p:cNvSpPr/>
          <p:nvPr/>
        </p:nvSpPr>
        <p:spPr>
          <a:xfrm>
            <a:off x="7000920" y="3857760"/>
            <a:ext cx="17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яная шах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C:\Documents and Settings\Admin\Рабочий стол\4.jpg"/>
          <p:cNvPicPr/>
          <p:nvPr/>
        </p:nvPicPr>
        <p:blipFill>
          <a:blip r:embed="rId3"/>
          <a:stretch/>
        </p:blipFill>
        <p:spPr>
          <a:xfrm>
            <a:off x="857160" y="1214280"/>
            <a:ext cx="2540160" cy="1549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C:\Documents and Settings\Admin\Рабочий стол\ДАНИНА ПАПКА 2\Анимашки для школы\science11.gif"/>
          <p:cNvPicPr/>
          <p:nvPr/>
        </p:nvPicPr>
        <p:blipFill>
          <a:blip r:embed="rId4"/>
          <a:stretch/>
        </p:blipFill>
        <p:spPr>
          <a:xfrm>
            <a:off x="7143840" y="48578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9" descr="AG00564_[1]"/>
          <p:cNvPicPr/>
          <p:nvPr/>
        </p:nvPicPr>
        <p:blipFill>
          <a:blip r:embed="rId5"/>
          <a:stretch/>
        </p:blipFill>
        <p:spPr>
          <a:xfrm>
            <a:off x="4500720" y="4929120"/>
            <a:ext cx="1257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642960" y="285840"/>
            <a:ext cx="79297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 Black"/>
              </a:rPr>
              <a:t>Пословицы и поговорки о с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омадное значение соли и та роль, которую она занимала в жизни людей, хорошо отражает «малая форма народного творчества» — пословицы и поговорки. Особенно сильно это проявляется у наших предков-славян, для которых соль считалась священной. Она являлась символом верности, дружбы, благополучия и почиталась наряду с хлебом как источник богатства и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соли, без хлеба — половина об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май не думай, а лучше хлеба-соли не придумае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хлебе, на соли, да на добром с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хлеба-соли и царь не отказ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дись, бранись, дерись, а за хлебом-солью сход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ни думай, а лучше хлеба-соли не придумаеш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и не жалей, так и есть вес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ибо тому, кто поит и кормит, и вдвое тому, кто хлеб-соль пом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леб да соль и обед пош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леб-соль кушал, а нас не послуш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леб-соль разбойника побежд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ворует, тот горюет, а мы живем — хлеб-соль жу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хлеб-соль"/>
          <p:cNvPicPr/>
          <p:nvPr/>
        </p:nvPicPr>
        <p:blipFill>
          <a:blip r:embed="rId1"/>
          <a:stretch/>
        </p:blipFill>
        <p:spPr>
          <a:xfrm>
            <a:off x="6715080" y="2286000"/>
            <a:ext cx="1905120" cy="135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j0336914[1]"/>
          <p:cNvPicPr/>
          <p:nvPr/>
        </p:nvPicPr>
        <p:blipFill>
          <a:blip r:embed="rId2"/>
          <a:stretch/>
        </p:blipFill>
        <p:spPr>
          <a:xfrm>
            <a:off x="7500960" y="5214960"/>
            <a:ext cx="8366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4143240" y="1000080"/>
            <a:ext cx="4357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ь служила существенным источником пополнения казны, была важным предметом торговли. Из-за соли велись кровопролитные войны между соседними народами, а по причине непомерно высоких налогов, устанавливаемых на соль, происходили народные восстания (соляные бунты). Например, такой бунт произошел в Москве весной 1648 г. Этому послужил повышенный налог на соль, введенный царем Алексеем Михайлович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овым. Этот бунт окончился благополучно. Правительство, напуганное размахом волнений (из Москвы бунт перекинулся на Сольвычегодск, Устюг Великий, Соликамск), снизило уровень нало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1000080" y="28584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 Black"/>
              </a:rPr>
              <a:t>Солевые бу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155520" y="-6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155520" y="-6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155520" y="-6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155520" y="-6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714240" y="857160"/>
            <a:ext cx="2357640" cy="2830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500040" y="3929040"/>
            <a:ext cx="2917800" cy="25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победа ума"/>
          <p:cNvPicPr/>
          <p:nvPr/>
        </p:nvPicPr>
        <p:blipFill>
          <a:blip r:embed="rId3"/>
          <a:stretch/>
        </p:blipFill>
        <p:spPr>
          <a:xfrm rot="673200">
            <a:off x="7500960" y="2142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4:01:12Z</dcterms:created>
  <dc:creator>Admin</dc:creator>
  <dc:description/>
  <dc:language>en-US</dc:language>
  <cp:lastModifiedBy>XTreme</cp:lastModifiedBy>
  <dcterms:modified xsi:type="dcterms:W3CDTF">2010-01-29T16:06:01Z</dcterms:modified>
  <cp:revision>182</cp:revision>
  <dc:subject/>
  <dc:title>Муниципальное образовательное учреждение Средняя общеобразовательная школа № 46</dc:title>
</cp:coreProperties>
</file>