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FA3-CD62-4339-A1C1-5F572E53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050-D862-4664-AA37-137933CC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83B-19FC-4BEB-BE59-CE9EE878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D7B-8181-4D78-A108-31F726C9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28BF-4567-4DE6-AEA3-BB312CEF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EAF8-C7C3-4E71-9208-C38619F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5AFA-7EBD-42E2-8B9E-E71A7180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2D29-3E74-45C9-A4AA-F19B23C6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6E5-E264-47D0-B835-4E80CDC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56BC-5086-4642-B655-43AB061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6FB-121A-4783-BB1A-29CC3B4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63E-5503-4EDE-A82E-D80AC75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48B0-DF49-4FC7-BC65-D2F8F4FE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8BA1-AE89-4E88-862D-10963BC1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2171-C4E6-4DDC-8441-544596A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6EF2-0735-4686-84BC-473007F2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9021-434E-4A74-BED2-4970FB6C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F92-8E4E-4DB7-B787-D159874B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6FF-DAF9-47B7-B35B-B09D1A4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834-D725-4DB5-BE5F-4F121A38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BE9-7A6F-4CA0-9762-A58B6E74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F5D-9EC7-4C0B-BE36-A6A79D5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52F-A0A1-4D7E-A9AC-F6E0E58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4BA-1890-40BE-84AD-A831BC8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4F67-CF71-416A-B4F2-CE122CC68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037D-9E0B-4359-9489-4FBC30FD9F0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аучно-исследовательская работа</a:t>
            </a:r>
            <a:br>
              <a:rPr sz="3600"/>
            </a:br>
            <a:r>
              <a:rPr b="0" lang="ru-RU" sz="3600" spc="-1" strike="noStrike">
                <a:solidFill>
                  <a:srgbClr val="78695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786950"/>
                </a:solidFill>
                <a:latin typeface="Times New Roman"/>
              </a:rPr>
              <a:t>Рыцарская культура в Западной и Восточной цивилизации»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7760" y="358092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Авторы: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86950"/>
                </a:solidFill>
                <a:latin typeface="Times New Roman"/>
              </a:rPr>
              <a:t>учащаяся 8«а» 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6950"/>
                </a:solidFill>
                <a:latin typeface="Times New Roman"/>
              </a:rPr>
              <a:t>МБОУ «СОШ № 31»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убан Анастасия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Руководитель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6950"/>
                </a:solidFill>
                <a:latin typeface="Times New Roman"/>
              </a:rPr>
              <a:t>Преображенская Олеся Владимировна</a:t>
            </a:r>
            <a:endParaRPr b="0" lang="en-US" sz="2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00800" cy="228600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В искусстве и жизни сложился </a:t>
            </a:r>
            <a:r>
              <a:rPr b="0" i="1" lang="ru-RU" sz="3200" spc="-1" strike="noStrike">
                <a:solidFill>
                  <a:srgbClr val="1f4081"/>
                </a:solidFill>
                <a:latin typeface="Times New Roman"/>
              </a:rPr>
              <a:t>куртуазный стиль,</a:t>
            </a: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 главное в нём – внешний облик, эффективность, манерность.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24379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081"/>
                </a:solidFill>
                <a:latin typeface="Times New Roman"/>
              </a:rPr>
              <a:t>Отличительная особенность песни трубадуров – это то, что она строится на диалог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Слывёт сильнейшей из стра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Моя любовь издале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Да, наслаждений нет хмел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Чем от любви издалек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Одно молчанье – мне в отве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Святой мой строг, он дал заве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Чтоб беззаветно я любил</a:t>
            </a:r>
            <a:r>
              <a:rPr b="0" i="1" lang="ru-RU" sz="20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081"/>
                </a:solidFill>
                <a:latin typeface="Times New Roman"/>
              </a:rPr>
              <a:t>ДЖАУФРЕ РЮД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327480" cy="42674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081"/>
                </a:solidFill>
                <a:latin typeface="Times New Roman"/>
              </a:rPr>
              <a:t>Рыцарь имел свой герб, девиз.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-338" t="0" r="0" b="0"/>
          <a:stretch/>
        </p:blipFill>
        <p:spPr>
          <a:xfrm>
            <a:off x="1882800" y="1066680"/>
            <a:ext cx="6499080" cy="579132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В этот выработанный кодекс (законы) рыцарской чести входили и другие особые правила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081"/>
                </a:solidFill>
                <a:latin typeface="Times New Roman"/>
              </a:rPr>
              <a:t>бороться с врагами христианской ве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защищать честь дам, а также слабых и обиженных, особенно вдов и сиро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081"/>
                </a:solidFill>
                <a:latin typeface="Times New Roman"/>
              </a:rPr>
              <a:t>быть справедливым и галантным.</a:t>
            </a:r>
            <a:br>
              <a:rPr sz="2400"/>
            </a:br>
            <a:r>
              <a:rPr b="0" lang="ru-RU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3489480" cy="4648320"/>
          </a:xfrm>
          <a:prstGeom prst="rect">
            <a:avLst/>
          </a:prstGeom>
          <a:ln w="57240">
            <a:solidFill>
              <a:srgbClr val="1f40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На Востоке образовался особый тип воинов. В Японии это были самураи.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4137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ервые о самураях упоминается в X 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ураи принадлежали к мелкопоместному дворянству и были обученных боевым искусствам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из них были наёмни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99160" y="1676520"/>
            <a:ext cx="3444840" cy="518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В самурайских семьях особое внимание уделялось воспитанию подрастающего поколения в духе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бусидо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ние человека физически сильног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владеющего военным искусством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оружённого знанием моральных принципов господствующего класс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презрением относившегося к торговцам и деньга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24640" y="2038320"/>
            <a:ext cx="3000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79,-4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Идеал воина основан на: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ифических сказан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буддийском безразличии к смер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уцианском культе сыновней почтительности и чисто японской основе - верности своему феодал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6600"/>
                </a:solidFill>
                <a:latin typeface="Times New Roman"/>
              </a:rPr>
              <a:t>отваге и мужеств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носливости и терп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ии контролировать свои действия, воздерживаться от выражения своих чувств восклица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081"/>
                </a:solidFill>
                <a:latin typeface="Times New Roman"/>
              </a:rPr>
              <a:t>Бусидо - неписаный кодекс  самурая: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самурай должен был чётко сознавать свой моральный долг, обязанности по отношению к сюзерену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ует взвешивать каждое слово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во время сна самураю не следует ложиться ногами в сторону резиденции сюзер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на войне самурай проиграет бой, ему следует гордо назвать своё имя и умереть с улыбкой без унизительной поспеш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81560" y="1295280"/>
            <a:ext cx="2265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8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Самураи устраивали в своих замках салоны для художников, драматургов, мыслителей,  превращали свои покои в площадку для  театра,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6600"/>
                </a:solidFill>
                <a:latin typeface="Times New Roman"/>
              </a:rPr>
              <a:t>занимались каллиграфией, искусством составления букетов, играли на лютне.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е утончённое удовольствие - чайная церемо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371600" y="533520"/>
            <a:ext cx="7620120" cy="5561640"/>
            <a:chOff x="1371600" y="533520"/>
            <a:chExt cx="7620120" cy="5561640"/>
          </a:xfrm>
        </p:grpSpPr>
        <p:cxnSp>
          <p:nvCxnSpPr>
            <p:cNvPr id="129" name="_s609284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958720" y="1980360"/>
              <a:ext cx="1112760" cy="2667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609285"/>
            <p:cNvCxnSpPr>
              <a:stCxn id="133" idx="0"/>
              <a:endCxn id="131" idx="2"/>
            </p:cNvCxnSpPr>
            <p:nvPr/>
          </p:nvCxnSpPr>
          <p:spPr>
            <a:xfrm flipV="1">
              <a:off x="5181480" y="2757600"/>
              <a:ext cx="1440" cy="111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609286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3291840" y="1980360"/>
              <a:ext cx="1112760" cy="2667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609287"/>
            <p:cNvSpPr/>
            <p:nvPr/>
          </p:nvSpPr>
          <p:spPr>
            <a:xfrm>
              <a:off x="4038480" y="533520"/>
              <a:ext cx="2286000" cy="2224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Mistral"/>
                </a:rPr>
                <a:t>Необходимы ли современному обществу рыцари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609288"/>
            <p:cNvSpPr/>
            <p:nvPr/>
          </p:nvSpPr>
          <p:spPr>
            <a:xfrm>
              <a:off x="1371600" y="3870360"/>
              <a:ext cx="2286000" cy="2224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609289"/>
            <p:cNvSpPr/>
            <p:nvPr/>
          </p:nvSpPr>
          <p:spPr>
            <a:xfrm>
              <a:off x="4038480" y="3870360"/>
              <a:ext cx="2286000" cy="22248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35.7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9290"/>
            <p:cNvSpPr/>
            <p:nvPr/>
          </p:nvSpPr>
          <p:spPr>
            <a:xfrm>
              <a:off x="6705720" y="3870360"/>
              <a:ext cx="2286000" cy="222480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Затрудняюсь ответить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14.3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Кто такой рыцарь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24080" y="1374480"/>
            <a:ext cx="4114800" cy="5089680"/>
            <a:chOff x="3124080" y="1374480"/>
            <a:chExt cx="4114800" cy="5089680"/>
          </a:xfrm>
        </p:grpSpPr>
        <p:sp>
          <p:nvSpPr>
            <p:cNvPr id="138" name="_s616454"/>
            <p:cNvSpPr/>
            <p:nvPr/>
          </p:nvSpPr>
          <p:spPr>
            <a:xfrm flipV="1">
              <a:off x="4667040" y="1374480"/>
              <a:ext cx="1028520" cy="1272240"/>
            </a:xfrm>
            <a:custGeom>
              <a:avLst/>
              <a:gdLst>
                <a:gd name="textAreaLeft" fmla="*/ 369000 w 1028520"/>
                <a:gd name="textAreaRight" fmla="*/ 659520 w 1028520"/>
                <a:gd name="textAreaTop" fmla="*/ 456480 h 1272240"/>
                <a:gd name="textAreaBottom" fmla="*/ 815760 h 12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16455"/>
            <p:cNvSpPr/>
            <p:nvPr/>
          </p:nvSpPr>
          <p:spPr>
            <a:xfrm flipV="1">
              <a:off x="4152960" y="2646720"/>
              <a:ext cx="2057400" cy="1272240"/>
            </a:xfrm>
            <a:custGeom>
              <a:avLst/>
              <a:gdLst>
                <a:gd name="textAreaLeft" fmla="*/ 452160 w 2057400"/>
                <a:gd name="textAreaRight" fmla="*/ 1605240 w 2057400"/>
                <a:gd name="textAreaTop" fmla="*/ 279720 h 1272240"/>
                <a:gd name="textAreaBottom" fmla="*/ 992520 h 12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Рыцарь – справедливый, гордый, смелый человек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16456"/>
            <p:cNvSpPr/>
            <p:nvPr/>
          </p:nvSpPr>
          <p:spPr>
            <a:xfrm flipV="1">
              <a:off x="3638520" y="3919320"/>
              <a:ext cx="3086280" cy="1272240"/>
            </a:xfrm>
            <a:custGeom>
              <a:avLst/>
              <a:gdLst>
                <a:gd name="textAreaLeft" fmla="*/ 535680 w 3086280"/>
                <a:gd name="textAreaRight" fmla="*/ 2550600 w 3086280"/>
                <a:gd name="textAreaTop" fmla="*/ 220680 h 1272240"/>
                <a:gd name="textAreaBottom" fmla="*/ 1051560 h 12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d8949">
                <a:alpha val="50000"/>
              </a:srgbClr>
            </a:solidFill>
            <a:ln w="57240">
              <a:solidFill>
                <a:srgbClr val="bd8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омантическая натура, защитник дам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16457"/>
            <p:cNvSpPr/>
            <p:nvPr/>
          </p:nvSpPr>
          <p:spPr>
            <a:xfrm flipV="1">
              <a:off x="3124080" y="5191920"/>
              <a:ext cx="4114800" cy="1272240"/>
            </a:xfrm>
            <a:custGeom>
              <a:avLst/>
              <a:gdLst>
                <a:gd name="textAreaLeft" fmla="*/ 618840 w 4114800"/>
                <a:gd name="textAreaRight" fmla="*/ 3495960 w 4114800"/>
                <a:gd name="textAreaTop" fmla="*/ 191160 h 1272240"/>
                <a:gd name="textAreaBottom" fmla="*/ 1081080 h 12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d776e">
                <a:alpha val="50000"/>
              </a:srgbClr>
            </a:solidFill>
            <a:ln w="57240">
              <a:solidFill>
                <a:srgbClr val="6d77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ыцарь – это благородный, мужественный, образованный герой в доспех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7162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081"/>
                </a:solidFill>
                <a:latin typeface="Times New Roman"/>
              </a:rPr>
              <a:t>Актуальность </a:t>
            </a:r>
            <a:br>
              <a:rPr sz="3200"/>
            </a:b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В век информационных технологий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мы вновь и вновь обращаемся к понятиям о рыцарской чести и достоинстве, верности слову и долгу, преданной  беззаветной любви к Прекрасной Даме. 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543800" cy="59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Каким должен быть современный рыцарь?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42960" y="1496880"/>
            <a:ext cx="7308720" cy="4456080"/>
            <a:chOff x="1542960" y="1496880"/>
            <a:chExt cx="7308720" cy="4456080"/>
          </a:xfrm>
        </p:grpSpPr>
        <p:sp>
          <p:nvSpPr>
            <p:cNvPr id="145" name="_s610314"/>
            <p:cNvSpPr/>
            <p:nvPr/>
          </p:nvSpPr>
          <p:spPr>
            <a:xfrm flipH="1" flipV="1">
              <a:off x="3393720" y="3526200"/>
              <a:ext cx="90360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610315"/>
            <p:cNvSpPr/>
            <p:nvPr/>
          </p:nvSpPr>
          <p:spPr>
            <a:xfrm>
              <a:off x="1542960" y="2740320"/>
              <a:ext cx="1896840" cy="119988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В бронежилете, с автоматом и  в шлеме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610316"/>
            <p:cNvSpPr/>
            <p:nvPr/>
          </p:nvSpPr>
          <p:spPr>
            <a:xfrm flipH="1">
              <a:off x="4082400" y="4381560"/>
              <a:ext cx="55836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_s610317"/>
            <p:cNvSpPr/>
            <p:nvPr/>
          </p:nvSpPr>
          <p:spPr>
            <a:xfrm>
              <a:off x="2575800" y="4753080"/>
              <a:ext cx="1896840" cy="11998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Не пить и не кури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610318"/>
            <p:cNvSpPr/>
            <p:nvPr/>
          </p:nvSpPr>
          <p:spPr>
            <a:xfrm>
              <a:off x="5754600" y="4381560"/>
              <a:ext cx="55728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610319"/>
            <p:cNvSpPr/>
            <p:nvPr/>
          </p:nvSpPr>
          <p:spPr>
            <a:xfrm>
              <a:off x="5922000" y="4753080"/>
              <a:ext cx="1896840" cy="119988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Красивым и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богаты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610320"/>
            <p:cNvSpPr/>
            <p:nvPr/>
          </p:nvSpPr>
          <p:spPr>
            <a:xfrm flipV="1">
              <a:off x="6098400" y="3525840"/>
              <a:ext cx="90252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610321"/>
            <p:cNvSpPr/>
            <p:nvPr/>
          </p:nvSpPr>
          <p:spPr>
            <a:xfrm>
              <a:off x="6954840" y="2740320"/>
              <a:ext cx="1896840" cy="1199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Умным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Справедливым, культурны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610322"/>
            <p:cNvSpPr/>
            <p:nvPr/>
          </p:nvSpPr>
          <p:spPr>
            <a:xfrm flipV="1">
              <a:off x="5197320" y="2697120"/>
              <a:ext cx="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610323"/>
            <p:cNvSpPr/>
            <p:nvPr/>
          </p:nvSpPr>
          <p:spPr>
            <a:xfrm>
              <a:off x="4248720" y="1496880"/>
              <a:ext cx="1896840" cy="1199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Благородным, трудолюбивы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тважным, защитником</a:t>
              </a: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 дам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_s610324"/>
            <p:cNvSpPr/>
            <p:nvPr/>
          </p:nvSpPr>
          <p:spPr>
            <a:xfrm>
              <a:off x="4248720" y="3297240"/>
              <a:ext cx="1896840" cy="1199880"/>
            </a:xfrm>
            <a:prstGeom prst="ellips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Каким должен быть   современный рыцарь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a50021"/>
                </a:solidFill>
                <a:latin typeface="Times New Roman"/>
              </a:rPr>
              <a:t>Кодекс чести самураев был очень похож на средневековый рыцарский, но правила игры – гораздо жёстче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4856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ранцузский или немецкий рыцарь, нарушив клятву, отпевался в церкви и лишался навсегда рыцарского с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понский же воин обязан был покончить жизнь самоубийством.</a:t>
            </a:r>
            <a:r>
              <a:rPr b="0" lang="ru-RU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2133720"/>
            <a:ext cx="2762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Отношение к «вышестоящим»: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Японии - это состояние полной подчинён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или Германии обиженный королём, мог написать ему письмо, где называл короля на «ты» и пытался доказать свою невиновность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4272120" cy="59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00"/>
                </a:solidFill>
                <a:latin typeface="Times New Roman"/>
              </a:rPr>
              <a:t>Культ 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Прекрасной дамы</a:t>
            </a:r>
            <a:r>
              <a:rPr b="0" lang="ru-RU" sz="3600" spc="-1" strike="noStrike">
                <a:solidFill>
                  <a:srgbClr val="996600"/>
                </a:solidFill>
                <a:latin typeface="Times New Roman"/>
              </a:rPr>
              <a:t> в Японии, в отличии от Европы, так полностью и не сложился. </a:t>
            </a:r>
            <a:br>
              <a:rPr sz="3600"/>
            </a:br>
            <a:r>
              <a:rPr b="0" lang="ru-RU" sz="3600" spc="-1" strike="noStrike">
                <a:solidFill>
                  <a:srgbClr val="996600"/>
                </a:solidFill>
                <a:latin typeface="Times New Roman"/>
              </a:rPr>
              <a:t>Для самурая 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не характерно  проявление каких-либо чувств.</a:t>
            </a:r>
            <a:r>
              <a:rPr b="0" lang="ru-RU" sz="3600" spc="-1" strike="noStrike">
                <a:solidFill>
                  <a:srgbClr val="996600"/>
                </a:solidFill>
                <a:latin typeface="Times New Roman"/>
              </a:rPr>
              <a:t>Он должен быть сдержан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190680" cy="476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imes New Roman"/>
              </a:rPr>
              <a:t>Что же объединяло самураев с рыцарями?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умная храбрость в бою, умение, не отступая, сражаться до кон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ность своему сюзерен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адлежность к сословию феодалов и пренебрежительное отношение к нижестоящ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7520" y="269640"/>
            <a:ext cx="72961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333360"/>
            <a:ext cx="76201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их из нас привлекают рыцарские времена –  трагические, героические. Не только накалом страстей, захватывающими сюжетами, но и верой в лучшие свойства человеческой души – благородство, верность долгу и слову, способность люби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ся, несмотря на все превратности, выпавшие на долю человечества с тех пор, эти представления и по сей день жи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1628280"/>
            <a:ext cx="75438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Mistral"/>
              </a:rPr>
              <a:t>Спасибо за внимание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081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провести сравнительный анализ  рыцарской культуры на Западе и Востоке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a50021"/>
                </a:solidFill>
                <a:latin typeface="Times New Roman"/>
              </a:rPr>
              <a:t>на примере рыцарей Западной Европы и Японии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, определить актуальность ценностей рыцарской культуры для современной молодёжи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204640"/>
            <a:ext cx="76964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081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* рассмотреть возникновение рыцарского сословия в Средние века, его сущ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* определить общие и отличительные черты рыцарской культуры в Западной и Восточной цивилиз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* выявить особенности развития воинского сословия в Киевской Рус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*    провести опрос учащихся, сделать выв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081"/>
                </a:solidFill>
                <a:latin typeface="Times New Roman"/>
              </a:rPr>
              <a:t>Предмет исследования:</a:t>
            </a: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 История Средних веков.</a:t>
            </a:r>
            <a:br>
              <a:rPr sz="2400"/>
            </a:br>
            <a:r>
              <a:rPr b="1" lang="ru-RU" sz="2400" spc="-1" strike="noStrike">
                <a:solidFill>
                  <a:srgbClr val="1f4081"/>
                </a:solidFill>
                <a:latin typeface="Times New Roman"/>
              </a:rPr>
              <a:t>Объект исследования</a:t>
            </a:r>
            <a:r>
              <a:rPr b="1" lang="ru-RU" sz="2400" spc="-1" strike="noStrike">
                <a:solidFill>
                  <a:srgbClr val="996600"/>
                </a:solidFill>
                <a:latin typeface="Times New Roman"/>
              </a:rPr>
              <a:t>: рыцарская культура Средневековья.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54f41"/>
                </a:solidFill>
                <a:latin typeface="Times New Roman"/>
              </a:rPr>
              <a:t>Гипотез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царская культура порождена феодальными отношениями и характерна для большинства средневековых обществ и государств, но отражает специфические культурные, социально-экономические и политические особенности развития западной и восточной цивил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54f41"/>
                </a:solidFill>
                <a:latin typeface="Times New Roman"/>
              </a:rPr>
              <a:t>Научная новизн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боты заключается в определении особенностей рыцарской культуры на Западе и Восто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54f41"/>
                </a:solidFill>
                <a:latin typeface="Times New Roman"/>
              </a:rPr>
              <a:t>Практическая значим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 данной работы может быть использован на уроках истории и внеклассных мероприят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바탕"/>
              </a:rPr>
              <a:t>Рыцарство</a:t>
            </a: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 – порождение средневековья.</a:t>
            </a:r>
            <a:r>
              <a:rPr b="0" lang="ru-RU" sz="4400" spc="-1" strike="noStrike">
                <a:solidFill>
                  <a:srgbClr val="9966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е рыцари появились в Х – 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в. в системе феодальных отнош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и владели крестьянами, землёй и замками, умело управляли своим хозяй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первому зову своего  сеньора рыцарь обязывался являться к нему на коне, с хорошим вооружением, в сопровождении оруженосцев и обусловленного числа воин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746520" cy="510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Основное время рыцарь отдавал </a:t>
            </a:r>
            <a:r>
              <a:rPr b="0" lang="ru-RU" sz="4000" spc="-1" strike="noStrike">
                <a:solidFill>
                  <a:srgbClr val="a50021"/>
                </a:solidFill>
                <a:latin typeface="Times New Roman"/>
              </a:rPr>
              <a:t>войнам и воинским упражнениям</a:t>
            </a: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, турнирам, охоте и пирам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57800" y="25909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83040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733920" cy="342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127320" y="3733920"/>
            <a:ext cx="6016680" cy="2779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52480" y="3429000"/>
            <a:ext cx="4133880" cy="2871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-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онятие рыцарь стало </a:t>
            </a:r>
            <a:r>
              <a:rPr b="1" lang="ru-RU" sz="3600" spc="-1" strike="noStrike">
                <a:solidFill>
                  <a:srgbClr val="1f4081"/>
                </a:solidFill>
                <a:latin typeface="Times New Roman"/>
              </a:rPr>
              <a:t>символом благородства,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возникла рыцарская система ценностей, </a:t>
            </a:r>
            <a:r>
              <a:rPr b="1" lang="ru-RU" sz="3600" spc="-1" strike="noStrike">
                <a:solidFill>
                  <a:srgbClr val="1f4081"/>
                </a:solidFill>
                <a:latin typeface="Times New Roman"/>
              </a:rPr>
              <a:t>кодекс рыцарской чести,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 заявленный средневековой литературо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" y="2997360"/>
            <a:ext cx="2890800" cy="367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913360" y="3716280"/>
            <a:ext cx="2727360" cy="2881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Кодекс чести рыцар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081"/>
                </a:solidFill>
                <a:latin typeface="Times New Roman"/>
              </a:rPr>
              <a:t>Главное для рыцаря – это война, где важны сила, отвага, мужество, верность сло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Благородный защищал благородного, рыцарь – рыцар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081"/>
                </a:solidFill>
                <a:latin typeface="Times New Roman"/>
              </a:rPr>
              <a:t>Противника надлежало уважать, нельзя было убивать его сзад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Щедрость – одна из важных чер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081"/>
                </a:solidFill>
                <a:latin typeface="Times New Roman"/>
              </a:rPr>
              <a:t>Непременное участие в турнир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Верность королю и сеньору – главная обяза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081"/>
                </a:solidFill>
                <a:latin typeface="Times New Roman"/>
              </a:rPr>
              <a:t>Рыцарь должен искать подвиг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imes New Roman"/>
              </a:rPr>
              <a:t>Быть рыцарем – это быть влюблённым.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cap="sq"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081"/>
                </a:solidFill>
                <a:latin typeface="Times New Roman"/>
              </a:rPr>
              <a:t>Женщину уважали и почитали не только за красоту, достоинство, таланты, но и за умение вести хозяйство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11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40:26Z</dcterms:created>
  <dc:creator>Диана</dc:creator>
  <dc:description/>
  <dc:language>en-US</dc:language>
  <cp:lastModifiedBy>Диана</cp:lastModifiedBy>
  <dcterms:modified xsi:type="dcterms:W3CDTF">2010-01-29T15:33:58Z</dcterms:modified>
  <cp:revision>34</cp:revision>
  <dc:subject/>
  <dc:title>Научно-исследовательская работа «Рыцарская культура в Западной и Восточной цивилизации»</dc:title>
</cp:coreProperties>
</file>