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760B-3283-4A41-8404-8AE5C24E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2233-C2D7-4437-BAF5-4F36A1EE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C194-DF53-4C35-A932-E395A09C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4C4-2500-4ADC-AF17-ED1817D2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0FA3-8C1D-4C87-AA40-EED6B422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07EC-FD8C-4BBA-BDE6-0F55D857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DBF5-2129-466E-A248-1E43CA6B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F607-A1D9-4766-93F0-C766ED60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8B22-F4A0-4F9A-9FF3-2582219C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574E-DA6A-4211-B076-5EFD85EB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3C30-A7F8-4D1D-8F21-EB114874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AC7-7FC7-4435-B224-F732DEBD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8E91-AD7B-43E5-924A-801CEAD6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E8E1-7EC8-4D41-B885-E68C156A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60F1-2B4E-4EB5-8921-A1687385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46B1-C598-43A7-97AE-A4C43AA6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DE1C-77FE-4372-8A3A-222F10E9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43C7E-816E-4458-AC66-7321E4B0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CA888-9221-4DA2-8D38-0F722A6D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62D55-EB21-46AA-9A75-0C12E348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D805B-F51B-4FAD-AE76-61707520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AB1B6-ABB1-495E-89B6-0A77CA8C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2D6-462C-40BD-9E44-2AA816A2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53BC9A-771D-4683-84E3-D32D94EF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21005-AAC9-41C8-AD5A-1BE4708A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62E71-0DF4-460F-9B92-3D6294F1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2B1D8-6683-4CD3-9DD3-C30025F9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41585C-73DC-4ED8-8407-0CBCD7DC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DEDD3-92D2-4A66-9576-661272AB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B1859-D7FB-4131-B146-438CCB08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3B0D0-46A6-421B-AC3F-F8940539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DC05C-1ED8-4558-9097-CBABC470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24E42-79D8-41AE-A020-9103609D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EAB6-825E-48CB-8AA6-D4903546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0E675-599B-485D-8D03-F49CCFC0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C7AE3-AC5B-4898-8261-51E67CE0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6534C-A80B-480E-878F-F8CA1979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A224E-A46D-4493-9DF7-5CCEC17E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F987D-BFAB-4C3A-95E9-88FBC57D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221D1-A5F9-43E4-BC3D-D21FFF93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3157E-2244-48B4-BD1B-865C0D01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ECCEB-C2CB-4ABC-9AF0-0826D435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060B2-5347-4397-B70B-3CAD176E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D41D6E-779C-475A-89EE-19188092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C26-C324-4E37-BE43-1A0EB020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DF665D-3201-4B94-BD96-BBC87118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0DD3EF-A51D-4950-9FBB-1C625340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BDF5A7-4D8F-48E6-A57F-5D372D25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3B5B50-A0AD-4548-BFBB-A92817D3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81E776-DE27-428F-8C9A-139A45C7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B013D-F4A5-4E0E-B4A3-6EB33A0C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B7561-E400-4B71-8199-42FE956C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C40EE-4946-4189-A21E-D4358233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A11674-17AC-4347-BCAA-E40E3B91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BA9515-C0CB-4EAB-A994-B76FBA06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F8E-2900-4128-8BA1-A2190A6C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A2FBC-D31F-477A-9DAD-52B1B644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7F3CC2-B3B1-4218-A9D7-C0716A93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BEE9B5-9D7E-4FEA-8190-29A507FC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5840B7-CE08-4962-9952-60CBA9E7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EE3319-980D-4353-AF30-FBB8F859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B9FEE7-59E1-4742-B15D-5EC4A3A6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F435F0-A7E8-411C-AF09-A5C9D546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76BF8C-DD96-4C69-AF1B-E5DDAB4C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7DB0D1-E24A-491F-A351-CCE372AD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3F9B2C-CCBE-48E2-ADB3-7E2E7EBA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22E-4215-4626-B378-6029661D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2D24B4-7EC1-476B-A1A1-A0E9D197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1DF07D-B690-45E0-A408-67207F46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2B2C60-201A-42F1-8FA5-8439FF8E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1367B4-399F-4A22-8851-56B4703D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50491D-7403-49F5-93A7-D046EF55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C5A7A2-D87A-4A29-A5DD-3739FBB3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5E799-E853-425B-B477-ADC1D807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687572-23DC-47DC-B233-28C80C88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79AECF-90B8-461E-9F8F-D9E2AC06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1B67D5-0E88-4382-91E2-ABAE1409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13B3-25BA-4421-9F5B-4859495C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46AF2C-4438-4FB1-A09F-94CB5654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96F419-2BE4-4377-ACAB-011829F3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4935E1-2CA8-4268-B3E8-C19D9668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F9C3BB-F06F-4208-B309-079BD139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B3D6A9-C6E3-48A0-A084-F1902E32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A6F-FE24-4E9D-92ED-53708EE0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2DF1-9BE8-495E-B7C9-5DF96CDE864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4612-A119-4A7B-9E4E-42A2392E0D90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8BDD-4F9F-413E-96D4-DB11E7CB438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BA03-C8D5-492A-9A2E-EAFD2578B8C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33D5-E7BF-4D2A-A954-9F3CBEA70E1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5BFE-1295-4348-A444-9F039DAC384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B993-D617-4BFA-9A4C-D43CCBFD881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1981080"/>
            <a:ext cx="403848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Ученица 10 А клас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БуРганова Алс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Зайнуллина Г.З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втор работы: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еница 9 класса Бурганова Алсу лицея-интерната г.Буинска Р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668c4"/>
                </a:solidFill>
                <a:latin typeface="Century Schoolbook"/>
              </a:rPr>
              <a:t>СТАРОЕ И НОВОЕ О КРУГЕ 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4000320"/>
            <a:ext cx="418608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b32c16"/>
                </a:solidFill>
                <a:latin typeface="Century Schoolbook"/>
              </a:rPr>
              <a:t>“</a:t>
            </a:r>
            <a:r>
              <a:rPr b="0" i="1" lang="ru-RU" sz="3900" spc="-1" strike="noStrike">
                <a:solidFill>
                  <a:srgbClr val="b32c16"/>
                </a:solidFill>
                <a:latin typeface="Century Schoolbook"/>
              </a:rPr>
              <a:t>Из всех фигур прекраснейшая – круг” </a:t>
            </a:r>
            <a:r>
              <a:rPr b="0" lang="ru-RU" sz="2000" spc="-1" strike="noStrike">
                <a:solidFill>
                  <a:srgbClr val="414752"/>
                </a:solidFill>
                <a:latin typeface="Century Schoolbook"/>
              </a:rPr>
              <a:t>(Пифагор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2" descr="C:\Documents and Settings\TEMP\Рабочий стол\математика\рисунки\0_2a4a9_4a1ce59a_XL.jpg"/>
          <p:cNvPicPr/>
          <p:nvPr/>
        </p:nvPicPr>
        <p:blipFill>
          <a:blip r:embed="rId1"/>
          <a:stretch/>
        </p:blipFill>
        <p:spPr>
          <a:xfrm>
            <a:off x="811080" y="1828800"/>
            <a:ext cx="1951200" cy="1511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C:\Documents and Settings\TEMP\Рабочий стол\математика\рисунки\0_242aa_15f8f4bc_XL.jpg"/>
          <p:cNvPicPr/>
          <p:nvPr/>
        </p:nvPicPr>
        <p:blipFill>
          <a:blip r:embed="rId2"/>
          <a:stretch/>
        </p:blipFill>
        <p:spPr>
          <a:xfrm>
            <a:off x="6815160" y="3402000"/>
            <a:ext cx="1731960" cy="1352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C:\Documents and Settings\TEMP\Рабочий стол\рисунки\urlpreview.jpg"/>
          <p:cNvPicPr/>
          <p:nvPr/>
        </p:nvPicPr>
        <p:blipFill>
          <a:blip r:embed="rId3"/>
          <a:stretch/>
        </p:blipFill>
        <p:spPr>
          <a:xfrm>
            <a:off x="2809800" y="1262160"/>
            <a:ext cx="1878120" cy="1438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C:\Documents and Settings\TEMP\Рабочий стол\математика\рисунки\0_22032_5099ab75_XL.jpg"/>
          <p:cNvPicPr/>
          <p:nvPr/>
        </p:nvPicPr>
        <p:blipFill>
          <a:blip r:embed="rId4"/>
          <a:stretch/>
        </p:blipFill>
        <p:spPr>
          <a:xfrm>
            <a:off x="2955960" y="2828880"/>
            <a:ext cx="1805040" cy="1395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C:\Documents and Settings\TEMP\Рабочий стол\математика\рисунки\0_1049a_a1b26b92_XL.jpg"/>
          <p:cNvPicPr/>
          <p:nvPr/>
        </p:nvPicPr>
        <p:blipFill>
          <a:blip r:embed="rId5"/>
          <a:stretch/>
        </p:blipFill>
        <p:spPr>
          <a:xfrm>
            <a:off x="6029280" y="5400720"/>
            <a:ext cx="1803600" cy="14018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C:\Documents and Settings\TEMP\Рабочий стол\рисунки\д.jpg"/>
          <p:cNvPicPr/>
          <p:nvPr/>
        </p:nvPicPr>
        <p:blipFill>
          <a:blip r:embed="rId6"/>
          <a:stretch/>
        </p:blipFill>
        <p:spPr>
          <a:xfrm>
            <a:off x="4956120" y="3760920"/>
            <a:ext cx="180504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9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3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9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90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5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79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5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29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79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D:\Документы\Мама\проектные работы учащихся\Алсу Москва\число пи.bmp"/>
          <p:cNvPicPr/>
          <p:nvPr/>
        </p:nvPicPr>
        <p:blipFill>
          <a:blip r:embed="rId1"/>
          <a:stretch/>
        </p:blipFill>
        <p:spPr>
          <a:xfrm>
            <a:off x="4743360" y="1974960"/>
            <a:ext cx="2973600" cy="40478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829880" y="499680"/>
            <a:ext cx="28846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b32c16"/>
                </a:solidFill>
                <a:latin typeface="Monotype Corsiva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b32c16"/>
                </a:solidFill>
                <a:latin typeface="Monotype Corsiva"/>
              </a:rPr>
              <a:t>ЧИСЛО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42600" y="1642680"/>
            <a:ext cx="387828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Теперь  мы знаем, что архимедово число не вполне точно выражает отношение длины окружности к  диаметру. Теоретически доказано, что  это вообще не может быть выражено какой-либо точной дробью. Мы можем написать его  лишь с тем или иным приближением, впрочем, далеко превосходящим точность, необходимую для самых строгих требований практической жизни.  Математик  </a:t>
            </a: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XVI 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 века  Лудольф, в Лейдане, имел терпение вычислить его с   35 десятичными  знаками и завещал вырезать это значение  для   на своём могильном памятнике. Вот оно: 3,14159265358979323846264338327950288…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10" descr="пи3"/>
          <p:cNvPicPr/>
          <p:nvPr/>
        </p:nvPicPr>
        <p:blipFill>
          <a:blip r:embed="rId2"/>
          <a:stretch/>
        </p:blipFill>
        <p:spPr>
          <a:xfrm>
            <a:off x="5668920" y="328680"/>
            <a:ext cx="147024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Century Schoolbook"/>
              </a:rPr>
              <a:t>ОШИБКА ДЖЕКА ЛОНДОНА. 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85840" y="1071720"/>
            <a:ext cx="82152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ее место романа Джека Лондона «Маленькая хозяйка большого дома» дает материал для геометрического расчета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среди поля возвышался стальной шест, врытый глубоко в землю. С верхушки шеста к краю поля тянулся трос, прикрепленный к трактору. Механики нажали рычаг – и мотор заработал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 сама двинулась вперед, описывая окружность вокруг шеста, служившего его центром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бы окончательно усовершенствовать машину, - сказал Грэхэм, - вам остается превратить окружность, которую она описывает, в квадрат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, на квадратном поле пропадает при такой сиситеме очень много земли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эхэм произвел некоторые вычисления, затем заметил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ряется примерно три акра из каждых десяти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меньше.»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ю вам проверить этот расчет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ет неверен: теряются меньше чем 0,3 всей земли. Пусть, в самом деле, сторона квадрата – а. Площадь такого квадрата – а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иаметр вписанного круга равен также а, а его площадь -           . Пропадающая часть квадратного участка составляет: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=(1    -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/4)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22 а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идим, что необработанная часть квадратного поля составляет не 30%, как полагали герои американского романа, а только около 22%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1857240" y="5500800"/>
            <a:ext cx="238320" cy="39024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5" descr=""/>
          <p:cNvPicPr/>
          <p:nvPr/>
        </p:nvPicPr>
        <p:blipFill>
          <a:blip r:embed="rId2"/>
          <a:stretch/>
        </p:blipFill>
        <p:spPr>
          <a:xfrm>
            <a:off x="2643120" y="5786280"/>
            <a:ext cx="130320" cy="28584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7" descr=""/>
          <p:cNvPicPr/>
          <p:nvPr/>
        </p:nvPicPr>
        <p:blipFill>
          <a:blip r:embed="rId3"/>
          <a:stretch/>
        </p:blipFill>
        <p:spPr>
          <a:xfrm>
            <a:off x="3643200" y="5715000"/>
            <a:ext cx="130320" cy="285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7crug4-4k2"/>
          <p:cNvPicPr/>
          <p:nvPr/>
        </p:nvPicPr>
        <p:blipFill>
          <a:blip r:embed="rId4"/>
          <a:stretch/>
        </p:blipFill>
        <p:spPr>
          <a:xfrm>
            <a:off x="7143840" y="3429000"/>
            <a:ext cx="14475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700"/>
            </a:br>
            <a:r>
              <a:rPr b="1" i="1" lang="ru-RU" sz="3600" spc="-1" strike="noStrike">
                <a:solidFill>
                  <a:srgbClr val="c00000"/>
                </a:solidFill>
                <a:latin typeface="Monotype Corsiva"/>
              </a:rPr>
              <a:t>ФАКТЫ И РАСЧЕТЫ.</a:t>
            </a:r>
            <a:br>
              <a:rPr sz="27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85840" y="1357200"/>
            <a:ext cx="403848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кружностью называется фигура, которая состоит из всех точек плоскости, равноудалённых от заданной точки. Эта заданная точка называется центром окружно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56760" y="3214800"/>
            <a:ext cx="403884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сстояние от точек окружности до её центра называется радиусом окружности. Радиусом называется также отрезок, соединяющий любую точку окружности с её центром. ОА – радиус окружност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0" y="13568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руг – это часть плоскости, ограниченная окружностью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Рисунок 3" descr="http://www.fictionbook.ru/static/bookimages/00/19/10/00191011.bin.dir/h/i_027.png"/>
          <p:cNvPicPr/>
          <p:nvPr/>
        </p:nvPicPr>
        <p:blipFill>
          <a:blip r:embed="rId1"/>
          <a:stretch/>
        </p:blipFill>
        <p:spPr>
          <a:xfrm>
            <a:off x="1928880" y="5072040"/>
            <a:ext cx="1714320" cy="1500120"/>
          </a:xfrm>
          <a:prstGeom prst="rect">
            <a:avLst/>
          </a:prstGeom>
          <a:ln w="0">
            <a:noFill/>
          </a:ln>
        </p:spPr>
      </p:pic>
      <p:sp>
        <p:nvSpPr>
          <p:cNvPr id="379" name="Блок-схема: узел 7"/>
          <p:cNvSpPr/>
          <p:nvPr/>
        </p:nvSpPr>
        <p:spPr>
          <a:xfrm>
            <a:off x="6929280" y="2071800"/>
            <a:ext cx="1500480" cy="1357200"/>
          </a:xfrm>
          <a:prstGeom prst="flowChartConnector">
            <a:avLst/>
          </a:prstGeom>
          <a:solidFill>
            <a:srgbClr val="d0a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8"/>
          <p:cNvSpPr/>
          <p:nvPr/>
        </p:nvSpPr>
        <p:spPr>
          <a:xfrm>
            <a:off x="4429080" y="4572000"/>
            <a:ext cx="3714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зок, соединяющий две точки окружности, называется хордой. Хорда, проходящая через центр, называется диаметром окруж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 – диаметр окружности, CD – хор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Рисунок 5" descr="http://www.fictionbook.ru/static/bookimages/00/19/10/00191011.bin.dir/h/i_029.png"/>
          <p:cNvPicPr/>
          <p:nvPr/>
        </p:nvPicPr>
        <p:blipFill>
          <a:blip r:embed="rId2"/>
          <a:stretch/>
        </p:blipFill>
        <p:spPr>
          <a:xfrm>
            <a:off x="4714920" y="2786040"/>
            <a:ext cx="2071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856800" y="2858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кружность называется описанной около треугольника, если она проходит через все его вершины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кружность называется вписанной в треугольник, если она касается всех его сторон. Точки K, L, M – это точки касания окружности, вписанной в ⊿ABC. OK = OL = OM = 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Рисунок 4" descr="http://www.fictionbook.ru/static/bookimages/00/19/10/00191011.bin.dir/h/i_033.png"/>
          <p:cNvPicPr/>
          <p:nvPr/>
        </p:nvPicPr>
        <p:blipFill>
          <a:blip r:embed="rId1"/>
          <a:stretch/>
        </p:blipFill>
        <p:spPr>
          <a:xfrm>
            <a:off x="2928960" y="1071720"/>
            <a:ext cx="1666800" cy="160956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5" descr="http://www.fictionbook.ru/static/bookimages/00/19/10/00191011.bin.dir/h/i_037.png"/>
          <p:cNvPicPr/>
          <p:nvPr/>
        </p:nvPicPr>
        <p:blipFill>
          <a:blip r:embed="rId2"/>
          <a:stretch/>
        </p:blipFill>
        <p:spPr>
          <a:xfrm>
            <a:off x="5214960" y="4429080"/>
            <a:ext cx="2857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85520" y="4284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44583"/>
                </a:solidFill>
                <a:latin typeface="Century Schoolbook"/>
              </a:rPr>
              <a:t>“</a:t>
            </a:r>
            <a:r>
              <a:rPr b="1" lang="ru-RU" sz="1600" spc="-1" strike="noStrike">
                <a:solidFill>
                  <a:srgbClr val="244583"/>
                </a:solidFill>
                <a:latin typeface="Century Schoolbook"/>
              </a:rPr>
              <a:t>УМЕНИЕ РЕШАТЬ ЗАДАЧИ – ТАКОЕ ЖЕ ПРАКТИЧЕСКОЕ ИСКУССТВО, КАК УМЕНИЕ ПЛАВАТЬ ИЛИ БЕГАТЬ НА ЛЫЖАХ. ЕМУ МОЖНО НАУЧИТЬСЯ ТОЛЬКО ПУТЕМ ПОДРАЖАНИЯ ИЛИ УПРАЖНЕНИЯ”.</a:t>
            </a:r>
            <a:r>
              <a:rPr b="1" i="1" lang="ru-RU" sz="1600" spc="-1" strike="noStrike">
                <a:solidFill>
                  <a:srgbClr val="244583"/>
                </a:solidFill>
                <a:latin typeface="Century Schoolbook"/>
              </a:rPr>
              <a:t>(Д. ПОЙА)</a:t>
            </a:r>
            <a:br>
              <a:rPr sz="29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71320" y="1214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Разрежьте круг на несколько равных частей так, чтобы центр круга не лежал на границе хотя бы одной из них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ешение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Разобьём окружность с центром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на шесть равных частей точками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. Понятно, что треугольники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OAB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OBC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OCD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ODE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OEF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OFA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- равносторонние. Проведём дугу окружности с центром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радиуса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AB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от точки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до точки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. Аналогично проведём дуги окружностей с центрами в точках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Century Schoolbook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(см. рис.). Таким образом, мы разбили окружность на 6 равных частей. Теперь каждую из этих частей разобьём на две равные части одним из двух способов, изображённых на рисунке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Рисунок 4" descr=""/>
          <p:cNvPicPr/>
          <p:nvPr/>
        </p:nvPicPr>
        <p:blipFill>
          <a:blip r:embed="rId1"/>
          <a:stretch/>
        </p:blipFill>
        <p:spPr>
          <a:xfrm>
            <a:off x="4572000" y="4214880"/>
            <a:ext cx="31100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668c4"/>
                </a:solidFill>
                <a:latin typeface="Century Schoolbook"/>
              </a:rPr>
              <a:t>ПРОВОЛОКА ВДОЛЬ ЭКВАТОРА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ообразите, что земной шар плотно обтянут по экватору стальной проволокой. Что произойдет, если эта проволока охладится на 1?. От охлаждения проволока должна укоротиться. Если она при этом не разорвалась и не растянулась, то как глубоко она врежется в почву?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Решение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Казалась бы, столь незначительное понижение температуры, всего  на 1, - не может вызвать заметного углубления проволоки в землю. Расчеты показывают другое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Охлаждаясь на 1, стальная проволока укорачивается на одну стотысячную долю своей длины.  При  длине в 40 миллионов метров (длина земного экватора) проволока должна сократиться  на 400 м. Но радиус этой окружности из проволоки уменьшится не на 400 м, а гораздо меньше. Для того чтобы узнать, насколько уменьшится радиус, нужно 400 м разделить на 6,28 т.е. на 2. Получится около 64 м. Итак, проволока, охладившись всего на 1, должна была бы при указанных условиях врезаться в землю не на несколько миллиметров, как может казаться, а более чем на 60 м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68c4"/>
                </a:solidFill>
                <a:latin typeface="Century Schoolbook"/>
              </a:rPr>
              <a:t>ЧАСЫ - ТРИСЕКТОР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Возможно ли при помощи циркуля, линейки и часов разделить данный угол на три равные части?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Решение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Возможно. Переведите фигуру данного угла на прозрачную бумагу и в тот момент, когда обе стрелки часов совмещаются, наложите чертеж на циферблат так, чтобы вершина угла пошла вдоль стрелок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В тот момент, когда минутная стрелка часов передвинется до совпадения с направлением второй стороны данного угла (или передвиньте её сами), проведите из вершины угла луч по направлению часовой стрелки. Теперь при помощи циркуля и линейки этот угол удвойте и удвоенный угол снова удвойте . Полученный таким образом угол и будет составлять  данного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Действительно, всякий раз, как минутная стрелка описывает некоторый угол , часовая стрелка за это время передвигается на угол в 12 раз меньше а после увеличения этого угла в 4 раза получится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1"/>
          <a:stretch/>
        </p:blipFill>
        <p:spPr>
          <a:xfrm>
            <a:off x="7029360" y="189000"/>
            <a:ext cx="1498680" cy="180504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"/>
          <p:cNvPicPr/>
          <p:nvPr/>
        </p:nvPicPr>
        <p:blipFill>
          <a:blip r:embed="rId2"/>
          <a:stretch/>
        </p:blipFill>
        <p:spPr>
          <a:xfrm>
            <a:off x="4857840" y="5929200"/>
            <a:ext cx="80964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z</cp:lastModifiedBy>
  <dcterms:modified xsi:type="dcterms:W3CDTF">2010-01-29T18:44:24Z</dcterms:modified>
  <cp:revision>61</cp:revision>
  <dc:subject/>
  <dc:title>PowerPoint Presentation</dc:title>
</cp:coreProperties>
</file>