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870-F027-4E2C-A787-39C3C8DF2C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C52DF5D-3072-4334-9CDB-E9C409CB8A5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680-F908-4DCF-835A-5AE2BF8A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51E7-BFB4-48CD-A63F-AD5A929C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A444-9853-4C8D-BE55-205C9119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9EB-712A-4B66-9616-BDEF476C3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7D1-5AF3-42A9-9F8C-CC759869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E4BB-2326-40BA-8E73-1C46C39D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8E46-B37D-4D1D-BAA9-0C2DBEBF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3652-2FD7-4FC3-A082-E1753796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A19-4CF9-42B3-BA82-BAEA0BAD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A9F-4C25-4610-9B6D-5CA4E9F1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9E5A-749B-457D-A290-4D48F0C1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F5A6-C2C9-4202-A435-3511865C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B69AB74-CCDA-4D6A-A697-0026C9273F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entercep.ru/" TargetMode="External"/><Relationship Id="rId3" Type="http://schemas.openxmlformats.org/officeDocument/2006/relationships/hyperlink" Target="http://www.centercep.ru/" TargetMode="External"/><Relationship Id="rId4" Type="http://schemas.openxmlformats.org/officeDocument/2006/relationships/hyperlink" Target="http://www.centercep.ru/" TargetMode="External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71720"/>
            <a:ext cx="7772400" cy="32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ужно только жить»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760" y="4571640"/>
            <a:ext cx="38433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боту выполнила ученица 10 «а» клас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У СОШ №3 г.Петров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адкова Екате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ец анкет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Блок-схема: несколько документов 3"/>
          <p:cNvSpPr/>
          <p:nvPr/>
        </p:nvSpPr>
        <p:spPr>
          <a:xfrm>
            <a:off x="2643120" y="2214720"/>
            <a:ext cx="3643560" cy="3714480"/>
          </a:xfrm>
          <a:prstGeom prst="flowChartMultidocumen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акое суицид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ше отношение к н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уици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4" descr="SDC13200.JPG"/>
          <p:cNvPicPr/>
          <p:nvPr/>
        </p:nvPicPr>
        <p:blipFill>
          <a:blip r:embed="rId2"/>
          <a:stretch/>
        </p:blipFill>
        <p:spPr>
          <a:xfrm>
            <a:off x="6500880" y="178596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5" descr="DSC01534.JPG"/>
          <p:cNvPicPr/>
          <p:nvPr/>
        </p:nvPicPr>
        <p:blipFill>
          <a:blip r:embed="rId3"/>
          <a:stretch/>
        </p:blipFill>
        <p:spPr>
          <a:xfrm>
            <a:off x="214200" y="1714680"/>
            <a:ext cx="2286000" cy="1739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6" descr="DSC01538.JPG"/>
          <p:cNvPicPr/>
          <p:nvPr/>
        </p:nvPicPr>
        <p:blipFill>
          <a:blip r:embed="rId4"/>
          <a:stretch/>
        </p:blipFill>
        <p:spPr>
          <a:xfrm>
            <a:off x="6357960" y="4143240"/>
            <a:ext cx="2357280" cy="1865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DSC01539.JPG"/>
          <p:cNvPicPr/>
          <p:nvPr/>
        </p:nvPicPr>
        <p:blipFill>
          <a:blip r:embed="rId5"/>
          <a:stretch/>
        </p:blipFill>
        <p:spPr>
          <a:xfrm>
            <a:off x="357120" y="4357800"/>
            <a:ext cx="2143080" cy="1658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4000"/>
                            </p:stCondLst>
                            <p:childTnLst>
                              <p:par>
                                <p:cTn id="2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Диаграмма 3" descr=""/>
          <p:cNvPicPr/>
          <p:nvPr/>
        </p:nvPicPr>
        <p:blipFill>
          <a:blip r:embed="rId2"/>
          <a:stretch/>
        </p:blipFill>
        <p:spPr>
          <a:xfrm>
            <a:off x="642960" y="2286000"/>
            <a:ext cx="7643880" cy="41432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по мнению 10 класса 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роблемы дома и в личной жизни                   2)трудность общения с учителями и     одноклассник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4" descr="70.jpg"/>
          <p:cNvPicPr/>
          <p:nvPr/>
        </p:nvPicPr>
        <p:blipFill>
          <a:blip r:embed="rId2"/>
          <a:stretch/>
        </p:blipFill>
        <p:spPr>
          <a:xfrm>
            <a:off x="3214800" y="3500280"/>
            <a:ext cx="2857320" cy="28386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 11 класс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Содержимое 3" descr=""/>
          <p:cNvPicPr/>
          <p:nvPr/>
        </p:nvPicPr>
        <p:blipFill>
          <a:blip r:embed="rId2"/>
          <a:stretch/>
        </p:blipFill>
        <p:spPr>
          <a:xfrm>
            <a:off x="571680" y="1571760"/>
            <a:ext cx="7900920" cy="4257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нарушение психики, депресс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моральные травмы, неудачи в личной жизн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влияние дурной компа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5" descr="teensuicide.jpg"/>
          <p:cNvPicPr/>
          <p:nvPr/>
        </p:nvPicPr>
        <p:blipFill>
          <a:blip r:embed="rId2"/>
          <a:stretch/>
        </p:blipFill>
        <p:spPr>
          <a:xfrm>
            <a:off x="2928960" y="4357800"/>
            <a:ext cx="2928960" cy="23572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проблем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ку суицида можно предотвратить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вовремя услышать и прийти  на помощь, ведь каждая проблема имеет решени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Music-and-suicide.jpg"/>
          <p:cNvPicPr/>
          <p:nvPr/>
        </p:nvPicPr>
        <p:blipFill>
          <a:blip r:embed="rId2"/>
          <a:stretch/>
        </p:blipFill>
        <p:spPr>
          <a:xfrm>
            <a:off x="3000240" y="3143160"/>
            <a:ext cx="2867040" cy="331488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граф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Газета «Комсомольская правда» от 27 марта 2008 год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www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lossofsoul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www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centercep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edinf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 Газета «Петровские вести» от 30 июня 2005 год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www.pobedish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428760"/>
            <a:ext cx="822960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я и благополучия Ва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-51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 об истоках суици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ить причины самоубийства и отношение к нему подрост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ться найти решение этой пробле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12640" indent="-51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cover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-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ышленное самоповреждение со смертельным исходом, (лишение себя жизни)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-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ительно человеческий 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f4fa60e80751cc2e976e77043885d3cb-1.jpg"/>
          <p:cNvPicPr/>
          <p:nvPr/>
        </p:nvPicPr>
        <p:blipFill>
          <a:blip r:embed="rId2"/>
          <a:stretch/>
        </p:blipFill>
        <p:spPr>
          <a:xfrm>
            <a:off x="2928960" y="4071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ческая справ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еренное и сознательное самоубийство появилось давн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 некоторых общинах на самоубийство было наложено табу, а его попытки жестоко карались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Были общины, где существовали религиозные обряды и культы, связанные с самоубийством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стик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14200" y="5428800"/>
            <a:ext cx="8715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детей и подростков, покончивших с собой, составляе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7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общего числа умерших от неестественных прич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амоубийства ежегодно погибает около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тей и подростков в возрасте от 5 до 19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Скругленный прямоугольник 3"/>
          <p:cNvSpPr/>
          <p:nvPr/>
        </p:nvSpPr>
        <p:spPr>
          <a:xfrm>
            <a:off x="571680" y="928800"/>
            <a:ext cx="3643200" cy="207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ц в возраст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– 2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 бывают суицидальные мы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"/>
          <p:cNvSpPr/>
          <p:nvPr/>
        </p:nvSpPr>
        <p:spPr>
          <a:xfrm>
            <a:off x="4643280" y="928800"/>
            <a:ext cx="3643560" cy="20714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юношей и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вушек совершают суицидальные действ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6"/>
          <p:cNvSpPr/>
          <p:nvPr/>
        </p:nvSpPr>
        <p:spPr>
          <a:xfrm>
            <a:off x="3000240" y="3071880"/>
            <a:ext cx="3000600" cy="2214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ицидальное поведение имеет цель покончить собой, и в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ривлечение к себе вни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Выгнутая влево стрелка 7"/>
          <p:cNvSpPr/>
          <p:nvPr/>
        </p:nvSpPr>
        <p:spPr>
          <a:xfrm>
            <a:off x="2143080" y="4357800"/>
            <a:ext cx="642960" cy="1143000"/>
          </a:xfrm>
          <a:custGeom>
            <a:avLst/>
            <a:gdLst>
              <a:gd name="textAreaLeft" fmla="*/ 86040 w 642960"/>
              <a:gd name="textAreaRight" fmla="*/ 556920 w 642960"/>
              <a:gd name="textAreaTop" fmla="*/ 225360 h 1143000"/>
              <a:gd name="textAreaBottom" fmla="*/ 83736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522" stAng="-5400000" swAng="-5400000"/>
                <a:lnTo>
                  <a:pt x="0" y="11559"/>
                </a:lnTo>
                <a:arcTo wR="21600" hR="8522" stAng="10800000" swAng="-3407871"/>
                <a:lnTo>
                  <a:pt x="16200" y="21329"/>
                </a:lnTo>
                <a:lnTo>
                  <a:pt x="21600" y="18563"/>
                </a:lnTo>
                <a:lnTo>
                  <a:pt x="16200" y="15254"/>
                </a:lnTo>
                <a:lnTo>
                  <a:pt x="16200" y="16773"/>
                </a:lnTo>
                <a:arcTo wR="21600" hR="8522" stAng="7392129" swAng="3162681"/>
                <a:lnTo>
                  <a:pt x="346" y="10040"/>
                </a:lnTo>
                <a:arcTo wR="21600" hR="8522" stAng="-10554809" swAng="5154809"/>
                <a:close/>
              </a:path>
              <a:path fill="darkenLess" w="21600" h="21600">
                <a:moveTo>
                  <a:pt x="21600" y="0"/>
                </a:moveTo>
                <a:arcTo wR="21600" hR="8522" stAng="-5400000" swAng="-5400000"/>
                <a:lnTo>
                  <a:pt x="0" y="8522"/>
                </a:lnTo>
                <a:arcTo wR="21600" hR="8522" stAng="10800000" swAng="-245191"/>
                <a:lnTo>
                  <a:pt x="346" y="10040"/>
                </a:lnTo>
                <a:arcTo wR="21600" hR="8522" stAng="-10554809" swAng="5154809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Выгнутая вправо стрелка 8"/>
          <p:cNvSpPr/>
          <p:nvPr/>
        </p:nvSpPr>
        <p:spPr>
          <a:xfrm>
            <a:off x="6143760" y="4429080"/>
            <a:ext cx="642960" cy="1071720"/>
          </a:xfrm>
          <a:custGeom>
            <a:avLst/>
            <a:gdLst>
              <a:gd name="textAreaLeft" fmla="*/ 86040 w 642960"/>
              <a:gd name="textAreaRight" fmla="*/ 556920 w 642960"/>
              <a:gd name="textAreaTop" fmla="*/ 209160 h 1071720"/>
              <a:gd name="textAreaBottom" fmla="*/ 78840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433" stAng="-5400000" swAng="5400000"/>
                <a:lnTo>
                  <a:pt x="21600" y="11674"/>
                </a:lnTo>
                <a:arcTo wR="21600" hR="8433" stAng="0" swAng="3391300"/>
                <a:lnTo>
                  <a:pt x="5400" y="21332"/>
                </a:lnTo>
                <a:lnTo>
                  <a:pt x="0" y="18487"/>
                </a:lnTo>
                <a:lnTo>
                  <a:pt x="5400" y="15105"/>
                </a:lnTo>
                <a:lnTo>
                  <a:pt x="5400" y="16598"/>
                </a:lnTo>
                <a:arcTo wR="21600" hR="8433" stAng="3391300" swAng="-3129002"/>
                <a:lnTo>
                  <a:pt x="21197" y="10054"/>
                </a:lnTo>
                <a:arcTo wR="21600" hR="8433" stAng="-262298" swAng="-5137702"/>
                <a:close/>
              </a:path>
              <a:path fill="darkenLess" w="21600" h="21600">
                <a:moveTo>
                  <a:pt x="0" y="0"/>
                </a:moveTo>
                <a:arcTo wR="21600" hR="8433" stAng="-5400000" swAng="5400000"/>
                <a:lnTo>
                  <a:pt x="21600" y="11674"/>
                </a:lnTo>
                <a:arcTo wR="21600" hR="8433" stAng="0" swAng="-262298"/>
                <a:lnTo>
                  <a:pt x="21197" y="10054"/>
                </a:lnTo>
                <a:arcTo wR="21600" hR="8433" stAng="-262298" swAng="-5137702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"/>
          <p:cNvSpPr/>
          <p:nvPr/>
        </p:nvSpPr>
        <p:spPr>
          <a:xfrm>
            <a:off x="228960" y="360"/>
            <a:ext cx="26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9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57120" y="1214280"/>
            <a:ext cx="8501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прель — самый жестокий месяц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мас Эллио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всего самоубийств регистрируется весн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е несоответствие весеннего радующегося мира и отчаянного состояния души может провоцировать самоубийства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суицидов в апреле выше примерно 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%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чем среднегодов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трелка вниз 7"/>
          <p:cNvSpPr/>
          <p:nvPr/>
        </p:nvSpPr>
        <p:spPr>
          <a:xfrm>
            <a:off x="4000680" y="4500720"/>
            <a:ext cx="1285560" cy="857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уицид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85840" y="1071360"/>
            <a:ext cx="85723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ядицы в личной жизни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частная любовь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рть кого-то из родных или друз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нимание окружающими, одиночество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на работ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ые проблемы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со здоровьем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ические болезни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ый фанатизм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ычно распространённый в сектах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убийство для сохранения чест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харакири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ражательное самоубийство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сле аналогичных смертей известных личностей или литературных персонажей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8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28760" y="28584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5960" indent="-25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ихологические  теор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чале 20го века австрийский психиатр Зигмунд Фрейд создал первую психологическую теорию суицида. Американский психиатр Karl Menninger предположил, что все суициды имеют в своей основе три взаимосвязанных бессознательных причин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960" indent="-25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960" indent="-25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рессия/безнадежность (желание умереть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960" indent="-25596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960" indent="-25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ь/ненависть                                        чувство ви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960" indent="-25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желание убить)                                     (желание быть убитым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55960" indent="-255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Тройная стрелка влево/вправо/вверх 6"/>
          <p:cNvSpPr/>
          <p:nvPr/>
        </p:nvSpPr>
        <p:spPr>
          <a:xfrm>
            <a:off x="3143160" y="4857840"/>
            <a:ext cx="2214720" cy="13572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ицид в современном мире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85840" y="1000080"/>
            <a:ext cx="84009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год кончают жизнь самоубийство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5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ысяч китайце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ысяч индийце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ысяч русских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ысяча американцев,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ысяч японце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ысяч украинцев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ысяч французов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6" descr="door1.jpg"/>
          <p:cNvPicPr/>
          <p:nvPr/>
        </p:nvPicPr>
        <p:blipFill>
          <a:blip r:embed="rId2"/>
          <a:stretch/>
        </p:blipFill>
        <p:spPr>
          <a:xfrm>
            <a:off x="5643720" y="2357280"/>
            <a:ext cx="2790720" cy="41054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700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6:27:56Z</dcterms:created>
  <dc:creator>Admin</dc:creator>
  <dc:description/>
  <dc:language>en-US</dc:language>
  <cp:lastModifiedBy>МОУ СОШ №3</cp:lastModifiedBy>
  <dcterms:modified xsi:type="dcterms:W3CDTF">2010-01-30T14:06:10Z</dcterms:modified>
  <cp:revision>57</cp:revision>
  <dc:subject/>
  <dc:title>Слайд 1</dc:title>
</cp:coreProperties>
</file>