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596-717B-4C9D-A853-80F4A18D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703-490B-4A4F-A4AE-31AD73FE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4EE6-ECE8-421F-AD23-AD72BE04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2CD-E0AF-4EAD-8953-5389CF4A3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844D-92B6-4332-99DE-4E63DA26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724-C2E1-4DEF-9D3E-E2F37BB7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A93-C871-426B-80B5-D1E45D72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2FC8-4FFE-4E60-8994-C95D0BC8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ADBB-4C40-4410-872F-2C46F38D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CB3-06C9-47F8-A9E3-2741019E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8BF-D102-4AB9-AD72-C71C123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9A2-6B09-4A56-8867-772D9418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F8E-B609-4635-BDD2-4F976A9C55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71680" y="1642680"/>
            <a:ext cx="82152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годно в мире кончают с собой боле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0 000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000 000 человек ежегодно совершают неудачные попытки самоубийства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Только один из четырех (24%) тех, кто совершил попытку самоубийства и остался жив, соприкасается с профессиональной системой здравоохране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По прогнозу ВОЗ к 2020 ежегодно будут кончать самоубийством  1 500 000 человек</a:t>
            </a:r>
            <a:r>
              <a:rPr b="0" lang="en-US" sz="2400" spc="-1" strike="noStrike">
                <a:solidFill>
                  <a:srgbClr val="898989"/>
                </a:solidFill>
                <a:latin typeface="Calibri"/>
              </a:rPr>
              <a:t>.</a:t>
            </a:r>
            <a:r>
              <a:rPr b="1" lang="en-US" sz="2400" spc="-1" strike="noStrike">
                <a:solidFill>
                  <a:srgbClr val="898989"/>
                </a:solidFill>
                <a:latin typeface="Calibri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Содержимое 3" descr="map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6:54:59Z</dcterms:created>
  <dc:creator>Admin</dc:creator>
  <dc:description/>
  <dc:language>en-US</dc:language>
  <cp:lastModifiedBy>МОУ СОШ №3</cp:lastModifiedBy>
  <dcterms:modified xsi:type="dcterms:W3CDTF">2009-10-28T11:10:00Z</dcterms:modified>
  <cp:revision>4</cp:revision>
  <dc:subject/>
  <dc:title>Слайд 1</dc:title>
</cp:coreProperties>
</file>