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5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14.jpeg" ContentType="image/jpeg"/>
  <Override PartName="/ppt/media/image1.wmf" ContentType="image/x-wmf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8EA-07BA-411B-9099-813C40059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4D4-8376-46E7-B459-83474FF9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59E6-769E-450C-A4B7-79109E35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FEAE-A872-40C0-9F14-8F9FB394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87AF1C-976E-4AEF-B7A0-9DE35238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0A41B-75CE-467D-9C91-03ADDEEE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A061B-6992-42AB-8703-ACAA75417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21EBB-1327-40DC-84E4-36D5610D1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0E6C2-155E-4BD9-807E-AE56D121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A2242-13A8-427E-9228-E89C287D8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9B5A6-DABE-42DD-99D3-79559E36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4B36-3CFA-42D4-897B-42C8FDE3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70F451-B033-4593-BA85-2831B44A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394A1-E5A2-43BE-BE1C-1432E5C7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23FFF7-89AD-432F-8D09-169D3F20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6F880-F488-4619-BBB1-959C7C27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AD6A7-7677-44C6-BB41-8AC77800E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50DEC-A006-4747-94F3-864767D2E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6D513-7C63-4D83-A339-3C4CB316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83D2A-F5CA-40A9-8B10-390AA1D2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22B9C-65D5-4A0B-9778-3A9D37E6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EC3BB-925C-4A89-BDD5-8A2630CD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93E-F46F-435C-8413-E239A4E2D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E037B-09EB-432B-8AE0-6375C7B7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3986A-B6DF-4A2F-B538-AA541E2CC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7E120-984E-4CC0-89B1-7ABEA9D5B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03F1F-2308-457E-9C38-E9E7B2D2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B1DFFF-7C48-42F8-BAC7-8D406971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2C91-F36F-4AE1-AD0E-17FD57CF5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51A5E-9C93-4573-9C1B-80918E35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EAEA-B676-4886-A69D-9D30AF37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3C818C-13CB-4527-A16C-1C32D2F4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478C-A580-4D66-B1A1-99890562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4359-9431-4081-8A77-E38D4C65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91E56-431B-4CFE-85BD-AECF4CF8F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90254-9BF4-47F8-A3E7-624C24D11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42AA3-759D-4524-84BF-AD682D836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484F8-F5C7-4F6C-9BF4-25C32757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9BDA03-61C2-4314-B6B4-788C4B57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9B6C6-BCD0-4392-B96D-AF7F427B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3239E-94E2-49A9-A1FE-458F9E982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9D31F3-EC8E-4762-A5D0-85BD3DD39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E95E3-F3B2-46B9-AABE-684E365D8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E414-5D99-4247-B542-E93BCE3D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228-8FC5-41D1-8B65-CDC6C20F0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A56-1488-42B9-AF1A-5848CD585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FF40-2322-418F-873B-A944BA8C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4756-F02C-43D6-A52D-A5B5B8CF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106F-3187-4EC8-A447-2157D00FFB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77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A91F1-69E7-408B-AF50-983FE93099F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40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1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7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8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9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0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1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2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3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905F-ABC7-4C53-87E1-1A510D3DEBF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16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8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9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0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1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2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3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4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5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6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7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8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9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0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1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2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4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5" name="Freeform 22"/>
            <p:cNvSpPr/>
            <p:nvPr/>
          </p:nvSpPr>
          <p:spPr>
            <a:xfrm>
              <a:off x="1440" y="6151680"/>
              <a:ext cx="9144000" cy="706320"/>
            </a:xfrm>
            <a:prstGeom prst="pi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6" name="Freeform 23"/>
            <p:cNvSpPr/>
            <p:nvPr/>
          </p:nvSpPr>
          <p:spPr>
            <a:xfrm>
              <a:off x="0" y="6138720"/>
              <a:ext cx="9159840" cy="2764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D613-8F86-49BE-B50A-700D8C477AC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3840" y="285840"/>
            <a:ext cx="8643960" cy="15890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a2400"/>
                </a:solidFill>
                <a:latin typeface="Arial"/>
              </a:rPr>
              <a:t>Тема: «Отравленные души, загубленные судьбы»…</a:t>
            </a: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286000" y="3143160"/>
            <a:ext cx="6400800" cy="31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то-то там проколол свою сове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то-то в сердце вкурил анаш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Эх, ребята, про вас нужно пове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Жалко повестей я не пиш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ладимир Высоцк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7772400" cy="1946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bbd71"/>
                </a:solidFill>
                <a:latin typeface="Arial"/>
              </a:rPr>
              <a:t>2 стадия –</a:t>
            </a:r>
            <a:br>
              <a:rPr sz="60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АЯ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ВИСИМОСТЬ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0" y="335736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Это мучение… все исчезает бесследно, как не было. Наступает боль, ужас, тьма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«Дело не в костюме, а в том, что я в лечебнице украл морфий».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0" name="Picture 2" descr="http://im4-tub.yandex.net/i?id=81225144&amp;tov=4"/>
          <p:cNvPicPr/>
          <p:nvPr/>
        </p:nvPicPr>
        <p:blipFill>
          <a:blip r:embed="rId1"/>
          <a:stretch/>
        </p:blipFill>
        <p:spPr>
          <a:xfrm>
            <a:off x="755640" y="3213000"/>
            <a:ext cx="3070080" cy="251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http://im0-tub.yandex.net/i?id=33967820&amp;tov=0"/>
          <p:cNvPicPr/>
          <p:nvPr/>
        </p:nvPicPr>
        <p:blipFill>
          <a:blip r:embed="rId2"/>
          <a:stretch/>
        </p:blipFill>
        <p:spPr>
          <a:xfrm>
            <a:off x="5292720" y="1989000"/>
            <a:ext cx="3240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3 стадия –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АБСИНЕНЦИЯ («ЛОМКА»)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0" y="2637000"/>
            <a:ext cx="9144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Смерть – сухая, медленная смерть…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3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62800" cy="31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bbd71"/>
                </a:solidFill>
                <a:latin typeface="Arial"/>
              </a:rPr>
              <a:t>«Нет! я, заболевший этой ужасной болезнью, предупреждаю врачей, чтобы они были жалостливее к своим пациентам. Не «тоскливое состояние», а смерть медленная овладевает морфинистом, лишь только вы на час или два лишите его морфия. Словом, человека нет. Он выключен. Движется, тоскует, страдает труп. Он ничего не хочет, ни о чём не мыслит, кроме морфия. МОРФИЯ!</a:t>
            </a:r>
            <a:endParaRPr b="0" lang="en-US" sz="2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05" name="Picture 5" descr="http://im2-tub.yandex.net/i?id=95509106&amp;tov=2"/>
          <p:cNvPicPr/>
          <p:nvPr/>
        </p:nvPicPr>
        <p:blipFill>
          <a:blip r:embed="rId1"/>
          <a:stretch/>
        </p:blipFill>
        <p:spPr>
          <a:xfrm>
            <a:off x="0" y="3141720"/>
            <a:ext cx="2521080" cy="15843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7" descr="http://im3-tub.yandex.net/i?id=87923401&amp;tov=3"/>
          <p:cNvPicPr/>
          <p:nvPr/>
        </p:nvPicPr>
        <p:blipFill>
          <a:blip r:embed="rId2"/>
          <a:stretch/>
        </p:blipFill>
        <p:spPr>
          <a:xfrm>
            <a:off x="3564000" y="3429000"/>
            <a:ext cx="2376360" cy="25938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http://im8-tub.yandex.net/i?id=87134596&amp;tov=8"/>
          <p:cNvPicPr/>
          <p:nvPr/>
        </p:nvPicPr>
        <p:blipFill>
          <a:blip r:embed="rId3"/>
          <a:stretch/>
        </p:blipFill>
        <p:spPr>
          <a:xfrm>
            <a:off x="6877080" y="306864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1" descr="http://im0-tub.yandex.net/i?id=1591780&amp;tov=0"/>
          <p:cNvPicPr/>
          <p:nvPr/>
        </p:nvPicPr>
        <p:blipFill>
          <a:blip r:embed="rId4"/>
          <a:stretch/>
        </p:blipFill>
        <p:spPr>
          <a:xfrm>
            <a:off x="755640" y="5229360"/>
            <a:ext cx="2519280" cy="1512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4800" spc="-1" strike="noStrike">
                <a:solidFill>
                  <a:srgbClr val="da2400"/>
                </a:solidFill>
                <a:latin typeface="Tahoma"/>
              </a:rPr>
              <a:t>Я – несчастный доктор Поляков, заболевший в феврале этого года морфинизмом, предупреждаю всех, кому выпадет на долю такая же участь…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785440" cy="315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a2400"/>
                </a:solidFill>
                <a:latin typeface="Arial"/>
              </a:rPr>
              <a:t>«Итак: горка. Ледяная и бесконечная, как та, с которой в детстве сказочного Кая уносили сани. Последний мой полет по этой горке, и я знаю, что ждет меня внизу»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311" name="Picture 2" descr="http://im4-tub.yandex.net/i?id=54255975&amp;tov=4"/>
          <p:cNvPicPr/>
          <p:nvPr/>
        </p:nvPicPr>
        <p:blipFill>
          <a:blip r:embed="rId1"/>
          <a:stretch/>
        </p:blipFill>
        <p:spPr>
          <a:xfrm>
            <a:off x="3132000" y="3716280"/>
            <a:ext cx="2519640" cy="2305080"/>
          </a:xfrm>
          <a:prstGeom prst="rect">
            <a:avLst/>
          </a:prstGeom>
          <a:ln w="158760">
            <a:solidFill>
              <a:srgbClr val="da2400"/>
            </a:solidFill>
            <a:miter/>
          </a:ln>
        </p:spPr>
      </p:pic>
    </p:spTree>
  </p:cSld>
  <p:transition>
    <p:plus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istral"/>
              </a:rPr>
              <a:t>  </a:t>
            </a:r>
            <a:r>
              <a:rPr b="1" lang="ru-RU" sz="9600" spc="-1" strike="noStrike">
                <a:solidFill>
                  <a:srgbClr val="000000"/>
                </a:solidFill>
                <a:latin typeface="Mistral"/>
              </a:rPr>
              <a:t>«ВСЕ…»</a:t>
            </a:r>
            <a:endParaRPr b="0" lang="en-US" sz="9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3" name="linda-marihuana.mp3" descr=""/>
          <p:cNvPicPr/>
          <p:nvPr/>
        </p:nvPicPr>
        <p:blipFill>
          <a:blip r:embed="rId1"/>
          <a:stretch/>
        </p:blipFill>
        <p:spPr>
          <a:xfrm>
            <a:off x="8572680" y="600084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320154" fill="hold"/>
                                        <p:tgtEl>
                                          <p:spTgt spid="3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Цель: провести антинаркотическую агитацию среди учащихся школы.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вести социологическое исследование проблемы наркоман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учить стадии развития наркологической болезн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йти примеры, подтверждающие пагубное влияние наркотиков, из повести М.А.Булгакова «Морфи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lus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По данным ООН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857160" y="1484280"/>
            <a:ext cx="7000920" cy="50878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bbd71"/>
                </a:solidFill>
                <a:latin typeface="Arial"/>
              </a:rPr>
              <a:t>Формула морфина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128000" cy="4032360"/>
          </a:xfrm>
          <a:prstGeom prst="rect">
            <a:avLst/>
          </a:prstGeom>
          <a:ln w="127080">
            <a:solidFill>
              <a:srgbClr val="663300"/>
            </a:solidFill>
            <a:miter/>
          </a:ln>
        </p:spPr>
      </p:pic>
    </p:spTree>
  </p:cSld>
  <p:transition spd="slow"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Молекулярная модель морфина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87" name="Picture 2" descr="C:\Users\Доска\Desktop\180px-MORPHINE_PovRay[1].png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ертвами морфия были не только больные, но и врачи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9" name="Picture 6" descr="http://herbalogya.ru/library/gelan/papaver-orientalis.jpg"/>
          <p:cNvPicPr/>
          <p:nvPr/>
        </p:nvPicPr>
        <p:blipFill>
          <a:blip r:embed="rId1"/>
          <a:stretch/>
        </p:blipFill>
        <p:spPr>
          <a:xfrm>
            <a:off x="2843280" y="2852640"/>
            <a:ext cx="3456000" cy="3789360"/>
          </a:xfrm>
          <a:prstGeom prst="rect">
            <a:avLst/>
          </a:prstGeom>
          <a:ln w="108000">
            <a:solidFill>
              <a:srgbClr val="663300"/>
            </a:solidFill>
            <a:miter/>
          </a:ln>
        </p:spPr>
      </p:pic>
    </p:spTree>
  </p:cSld>
  <p:transition spd="slow">
    <p:strips dir="lu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Михаил Афанасьевич Булгаков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91" name="Picture 2" descr="http://im5-tub.yandex.net/i?id=125006&amp;tov=5"/>
          <p:cNvPicPr/>
          <p:nvPr/>
        </p:nvPicPr>
        <p:blipFill>
          <a:blip r:embed="rId1"/>
          <a:stretch/>
        </p:blipFill>
        <p:spPr>
          <a:xfrm>
            <a:off x="2268360" y="1268280"/>
            <a:ext cx="4391280" cy="5112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http://im0-tub.yandex.net/i?id=31030056&amp;tov=0"/>
          <p:cNvPicPr/>
          <p:nvPr/>
        </p:nvPicPr>
        <p:blipFill>
          <a:blip r:embed="rId2"/>
          <a:stretch/>
        </p:blipFill>
        <p:spPr>
          <a:xfrm>
            <a:off x="250920" y="2276640"/>
            <a:ext cx="1800000" cy="27367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bbd71"/>
                </a:solidFill>
                <a:latin typeface="Arial"/>
              </a:rPr>
              <a:t>1 стадия заболевания –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ЙФОРИЯ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0" y="328428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«Но вот уже полмесяца, как я ни разу не возвращался мыслью к обманувшей меня женщине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27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bbd71"/>
                </a:solidFill>
                <a:latin typeface="Arial"/>
              </a:rPr>
              <a:t>«Таких снов на рассвете я ещё никогда не видел. Это двойные сны. Причем основной из них, я бы сказал, стеклянный, он прозрачен»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296" name="Picture 2" descr="http://im8-tub.yandex.net/i?id=57481003&amp;tov=8"/>
          <p:cNvPicPr/>
          <p:nvPr/>
        </p:nvPicPr>
        <p:blipFill>
          <a:blip r:embed="rId1"/>
          <a:stretch/>
        </p:blipFill>
        <p:spPr>
          <a:xfrm>
            <a:off x="2987640" y="3645000"/>
            <a:ext cx="3024360" cy="21556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30T21:44:28Z</dcterms:created>
  <dc:creator>А</dc:creator>
  <dc:description/>
  <dc:language>en-US</dc:language>
  <cp:lastModifiedBy>Туровская ООШ</cp:lastModifiedBy>
  <dcterms:modified xsi:type="dcterms:W3CDTF">2010-01-25T11:38:48Z</dcterms:modified>
  <cp:revision>14</cp:revision>
  <dc:subject/>
  <dc:title>Тема: «Отравленные души, загубленные судьбы»… </dc:title>
</cp:coreProperties>
</file>