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0.jpeg" ContentType="image/jpeg"/>
  <Override PartName="/ppt/media/image5.png" ContentType="image/png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.png" ContentType="image/png"/>
  <Override PartName="/ppt/media/image2.png" ContentType="image/png"/>
  <Override PartName="/ppt/media/image4.png" ContentType="image/png"/>
  <Override PartName="/ppt/media/drumroll.wav" ContentType="audio/x-wav"/>
  <Override PartName="/ppt/media/applause.wav" ContentType="audio/x-wav"/>
  <Override PartName="/ppt/media/image6.png" ContentType="image/png"/>
  <Override PartName="/ppt/media/image15.gif" ContentType="image/gif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7102475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985-7D17-48FC-B961-99469CD7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0BC-E387-416D-AC54-004060E0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73C-CF7D-401A-8A39-6863E9CC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AA5-E6FB-4BD6-B103-94258637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0509-1EBD-47BF-88BB-3F78BA8B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4947-7632-4288-B32A-296D7497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2250-F2E6-4E9E-BE7B-C47110A8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B204-1012-499C-B14C-9D7EC656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C629-CB94-4B12-AAFD-7CC8FFD5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A0DB-D83D-4162-AC01-C5436756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B2CC-59DB-44DF-BE09-7557C11F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939-36FA-4ADA-9DB0-9B2C5323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BABC-D93F-4F73-8900-707F404E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D74A-AA2B-4E9E-9F06-775EFD2D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7630-968F-4E2A-A562-D41826B6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C7FD-E69D-4123-B75C-9DC6E06A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1F56-38CF-479B-834B-595850A0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8532A-0871-40FA-B946-CC2B41A6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E67B2-615C-43FB-92D5-7C776C84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2473F-8BC1-4186-A458-8A2D1A73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CE064-9D95-4D06-8287-95E2C35E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B3D9F-A21F-4E72-B03D-316DC498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45A6-A199-4872-910F-4ACF0808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CDFC0-B163-4D41-9E75-F92CCBF0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10A9D-97D5-41FA-8D2F-B9EABAC7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B2942-C96B-413D-A1C2-7AF7F41D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03C06-4928-4070-B99A-68097D3B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EF6A0-DF86-4533-BF95-61873D2C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79FC8-7A86-4143-A891-0DD4B8A8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6DF7D-CDB5-4BC0-89AA-9714E532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5F684-9521-475A-886B-4BBAC5F2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C1809-9A7F-48D7-B033-33C790FE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2C43A-0821-4BC6-86A6-FA8A277A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473-43B9-400E-8FD9-7AE462A0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32FB9-2E2D-4165-A10F-C5D85DF8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4128D-EF83-49AC-A8C6-9E0896BA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440B2-8E26-4DB5-B491-2E976DFD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07C9B-0B46-404D-A467-0DA1F13B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87C46-3DE9-4EE3-BA9B-175B610B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FAABC-EF5D-4122-8939-D43259B4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72D73-CC20-4DCC-93C6-F0389F74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DDEA4-E186-4E11-AAFD-DB6E2FC6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87D36-D29F-4337-99F3-72058610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FF4A7B-E7B2-4B1A-BD17-481E816D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6F5-A3DA-418F-8A5D-A039314C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1824E-64F1-4788-8959-74546EF0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322FB5-4D9F-4547-969C-8BB30454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893079-4B6E-46A3-A66C-2F0BD06F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A7A57E-2B1B-48C7-9A1C-77B477B4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93F775-64FB-4935-8926-017E1EDD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3C3148-B654-4380-8E01-90D17582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9E3FF7-45E3-45A3-BBD7-663125E7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B7114-CEF7-4D69-BE8F-D5DB0774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C6D75-6A71-4A14-A9A0-05553A5E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D7BD4-C554-4DA2-AA9D-2CF5A864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E6F-5089-4874-802E-948ED3BE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DF27C7-31E2-414C-BC93-F705FA00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AE865-8C1A-4F66-8266-F0B9774E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5D2F0-91B8-463B-A795-7513F392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122F5-9887-4FEA-BD63-00448934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09AB1-8223-4E42-B53F-AC236843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FF8F9-E952-44CC-9B8B-A45F8B0E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A25C0-192D-4DD8-8FDA-B8BFFA51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8B7EC-BDA2-479B-9F4D-4747F066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83572-C2F3-404E-A324-C533E67D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9E260-2C3E-422D-872A-A89927EE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B83-A671-4DB8-9949-F39BB531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62A36-E735-47A0-BC1F-7D6CFB2E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37556-7328-4142-95B5-449B81DD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0370E-9722-4C97-8921-DF718E41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41D-1BAF-4856-8D25-728580B9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D1EB-7C39-4129-AB6E-0E355E55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445E-7CEF-4C74-8EA8-7701A09915E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D2D8-5012-4BC5-9FCE-4D39533FC9B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6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6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7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0D0E-5F4A-4A04-9B33-DA2A6736E30F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4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4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DCF8-2AEC-4937-A944-FD6B3916554C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DD34-D276-46CE-9D8E-5CE3E66F4F2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8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68A7-BE82-4187-BB47-A5B9C5B79C9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3.xml"/><Relationship Id="rId3" Type="http://schemas.openxmlformats.org/officeDocument/2006/relationships/slide" Target="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9.xm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1847880" y="896760"/>
            <a:ext cx="5153040" cy="12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стема счисления</a:t>
            </a:r>
            <a:endParaRPr b="0" lang="en-US" sz="2400" spc="1" strike="noStrike">
              <a:ln w="9360">
                <a:solidFill>
                  <a:srgbClr val="00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3"/>
          <a:stretch/>
        </p:blipFill>
        <p:spPr>
          <a:xfrm>
            <a:off x="5275440" y="2598840"/>
            <a:ext cx="1904760" cy="54288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4"/>
          <a:stretch/>
        </p:blipFill>
        <p:spPr>
          <a:xfrm>
            <a:off x="1720800" y="2763720"/>
            <a:ext cx="1905120" cy="27648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5"/>
          <a:stretch/>
        </p:blipFill>
        <p:spPr>
          <a:xfrm>
            <a:off x="2287440" y="3460680"/>
            <a:ext cx="4610160" cy="141912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1258920" y="5219640"/>
            <a:ext cx="5479920" cy="120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полнил Сабиров Ильдар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еник 6 класса школы №55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уководитель Мироновская Т.В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99440" y="6203880"/>
            <a:ext cx="9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009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9640" y="83664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68900"/>
                </a:solidFill>
                <a:latin typeface="Verdana"/>
              </a:rPr>
              <a:t>I</a:t>
            </a:r>
            <a:r>
              <a:rPr b="1" lang="ru-RU" sz="7200" spc="-1" strike="noStrike">
                <a:solidFill>
                  <a:srgbClr val="e68900"/>
                </a:solidFill>
                <a:latin typeface="Verdana"/>
              </a:rPr>
              <a:t>.</a:t>
            </a:r>
            <a:endParaRPr b="0" lang="en-US" sz="72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 spd="slow">
    <p:strips dir="ld"/>
    <p:sndAc>
      <p:stSnd>
        <p:snd r:embed="rId6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579240" y="1906200"/>
            <a:ext cx="79182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Система счисления</a:t>
            </a: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 или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нумерация</a:t>
            </a: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- это способ записи чисе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Символы, при помощи которых записываются числа, называются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цифрами</a:t>
            </a: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, а их совокупность –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алфавитом</a:t>
            </a: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 системы счисления. Количество цифр, составляющих алфавит, называется его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размерностью</a:t>
            </a: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Система счисления называется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позиционной</a:t>
            </a: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, если количественный эквивалент цифры зависит от ее положения в записи числ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В привычной нам десятичной системе значения числа образуется следующим образом: значение цифр умножаются на «вес» соответствующих разрядов и все полученные значения складываются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Например, </a:t>
            </a:r>
            <a:r>
              <a:rPr b="1" lang="ru-RU" sz="1800" spc="-1" strike="noStrike">
                <a:solidFill>
                  <a:srgbClr val="ff0066"/>
                </a:solidFill>
                <a:latin typeface="Comic Sans MS"/>
              </a:rPr>
              <a:t>5047=5*1000+0*100+4*10+7*1</a:t>
            </a: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	</a:t>
            </a: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Такой способ образования значения числа н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аддитивно-мультипликативным</a:t>
            </a: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2013120" y="1101600"/>
            <a:ext cx="502272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6666">
                      <a:alpha val="80000"/>
                    </a:srgbClr>
                  </a:outerShdw>
                </a:effectLst>
                <a:latin typeface="Impact"/>
              </a:rPr>
              <a:t>Основные определения</a:t>
            </a:r>
            <a:endParaRPr b="0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6666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403280" y="404640"/>
            <a:ext cx="6230880" cy="6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006666">
                      <a:alpha val="80000"/>
                    </a:srgbClr>
                  </a:outerShdw>
                </a:effectLst>
                <a:latin typeface="Impact"/>
              </a:rPr>
              <a:t>Десятичная система счиления</a:t>
            </a:r>
            <a:endParaRPr b="0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006666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trips dir="ld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725400" y="1563840"/>
                <a:ext cx="738504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533520" y="234792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Где А-само число, </a:t>
            </a: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q</a:t>
            </a: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-основание системы счисления, а-цифры данной системы счисления, </a:t>
            </a: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n</a:t>
            </a: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-число разрядов целой части числа, </a:t>
            </a: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m</a:t>
            </a: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-число разрядов дробной части числа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Пример: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0" y="270180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0" y="25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176480" y="3989880"/>
            <a:ext cx="6481800" cy="907560"/>
            <a:chOff x="1176480" y="3989880"/>
            <a:chExt cx="6481800" cy="907560"/>
          </a:xfrm>
        </p:grpSpPr>
        <mc:AlternateContent>
          <mc:Choice xmlns:a14="http://schemas.microsoft.com/office/drawing/2010/main" Requires="a14">
            <p:sp>
              <p:nvSpPr>
                <p:cNvPr id="721" name=""/>
                <p:cNvSpPr txBox="1"/>
                <p:nvPr/>
              </p:nvSpPr>
              <p:spPr>
                <a:xfrm>
                  <a:off x="1978200" y="4005360"/>
                  <a:ext cx="30816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/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2" name=""/>
                <p:cNvSpPr txBox="1"/>
                <p:nvPr/>
              </p:nvSpPr>
              <p:spPr>
                <a:xfrm>
                  <a:off x="2473560" y="4054680"/>
                  <a:ext cx="518472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1000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r>
                            <m:t xml:space="preserve">=</m:t>
                          </m:r>
                        </m:e>
                        <m:e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23" name=""/>
            <p:cNvSpPr/>
            <p:nvPr/>
          </p:nvSpPr>
          <p:spPr>
            <a:xfrm>
              <a:off x="1176480" y="3989880"/>
              <a:ext cx="12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32478</a:t>
              </a: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12200" y="4044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6699"/>
                  </a:solidFill>
                  <a:latin typeface="Comic Sans MS"/>
                </a:rPr>
                <a:t>=</a:t>
              </a:r>
              <a:endParaRPr b="0" lang="en-US" sz="18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 txBox="1"/>
          <p:nvPr/>
        </p:nvSpPr>
        <p:spPr>
          <a:xfrm>
            <a:off x="760320" y="542880"/>
            <a:ext cx="726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99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вернутая форма записи числа</a:t>
            </a:r>
            <a:endParaRPr b="0" lang="en-US" sz="2400" spc="1" strike="noStrike">
              <a:ln w="12600">
                <a:solidFill>
                  <a:srgbClr val="333399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0" y="382284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8" name=""/>
          <p:cNvSpPr/>
          <p:nvPr/>
        </p:nvSpPr>
        <p:spPr>
          <a:xfrm>
            <a:off x="0" y="382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754280" y="4421160"/>
            <a:ext cx="0" cy="11304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743120" y="5540400"/>
            <a:ext cx="2538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1591920" y="4421160"/>
            <a:ext cx="20520" cy="1430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581120" y="5830920"/>
            <a:ext cx="267804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430280" y="4432320"/>
            <a:ext cx="0" cy="16668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409760" y="6087960"/>
            <a:ext cx="28494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128680" y="4871880"/>
            <a:ext cx="11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единицы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32160" y="522756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десятки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94040" y="5529240"/>
            <a:ext cx="189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сотни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02120" y="5789520"/>
            <a:ext cx="24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тысячи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936800" y="4421160"/>
            <a:ext cx="0" cy="8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936800" y="5238720"/>
            <a:ext cx="23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8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8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8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9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333360" y="515880"/>
            <a:ext cx="8290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Алфавит" различных систем счислен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546120" y="1557360"/>
          <a:ext cx="7935840" cy="4186080"/>
        </p:xfrm>
        <a:graphic>
          <a:graphicData uri="http://schemas.openxmlformats.org/drawingml/2006/table">
            <a:tbl>
              <a:tblPr/>
              <a:tblGrid>
                <a:gridCol w="2413080"/>
                <a:gridCol w="1536480"/>
                <a:gridCol w="2065320"/>
                <a:gridCol w="1920960"/>
              </a:tblGrid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Система счисления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Основание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Размерность алфавит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Цифры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Двоична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0, 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Восьмерична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0,1,2,3,4,5,6,7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Десятична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0,1,2,3,4,5,6,7,8,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Шестнадцатерична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0,1,2,3,4,5,6,7,8,9,А,В,С,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T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ld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37160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Verdana"/>
              </a:rPr>
              <a:t>II. </a:t>
            </a:r>
            <a:r>
              <a:rPr b="0" lang="ru-RU" sz="4800" spc="-1" strike="noStrike">
                <a:solidFill>
                  <a:srgbClr val="006666"/>
                </a:solidFill>
                <a:latin typeface="Verdana"/>
              </a:rPr>
              <a:t>Перевод чисел из одной СС в другую</a:t>
            </a:r>
            <a:r>
              <a:rPr b="0" lang="ru-RU" sz="60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4540320" cy="3497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2" name="applause.wav"/>
      </p:stSnd>
    </p:sndAc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"/>
          <p:cNvGraphicFramePr/>
          <p:nvPr/>
        </p:nvGraphicFramePr>
        <p:xfrm>
          <a:off x="701640" y="1452600"/>
          <a:ext cx="4038480" cy="4525560"/>
        </p:xfrm>
        <a:graphic>
          <a:graphicData uri="http://schemas.openxmlformats.org/drawingml/2006/table">
            <a:tbl>
              <a:tblPr/>
              <a:tblGrid>
                <a:gridCol w="912240"/>
                <a:gridCol w="1112760"/>
                <a:gridCol w="989640"/>
                <a:gridCol w="102384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000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000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00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00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0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001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В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010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010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10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01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1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011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11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7" name=""/>
          <p:cNvGraphicFramePr/>
          <p:nvPr/>
        </p:nvGraphicFramePr>
        <p:xfrm>
          <a:off x="5618160" y="1452600"/>
          <a:ext cx="2300040" cy="4251240"/>
        </p:xfrm>
        <a:graphic>
          <a:graphicData uri="http://schemas.openxmlformats.org/drawingml/2006/table">
            <a:tbl>
              <a:tblPr/>
              <a:tblGrid>
                <a:gridCol w="1218960"/>
                <a:gridCol w="108108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00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0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01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"/>
          <p:cNvSpPr/>
          <p:nvPr/>
        </p:nvSpPr>
        <p:spPr>
          <a:xfrm>
            <a:off x="-38160" y="573120"/>
            <a:ext cx="53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ff"/>
                </a:solidFill>
                <a:latin typeface="Comic Sans MS"/>
              </a:rPr>
              <a:t>Двоично-шестнадцатеричная таблица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148360" y="57312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883040" y="577800"/>
            <a:ext cx="39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ff"/>
                </a:solidFill>
                <a:latin typeface="Comic Sans MS"/>
              </a:rPr>
              <a:t>Двоично - восьмеричная таблица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6199200" y="1893960"/>
            <a:ext cx="7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315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313320" y="2171880"/>
            <a:ext cx="6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24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400800" y="2428920"/>
            <a:ext cx="5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75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365880" y="272088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72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408720" y="301140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77080" y="18748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07240" y="2376360"/>
            <a:ext cx="6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18400" y="2717640"/>
            <a:ext cx="5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300800" y="217800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329600" y="2505240"/>
            <a:ext cx="37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237360" y="2227320"/>
            <a:ext cx="15084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408720" y="2473200"/>
            <a:ext cx="3985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440400" y="3002040"/>
            <a:ext cx="3985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388200" y="2732040"/>
            <a:ext cx="171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6870240" y="1968480"/>
            <a:ext cx="484560" cy="560520"/>
            <a:chOff x="6870240" y="1968480"/>
            <a:chExt cx="484560" cy="560520"/>
          </a:xfrm>
        </p:grpSpPr>
        <p:sp>
          <p:nvSpPr>
            <p:cNvPr id="766" name=""/>
            <p:cNvSpPr/>
            <p:nvPr/>
          </p:nvSpPr>
          <p:spPr>
            <a:xfrm flipH="1">
              <a:off x="6870240" y="1968480"/>
              <a:ext cx="11160" cy="5605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872400" y="2193840"/>
              <a:ext cx="4824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 flipH="1">
            <a:off x="6959520" y="2462040"/>
            <a:ext cx="856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915240" y="2689200"/>
            <a:ext cx="3762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356600" y="2205000"/>
            <a:ext cx="0" cy="6778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356600" y="2496960"/>
            <a:ext cx="31104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73600" y="4527720"/>
            <a:ext cx="7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315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4551480" y="4527720"/>
            <a:ext cx="520560" cy="782640"/>
            <a:chOff x="4551480" y="4527720"/>
            <a:chExt cx="520560" cy="782640"/>
          </a:xfrm>
        </p:grpSpPr>
        <p:sp>
          <p:nvSpPr>
            <p:cNvPr id="774" name=""/>
            <p:cNvSpPr/>
            <p:nvPr/>
          </p:nvSpPr>
          <p:spPr>
            <a:xfrm>
              <a:off x="4552920" y="4527720"/>
              <a:ext cx="0" cy="78264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551480" y="4829400"/>
              <a:ext cx="52056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4522680" y="4484520"/>
            <a:ext cx="6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621320" y="4835520"/>
            <a:ext cx="67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44800" y="4857840"/>
            <a:ext cx="1033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024440" y="480852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035600" y="5149800"/>
            <a:ext cx="4618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44880" y="5176800"/>
            <a:ext cx="6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55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94120" y="545292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44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941640" y="5516640"/>
            <a:ext cx="1033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054320" y="5789520"/>
            <a:ext cx="46224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701880" y="5788080"/>
            <a:ext cx="1235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(В)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208400" y="5070600"/>
            <a:ext cx="13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00440" y="5084640"/>
            <a:ext cx="1224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072040" y="514980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611600" y="5415120"/>
            <a:ext cx="414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475160" y="54529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5081760" y="4827600"/>
            <a:ext cx="433080" cy="558720"/>
            <a:chOff x="5081760" y="4827600"/>
            <a:chExt cx="433080" cy="558720"/>
          </a:xfrm>
        </p:grpSpPr>
        <p:sp>
          <p:nvSpPr>
            <p:cNvPr id="792" name=""/>
            <p:cNvSpPr/>
            <p:nvPr/>
          </p:nvSpPr>
          <p:spPr>
            <a:xfrm>
              <a:off x="5083200" y="4827600"/>
              <a:ext cx="0" cy="5587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081760" y="5130720"/>
              <a:ext cx="43308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4809960" y="4791240"/>
            <a:ext cx="10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965840" y="51865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187280" y="1841400"/>
            <a:ext cx="55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979640" y="1913040"/>
            <a:ext cx="576000" cy="863640"/>
            <a:chOff x="1979640" y="1913040"/>
            <a:chExt cx="576000" cy="863640"/>
          </a:xfrm>
        </p:grpSpPr>
        <p:sp>
          <p:nvSpPr>
            <p:cNvPr id="798" name=""/>
            <p:cNvSpPr/>
            <p:nvPr/>
          </p:nvSpPr>
          <p:spPr>
            <a:xfrm>
              <a:off x="1979640" y="1913040"/>
              <a:ext cx="0" cy="86364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79640" y="2344680"/>
              <a:ext cx="5760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2556000" y="2344680"/>
            <a:ext cx="576000" cy="863640"/>
            <a:chOff x="2556000" y="2344680"/>
            <a:chExt cx="576000" cy="863640"/>
          </a:xfrm>
        </p:grpSpPr>
        <p:sp>
          <p:nvSpPr>
            <p:cNvPr id="801" name=""/>
            <p:cNvSpPr/>
            <p:nvPr/>
          </p:nvSpPr>
          <p:spPr>
            <a:xfrm>
              <a:off x="2556000" y="2344680"/>
              <a:ext cx="0" cy="86364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56000" y="2776320"/>
              <a:ext cx="5760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2037600" y="19605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633040" y="23684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3132000" y="2776680"/>
            <a:ext cx="576000" cy="863280"/>
            <a:chOff x="3132000" y="2776680"/>
            <a:chExt cx="576000" cy="863280"/>
          </a:xfrm>
        </p:grpSpPr>
        <p:sp>
          <p:nvSpPr>
            <p:cNvPr id="806" name=""/>
            <p:cNvSpPr/>
            <p:nvPr/>
          </p:nvSpPr>
          <p:spPr>
            <a:xfrm>
              <a:off x="3132000" y="2776680"/>
              <a:ext cx="0" cy="86328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32000" y="3207960"/>
              <a:ext cx="5760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3282120" y="2814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249560" y="22240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409040" y="272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260360" y="2560680"/>
            <a:ext cx="64764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139120" y="2365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1115640" y="2200320"/>
            <a:ext cx="144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878120" y="25909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093760" y="2611440"/>
            <a:ext cx="1224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2840" y="2895480"/>
            <a:ext cx="3952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847880" y="295272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517840" y="280836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530440" y="3046320"/>
            <a:ext cx="5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620800" y="3073320"/>
            <a:ext cx="1414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97120" y="3375000"/>
            <a:ext cx="3492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516040" y="3419640"/>
            <a:ext cx="5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65320" y="3214800"/>
            <a:ext cx="9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923760" y="573120"/>
            <a:ext cx="786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евод десятичных чисел в друг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85960" y="1235160"/>
            <a:ext cx="2960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09640" y="1376280"/>
            <a:ext cx="23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Двоичная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008760" y="1395360"/>
            <a:ext cx="17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Восьмеричная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224160" y="4156200"/>
            <a:ext cx="28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Шестнадцатеричная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1035000" y="3886200"/>
                <a:ext cx="16905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111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6342120" y="3751200"/>
                <a:ext cx="1727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31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73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3" name=""/>
          <p:cNvSpPr/>
          <p:nvPr/>
        </p:nvSpPr>
        <p:spPr>
          <a:xfrm>
            <a:off x="0" y="31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929280" y="2184480"/>
            <a:ext cx="6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39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659480" y="4835520"/>
            <a:ext cx="5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393880" y="5713560"/>
            <a:ext cx="1783440" cy="415080"/>
            <a:chOff x="5393880" y="5713560"/>
            <a:chExt cx="1783440" cy="415080"/>
          </a:xfrm>
        </p:grpSpPr>
        <p:sp>
          <p:nvSpPr>
            <p:cNvPr id="837" name=""/>
            <p:cNvSpPr/>
            <p:nvPr/>
          </p:nvSpPr>
          <p:spPr>
            <a:xfrm>
              <a:off x="7024320" y="59457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67640" y="594576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398280" y="574992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13В</a:t>
              </a:r>
              <a:endParaRPr b="0" lang="en-US" sz="20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393880" y="5749920"/>
              <a:ext cx="38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315</a:t>
              </a:r>
              <a:endParaRPr b="0" lang="en-US" sz="20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144120" y="57135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</p:spTree>
  </p:cSld>
  <p:transition spd="slow">
    <p:strips dir="ld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484200" y="3033720"/>
            <a:ext cx="28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3750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44360" y="4249800"/>
            <a:ext cx="35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5000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74720" y="4863960"/>
            <a:ext cx="24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0000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09760" y="24638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96800" y="4863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031760" y="390384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х 2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46000" y="362412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04800" y="2462040"/>
            <a:ext cx="8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875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81120" y="2558880"/>
            <a:ext cx="0" cy="28069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301760" y="3011400"/>
            <a:ext cx="9889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076400" y="361944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7500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266840" y="4227480"/>
            <a:ext cx="9889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258920" y="4829040"/>
            <a:ext cx="9889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289160" y="3625920"/>
            <a:ext cx="9889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61840" y="4248000"/>
            <a:ext cx="10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51040" y="3041640"/>
            <a:ext cx="10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023840" y="3317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х 2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008000" y="267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х 2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001880" y="4498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х 2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72120" y="2908440"/>
            <a:ext cx="10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716880" y="289728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875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792840" y="2994120"/>
            <a:ext cx="0" cy="874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513480" y="3446640"/>
            <a:ext cx="9889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278400" y="351792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0000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173640" y="3106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х </a:t>
            </a: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93000" y="3521160"/>
            <a:ext cx="111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1254240" y="552600"/>
            <a:ext cx="681984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евод десятичной дроб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400560" y="3735360"/>
            <a:ext cx="10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002120" y="3733920"/>
            <a:ext cx="8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875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078440" y="3830760"/>
            <a:ext cx="0" cy="14191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798720" y="4282920"/>
            <a:ext cx="9892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592440" y="488628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0000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86120" y="4897440"/>
            <a:ext cx="9889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357720" y="4311720"/>
            <a:ext cx="10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537000" y="452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х 8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527280" y="3940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Comic Sans MS"/>
              </a:rPr>
              <a:t>х 8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724200" y="4892760"/>
            <a:ext cx="12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071960" y="4268880"/>
            <a:ext cx="15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5000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163520" y="171144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Двоичная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419640" y="3013200"/>
            <a:ext cx="186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Восьмеричная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560920" y="1914480"/>
            <a:ext cx="262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Шестнадцатеричная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1108080" y="2163600"/>
                <a:ext cx="1181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0011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3722760" y="3422520"/>
                <a:ext cx="1019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6099120" y="242244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87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0,3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slow">
    <p:strips dir="ld"/>
  </p:transition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2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5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0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Для перевода целого числа из СС с основанием 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10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в СС с основанием 2 необходимо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то число разделить на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 полученное частное вновь делят н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и так до тех пор пока последнее частное не окажется меньше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В результате записать в одну строку последнее частное и все остатки, начиная с последнег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892" name=""/>
          <p:cNvGraphicFramePr/>
          <p:nvPr/>
        </p:nvGraphicFramePr>
        <p:xfrm>
          <a:off x="4651200" y="2276640"/>
          <a:ext cx="4035600" cy="31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2276640"/>
                    <a:ext cx="403560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4" name=""/>
          <p:cNvSpPr/>
          <p:nvPr/>
        </p:nvSpPr>
        <p:spPr>
          <a:xfrm>
            <a:off x="4726800" y="5410080"/>
            <a:ext cx="372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53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 = 110101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0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02560" cy="1263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Для перевода правильной дроби из СС с  основанием 10 в СС с основанием 2 необходимо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924000" y="1700280"/>
            <a:ext cx="5219640" cy="39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ту дробь умножить на 2, затем дробную часть, полученного произведения вновь умножить на 2 и так до тех пор пока в дробной части не окажутся все нули, либо не будет достигнута заданная степень точности. Целые части, полученных произведений взятые по схеме сверху вниз, и дадут результат перевод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897" name=""/>
          <p:cNvGraphicFramePr/>
          <p:nvPr/>
        </p:nvGraphicFramePr>
        <p:xfrm>
          <a:off x="627120" y="1600200"/>
          <a:ext cx="369576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1600200"/>
                    <a:ext cx="369576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9" name=""/>
          <p:cNvSpPr/>
          <p:nvPr/>
        </p:nvSpPr>
        <p:spPr>
          <a:xfrm>
            <a:off x="916920" y="6095880"/>
            <a:ext cx="34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0,25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 = 0,01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0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42800" y="620640"/>
            <a:ext cx="82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Для перевода смешанной дроби из одной СС в другую необходимо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дставить  эту дробь в виде суммы целого числа и десятичной дроби, а затем произвести перевод каждой части отдельно по соответствующим правилам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strips dir="ld"/>
  </p:transition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0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20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93480" y="692280"/>
            <a:ext cx="68785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99"/>
                </a:solidFill>
                <a:latin typeface="Verdana"/>
              </a:rPr>
              <a:t>Система счисления - </a:t>
            </a:r>
            <a:br>
              <a:rPr sz="5200"/>
            </a:br>
            <a:r>
              <a:rPr b="1" lang="ru-RU" sz="5200" spc="-1" strike="noStrike">
                <a:solidFill>
                  <a:srgbClr val="006699"/>
                </a:solidFill>
                <a:latin typeface="Verdana"/>
              </a:rPr>
              <a:t>это способ записи  чисел.</a:t>
            </a:r>
            <a:br>
              <a:rPr sz="5200"/>
            </a:b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40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6699"/>
                </a:solidFill>
                <a:latin typeface="Verdana"/>
              </a:rPr>
              <a:t>64,  \</a:t>
            </a:r>
            <a:r>
              <a:rPr b="0" lang="en-US" sz="9600" spc="-1" strike="noStrike">
                <a:solidFill>
                  <a:srgbClr val="006699"/>
                </a:solidFill>
                <a:latin typeface="Verdana"/>
              </a:rPr>
              <a:t>/</a:t>
            </a:r>
            <a:endParaRPr b="1" lang="en-US" sz="9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strips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еревести 25,25</a:t>
            </a:r>
            <a:r>
              <a:rPr b="1" lang="ru-RU" sz="5200" spc="-1" strike="noStrike" baseline="-16000">
                <a:solidFill>
                  <a:srgbClr val="006666"/>
                </a:solidFill>
                <a:latin typeface="Verdana"/>
              </a:rPr>
              <a:t>10</a:t>
            </a: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 в двоичную СС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315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ассмотрим пример: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strips dir="ld"/>
  </p:transition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fill="hold">
                      <p:stCondLst>
                        <p:cond delay="0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Сначала- переводим  целую часть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9042480" y="3892680"/>
                <a:ext cx="1015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3337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5</a:t>
            </a:r>
            <a:r>
              <a:rPr b="0" lang="ru-RU" sz="2800" spc="-1" strike="noStrike" baseline="-14000">
                <a:solidFill>
                  <a:srgbClr val="006699"/>
                </a:solidFill>
                <a:latin typeface="Verdana"/>
              </a:rPr>
              <a:t>10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=11001</a:t>
            </a:r>
            <a:r>
              <a:rPr b="0" lang="ru-RU" sz="2800" spc="-1" strike="noStrike" baseline="-16000">
                <a:solidFill>
                  <a:srgbClr val="006699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"/>
          <p:cNvSpPr/>
          <p:nvPr/>
        </p:nvSpPr>
        <p:spPr>
          <a:xfrm>
            <a:off x="2286000" y="1905120"/>
            <a:ext cx="0" cy="990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286000" y="2895480"/>
            <a:ext cx="7621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1422360" y="2768760"/>
                <a:ext cx="812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0" name=""/>
          <p:cNvSpPr/>
          <p:nvPr/>
        </p:nvSpPr>
        <p:spPr>
          <a:xfrm>
            <a:off x="1447920" y="3505320"/>
            <a:ext cx="8380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828800" y="3581280"/>
                <a:ext cx="34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2209680" y="2895480"/>
                <a:ext cx="7876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"/>
          <p:cNvSpPr/>
          <p:nvPr/>
        </p:nvSpPr>
        <p:spPr>
          <a:xfrm>
            <a:off x="2971800" y="2895480"/>
            <a:ext cx="0" cy="6858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971800" y="3581280"/>
            <a:ext cx="7621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070080" y="2917800"/>
                <a:ext cx="4464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3048120" y="3657600"/>
                <a:ext cx="4190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2195640" y="3429000"/>
                <a:ext cx="6886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8" name=""/>
          <p:cNvSpPr/>
          <p:nvPr/>
        </p:nvSpPr>
        <p:spPr>
          <a:xfrm>
            <a:off x="2362320" y="4191120"/>
            <a:ext cx="5331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2438280" y="4191120"/>
                <a:ext cx="4701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0" name=""/>
          <p:cNvSpPr/>
          <p:nvPr/>
        </p:nvSpPr>
        <p:spPr>
          <a:xfrm>
            <a:off x="3733920" y="3581280"/>
            <a:ext cx="0" cy="6098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3832200" y="3603600"/>
                <a:ext cx="4460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2" name=""/>
          <p:cNvSpPr/>
          <p:nvPr/>
        </p:nvSpPr>
        <p:spPr>
          <a:xfrm>
            <a:off x="3733920" y="4191120"/>
            <a:ext cx="5331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3048120" y="4191120"/>
                <a:ext cx="4190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4" name=""/>
          <p:cNvSpPr/>
          <p:nvPr/>
        </p:nvSpPr>
        <p:spPr>
          <a:xfrm>
            <a:off x="3048120" y="4724280"/>
            <a:ext cx="4572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3048120" y="4724280"/>
                <a:ext cx="4698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3809880" y="4191120"/>
                <a:ext cx="4701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7" name=""/>
          <p:cNvSpPr/>
          <p:nvPr/>
        </p:nvSpPr>
        <p:spPr>
          <a:xfrm>
            <a:off x="4267080" y="4191120"/>
            <a:ext cx="0" cy="6094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267080" y="4800600"/>
            <a:ext cx="60984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4267080" y="4191120"/>
                <a:ext cx="490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4343400" y="4800600"/>
                <a:ext cx="3556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809880" y="5410080"/>
                <a:ext cx="392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3733920" y="4800600"/>
                <a:ext cx="488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3" name=""/>
          <p:cNvSpPr/>
          <p:nvPr/>
        </p:nvSpPr>
        <p:spPr>
          <a:xfrm flipH="1" flipV="1">
            <a:off x="1904760" y="4648320"/>
            <a:ext cx="1904760" cy="13716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4267080" y="5105520"/>
            <a:ext cx="609840" cy="9144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809880" y="5486400"/>
            <a:ext cx="4572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1101600" y="1600200"/>
                <a:ext cx="9446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7" name=""/>
              <p:cNvSpPr txBox="1"/>
              <p:nvPr/>
            </p:nvSpPr>
            <p:spPr>
              <a:xfrm>
                <a:off x="2389320" y="2111400"/>
                <a:ext cx="4903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 rot="10800000">
                <a:off x="6549840" y="4599000"/>
                <a:ext cx="3870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slow">
    <p:strips dir="ld"/>
  </p:transition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0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Затем- перевод дробной части</a:t>
            </a:r>
            <a:br>
              <a:rPr sz="5200"/>
            </a:b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5796000" y="2361960"/>
            <a:ext cx="2819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0,25</a:t>
            </a:r>
            <a:r>
              <a:rPr b="1" lang="ru-RU" sz="3200" spc="-1" strike="noStrike" baseline="-14000">
                <a:solidFill>
                  <a:srgbClr val="006699"/>
                </a:solidFill>
                <a:latin typeface="Verdana"/>
              </a:rPr>
              <a:t>10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=0,01</a:t>
            </a:r>
            <a:r>
              <a:rPr b="1" lang="ru-RU" sz="3200" spc="-1" strike="noStrike" baseline="-14000">
                <a:solidFill>
                  <a:srgbClr val="006699"/>
                </a:solidFill>
                <a:latin typeface="Verdana"/>
              </a:rPr>
              <a:t>2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941" name=""/>
          <p:cNvGraphicFramePr/>
          <p:nvPr/>
        </p:nvGraphicFramePr>
        <p:xfrm>
          <a:off x="971640" y="2362320"/>
          <a:ext cx="411480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362320"/>
                    <a:ext cx="41148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ld"/>
  </p:transition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fill="hold">
                      <p:stCondLst>
                        <p:cond delay="0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Соединили целую и дробную части и получили: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25,250010=11001,01</a:t>
            </a:r>
            <a:r>
              <a:rPr b="0" lang="ru-RU" sz="4800" spc="-1" strike="noStrike" baseline="-16000">
                <a:solidFill>
                  <a:srgbClr val="006699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Verdana"/>
              </a:rPr>
              <a:t>       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5" name=""/>
          <p:cNvSpPr/>
          <p:nvPr/>
        </p:nvSpPr>
        <p:spPr>
          <a:xfrm>
            <a:off x="609480" y="609480"/>
            <a:ext cx="2971800" cy="1219320"/>
          </a:xfrm>
          <a:prstGeom prst="rect">
            <a:avLst/>
          </a:prstGeom>
          <a:solidFill>
            <a:srgbClr val="9900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105520" y="533520"/>
            <a:ext cx="3352680" cy="1295280"/>
          </a:xfrm>
          <a:prstGeom prst="rect">
            <a:avLst/>
          </a:prstGeom>
          <a:solidFill>
            <a:srgbClr val="9900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19720" y="914400"/>
            <a:ext cx="0" cy="83808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962520" y="1295280"/>
            <a:ext cx="914400" cy="0"/>
          </a:xfrm>
          <a:prstGeom prst="line">
            <a:avLst/>
          </a:prstGeom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838080" y="990720"/>
            <a:ext cx="25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целая часть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5334120" y="838080"/>
            <a:ext cx="310500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дробная часть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ld"/>
  </p:transition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0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666360" y="1401480"/>
            <a:ext cx="51627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Ей было </a:t>
            </a: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1100</a:t>
            </a: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 лет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Она в</a:t>
            </a: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 101 </a:t>
            </a: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класс ходила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В портфеле по </a:t>
            </a: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100</a:t>
            </a: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 книг носи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Все это правда, а не бред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Когда пыля десятком ног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Она шагала по дороге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За ней всегда бежал щенок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С одним хвостом, зато стоногий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Она ловила каждый звук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Своими десятью ушами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И </a:t>
            </a: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10 </a:t>
            </a: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загорелых рук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Портфель и поводок держал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И </a:t>
            </a: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10</a:t>
            </a: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 темно-синих глаз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Оглядывали мир привычн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Но станет все совсем обычным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Когда поймете наш рассказ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2739960" y="345960"/>
            <a:ext cx="35895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66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ча</a:t>
            </a:r>
            <a:endParaRPr b="0" lang="en-US" sz="2400" spc="1" strike="noStrike">
              <a:ln w="9360">
                <a:solidFill>
                  <a:srgbClr val="0066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5986440" y="1895400"/>
            <a:ext cx="2266920" cy="2809800"/>
          </a:xfrm>
          <a:prstGeom prst="rect">
            <a:avLst/>
          </a:prstGeom>
          <a:ln w="0">
            <a:noFill/>
          </a:ln>
        </p:spPr>
      </p:pic>
      <p:sp>
        <p:nvSpPr>
          <p:cNvPr id="954" name="">
            <a:hlinkClick r:id="rId2" action="ppaction://hlinksldjump"/>
          </p:cNvPr>
          <p:cNvSpPr/>
          <p:nvPr/>
        </p:nvSpPr>
        <p:spPr>
          <a:xfrm>
            <a:off x="6615000" y="54500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3" action="ppaction://hlinksldjump"/>
              </a:rPr>
              <a:t>ОТВЕ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 spd="slow">
    <p:strips dir="ld"/>
    <p:sndAc>
      <p:stSnd>
        <p:snd r:embed="rId4" name="applause.wav"/>
      </p:stSnd>
    </p:sndAc>
  </p:transition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8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8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8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8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2616120" y="725400"/>
            <a:ext cx="384336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66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ВЕТ</a:t>
            </a:r>
            <a:endParaRPr b="0" lang="en-US" sz="2400" spc="1" strike="noStrike">
              <a:ln w="12600">
                <a:solidFill>
                  <a:srgbClr val="0066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405160" y="153036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Ей было </a:t>
            </a:r>
            <a:r>
              <a:rPr b="1" lang="ru-RU" sz="1800" spc="-1" strike="noStrike">
                <a:solidFill>
                  <a:srgbClr val="ff0066"/>
                </a:solidFill>
                <a:latin typeface="Verdana"/>
              </a:rPr>
              <a:t>12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лет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Она в</a:t>
            </a:r>
            <a:r>
              <a:rPr b="1" lang="ru-RU" sz="1800" spc="-1" strike="noStrike">
                <a:solidFill>
                  <a:srgbClr val="ff0066"/>
                </a:solidFill>
                <a:latin typeface="Verdana"/>
              </a:rPr>
              <a:t> 5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класс ходила.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В портфеле по </a:t>
            </a:r>
            <a:r>
              <a:rPr b="1" lang="ru-RU" sz="1800" spc="-1" strike="noStrike">
                <a:solidFill>
                  <a:srgbClr val="ff0066"/>
                </a:solidFill>
                <a:latin typeface="Verdana"/>
              </a:rPr>
              <a:t>4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книг носила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Все это правда, а не бред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Когда пыля десятком ног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Она шагала по дороге,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За ней всегда бежал щенок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 одним хвостом, зато стоногий,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Она ловила каждый звук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воими десятью ушами,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И </a:t>
            </a:r>
            <a:r>
              <a:rPr b="1" lang="ru-RU" sz="1800" spc="-1" strike="noStrike">
                <a:solidFill>
                  <a:srgbClr val="ff0066"/>
                </a:solidFill>
                <a:latin typeface="Verdana"/>
              </a:rPr>
              <a:t>2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загорелых рук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Портфель и поводок держали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И </a:t>
            </a:r>
            <a:r>
              <a:rPr b="1" lang="ru-RU" sz="1800" spc="-1" strike="noStrike">
                <a:solidFill>
                  <a:srgbClr val="ff0066"/>
                </a:solidFill>
                <a:latin typeface="Verdana"/>
              </a:rPr>
              <a:t>2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темно-синих глаз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Оглядывали мир привычно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Но станет все совсем обычным,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Когда поймете наш рассказ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 spd="slow">
    <p:strips dir="ld"/>
    <p:sndAc>
      <p:stSnd>
        <p:snd r:embed="rId1" name="applause.wav"/>
      </p:stSnd>
    </p:sndAc>
  </p:transition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6450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Школьный калькулятор работает в троичной системе счисления и для вывода числа на экран имеет только четыре знакоместа. С каким самым большим десятичным числом, переведенным, конечно, в троичную систему счисления, мы можем работать?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5986440" y="1895400"/>
            <a:ext cx="2266920" cy="280980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7027920" y="5546880"/>
            <a:ext cx="9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 spd="slow">
    <p:strips dir="ld"/>
    <p:sndAc>
      <p:stSnd>
        <p:snd r:embed="rId3" name="applause.wav"/>
      </p:stSnd>
    </p:sndAc>
  </p:transition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/>
          </p:nvPr>
        </p:nvSpPr>
        <p:spPr>
          <a:xfrm>
            <a:off x="2514240" y="1600200"/>
            <a:ext cx="42022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 троичной системе счисления используется цифры </a:t>
            </a: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 Самое большое число, которое можно высветить на экране калькулятора </a:t>
            </a: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2222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strips dir="ld"/>
    <p:sndAc>
      <p:stSnd>
        <p:snd r:embed="rId1" name="applause.wav"/>
      </p:stSnd>
    </p:sndAc>
  </p:transition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249800" y="0"/>
            <a:ext cx="489420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ем успехов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2" name="applause.wav"/>
      </p:stSnd>
    </p:sndAc>
  </p:transition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0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/>
          </p:nvPr>
        </p:nvSpPr>
        <p:spPr>
          <a:xfrm>
            <a:off x="382680" y="180720"/>
            <a:ext cx="8229600" cy="63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ЦЕЛИ: Познакомится с одним из разделов историей развития и классификацией различных систем счисления, с алгоритмом перевода из десятичной системы счисления в другие(двоичная, восьмеричная, шестнадцатеричная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пользуемые информационные продукты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icrosoft Power Point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для создание и демонстрации презентации;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icrosoft Word -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для набора текста;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aint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- для создания графических объектов;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dobe Photoshop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- для редактирования графических объектов;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истемные требован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резентацию можно выполнить на компьютере любого класса где содержаться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in98/ME/2000/XP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рограмма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icrosoft Power Point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любой версии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spcBef>
                <a:spcPts val="2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Особых ограничений  НЕТ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держание проекта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сновные темы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3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тория системы счис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3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позиционные системы счис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3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зиционные системы счис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3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оичная арифме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3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лгоритм перевода чисел из одной системы счисления в друг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451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В наше время современному человеку постоянно попадаются числа, цифры… они с нами везде. А 2 тысячи лет назад что знал человек о цифрах? А 5 тысяч лет назад? Вопрос не простой, но очень интересный. Историки доказали, что и 5 тысяч лет тому назад люди могли записывать числа, могли производить над ними арифметические действия. Но записывали они числа по другим принципам, нежели мы в настоящее врем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Появление дробных чисел было связано с необходимостью производить измерения. Но так как единица измерения не всегда укладывалось целое число раз в измеряемой величине, то возникла практическая потребность ввести более «мелкие» числа, чем натуральные. При изложении материала под числом мы будем понимать его величину, а не его символьную запись. Сегодня человечество для записи чисел использует в основном десятичную систему счисле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179360" y="503280"/>
            <a:ext cx="70074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 системы  счисления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trips dir="ld"/>
    <p:sndAc>
      <p:stSnd>
        <p:snd r:embed="rId1" name="applause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457200" y="28692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Информатика и информационные технологии. Учебник для 10-11 кл. Н.Д. Угринович - Москва- издательство «БИНОМ. Лаборатория знаний», 2005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истемы счисления и компьютерная арифметика. Учебное пособие. Е. В Андреева. Москва- издательство «БИНОМ. Лаборатория знаний», 2004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Информатика. Структурированный конспект базового курса информатики. И.Г. Семакин. Москва- издательство «БИНОМ. Лаборатория знаний», 2001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адачник – практикум. И.Г. Семакин. Москва- издательство «БИНОМ. Лаборатория знаний», 2001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атематические основы информатики. Элективный курс: Учебное пособие. Е. В Андреева. Москва- издательство «БИНОМ. Лаборатория знаний», 2005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780" dur="indefinite" restart="never" nodeType="tmRoot">
          <p:childTnLst>
            <p:seq>
              <p:cTn id="1781" dur="indefinite" nodeType="mainSeq">
                <p:childTnLst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782640" y="3357720"/>
            <a:ext cx="32306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От положения знака в изображении числа не зависит величина, которую он обозначает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1071720" y="498600"/>
            <a:ext cx="6454440" cy="106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стема счисления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5" name=""/>
          <p:cNvSpPr/>
          <p:nvPr/>
        </p:nvSpPr>
        <p:spPr>
          <a:xfrm>
            <a:off x="1717560" y="1916280"/>
            <a:ext cx="720720" cy="649080"/>
          </a:xfrm>
          <a:custGeom>
            <a:avLst/>
            <a:gdLst>
              <a:gd name="textAreaLeft" fmla="*/ 96480 w 720720"/>
              <a:gd name="textAreaRight" fmla="*/ 624240 w 72072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84720" y="1916280"/>
            <a:ext cx="720720" cy="649080"/>
          </a:xfrm>
          <a:custGeom>
            <a:avLst/>
            <a:gdLst>
              <a:gd name="textAreaLeft" fmla="*/ 96480 w 720720"/>
              <a:gd name="textAreaRight" fmla="*/ 624240 w 72072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709560" y="2852640"/>
            <a:ext cx="3097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позиционна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716360" y="2852640"/>
            <a:ext cx="28576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зиционна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788000" y="3357720"/>
            <a:ext cx="36511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Величина, обозначаемая цифрой в записи числа, зависит от ее позиции</a:t>
            </a:r>
            <a:r>
              <a:rPr b="1" lang="ru-RU" sz="2000" spc="-1" strike="noStrike">
                <a:solidFill>
                  <a:srgbClr val="006666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539640" y="1844280"/>
            <a:ext cx="8353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В непозиционных системах счисления от положения цифры в записи числа не зависит величина, которую она обозначает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Примером является римская система. В римской системе в качестве цифр используется латинские буквы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711440" y="422280"/>
            <a:ext cx="547524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мская система счисления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2" name=""/>
          <p:cNvSpPr/>
          <p:nvPr/>
        </p:nvSpPr>
        <p:spPr>
          <a:xfrm>
            <a:off x="1496520" y="285264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72320" y="2852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V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67200" y="285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51280" y="28526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43280" y="2852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511680" y="285264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79640" y="285264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482480" y="3141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74480" y="3141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069360" y="31417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80000" y="3165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586760" y="31417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100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450400" y="31417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500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91080" y="3141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omic Sans MS"/>
              </a:rPr>
              <a:t>1000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90480" y="3645000"/>
            <a:ext cx="8064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Comic Sans MS"/>
              </a:rPr>
              <a:t>Число 32 в римской системе счисления имеет вид: 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Comic Sans MS"/>
              </a:rPr>
              <a:t>XXXII = (X+X+X)+(I+I)= 30+2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Число 444, имеющее в десятичной записи 3 одинаковые цифры, в римской системе счисления будет записано в виде: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CDXLIV=(D-C)+(L-X)+(V-I)= 400+40+4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Число 1974 в римской системе счисления имеет вид  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Comic Sans MS"/>
              </a:rPr>
              <a:t>MCMLXXIV= M+(M-C)+L+(X+X)+(V-I)=1000+900+50+20+4</a:t>
            </a: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704880" y="2964960"/>
            <a:ext cx="8229600" cy="33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Он был итальянским математиком. Благодаря его книге «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Liber Abaci</a:t>
            </a: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»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Европа узнала индо-арабскую систему чисел, которая позднее вытеснила римские числ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826920" y="981000"/>
            <a:ext cx="47833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еонардо Пизанский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2987640" y="2060640"/>
            <a:ext cx="49608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боначчи (1170-1250)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5724360" y="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2" name="applause.wav"/>
      </p:stSnd>
    </p:sndAc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66"/>
                </a:solidFill>
                <a:latin typeface="Comic Sans MS"/>
              </a:rPr>
              <a:t>Позиционную систему счисления называют традиционной, если ее базис образует члены геометрической прогрессии, а значения цифр есть целые неотрицательные числа. Базис-последовательность чисел каждая из которых задает вес соответствующего разряда.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99"/>
                </a:solidFill>
                <a:latin typeface="Comic Sans MS"/>
              </a:rPr>
              <a:t>Знаменатель </a:t>
            </a:r>
            <a:r>
              <a:rPr b="0" lang="en-US" sz="2300" spc="-1" strike="noStrike">
                <a:solidFill>
                  <a:srgbClr val="006699"/>
                </a:solidFill>
                <a:latin typeface="Comic Sans MS"/>
              </a:rPr>
              <a:t>P </a:t>
            </a:r>
            <a:r>
              <a:rPr b="0" lang="ru-RU" sz="2300" spc="-1" strike="noStrike">
                <a:solidFill>
                  <a:srgbClr val="006699"/>
                </a:solidFill>
                <a:latin typeface="Comic Sans MS"/>
              </a:rPr>
              <a:t>геометрической прогрессии, члены которой образуют базис традиционной системы счисления, называется </a:t>
            </a:r>
            <a:r>
              <a:rPr b="0" lang="ru-RU" sz="2300" spc="-1" strike="noStrike">
                <a:solidFill>
                  <a:srgbClr val="ff0000"/>
                </a:solidFill>
                <a:latin typeface="Comic Sans MS"/>
              </a:rPr>
              <a:t>основанием</a:t>
            </a:r>
            <a:r>
              <a:rPr b="0" lang="ru-RU" sz="2300" spc="-1" strike="noStrike">
                <a:solidFill>
                  <a:srgbClr val="006699"/>
                </a:solidFill>
                <a:latin typeface="Comic Sans MS"/>
              </a:rPr>
              <a:t> этой системы счисления. Традиционные системы счисления с основанием </a:t>
            </a:r>
            <a:r>
              <a:rPr b="0" lang="en-US" sz="2300" spc="-1" strike="noStrike">
                <a:solidFill>
                  <a:srgbClr val="006699"/>
                </a:solidFill>
                <a:latin typeface="Comic Sans MS"/>
              </a:rPr>
              <a:t>P </a:t>
            </a:r>
            <a:r>
              <a:rPr b="0" lang="ru-RU" sz="2300" spc="-1" strike="noStrike">
                <a:solidFill>
                  <a:srgbClr val="006699"/>
                </a:solidFill>
                <a:latin typeface="Comic Sans MS"/>
              </a:rPr>
              <a:t>иначе называют </a:t>
            </a:r>
            <a:r>
              <a:rPr b="0" lang="en-US" sz="2300" spc="-1" strike="noStrike">
                <a:solidFill>
                  <a:srgbClr val="ff0066"/>
                </a:solidFill>
                <a:latin typeface="Comic Sans MS"/>
              </a:rPr>
              <a:t>P-</a:t>
            </a:r>
            <a:r>
              <a:rPr b="0" lang="ru-RU" sz="23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ru-RU" sz="2300" spc="-1" strike="noStrike">
                <a:solidFill>
                  <a:srgbClr val="ff0000"/>
                </a:solidFill>
                <a:latin typeface="Comic Sans MS"/>
              </a:rPr>
              <a:t>ичным</a:t>
            </a:r>
            <a:r>
              <a:rPr b="0" lang="ru-RU" sz="2300" spc="-1" strike="noStrike">
                <a:solidFill>
                  <a:srgbClr val="006699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874800" y="797040"/>
            <a:ext cx="7315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66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зиционная система счисления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66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trips dir="l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Verdana"/>
              </a:rPr>
              <a:t>Двоичная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651200" y="1600200"/>
            <a:ext cx="4035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Позиционная система счисления с основанием два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633240" y="1600200"/>
            <a:ext cx="3683160" cy="4456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5">
                                  <p:stCondLst>
                                    <p:cond delay="1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75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75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858960" y="369720"/>
            <a:ext cx="6729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воичная арифметик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457200" y="1600200"/>
          <a:ext cx="1814040" cy="1872720"/>
        </p:xfrm>
        <a:graphic>
          <a:graphicData uri="http://schemas.openxmlformats.org/drawingml/2006/table">
            <a:tbl>
              <a:tblPr/>
              <a:tblGrid>
                <a:gridCol w="1814040"/>
              </a:tblGrid>
              <a:tr h="187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Таблица сложен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0+0=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+0=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0+1=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+1=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8" name=""/>
          <p:cNvGraphicFramePr/>
          <p:nvPr/>
        </p:nvGraphicFramePr>
        <p:xfrm>
          <a:off x="3040200" y="1609560"/>
          <a:ext cx="1585440" cy="1876320"/>
        </p:xfrm>
        <a:graphic>
          <a:graphicData uri="http://schemas.openxmlformats.org/drawingml/2006/table">
            <a:tbl>
              <a:tblPr/>
              <a:tblGrid>
                <a:gridCol w="1585440"/>
              </a:tblGrid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Таблица вычитан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0-0=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-0=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-1=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0-1=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9" name=""/>
          <p:cNvGraphicFramePr/>
          <p:nvPr/>
        </p:nvGraphicFramePr>
        <p:xfrm>
          <a:off x="5853240" y="1592280"/>
          <a:ext cx="1473120" cy="1635120"/>
        </p:xfrm>
        <a:graphic>
          <a:graphicData uri="http://schemas.openxmlformats.org/drawingml/2006/table">
            <a:tbl>
              <a:tblPr/>
              <a:tblGrid>
                <a:gridCol w="1473120"/>
              </a:tblGrid>
              <a:tr h="16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Таблица умножения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0*0=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*0=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Comic Sans MS"/>
                        </a:rPr>
                        <a:t>1*1=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0" name=""/>
          <p:cNvSpPr/>
          <p:nvPr/>
        </p:nvSpPr>
        <p:spPr>
          <a:xfrm>
            <a:off x="1031760" y="5648400"/>
            <a:ext cx="17319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432080" y="4937040"/>
            <a:ext cx="29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  1  0  1  1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181160" y="5241960"/>
            <a:ext cx="24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  0  1  1  0  1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66720" y="569268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  0  0  1  0  0  0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0080" y="5105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098720" y="4238640"/>
            <a:ext cx="193644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120680" y="3527280"/>
            <a:ext cx="28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  0  0  1  0  0  0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73040" y="38116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  0  1  1  0  1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467000" y="4229280"/>
            <a:ext cx="24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  1  0  1  1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41320" y="356400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292800" y="370044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  1  0  0  1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303960" y="397836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  0  0  0  1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249960" y="4346640"/>
            <a:ext cx="16779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162840" y="3876840"/>
            <a:ext cx="6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323040" y="438480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  1  0  0  1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067440" y="466884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0  0  0  0  0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827680" y="488484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0  0  0  0  0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576760" y="511164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0  0  0  0  0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34120" y="5343480"/>
            <a:ext cx="22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  1  0  0  1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75240" y="458136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002200" y="5657760"/>
            <a:ext cx="28828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03800" y="5632560"/>
            <a:ext cx="34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Comic Sans MS"/>
              </a:rPr>
              <a:t>1  1  0  1  0  1  0  0  1</a:t>
            </a:r>
            <a:endParaRPr b="0" lang="en-US" sz="16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07:48:44Z</dcterms:created>
  <dc:creator/>
  <dc:description/>
  <dc:language>en-US</dc:language>
  <cp:lastModifiedBy>Secretar</cp:lastModifiedBy>
  <dcterms:modified xsi:type="dcterms:W3CDTF">1999-12-31T22:01:17Z</dcterms:modified>
  <cp:revision>69</cp:revision>
  <dc:subject/>
  <dc:title>СИСТЕМЫ  СЧИСЛЕНИЯ</dc:title>
</cp:coreProperties>
</file>