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3E1-7643-4315-8373-36B5DA96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725-837A-4ADF-BF74-6773427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609-CB45-4372-9252-108FFC6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E6C-0BFA-4D38-974F-B64AC5A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CE1-9CA5-4274-ACD7-EBE2BD5A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20B-7FF4-473D-AB44-71D83C3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055-FA22-4E4A-92FB-72337C3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465-D7B6-499C-8E92-353F030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101-08E2-4378-AA1D-329C93A9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03E-AADE-4D36-9226-5D871A3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4B8-85CB-4239-BF44-F9396D4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89C-FEFB-47E5-861A-DFB8179A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87B1-DB18-4B4C-8135-9B96838C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ony_Ericsson_K610i_1"/>
          <p:cNvPicPr/>
          <p:nvPr/>
        </p:nvPicPr>
        <p:blipFill>
          <a:blip r:embed="rId1"/>
          <a:stretch/>
        </p:blipFill>
        <p:spPr>
          <a:xfrm>
            <a:off x="7164360" y="1125360"/>
            <a:ext cx="1728720" cy="355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64000" y="522900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какунова Г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-логоп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 выполнения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МОУ «Соленовская средняя общеобразовательная шко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530064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Автор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какунов Рус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ученик 4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413000"/>
            <a:ext cx="66978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«Влияние сотового телефона на организм человека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Самое популярное место ношения телефо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4067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Учёные считают, что вред приносит не только разговор по мобильному телефону, но даже его нахождение  в кармане брю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Ученики же носят их в карманах брюк,  жакетов; некоторые носят телефоны в сумках; часть детей предпочитает носить сотовый телефон на шее, на поя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484280"/>
          <a:ext cx="500364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036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Критерии вредности сотового телефо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596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 середины 90-х годов активно пропагандируется норма допустимого облучения человека, выраженная в мощности электромагнитной волны (Вт), приходящейся на 1 кг живого веса - Specific Absorption Rate (SAR), оно должно быть в пределах от 0,28 до 1,5 Вт/кг. Чем меньше SAR, тем безопаснее телефон для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годня эта норма даже вводится для обязательного указания в паспорте сотового телеф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ony_Ericsson_W880"/>
          <p:cNvPicPr/>
          <p:nvPr/>
        </p:nvPicPr>
        <p:blipFill>
          <a:blip r:embed="rId1"/>
          <a:stretch/>
        </p:blipFill>
        <p:spPr>
          <a:xfrm>
            <a:off x="7164360" y="1413000"/>
            <a:ext cx="1979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4360" y="4941720"/>
          <a:ext cx="7930800" cy="1617480"/>
        </p:xfrm>
        <a:graphic>
          <a:graphicData uri="http://schemas.openxmlformats.org/drawingml/2006/table">
            <a:tbl>
              <a:tblPr/>
              <a:tblGrid>
                <a:gridCol w="3965400"/>
                <a:gridCol w="3965400"/>
              </a:tblGrid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 телефо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K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 ватт на ки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S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99 ватт на ки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25360"/>
          <a:ext cx="79214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9214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900000" y="40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й марки ваш телеф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Заклю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 своей работе я не ответил однозначно на вопрос: 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«Какой вред оказывает сотовый телефон на здоровье человек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едь даже ученые не пришли к единому  мнению.  Но я считаю, что необходимо рассказывать и объяснять ребятам, родителям, что такая проблема существует, и  каждый из нас может и даже обязан принять простые меры предостор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доровье человека, подростка потом ни за какие деньги не купишь. Поэтому мы предлагаем познакомиться с правилами пользования сотовым телефоном и телефонным этикет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Правила по использованию сотовых телефо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ри покупке телефона будьте  внимательны и обращайте внимание не только на возможности и дизайн телефона. Но и на значение SAR, которое должно быть указано в инстру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е вешайте телефон на шею, положите его в сумку и  не держите в карма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Детям и подросткам нужно ограничивать время пользования телефо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Чтобы не наносить вред окружающей среде и здоровью людей при утилизации отходов, отделяйте такие изделия от остального мусора и сдавайте их на переработку с целью повторного использования ценных 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Телефонный этик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43280" y="764640"/>
            <a:ext cx="630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ключайте  мобильный телефон, когда использование радиосвязи может подвергнуть опасности жизнь других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держивайтесь от использования мобильного телефона во время управления тран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ключайте телефон или переводите его в беззвучный режим на спектаклях, киносеансах, концертах, в музе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Мобильные телефоны повышают риск лейкемии или образования опухоли в голове, глазах или слюнных железах"/>
          <p:cNvPicPr/>
          <p:nvPr/>
        </p:nvPicPr>
        <p:blipFill>
          <a:blip r:embed="rId1"/>
          <a:stretch/>
        </p:blipFill>
        <p:spPr>
          <a:xfrm>
            <a:off x="0" y="2760840"/>
            <a:ext cx="3132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Nokia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Цель мо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ыяснить, как сотовый телефон влияет на здоровье человека, в том числе и на детский организм и на сколько это опа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Дать рекомендации учащимся нашей школы по  правильному использованию телеф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В ходе изучения данной проблемы ставятся следующие </a:t>
            </a: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задачи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ознакомиться со спектром вредного  воздействия сотового телефона 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роанализировать степень влияния сотового телефона на здоровье взрослого человека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смотреть возможности  снижения отрицательного воздействия  сотового телефона за счет  соблюдения правил пользования  телеф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ile0576"/>
          <p:cNvPicPr/>
          <p:nvPr/>
        </p:nvPicPr>
        <p:blipFill>
          <a:blip r:embed="rId1"/>
          <a:stretch/>
        </p:blipFill>
        <p:spPr>
          <a:xfrm rot="834000">
            <a:off x="7688160" y="3646440"/>
            <a:ext cx="8254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Для решения поставленных задач использованы </a:t>
            </a: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методы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: поисковый, исследования  научных источников, сопоставления и сравнения  данных, обобщения, анкетный опр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otorola_RIZR_Z8_2"/>
          <p:cNvPicPr/>
          <p:nvPr/>
        </p:nvPicPr>
        <p:blipFill>
          <a:blip r:embed="rId1"/>
          <a:stretch/>
        </p:blipFill>
        <p:spPr>
          <a:xfrm>
            <a:off x="6012000" y="3929040"/>
            <a:ext cx="291456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ony_Ericsson_W600_3"/>
          <p:cNvPicPr/>
          <p:nvPr/>
        </p:nvPicPr>
        <p:blipFill>
          <a:blip r:embed="rId2"/>
          <a:stretch/>
        </p:blipFill>
        <p:spPr>
          <a:xfrm>
            <a:off x="971640" y="5076720"/>
            <a:ext cx="3009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Monotype Corsiva"/>
              </a:rPr>
              <a:t>Актуаль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В ΧΧ столетии скорость передачи сообщений очень возросла. Быстрая связь облегчает общение людям, живущим в разных уголках мира. В наше время любые сообщения – письменные, звуковые могут быть переданы с помощью электричества, на этом принципе основано действие телеф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Преимущества мобильной связ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Чистое звучание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Отсутствие посторонних шумов и эффекта металлического голос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Скорость передачи данных может достигать 153 К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 секун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4084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Опасность мобильных телефо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сследование влияния мобильных телефонов показало, что антенны, принимающие и передающие сигналы мобильных телефонов,  действительно являются источниками электромагнитного излучения, способного проникать в человеческий мозг. Однако свидетельств того, что это связано с повышением риска образования опухолей в голове или шее, не обнаруж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Британский Институт раковых исследований обнародовал данные собственного исследования, по итогам был сделан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ывод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00"/>
                </a:solidFill>
                <a:latin typeface="Arial"/>
              </a:rPr>
              <a:t>использование мобильных телефонов не приводит к увеличению риска возникновения рака моз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Мобильный телефон и реб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69483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днако излучение мобильников особенно сказывается на детском организме, что связано с недостаточным развитием у них иммунной системы. Огромный вред наносится мозгу ребёнка, так как его клетки мозга только начали развиваться и получать нужную для него информацию, а радиоволны разрушают клетки головной коры и мозга, затрудняют кровообращение, а также вызывает повышенное кровяное давление и сокращение числа красных кровяных клеток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le0578"/>
          <p:cNvPicPr/>
          <p:nvPr/>
        </p:nvPicPr>
        <p:blipFill>
          <a:blip r:embed="rId1"/>
          <a:stretch/>
        </p:blipFill>
        <p:spPr>
          <a:xfrm>
            <a:off x="6877080" y="2852640"/>
            <a:ext cx="20462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Предостережения уче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Эксперты  советуют детям и подросткам ограничивать время пользования телефо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оскольку их мозг и нер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система все еще находятся в процессе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File05701"/>
          <p:cNvPicPr/>
          <p:nvPr/>
        </p:nvPicPr>
        <p:blipFill>
          <a:blip r:embed="rId1"/>
          <a:stretch/>
        </p:blipFill>
        <p:spPr>
          <a:xfrm>
            <a:off x="4284720" y="4459320"/>
            <a:ext cx="3276720" cy="23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ile0575"/>
          <p:cNvPicPr/>
          <p:nvPr/>
        </p:nvPicPr>
        <p:blipFill>
          <a:blip r:embed="rId2"/>
          <a:stretch/>
        </p:blipFill>
        <p:spPr>
          <a:xfrm>
            <a:off x="7604280" y="549360"/>
            <a:ext cx="15397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38:29Z</dcterms:created>
  <dc:creator>user</dc:creator>
  <dc:description/>
  <dc:language>en-US</dc:language>
  <cp:lastModifiedBy>user</cp:lastModifiedBy>
  <dcterms:modified xsi:type="dcterms:W3CDTF">2010-01-11T12:10:45Z</dcterms:modified>
  <cp:revision>7</cp:revision>
  <dc:subject/>
  <dc:title>Слайд 1</dc:title>
</cp:coreProperties>
</file>