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2AD-E2E2-4467-B7BC-7AF99A3E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EA3-AFD4-48B0-8E7F-45209489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A06-F542-42A1-8A8C-CB680855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8E0-D719-4A6C-910E-E6D6FC68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A21-62A3-478C-AD9C-F6A8732A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1220-8A93-48DA-BC71-46BFA002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CC20-BCA7-470F-B28A-8F0F9151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F514-289B-4C9D-BC0C-047014A9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0BE7-80C4-40DD-9764-1D0BEC5D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0FFF-44B5-4E28-AF87-4F2F540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09C4-4AA0-4B27-AB06-02D27309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C2D-C0AD-49F8-8A73-5E4C4D7D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B548-38CA-4E96-8EC3-6463A82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B753-49BE-463E-8F3D-06E7D609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9940-A304-4C74-8430-BBC846A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290F-5915-4FB9-9018-789BB10B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4BB8-479B-419E-8CB9-B9485A74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4DD-FB0D-46CB-868B-131E88AE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CAC-01C9-4C7D-88BE-7206CA27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9DD-7EDC-4380-B0AE-515E469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146-32F5-432A-A6F8-94070DD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160-72BA-41D3-A70F-9C4A84BA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932-C4A1-4CE6-BBE9-9AF2D74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A73-C516-4D78-937F-E74D7014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2ED-CFB6-4FF5-89F3-80639DBBE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14BA-CA8A-4B7B-89F6-63875A95BC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46d0"/>
                </a:solidFill>
                <a:latin typeface="Arial"/>
              </a:rPr>
              <a:t>В мире тысячи профессий. Легко ли разобраться в этом многообразии, сделать свой выбо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0" descr="P1040775"/>
          <p:cNvPicPr/>
          <p:nvPr/>
        </p:nvPicPr>
        <p:blipFill>
          <a:blip r:embed="rId1"/>
          <a:stretch/>
        </p:blipFill>
        <p:spPr>
          <a:xfrm rot="916200">
            <a:off x="6324120" y="2361960"/>
            <a:ext cx="2184480" cy="1638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2" descr="P1040741"/>
          <p:cNvPicPr/>
          <p:nvPr/>
        </p:nvPicPr>
        <p:blipFill>
          <a:blip r:embed="rId2"/>
          <a:stretch/>
        </p:blipFill>
        <p:spPr>
          <a:xfrm rot="20432400">
            <a:off x="380520" y="2590920"/>
            <a:ext cx="1803600" cy="135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5" descr="P1040766"/>
          <p:cNvPicPr/>
          <p:nvPr/>
        </p:nvPicPr>
        <p:blipFill>
          <a:blip r:embed="rId3"/>
          <a:stretch/>
        </p:blipFill>
        <p:spPr>
          <a:xfrm rot="743400">
            <a:off x="1904760" y="4952880"/>
            <a:ext cx="2108160" cy="1581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0" descr="DSC00547"/>
          <p:cNvPicPr/>
          <p:nvPr/>
        </p:nvPicPr>
        <p:blipFill>
          <a:blip r:embed="rId4"/>
          <a:stretch/>
        </p:blipFill>
        <p:spPr>
          <a:xfrm rot="20648400">
            <a:off x="6019920" y="472392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2" descr="itf171s002BG[1]"/>
          <p:cNvPicPr/>
          <p:nvPr/>
        </p:nvPicPr>
        <p:blipFill>
          <a:blip r:embed="rId5"/>
          <a:stretch/>
        </p:blipFill>
        <p:spPr>
          <a:xfrm>
            <a:off x="3505320" y="2971800"/>
            <a:ext cx="18288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По мере развития техники дел у    слесарей прибавилось. Они давно уже занимаются не только ремонтом и изготовлением замков. Практически не одно предприятия не может сегодня обойтись без слеса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есарь-сантехник должен иметь крепкое здоровь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0_16598_7b63e535_L[1]"/>
          <p:cNvPicPr/>
          <p:nvPr/>
        </p:nvPicPr>
        <p:blipFill>
          <a:blip r:embed="rId1"/>
          <a:stretch/>
        </p:blipFill>
        <p:spPr>
          <a:xfrm>
            <a:off x="2590920" y="2286000"/>
            <a:ext cx="32302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успешной работы слесарь-сантехник должен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Ответствен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Организован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Аккурат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Вниматель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Уметь добросовестно работать в различных услов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Понимать, как много значит в работе точность и высокое каче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00"/>
                            </p:stCondLst>
                            <p:childTnLst>
                              <p:par>
                                <p:cTn id="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250"/>
                            </p:stCondLst>
                            <p:childTnLst>
                              <p:par>
                                <p:cTn id="2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20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250"/>
                            </p:stCondLst>
                            <p:childTnLst>
                              <p:par>
                                <p:cTn id="2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90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46d0"/>
                </a:solidFill>
                <a:latin typeface="Arial"/>
              </a:rPr>
              <a:t>Профессия слесарь-сантехник привлекает всех, кому нравится проявлять в работе работоспособность, сочетать физический и умственный труд,    проявлять техническую </a:t>
            </a:r>
            <a:br>
              <a:rPr sz="3600"/>
            </a:br>
            <a:r>
              <a:rPr b="0" lang="ru-RU" sz="3600" spc="-1" strike="noStrike">
                <a:solidFill>
                  <a:srgbClr val="7b46d0"/>
                </a:solidFill>
                <a:latin typeface="Arial"/>
              </a:rPr>
              <a:t>смекалку и умения быть </a:t>
            </a:r>
            <a:br>
              <a:rPr sz="3600"/>
            </a:br>
            <a:r>
              <a:rPr b="0" lang="ru-RU" sz="3600" spc="-1" strike="noStrike">
                <a:solidFill>
                  <a:srgbClr val="7b46d0"/>
                </a:solidFill>
                <a:latin typeface="Arial"/>
              </a:rPr>
              <a:t>настоящим мужчино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s000325_877893[1]"/>
          <p:cNvPicPr/>
          <p:nvPr/>
        </p:nvPicPr>
        <p:blipFill>
          <a:blip r:embed="rId1"/>
          <a:stretch/>
        </p:blipFill>
        <p:spPr>
          <a:xfrm rot="20712000">
            <a:off x="6553080" y="3733560"/>
            <a:ext cx="1895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505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46d0"/>
                </a:solidFill>
                <a:latin typeface="Arial"/>
              </a:rPr>
              <a:t>И от того, как правильно мы выберем себе будущую профессию, насколько она будет нам по душе во многом зависит наш дальнейший жизненный пут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santexnik[1]"/>
          <p:cNvPicPr/>
          <p:nvPr/>
        </p:nvPicPr>
        <p:blipFill>
          <a:blip r:embed="rId1"/>
          <a:stretch/>
        </p:blipFill>
        <p:spPr>
          <a:xfrm>
            <a:off x="304920" y="4114800"/>
            <a:ext cx="2286000" cy="2381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0.02245 C 0.3125 0.01968 0.31059 0.01597 0.30677 0.00579 C 0.30973 -0.02639 0.31615 -0.03796 0.33802 -0.05255 C 0.34896 -0.05116 0.36007 -0.05116 0.37084 -0.04838 C 0.375 -0.04722 0.37778 -0.0419 0.38177 -0.04005 C 0.38594 -0.03171 0.39375 -0.02801 0.40052 -0.02338 C 0.40764 -0.00903 0.40556 -0.01574 0.40834 -0.00463 C 0.40434 0.01898 0.40174 0.03611 0.3849 0.04745 C 0.37917 0.0625 0.38542 0.05046 0.37396 0.05995 C 0.36736 0.06551 0.36146 0.07245 0.35521 0.0787 C 0.35295 0.08102 0.34983 0.08125 0.3474 0.08287 C 0.33768 0.08935 0.329 0.09722 0.31927 0.1037 C 0.31337 0.10764 0.30851 0.10972 0.30209 0.11204 C 0.29896 0.1132 0.29271 0.1162 0.29271 0.11644 C 0.28125 0.11482 0.26962 0.11528 0.25834 0.11204 C 0.25643 0.11158 0.2566 0.10764 0.25521 0.10579 C 0.2507 0.09977 0.24497 0.09375 0.23959 0.08912 C 0.23855 0.08704 0.23768 0.08472 0.23646 0.08287 C 0.23403 0.07917 0.23091 0.07639 0.22865 0.07245 C 0.22761 0.0706 0.22778 0.06806 0.22709 0.0662 C 0.22361 0.05671 0.22101 0.04769 0.21615 0.03912 C 0.21216 -0.00347 0.20677 -0.04583 0.20052 -0.08796 C 0.20365 -0.10046 0.20712 -0.11273 0.2099 -0.12546 C 0.21181 -0.1338 0.21198 -0.14259 0.21459 -0.15046 C 0.21563 -0.1537 0.22969 -0.16852 0.23021 -0.16921 C 0.24618 -0.18842 0.26164 -0.20393 0.28334 -0.2088 C 0.29705 -0.2162 0.30191 -0.2162 0.31927 -0.21921 C 0.35521 -0.21713 0.39132 -0.21782 0.42709 -0.21296 C 0.43785 -0.21157 0.44792 -0.20463 0.45834 -0.20046 C 0.48698 -0.18889 0.5125 -0.17384 0.53802 -0.15255 C 0.5599 -0.11366 0.53473 -0.1537 0.55834 -0.12755 C 0.56459 -0.1206 0.5698 -0.11227 0.57552 -0.10463 C 0.57865 -0.10046 0.58299 -0.09745 0.5849 -0.09213 C 0.5908 -0.07662 0.5875 -0.08333 0.59427 -0.0713 C 0.59792 -0.04259 0.60139 -0.03704 0.5974 -0.00046 C 0.59688 0.00417 0.5941 0.00787 0.59271 0.01204 C 0.58941 0.02176 0.58837 0.03287 0.58334 0.0412 C 0.58125 0.04468 0.57882 0.04792 0.57709 0.05162 C 0.5757 0.05486 0.57535 0.0588 0.57396 0.06204 C 0.56789 0.07593 0.5592 0.08519 0.55209 0.09745 C 0.5507 0.1 0.55052 0.10347 0.54896 0.10579 C 0.54427 0.11296 0.53698 0.11667 0.53177 0.12245 C 0.5283 0.12616 0.52587 0.13148 0.5224 0.13495 C 0.50313 0.15417 0.47882 0.16482 0.45677 0.17662 C 0.41875 0.19699 0.37917 0.20718 0.33959 0.22037 C 0.31198 0.21806 0.2823 0.22616 0.25677 0.21204 C 0.23264 0.19884 0.2165 0.17616 0.1974 0.1537 C 0.18299 0.13658 0.16563 0.12222 0.15365 0.10162 C 0.15035 0.09607 0.14879 0.08866 0.14584 0.08287 C 0.11059 0.01412 0.16355 0.13148 0.11615 0.02245 C 0.1132 0.01551 0.10834 0.01042 0.10521 0.0037 C 0.09271 -0.02268 0.08542 -0.05509 0.07709 -0.0838 C 0.07223 -0.10069 0.06146 -0.1338 0.06146 -0.13356 C 0.05764 -0.18449 0.06441 -0.12199 0.05052 -0.17755 C 0.04879 -0.18426 0.05 -0.19143 0.04896 -0.19838 C 0.04844 -0.20208 0.04688 -0.20532 0.04584 -0.2088 C 0.04688 -0.23032 0.0467 -0.25208 0.04896 -0.27338 C 0.05018 -0.28472 0.06893 -0.30903 0.07396 -0.31713 C 0.08837 -0.34005 0.10434 -0.36366 0.1224 -0.38171 C 0.14497 -0.4044 0.17518 -0.41736 0.20209 -0.42755 C 0.21962 -0.43426 0.23889 -0.43403 0.25677 -0.43796 C 0.29532 -0.43518 0.33386 -0.43403 0.3724 -0.42963 C 0.39202 -0.42731 0.41285 -0.41088 0.43021 -0.40046 C 0.46927 -0.37708 0.51198 -0.35856 0.5474 -0.32546 C 0.5566 -0.3169 0.5665 -0.30278 0.5724 -0.29005 C 0.57448 -0.28565 0.57431 -0.27917 0.57709 -0.27546 C 0.58143 -0.26967 0.58785 -0.26782 0.59271 -0.26296 C 0.6066 -0.24907 0.62361 -0.2331 0.6349 -0.21505 C 0.64514 -0.19884 0.65365 -0.15671 0.65365 -0.15648 C 0.65226 -0.12477 0.65087 -0.09861 0.63802 -0.0713 C 0.62848 -0.02917 0.61528 0.01458 0.60052 0.0537 C 0.59861 0.05903 0.59375 0.06158 0.59115 0.0662 C 0.58907 0.06991 0.5882 0.07454 0.58646 0.0787 C 0.58351 0.08565 0.58073 0.09306 0.57709 0.09954 C 0.56927 0.11273 0.56025 0.12824 0.55052 0.13912 C 0.53768 0.15347 0.52153 0.15972 0.50677 0.16829 C 0.49601 0.17454 0.48681 0.18495 0.47552 0.18912 C 0.4698 0.1912 0.46389 0.19283 0.45834 0.19537 C 0.45348 0.19769 0.44914 0.20185 0.44427 0.2037 C 0.42743 0.21042 0.40868 0.21412 0.39115 0.2162 C 0.35295 0.22639 0.31997 0.21991 0.28021 0.2162 C 0.26042 0.20301 0.23855 0.19745 0.21927 0.18287 C 0.20556 0.17245 0.19323 0.15995 0.17865 0.15162 C 0.17396 0.14537 0.16927 0.13912 0.16459 0.13287 C 0.16302 0.13079 0.1599 0.12662 0.1599 0.12685 C 0.15608 0.11158 0.15139 0.0912 0.14584 0.07662 C 0.1323 0.04028 0.13889 0.06667 0.12552 0.03704 C 0.12188 0.02894 0.12032 0.01945 0.11615 0.01204 C 0.11233 0.00533 0.10625 0.00162 0.10209 -0.00463 C 0.09271 -0.01898 0.09115 -0.02755 0.07865 -0.04005 C 0.07379 -0.05324 0.0665 -0.06342 0.06302 -0.07755 C 0.06198 -0.07477 0.06111 -0.07176 0.0599 -0.06921 C 0.05695 -0.06342 0.05052 -0.05255 0.05052 -0.05231 C 0.04688 -0.03264 0.04167 -0.01551 0.05365 0.00579 C 0.05677 0.01134 0.06302 0.02245 0.06302 0.02269 E">
                                      <p:cBhvr>
                                        <p:cTn id="30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ерите себе профессию по душ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7800" y="2819520"/>
            <a:ext cx="52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46d0"/>
                </a:solidFill>
                <a:latin typeface="Arial"/>
              </a:rPr>
              <a:t>Презентацию подготовила Чухнёва Ел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SS100174"/>
          <p:cNvPicPr/>
          <p:nvPr/>
        </p:nvPicPr>
        <p:blipFill>
          <a:blip r:embed="rId1"/>
          <a:stretch/>
        </p:blipFill>
        <p:spPr>
          <a:xfrm>
            <a:off x="5410080" y="3657600"/>
            <a:ext cx="3581640" cy="25909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609480" y="350532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46d0"/>
                </a:solidFill>
                <a:latin typeface="Arial"/>
              </a:rPr>
              <a:t>ученица 9 класса МОУ Коноваловско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чиная такое важное дело, как выбор пути надо стараться объективно оценить свои способности и ответить на вопрос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3200" y="3733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« 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Что у меня лучше всего получается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« К чему я больше всего склонен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годня наш разговор пойдёт о профессии слесарь-сантехник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1_9[1]"/>
          <p:cNvPicPr/>
          <p:nvPr/>
        </p:nvPicPr>
        <p:blipFill>
          <a:blip r:embed="rId1"/>
          <a:stretch/>
        </p:blipFill>
        <p:spPr>
          <a:xfrm>
            <a:off x="2666880" y="2819520"/>
            <a:ext cx="37213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так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b46d0"/>
                </a:solidFill>
                <a:latin typeface="Arial"/>
              </a:rPr>
              <a:t>Русское слово слесарь произошло от немецкого «шлоссер». Так давным-давно в Германии называли умельцев по изготовлению и ремонту замков. Ломались замки в старину, часто метал был далеко не самого лучшего качества. Порой он выплавлялся здесь же,  деревенском дворе и поэтому, была потребность в мастерах, которые могли их отремонтировать. Называли этих мастеров «замочниками», то есть слесарями. Вот так это слово и перекочевало в русский язык. Слово сохранилось и до наших дней, а «замочных дел мастер» превратился в очень важную рабочую профессию-слеса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46d0"/>
                </a:solidFill>
                <a:latin typeface="Arial"/>
              </a:rPr>
              <a:t>Что же это за профессия слесарь-сантехник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46d0"/>
                </a:solidFill>
                <a:latin typeface="Arial"/>
              </a:rPr>
              <a:t>Что от неё зависит в нашей жизни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images_1[1]"/>
          <p:cNvPicPr/>
          <p:nvPr/>
        </p:nvPicPr>
        <p:blipFill>
          <a:blip r:embed="rId3"/>
          <a:stretch/>
        </p:blipFill>
        <p:spPr>
          <a:xfrm rot="594600">
            <a:off x="3581280" y="3504960"/>
            <a:ext cx="2286000" cy="27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ё это обеспечивают слесари-сантехни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b46d0"/>
                </a:solidFill>
                <a:latin typeface="Arial"/>
              </a:rPr>
              <a:t>которые работают на каждом промышленном объекте, в каждом большом домоуправлении, на каждом крупном предприятии и в учрежд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дом. Нужно сделать так, что бы в помещении зимой было тепло, а летом прохлад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бы из водопроводных кранов текла холодная и горячая в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бы исправно работала канализ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i113a98790[1]"/>
          <p:cNvPicPr/>
          <p:nvPr/>
        </p:nvPicPr>
        <p:blipFill>
          <a:blip r:embed="rId4"/>
          <a:stretch/>
        </p:blipFill>
        <p:spPr>
          <a:xfrm rot="20698200">
            <a:off x="7696080" y="3429000"/>
            <a:ext cx="1143000" cy="77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1249021464_16[1]"/>
          <p:cNvPicPr/>
          <p:nvPr/>
        </p:nvPicPr>
        <p:blipFill>
          <a:blip r:embed="rId5"/>
          <a:stretch/>
        </p:blipFill>
        <p:spPr>
          <a:xfrm rot="19809600">
            <a:off x="6172200" y="4952520"/>
            <a:ext cx="108756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15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2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3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весть делает свою работу слесар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 батарея вновь не потек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ки он чинит, трубы он латае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али подгоняет  и творит он чудес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18808245_1[1]"/>
          <p:cNvPicPr/>
          <p:nvPr/>
        </p:nvPicPr>
        <p:blipFill>
          <a:blip r:embed="rId1"/>
          <a:stretch/>
        </p:blipFill>
        <p:spPr>
          <a:xfrm rot="20046000">
            <a:off x="7238520" y="228240"/>
            <a:ext cx="1579680" cy="2057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08220062425[1]"/>
          <p:cNvPicPr/>
          <p:nvPr/>
        </p:nvPicPr>
        <p:blipFill>
          <a:blip r:embed="rId2"/>
          <a:stretch/>
        </p:blipFill>
        <p:spPr>
          <a:xfrm rot="19786200">
            <a:off x="838080" y="4647960"/>
            <a:ext cx="2210040" cy="1817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im12[1]"/>
          <p:cNvPicPr/>
          <p:nvPr/>
        </p:nvPicPr>
        <p:blipFill>
          <a:blip r:embed="rId3"/>
          <a:stretch/>
        </p:blipFill>
        <p:spPr>
          <a:xfrm>
            <a:off x="1066680" y="228600"/>
            <a:ext cx="2857680" cy="2085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image074[1]"/>
          <p:cNvPicPr/>
          <p:nvPr/>
        </p:nvPicPr>
        <p:blipFill>
          <a:blip r:embed="rId4"/>
          <a:stretch/>
        </p:blipFill>
        <p:spPr>
          <a:xfrm>
            <a:off x="5562720" y="4343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4375 0.02153 C 0.0507 0.0081 0.05782 -0.00648 0.06476 -0.02523 C 0.08368 -0.07847 0.08872 -0.13056 0.07483 -0.13843 C 0.06077 -0.14792 0.03368 -0.11042 0.01476 -0.05718 C 0.00469 -0.02917 -0.00121 -0.00255 -0.0033 0.01759 C -0.00625 0.03356 -0.00729 0.04954 -0.00729 0.06829 C -0.00729 0.12824 0.00573 0.17755 0.02084 0.17755 C 0.03577 0.17755 0.04879 0.12824 0.04879 0.06829 C 0.04879 0.04028 0.04584 0.01343 0.0408 -0.00509 C 0.03872 -0.02106 0.03368 -0.03843 0.02778 -0.05579 C 0.00782 -0.11042 -0.01927 -0.14792 -0.03333 -0.13843 C -0.04722 -0.12917 -0.04218 -0.07847 -0.02222 -0.02384 C -0.01423 0.00162 -0.0033 0.02292 0.00782 0.0375 C 0.0158 0.05093 0.02483 0.06296 0.03681 0.07477 C 0.07275 0.11343 0.10868 0.13079 0.11875 0.11481 C 0.12778 0.09884 0.10782 0.05486 0.0717 0.01759 C 0.05677 0.00162 0.0408 -0.01042 0.02778 -0.01852 C 0.0158 -0.02639 0.000700000000000001 -0.0331 -0.01527 -0.03704 C -0.0592 -0.05046 -0.09722 -0.04653 -0.10017 -0.02523 C -0.10416 -0.00509 -0.07118 0.02153 -0.02725 0.03495 C -0.00729 0.04028 0.01181 0.04282 0.02674 0.04144 C 0.03976 0.04144 0.05382 0.03889 0.06875 0.03495 C 0.11268 0.02153 0.14584 -0.00648 0.14167 -0.02639 C 0.13872 -0.04653 0.1007 -0.05185 0.05677 -0.03843 C 0.03577 -0.03171 0.01667 -0.02245 0.00382 -0.01181 C -0.00729 -0.0037 -0.01823 0.00556 -0.0302 0.01759 C -0.06527 0.05625 -0.08628 0.09884 -0.07621 0.11481 C -0.06718 0.13079 -0.0302 0.11343 0.00469 0.07616 C 0.0217 0.05764 0.03577 0.03889 0.05365 0.03472 E">
                                      <p:cBhvr>
                                        <p:cTn id="13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367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867"/>
                            </p:stCondLst>
                            <p:childTnLst>
                              <p:par>
                                <p:cTn id="1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867"/>
                            </p:stCondLst>
                            <p:childTnLst>
                              <p:par>
                                <p:cTn id="1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2867"/>
                            </p:stCondLst>
                            <p:childTnLst>
                              <p:par>
                                <p:cTn id="1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Слесарь- это человек, сознающий свою ответственность за важный участок работы, организованный, умеющий быстро и тщательно трудится в различных условиях, аккуратный, понимающ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IMG_0582[1]"/>
          <p:cNvPicPr/>
          <p:nvPr/>
        </p:nvPicPr>
        <p:blipFill>
          <a:blip r:embed="rId2"/>
          <a:stretch/>
        </p:blipFill>
        <p:spPr>
          <a:xfrm rot="20356800">
            <a:off x="4038120" y="419112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есарь-сантехник должен зна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Способы соединения труб горячей и холодной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Способы крепления санитарно-технических устрой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Нормы содержания трубопрово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Назначения слесарных инстр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46d0"/>
                </a:solidFill>
                <a:latin typeface="Arial"/>
              </a:rPr>
              <a:t>Причины неисправностей в работе санитарно-технических устройст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5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35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25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3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овь</cp:lastModifiedBy>
  <dcterms:modified xsi:type="dcterms:W3CDTF">2010-01-30T01:05:0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