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9.wmf" ContentType="image/x-wmf"/>
  <Override PartName="/ppt/media/image13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8A7-C079-46DC-B748-277B118D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950-E9A8-4DF4-BAA3-F31DB79C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B02-0C4B-46AB-97F3-C75B6FDD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6DE-4BD9-4E4A-9EDE-698A163D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BAB9-7121-4302-8FD4-2D7BE77C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E403-4FB4-4FFE-8A64-00994E6D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7D96-A287-4728-A533-680ABB33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FEA3-7048-47DC-861F-EE3C126D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891D-751F-4F77-B718-3069778A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8276-F705-4DF6-8B17-CD8FD20D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60E5-3468-4262-9AA8-CC6D155D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67E-74FA-4611-AD17-96D6C3EF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45A7-F17E-46AB-9EB4-72B6A056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FEAE-29E7-48D4-A3D5-46F9A1A2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3D06-43F1-4169-8D90-1F634743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D66F-A767-44EE-9C6D-900C14DA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193D-F733-4396-AAD8-49EF4CC9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875-F598-411D-887F-1F03576D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736D-29B6-4336-9ECE-53B4FA42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DFB-DA9F-4F56-8D43-76A8F42D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8CD-099C-4BFA-8586-0E37DAF7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603-F904-4E3E-83FB-6167ED1C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DE5-4B6C-4AC1-811E-93045AB1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D02-2325-4066-BDD3-D7F29493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A9B7-6847-43DF-A465-EAEF58EFBE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1E5B-96B2-4F59-A7C7-2DC8B81844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05080" y="3860640"/>
            <a:ext cx="63338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аботу выполнил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ченицы 3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МОУ"Ярабайкасинская СОШ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Силова Анаста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Трофимова Екатер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99" name="Picture 6" descr="сканирование0013"/>
          <p:cNvPicPr/>
          <p:nvPr/>
        </p:nvPicPr>
        <p:blipFill>
          <a:blip r:embed="rId11"/>
          <a:stretch/>
        </p:blipFill>
        <p:spPr>
          <a:xfrm>
            <a:off x="900000" y="404640"/>
            <a:ext cx="7313760" cy="588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-1260360" y="5877000"/>
          <a:ext cx="979200" cy="20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360" y="5877000"/>
                    <a:ext cx="97920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которые части нашего тела всё же по-прежнему защищены густым волосяным покровом. Например, наши ресницы и брови защищают наши глаза от грязи и пота. А волосы на наших головах защищают наш мозг от холода при низкой температуре и от жары при высокой температуре возду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684360" y="0"/>
            <a:ext cx="79246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ова роль волоса в жизни человека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9" descr="сканирование0009"/>
          <p:cNvPicPr/>
          <p:nvPr/>
        </p:nvPicPr>
        <p:blipFill>
          <a:blip r:embed="rId3"/>
          <a:stretch/>
        </p:blipFill>
        <p:spPr>
          <a:xfrm>
            <a:off x="1403280" y="1773360"/>
            <a:ext cx="1944720" cy="1884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1944720" cy="2449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058760" y="1932120"/>
            <a:ext cx="3362400" cy="4163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916520" y="1932120"/>
            <a:ext cx="392904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самом деле, тот волос, который мы видим, это ороговевшие неживые образования, называемые стержнем волоса.  Живая его часть находится в коже и называется корнем волоса. Корень растет из волосяной луковицы. Вокруг луковицы расположен волосяной мешочек, куда открываются протоки сальных желез..   Именно здесь, а не снаружи, происходит снабжение волоса питательными веществами. Тут и находятся пигментные клетки, создающие цвет воло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2195640" y="333360"/>
            <a:ext cx="468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такое волос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763640" y="10534680"/>
            <a:ext cx="1209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знаем, что тело рыбы покрыто чешуйками, еловые и сосновые шишки тоже состоят из чешуек. Посмотрев под микроскопом мы увидели, что и наши волосы тоже состоят из чешуек. Волосы не прямо торчат из кожи, а располагаются немного наклонно. Когда мы пугаемся, или нам холодно, поднимаются наши волосы («гусиная кожа») и выдавливаются капельки жира. Нам становится как-то жарк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WordArt 10"/>
          <p:cNvSpPr txBox="1"/>
          <p:nvPr/>
        </p:nvSpPr>
        <p:spPr>
          <a:xfrm>
            <a:off x="490680" y="404640"/>
            <a:ext cx="8162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смотрится волос под микроскопом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11" descr="сканирование0001"/>
          <p:cNvPicPr/>
          <p:nvPr/>
        </p:nvPicPr>
        <p:blipFill>
          <a:blip r:embed="rId1"/>
          <a:stretch/>
        </p:blipFill>
        <p:spPr>
          <a:xfrm>
            <a:off x="6453360" y="4141800"/>
            <a:ext cx="2242800" cy="18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сканирование0005"/>
          <p:cNvPicPr/>
          <p:nvPr/>
        </p:nvPicPr>
        <p:blipFill>
          <a:blip r:embed="rId2"/>
          <a:stretch/>
        </p:blipFill>
        <p:spPr>
          <a:xfrm>
            <a:off x="2987640" y="4149720"/>
            <a:ext cx="1198440" cy="1871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сканирование0002"/>
          <p:cNvPicPr/>
          <p:nvPr/>
        </p:nvPicPr>
        <p:blipFill>
          <a:blip r:embed="rId3"/>
          <a:stretch/>
        </p:blipFill>
        <p:spPr>
          <a:xfrm>
            <a:off x="755640" y="458136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сканирование0007"/>
          <p:cNvPicPr/>
          <p:nvPr/>
        </p:nvPicPr>
        <p:blipFill>
          <a:blip r:embed="rId4"/>
          <a:stretch/>
        </p:blipFill>
        <p:spPr>
          <a:xfrm>
            <a:off x="4427640" y="4149720"/>
            <a:ext cx="1800000" cy="1871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929040" cy="41907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788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лосы растут из крошечных отверстий, волосяных луковиц, которые называются фолликулами. Тип волос зависит от того, какую форму имеют фолликулы. Прямые волосы вырастают из круглых фолликулов, волнистые – из овальных, а курчавые волосы вырастают из фолликулов, имеющих форму сплюснутых ова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250920" y="333360"/>
            <a:ext cx="865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чему волосы бывают прямые и курчавые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838080" y="1932120"/>
            <a:ext cx="3929040" cy="4133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провели исследование среди учащихся начальных классов и пришли к выводу, что в нашей школе у большинства учащихся прямые вол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826920" y="260280"/>
            <a:ext cx="74772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ие волосы у учащихс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чальных классов нашей школы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реднем у человека на голове насчитывается примерно 100 тысяч волос, у рыжеволосых меньше (90 тысяч), а у светловолосых больше (140 тысяч). Люди с тёмными и каштановыми волосами располагаются где-то   посередине. А на моей голове, как я думаю, наверное, примерно 120-130 тысяч волос. Потому что у меня русые воло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384360" cy="4535640"/>
          </a:xfrm>
          <a:prstGeom prst="rect">
            <a:avLst/>
          </a:prstGeom>
          <a:ln w="0">
            <a:noFill/>
          </a:ln>
        </p:spPr>
      </p:pic>
      <p:sp>
        <p:nvSpPr>
          <p:cNvPr id="147" name="WordArt 8"/>
          <p:cNvSpPr txBox="1"/>
          <p:nvPr/>
        </p:nvSpPr>
        <p:spPr>
          <a:xfrm>
            <a:off x="1187280" y="404640"/>
            <a:ext cx="6913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колько волос на моей голов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 волос зависит от многих факторов, а самое глав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гмента, который называ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лан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Он находится в клетках коркового слоя волоса. Определяющую роль играют два цвета: черно-коричневый цвет и желто-красный цвет. Сочетание этих красок дает всю гамму цветовых оттенков. А в нашей школе у многих учащихся волосы темные, чуть меньше светловолосых, а детей с рыжими волосами совсем ма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4916520" y="1905120"/>
            <a:ext cx="3929040" cy="4190760"/>
          </a:xfrm>
          <a:prstGeom prst="rect">
            <a:avLst/>
          </a:prstGeom>
          <a:ln w="0">
            <a:noFill/>
          </a:ln>
        </p:spPr>
      </p:pic>
      <p:sp>
        <p:nvSpPr>
          <p:cNvPr id="150" name="WordArt 7"/>
          <p:cNvSpPr txBox="1"/>
          <p:nvPr/>
        </p:nvSpPr>
        <p:spPr>
          <a:xfrm>
            <a:off x="539640" y="0"/>
            <a:ext cx="83185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ой цвет волос преобладает у учащихся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большинства людей ежедневно выпадает от 50 до 120 волос и на их тут же начинают расти новые. Почему же иногда встречаются люди с лысинами? Это зависит от  некоторых факторов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ожная экологическая обстановк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рвные стре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лоподвижный образ жиз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равильное пит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ши волосы тут же реагируют на эти неблагоприятные условия жизни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ни начинают редеть, потеряют блеск, начинают  выпадать и появляется лыси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4916520" y="2530440"/>
            <a:ext cx="3929040" cy="24685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4"/>
          <p:cNvSpPr txBox="1"/>
          <p:nvPr/>
        </p:nvSpPr>
        <p:spPr>
          <a:xfrm>
            <a:off x="409680" y="836640"/>
            <a:ext cx="873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чему иногда наши волосы выпадаю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ешний вид и здоровье напрямую зависят от работы сальных желёз. В волосяной мешочек выводятся протоки сальных желёз, которые своим секретом смазывают волос, придавая ему эластичность, гибкость и блеск. Если жира мало, то волосы будут сухими, тусклыми и ломкими. Если много - волосы быстро загрязняются и становятся жир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684360" y="333360"/>
            <a:ext cx="770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кие волосы называют здоровым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4070520"/>
            <a:ext cx="800748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волосы были здоровыми и красивыми о них надо заботиться и содержать в порядке в течение всей жизни. Ежедневно расчесывайте волосы. Делать это надо неспеша, аккуратно. Этот вид массажа улучшает кровообращение кожи головы и питание волос. Расчёски должны быть индивидуальными. Так же в неделю раз надо мыть тёплой водой и шампун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042920" y="404640"/>
            <a:ext cx="662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ухаживать за волосами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8" name="Picture 8" descr="DSCN5880"/>
          <p:cNvPicPr/>
          <p:nvPr/>
        </p:nvPicPr>
        <p:blipFill>
          <a:blip r:embed="rId1"/>
          <a:stretch/>
        </p:blipFill>
        <p:spPr>
          <a:xfrm>
            <a:off x="849240" y="1773360"/>
            <a:ext cx="1962360" cy="2236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DSCN5883"/>
          <p:cNvPicPr/>
          <p:nvPr/>
        </p:nvPicPr>
        <p:blipFill>
          <a:blip r:embed="rId2"/>
          <a:stretch/>
        </p:blipFill>
        <p:spPr>
          <a:xfrm>
            <a:off x="2916360" y="1773360"/>
            <a:ext cx="1784160" cy="2232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DSCN5885"/>
          <p:cNvPicPr/>
          <p:nvPr/>
        </p:nvPicPr>
        <p:blipFill>
          <a:blip r:embed="rId3"/>
          <a:stretch/>
        </p:blipFill>
        <p:spPr>
          <a:xfrm>
            <a:off x="4788000" y="1773360"/>
            <a:ext cx="180000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DSCN5893"/>
          <p:cNvPicPr/>
          <p:nvPr/>
        </p:nvPicPr>
        <p:blipFill>
          <a:blip r:embed="rId4"/>
          <a:stretch/>
        </p:blipFill>
        <p:spPr>
          <a:xfrm>
            <a:off x="6804000" y="1773360"/>
            <a:ext cx="1655640" cy="2233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835280" y="549360"/>
            <a:ext cx="540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са - девичья крас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2627280" y="2060640"/>
            <a:ext cx="58165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боту выполни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ащиеся 3 класс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У "Ярабайкасинская СОШ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гаушского райо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ова Анастас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офимова Екатер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2700360" y="4508640"/>
            <a:ext cx="5327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уководитель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итель 3 класс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робьёва Валери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тальев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849240" y="2332080"/>
            <a:ext cx="3929040" cy="34671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ужно уделять особое внимание питанию. Для того чтобы волосы были красивыми и здоровыми, Ваше основное меню должно включа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репродукт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тиц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жирное мяс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й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ех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туральное растительное масл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леб из муки грубого помол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ена подсолнечн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рскую капуст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жирный йогур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еркул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также много фруктов и овощ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WordArt 8"/>
          <p:cNvSpPr txBox="1"/>
          <p:nvPr/>
        </p:nvSpPr>
        <p:spPr>
          <a:xfrm>
            <a:off x="1332000" y="333360"/>
            <a:ext cx="5973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надо питаться, чтоб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осы были здоровыми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1581120" cy="2160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асивые волосы – блестящие и густые – во все времена и у всех народов считались украшением внешности человека. . Они не должны мешать активной жизни ребёнка, его играм. Причёска ребёнка должна быть простой. Волосы надо слегка подрезать, чтобы они не падали на лицо и не закрывали глаза. Так, чтобы на какую бы сторону они не легли во время игры, уроков и сна, ребёнок не почувствовал неудобств. Главное, чтобы ребёнок чувствовал себя свободно и не переживал из-за стрижки. Школьники уже сами решают, какую причёску им носить. Но слишком стильная и необычная причёска может отвлечь окружающих, и плохо сказываться на дисциплине в класс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1763640" y="0"/>
            <a:ext cx="56484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осы - наше украше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4"/>
          <a:stretch/>
        </p:blipFill>
        <p:spPr>
          <a:xfrm>
            <a:off x="684360" y="1700280"/>
            <a:ext cx="1511280" cy="21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5"/>
          <a:stretch/>
        </p:blipFill>
        <p:spPr>
          <a:xfrm>
            <a:off x="4716360" y="1700280"/>
            <a:ext cx="1549440" cy="21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6"/>
          <a:stretch/>
        </p:blipFill>
        <p:spPr>
          <a:xfrm>
            <a:off x="6804000" y="1700280"/>
            <a:ext cx="1739880" cy="216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 в коем случае не отправляйтесь на улицу с влажными волосами –они быстро замерзают на холоде и теряют свою естественную крас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 за что не отказывайтесь от шапки, даже если она «повредит» вашей причёске. От холода кровеносные сосуды сужаются, и ограничивается доступ питательных веществ к корням – от этого волосы слабеют и начинают выпад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носите распущенные волосы в холодную и ветреную погоду. Незащищенные шапкой, они быстро теряют природную влагу и становятся ломкими. Лучше заплетите косич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2195640" y="476280"/>
            <a:ext cx="475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регите кудри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тому что всегда считалось, что именно в волосах сокрыта жизненная сила человека, и закры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ло защитить женщи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е семью от злых сил. "Негоже женщине простоволосой быти" - это звучало категорически, такая женщина лишалась помощи и защиты своего ангела- храни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WordArt 5"/>
          <p:cNvSpPr txBox="1"/>
          <p:nvPr/>
        </p:nvSpPr>
        <p:spPr>
          <a:xfrm>
            <a:off x="1619280" y="260280"/>
            <a:ext cx="6010200" cy="11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чему в старин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енщины прятали волосы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5" name="Picture 9" descr="сканирование0011"/>
          <p:cNvPicPr/>
          <p:nvPr/>
        </p:nvPicPr>
        <p:blipFill>
          <a:blip r:embed="rId1"/>
          <a:stretch/>
        </p:blipFill>
        <p:spPr>
          <a:xfrm>
            <a:off x="1617840" y="2598840"/>
            <a:ext cx="2312640" cy="3044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443400" cy="41907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осы защищают нашу голову от холода и ж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осы, которых мы видим, неживые ороговевшие  образования, называемые стержнем волоса. Живая часть       ( корень волоса) находится в коже и  она, получая питательные вещества, раст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 волос зависит от состава пиг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волосы были здоровыми, надо правильно питаться, дружить спортом, вести здоровый образ жизни. Надо правильно ухаживать за волос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ивые, здоровые волосы – это наше украш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2484360" y="260280"/>
            <a:ext cx="3602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же новог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ы узнали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значения волосяного покрова головы в жизни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3105000" y="692280"/>
            <a:ext cx="293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работы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роль волосяного покрова для древнейших людей и современного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строение и типы вол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роль питания и образа жизни человека для здоровья вол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правила ухода за волос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2916360" y="549360"/>
            <a:ext cx="34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и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сидели и думали: почему учителя и родители всегда нам делают замечания по поводу наших волос. То мы не так причесались, то они слишком длинные, то не так убраны волосы. Мы задумались, а нужны ли нам вообще волосы? Какую роль они играют в жизни человека? А почему они растут на нашей голов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4070520"/>
            <a:ext cx="800748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этими вопросами мы подошли к нашей учительнице. Она посоветовала нам идти в библиотеку. В библиотеке есть энциклопедии для детей. Вот что мы узнали из этих «умных» книг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1438200" y="476280"/>
            <a:ext cx="62676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ы ищем ответы на вопрос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Picture 8" descr="IMG_0208"/>
          <p:cNvPicPr/>
          <p:nvPr/>
        </p:nvPicPr>
        <p:blipFill>
          <a:blip r:embed="rId1"/>
          <a:stretch/>
        </p:blipFill>
        <p:spPr>
          <a:xfrm>
            <a:off x="3114720" y="1484280"/>
            <a:ext cx="2914560" cy="230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58400" y="1932120"/>
            <a:ext cx="350388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зывается доисторические люди были полностью покрыты шерстью, которая защищала их от холода и жары, нападения животных и других опасностей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1619280" y="549360"/>
            <a:ext cx="61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ими были древние люди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468360" y="1793880"/>
            <a:ext cx="3743280" cy="4011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743280" cy="4011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838080" y="2131920"/>
            <a:ext cx="3929040" cy="3963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916520" y="2065320"/>
            <a:ext cx="392904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йчас наше тело кажется почти безволосым. Почти – потому что волосы на теле человека всё же есть, их от 200 тысяч до 1 милли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533520" y="549360"/>
            <a:ext cx="8076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м мы отличаемся от древних людей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8080" y="1905120"/>
            <a:ext cx="337680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787640" y="1628640"/>
            <a:ext cx="389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йчас мы меньше нуждаемся в плотном волосяном покрове на теле – мы носим одежду для защиты тела от холода.. и от жа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928800" y="1714680"/>
            <a:ext cx="3382920" cy="4464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8"/>
          <p:cNvSpPr txBox="1"/>
          <p:nvPr/>
        </p:nvSpPr>
        <p:spPr>
          <a:xfrm>
            <a:off x="1187280" y="404640"/>
            <a:ext cx="6697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чему у нас меньше волос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2:34:33Z</dcterms:created>
  <dc:creator>Customer</dc:creator>
  <dc:description/>
  <dc:language>en-US</dc:language>
  <cp:lastModifiedBy>Admin</cp:lastModifiedBy>
  <dcterms:modified xsi:type="dcterms:W3CDTF">2010-01-24T07:58:41Z</dcterms:modified>
  <cp:revision>18</cp:revision>
  <dc:subject/>
  <dc:title>Слайд 1</dc:title>
</cp:coreProperties>
</file>