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23.gif" ContentType="image/gif"/>
  <Override PartName="/ppt/media/image4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gif" ContentType="image/gif"/>
  <Override PartName="/ppt/media/image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52.gif" ContentType="image/gif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8.gif" ContentType="image/gif"/>
  <Override PartName="/ppt/media/image28.jpeg" ContentType="image/jpeg"/>
  <Override PartName="/ppt/media/image51.jpeg" ContentType="image/jpeg"/>
  <Override PartName="/ppt/media/image1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B1AD-9E20-4037-B02E-93C1FDDB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BF16-3A53-4E58-9B15-D0E5D44E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2C5F-604F-476C-A5A3-FF4086BF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1D20-C67A-4C53-9A5A-F5A3A49D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D5E1-4A51-47EE-912F-12FD68A8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564A-726E-4241-84CE-F6299600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9AA1-E708-4783-8BD1-919E28D2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2642-1582-47B8-9568-A7714372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F1F0-0D53-4193-A647-E8FE4D72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A693-790D-4710-9F84-0C0C9A7A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21EE-754E-4FF4-B11E-35F68954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ADA9-9A1B-4C48-AEB1-E9ADD8A8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4730-B83C-477A-9802-C0802EFCA7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81080" y="4759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Страна восходящего </a:t>
            </a:r>
            <a:br>
              <a:rPr sz="4800"/>
            </a:b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солнц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931afe059af5"/>
          <p:cNvPicPr/>
          <p:nvPr/>
        </p:nvPicPr>
        <p:blipFill>
          <a:blip r:embed="rId1"/>
          <a:stretch/>
        </p:blipFill>
        <p:spPr>
          <a:xfrm>
            <a:off x="6732720" y="1916280"/>
            <a:ext cx="2114280" cy="4803480"/>
          </a:xfrm>
          <a:prstGeom prst="rect">
            <a:avLst/>
          </a:prstGeom>
          <a:ln w="0">
            <a:noFill/>
          </a:ln>
        </p:spPr>
      </p:pic>
      <p:sp>
        <p:nvSpPr>
          <p:cNvPr id="43" name="WordArt 12"/>
          <p:cNvSpPr txBox="1"/>
          <p:nvPr/>
        </p:nvSpPr>
        <p:spPr>
          <a:xfrm rot="5400000">
            <a:off x="3456360" y="4257000"/>
            <a:ext cx="360036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3399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Япония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3399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4" name="Picture 13" descr="C:\Documents and Settings\User\Рабочий стол\Рисунок2.jpg"/>
          <p:cNvPicPr/>
          <p:nvPr/>
        </p:nvPicPr>
        <p:blipFill>
          <a:blip r:embed="rId2"/>
          <a:stretch/>
        </p:blipFill>
        <p:spPr>
          <a:xfrm>
            <a:off x="357120" y="2076480"/>
            <a:ext cx="36766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3567600" y="333360"/>
            <a:ext cx="14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Токи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C:\Documents and Settings\User\Рабочий стол\Рисунок11.jpg"/>
          <p:cNvPicPr/>
          <p:nvPr/>
        </p:nvPicPr>
        <p:blipFill>
          <a:blip r:embed="rId1"/>
          <a:stretch/>
        </p:blipFill>
        <p:spPr>
          <a:xfrm>
            <a:off x="0" y="-22320"/>
            <a:ext cx="916308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327600" y="333360"/>
            <a:ext cx="14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Токи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C:\Documents and Settings\User\Рабочий стол\Рисунок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543240" y="260280"/>
            <a:ext cx="14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Токи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4896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349920" algn="just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Comic Sans MS"/>
              </a:rPr>
              <a:t>Государственное устройство, политические парт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Государственный строй - конституционная монархия. В состав страны входят 47 префектур. Столица - Токио. Японское государство основал, согласно легенде, в 660 г. до н. э. первый японский император Дзимму. Национальный праздник - 23 декабря -День рождения императора (1933). Глава государства - император (император Акихито правит страной с 7 января 1989 г.). Реальная исполнительная власть находится в руках премьер-министра, возглавляющего Кабинет Министров. Законодательную власть осуществляет двухпалатный парламент, состоящий из Палаты советников (верхняя палата) и Палаты представителей (нижняя палата). Наиболее влиятельные политические партии: Либерально-демократическая партия (ЛДП), Социал-демократическая партия Японии (СДПЯ), Партия обновления, Новая партия Японии, Коммунистическая партия Японии, Партия демократического социализма (ПДС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509640" y="5950080"/>
            <a:ext cx="522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Император Дзимму - это легенда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основатель и первый император Япо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C:\Documents and Settings\User\Рабочий стол\Рисунок14.jpg"/>
          <p:cNvPicPr/>
          <p:nvPr/>
        </p:nvPicPr>
        <p:blipFill>
          <a:blip r:embed="rId1"/>
          <a:stretch/>
        </p:blipFill>
        <p:spPr>
          <a:xfrm>
            <a:off x="5357880" y="357120"/>
            <a:ext cx="3452760" cy="53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4920" y="836640"/>
            <a:ext cx="5256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7120" algn="just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Население составляет 126 771 662 чел. (июль 2001), средняя плотность населения около 332 человек на км2. Практически все жители страны - японцы (больше 99,4% населения), оставшаяся часть - китайцы и другие этнические группы. Государственный язык японский. Большинство жителей исповедует синтоизм, однако многие японцы соблюдают обряды как синтоизма так и буддизма, среди верующих есть также христиане (католики, протестанты, православны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Прирост населения:0,17% (20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Рождаемость:10,04 новорожденных /1 000 чел. (20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Смертность:8,34 смертей/1 000 чел. (20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Миграция:0 чел./1 000 чел. (20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C:\Documents and Settings\User\Рабочий стол\Рисунок15.jpg"/>
          <p:cNvPicPr/>
          <p:nvPr/>
        </p:nvPicPr>
        <p:blipFill>
          <a:blip r:embed="rId1"/>
          <a:stretch/>
        </p:blipFill>
        <p:spPr>
          <a:xfrm>
            <a:off x="5857920" y="571680"/>
            <a:ext cx="2836800" cy="2009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C:\Documents and Settings\User\Рабочий стол\Рисунок16.jpg"/>
          <p:cNvPicPr/>
          <p:nvPr/>
        </p:nvPicPr>
        <p:blipFill>
          <a:blip r:embed="rId2"/>
          <a:stretch/>
        </p:blipFill>
        <p:spPr>
          <a:xfrm>
            <a:off x="5857920" y="2643120"/>
            <a:ext cx="289728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818280" y="476280"/>
            <a:ext cx="13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Гей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C:\Documents and Settings\User\Рабочий стол\Рисунок17.jpg"/>
          <p:cNvPicPr/>
          <p:nvPr/>
        </p:nvPicPr>
        <p:blipFill>
          <a:blip r:embed="rId1"/>
          <a:stretch/>
        </p:blipFill>
        <p:spPr>
          <a:xfrm>
            <a:off x="3959280" y="285840"/>
            <a:ext cx="5184720" cy="6572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C:\Documents and Settings\User\Рабочий стол\Рисунок18.jpg"/>
          <p:cNvPicPr/>
          <p:nvPr/>
        </p:nvPicPr>
        <p:blipFill>
          <a:blip r:embed="rId2"/>
          <a:stretch/>
        </p:blipFill>
        <p:spPr>
          <a:xfrm>
            <a:off x="285840" y="2714760"/>
            <a:ext cx="34686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9"/>
          <p:cNvSpPr/>
          <p:nvPr/>
        </p:nvSpPr>
        <p:spPr>
          <a:xfrm>
            <a:off x="2905560" y="981000"/>
            <a:ext cx="15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Япон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0_14c2_91f3e9fd_L"/>
          <p:cNvPicPr/>
          <p:nvPr/>
        </p:nvPicPr>
        <p:blipFill>
          <a:blip r:embed="rId1"/>
          <a:stretch/>
        </p:blipFill>
        <p:spPr>
          <a:xfrm>
            <a:off x="6084720" y="5035680"/>
            <a:ext cx="2448000" cy="1584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0_14c2_91f3e9fd_L"/>
          <p:cNvPicPr/>
          <p:nvPr/>
        </p:nvPicPr>
        <p:blipFill>
          <a:blip r:embed="rId2"/>
          <a:stretch/>
        </p:blipFill>
        <p:spPr>
          <a:xfrm rot="18900000">
            <a:off x="87120" y="4601880"/>
            <a:ext cx="2158920" cy="1396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C:\Documents and Settings\User\Рабочий стол\Рисунок19.jpg"/>
          <p:cNvPicPr/>
          <p:nvPr/>
        </p:nvPicPr>
        <p:blipFill>
          <a:blip r:embed="rId3"/>
          <a:stretch/>
        </p:blipFill>
        <p:spPr>
          <a:xfrm>
            <a:off x="5627520" y="0"/>
            <a:ext cx="3516480" cy="4510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C:\Documents and Settings\User\Рабочий стол\Рисунок20.jpg"/>
          <p:cNvPicPr/>
          <p:nvPr/>
        </p:nvPicPr>
        <p:blipFill>
          <a:blip r:embed="rId4"/>
          <a:stretch/>
        </p:blipFill>
        <p:spPr>
          <a:xfrm>
            <a:off x="2571840" y="2571840"/>
            <a:ext cx="2973240" cy="3929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C:\Documents and Settings\User\Рабочий стол\Рисунок21.jpg"/>
          <p:cNvPicPr/>
          <p:nvPr/>
        </p:nvPicPr>
        <p:blipFill>
          <a:blip r:embed="rId5"/>
          <a:stretch/>
        </p:blipFill>
        <p:spPr>
          <a:xfrm>
            <a:off x="357120" y="357120"/>
            <a:ext cx="20415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511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Рели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just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1600" spc="-1" strike="noStrike" u="sng">
                <a:solidFill>
                  <a:srgbClr val="ff0066"/>
                </a:solidFill>
                <a:uFillTx/>
                <a:latin typeface="Comic Sans MS"/>
              </a:rPr>
              <a:t>Синто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Традиционной Японской религией принято считать Синто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just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1600" spc="-1" strike="noStrike" u="sng">
                <a:solidFill>
                  <a:srgbClr val="ff0066"/>
                </a:solidFill>
                <a:uFillTx/>
                <a:latin typeface="Comic Sans MS"/>
              </a:rPr>
              <a:t>Будд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Самой распространенной религией в Японии является Будд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just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1600" spc="-1" strike="noStrike" u="sng">
                <a:solidFill>
                  <a:srgbClr val="ff0066"/>
                </a:solidFill>
                <a:uFillTx/>
                <a:latin typeface="Comic Sans MS"/>
              </a:rPr>
              <a:t>Христиан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Всего в Японии насчитывается около 1,5 млн. христиан. Среди объединений христианских церквей, действующих в общеяпонском масштабе, самое крупное — Католический центральный совет (свыше 400 тыс. верующих, около 2 тыс. культовых учреждений, 2 тыс. священников). Численность приверженцев всех общеяпонских объединений протестантских церквей в конце 1989 г. составляла около 500 тыс. человек. Англиканство объединяет 57 тыс. верующих. С 1861 г. существует и Православная церковь, число приверженцев которой ныне составляет 36 тыс. ч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C:\Documents and Settings\User\Рабочий стол\Рисунок23.jpg"/>
          <p:cNvPicPr/>
          <p:nvPr/>
        </p:nvPicPr>
        <p:blipFill>
          <a:blip r:embed="rId1"/>
          <a:stretch/>
        </p:blipFill>
        <p:spPr>
          <a:xfrm>
            <a:off x="5808600" y="1554120"/>
            <a:ext cx="29624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339120" algn="just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Comic Sans MS"/>
              <a:buChar char="•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Comic Sans MS"/>
              </a:rPr>
              <a:t>Экономика, транспортные коммун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Второе место после США в мире по экономической мощи. Самый важный сектор экономики - промышленность - находится в большой зависимости от импорта сырья и топлива. ВНП составил в 1994 г. $2527,4 млрд. (ВНП надушу населения-$20 200). Развиваются преимущественно новые и новейшие отрасли, базирующиеся на передовых технологиях: производство средств связи и информатики, новых материалов, биотехнология. Япония занимает первое место в мире по производству судов, автомобилей, тракторов, металлообрабатывающего оборудования, бытовой электроники, роботов. Доля Японии в мировом производстве цветных телевизоров более 60%, стали - 14,3%, искусственных волокон -12,3%. Доля сельского хозяйства в ВНП - 2,2%. Преобладает мелкое крестьянское землепользование. Обеспечивая собственные потребности в рисе, Япония вынуждена импортировать около половины требуемого объема зерновых и кормовых культур. На долю японского рыболовного флота, одного из крупнейших в мире, приходится около 15% мировой добычи рыбы (самый крупный производитель рыбы в мире). Основные торговые партнеры: страны Юго-Восточной Азии, США, страны Западной Европы, Китай. </a:t>
            </a:r>
            <a:r>
              <a:rPr b="0" lang="ru-RU" sz="1600" spc="-1" strike="noStrike" u="sng">
                <a:solidFill>
                  <a:srgbClr val="ff0066"/>
                </a:solidFill>
                <a:uFillTx/>
                <a:latin typeface="Comic Sans MS"/>
              </a:rPr>
              <a:t>Денежная единица</a:t>
            </a: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 - иена (1 иена (Y) равна 100 сен).Общая протяженность железных дорог - 27 327 км, автодорог -1111 974 км (4 400 км - скоростных магистралей, 46 805 км - государственных шоссейных дорог, 128 539 км- префектурных дорог),внутренних водных путей - около 1 770 км. Важнейшие порты страны: Муроран, Китакюсю, Кобе, Осака, Токио, Иокогама, Кавасаки, Кагосима, Нагоя, Химедаи, Нагасаки, Ти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steam-train-medium"/>
          <p:cNvPicPr/>
          <p:nvPr/>
        </p:nvPicPr>
        <p:blipFill>
          <a:blip r:embed="rId1"/>
          <a:stretch/>
        </p:blipFill>
        <p:spPr>
          <a:xfrm>
            <a:off x="6443640" y="189000"/>
            <a:ext cx="240984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3600" algn="just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Comic Sans MS"/>
              </a:rPr>
              <a:t>Национальная кух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Японская кухня – одна из самых оригинальных и своеобразных в мире. Японская пища очень проста, тепловая обработка минимальна, а максимальное внимание уделяется сохранению естественного вида и вкуса продукта. Часто все приготовление сводится к простому нарезанию продукта, без всякой обработки, смешивание в одном блюде большого количества ингредиентов также не в ходу. Ещё одна особенность – характерная ритуальность самого процесса поглощения пищи – мало того, что меню обязано отличаться в зависимости от времени года, так ещё и обилие правил поведения за столом и обращения с приборами обычно ставят в тупик большинство европейце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Основа японской кухни – вареный рис, который совершенно не солится, но зато сопровождается разнообразными соусами и приправами. Его подают в отдельной посуде практически ко всем блюдам как гарнир, а часто используют и как самостоятельное блюдо, варьируя вкус при помощи приправ. Самое популярное блюдо из риса, несомненно, "суси" ("суши") – рисовые шарики-рулетики с различной начинкой (более 200 видов), а также рисовые шарики "онигири" или рисовые пирожки "моти". Не менее риса популярен особый сорт лапши из гречневой муки – "соба" ("собо"), которую подают как в холодном, так и в горячем виде, жареную и вареную, в бульоне и с овощами. Также хороша и обычная лапша "удон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693960" y="609300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Су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C:\Documents and Settings\User\Рабочий стол\Рисунок24.jpg"/>
          <p:cNvPicPr/>
          <p:nvPr/>
        </p:nvPicPr>
        <p:blipFill>
          <a:blip r:embed="rId1"/>
          <a:stretch/>
        </p:blipFill>
        <p:spPr>
          <a:xfrm>
            <a:off x="5675400" y="4516560"/>
            <a:ext cx="346860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omic Sans MS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0755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346320" algn="just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Comic Sans MS"/>
              </a:rPr>
              <a:t>Географическое положение и прир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Государство в Восточной Азии, расположенное в западной части Тихого океана на островах Хонсю, Кюсю, Хоккайдо, Сикоку и множестве других более мелких островах (всего насчитывается свыше 3 900 островов). Длина береговой линии 29 751 км. </a:t>
            </a:r>
            <a:r>
              <a:rPr b="0" lang="ru-RU" sz="1600" spc="-1" strike="noStrike" u="sng">
                <a:solidFill>
                  <a:srgbClr val="ff0066"/>
                </a:solidFill>
                <a:uFillTx/>
                <a:latin typeface="Comic Sans MS"/>
              </a:rPr>
              <a:t>Общая площадь</a:t>
            </a: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 страны 377 765 км2 (площадь суши -374 744 км2). Япония продолжает считать принадлежащие России Курильские острова (Итуруп, Кунашир и Шикотан и группу островов Хабомаи) частью своей территории (Северные территории). В ландшафте страны преобладают обрывистые горы, перемежающиеся равнинами. Большинство самых высоких гор Японии представляют собой действующие вулканы, насчитывается 60 активных вулканов. </a:t>
            </a:r>
            <a:r>
              <a:rPr b="0" lang="ru-RU" sz="1600" spc="-1" strike="noStrike" u="sng">
                <a:solidFill>
                  <a:srgbClr val="ff0066"/>
                </a:solidFill>
                <a:uFillTx/>
                <a:latin typeface="Comic Sans MS"/>
              </a:rPr>
              <a:t>Самая высокая точка страны</a:t>
            </a: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 - вулкан Фудзияма (3 776 м). </a:t>
            </a:r>
            <a:r>
              <a:rPr b="0" lang="ru-RU" sz="1600" spc="-1" strike="noStrike" u="sng">
                <a:solidFill>
                  <a:srgbClr val="ff0066"/>
                </a:solidFill>
                <a:uFillTx/>
                <a:latin typeface="Comic Sans MS"/>
              </a:rPr>
              <a:t>Самая обширная равнина</a:t>
            </a: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 - Канто расположена на острове Хонсю. Здесь находится долина реки Тоне. Только шесть рек Японии превышают 200 км в длину. </a:t>
            </a:r>
            <a:r>
              <a:rPr b="0" lang="ru-RU" sz="1600" spc="-1" strike="noStrike" u="sng">
                <a:solidFill>
                  <a:srgbClr val="ff0066"/>
                </a:solidFill>
                <a:uFillTx/>
                <a:latin typeface="Comic Sans MS"/>
              </a:rPr>
              <a:t>Река Синано</a:t>
            </a: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 на острове Хонсю, </a:t>
            </a:r>
            <a:r>
              <a:rPr b="0" lang="ru-RU" sz="1600" spc="-1" strike="noStrike" u="sng">
                <a:solidFill>
                  <a:srgbClr val="ff0066"/>
                </a:solidFill>
                <a:uFillTx/>
                <a:latin typeface="Comic Sans MS"/>
              </a:rPr>
              <a:t>самая длинная река страны, достигает 369 км.</a:t>
            </a: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 Большинство озер вулканические, расположенные в кратерах. Из тектонических озер </a:t>
            </a:r>
            <a:r>
              <a:rPr b="0" lang="ru-RU" sz="1600" spc="-1" strike="noStrike" u="sng">
                <a:solidFill>
                  <a:srgbClr val="ff0066"/>
                </a:solidFill>
                <a:uFillTx/>
                <a:latin typeface="Comic Sans MS"/>
              </a:rPr>
              <a:t>самое крупное - Бива</a:t>
            </a: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 (672 км2). Япония располагает незначительными месторождениями полезных ископаемых, из них промышленное значение имеют запасы каменного угля, меди, свинцово-цинковой руды, ведется также освоение минеральных ресурсов моря. В данный момент главный природный ресурс - рыба. Пахотные земли занимают 13% от всех земель, леса и кустарники - 67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5710320" y="609300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Су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411280" y="170028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Р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C:\Documents and Settings\User\Рабочий стол\Рисунок25.jpg"/>
          <p:cNvPicPr/>
          <p:nvPr/>
        </p:nvPicPr>
        <p:blipFill>
          <a:blip r:embed="rId1"/>
          <a:stretch/>
        </p:blipFill>
        <p:spPr>
          <a:xfrm>
            <a:off x="4362480" y="0"/>
            <a:ext cx="4781520" cy="3191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C:\Documents and Settings\User\Рабочий стол\Рисунок26.jpg"/>
          <p:cNvPicPr/>
          <p:nvPr/>
        </p:nvPicPr>
        <p:blipFill>
          <a:blip r:embed="rId2"/>
          <a:stretch/>
        </p:blipFill>
        <p:spPr>
          <a:xfrm>
            <a:off x="0" y="3430440"/>
            <a:ext cx="509760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497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3600" algn="just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Comic Sans MS"/>
              </a:rPr>
              <a:t>Спор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Самыми популярными видами спорта в Японии являются бейсбол, футбол, а также другие игры с мячом. Некоторые виды боевого искусства, такие как дзюдо, кэндо и карате также собирает большое количество зрителей. </a:t>
            </a:r>
            <a:r>
              <a:rPr b="0" lang="ru-RU" sz="1600" spc="-1" strike="noStrike" u="sng">
                <a:solidFill>
                  <a:srgbClr val="ff0066"/>
                </a:solidFill>
                <a:uFillTx/>
                <a:latin typeface="Comic Sans MS"/>
              </a:rPr>
              <a:t>Сумо</a:t>
            </a: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 не является официальным спортом в Японии, но профессиональная ассоциация сумо утверждает, что это национальный вид спор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Состязания в борьбе сумо — важный вид традиционного японского спорта — были как религиозным событием, так и спортивным. Многие из ритуалов сумо похожи на синтоистские. Полагается, что некоторые из древних соревнований сумо были религиозным событием с предопределенным результатом, как подношение ками. Некоторые состязания служили предсказаниями. Например, если в состязании участвовали рыбак и фермер и выигрывал рыбак, следующий год сулил выгоды и дох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C:\Documents and Settings\User\Рабочий стол\Рисунок27.jpg"/>
          <p:cNvPicPr/>
          <p:nvPr/>
        </p:nvPicPr>
        <p:blipFill>
          <a:blip r:embed="rId1"/>
          <a:stretch/>
        </p:blipFill>
        <p:spPr>
          <a:xfrm>
            <a:off x="4000680" y="3362400"/>
            <a:ext cx="4857480" cy="3495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:\Documents and Settings\User\Рабочий стол\Рисунок28.jpg"/>
          <p:cNvPicPr/>
          <p:nvPr/>
        </p:nvPicPr>
        <p:blipFill>
          <a:blip r:embed="rId2"/>
          <a:stretch/>
        </p:blipFill>
        <p:spPr>
          <a:xfrm>
            <a:off x="357120" y="3571920"/>
            <a:ext cx="325764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9"/>
          <p:cNvSpPr/>
          <p:nvPr/>
        </p:nvSpPr>
        <p:spPr>
          <a:xfrm>
            <a:off x="4520880" y="2276640"/>
            <a:ext cx="42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66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Comic Sans MS"/>
              </a:rPr>
              <a:t>Денежная единица</a:t>
            </a: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 - и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C:\Documents and Settings\User\Рабочий стол\Рисунок29.jpg"/>
          <p:cNvPicPr/>
          <p:nvPr/>
        </p:nvPicPr>
        <p:blipFill>
          <a:blip r:embed="rId1"/>
          <a:stretch/>
        </p:blipFill>
        <p:spPr>
          <a:xfrm>
            <a:off x="357120" y="428760"/>
            <a:ext cx="3905280" cy="58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C:\Documents and Settings\User\Рабочий стол\Рисунок30.jpg"/>
          <p:cNvPicPr/>
          <p:nvPr/>
        </p:nvPicPr>
        <p:blipFill>
          <a:blip r:embed="rId2"/>
          <a:stretch/>
        </p:blipFill>
        <p:spPr>
          <a:xfrm>
            <a:off x="4429080" y="3143160"/>
            <a:ext cx="43815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4546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7120" algn="just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Comic Sans MS"/>
              </a:rPr>
              <a:t>Клим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Влажный муссонный климат страны обусловливается островным характером страны, большой протяженностью с севера на юг, влиянием океанических течений. Здесь не только влажнее, чем на тех же широтах материка, но и значительно теплее. Осадков выпадает в 2-3 раза больше, чем на соседних частях материка -1 000-3 000 мм в год. Зимы на севере довольно холодные. Средняя температура января на острове Хоккайдо -10'С, часты снежные бураны и метели. На юге зимы теплые (17'С) и сухие. Лето душное, дождливое и пасмурное. Летом даже ночные температуры на большей части Японии не опускаются ниже 23-25*С. В июле и августе над островами часто проходят тайфуны (ежегодно - около 10-15 тайфунов). В Японии можно выделить четыре климатические области - умеренно холодную (остров Хоккайдо), умеренно теплую (остров Хонсю), субтропическую (остров Кюсю и северная часть архипелага Рюкю) и тропическую (южная часть Рюкю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C:\Documents and Settings\User\Рабочий стол\Рисунок31.jpg"/>
          <p:cNvPicPr/>
          <p:nvPr/>
        </p:nvPicPr>
        <p:blipFill>
          <a:blip r:embed="rId1"/>
          <a:stretch/>
        </p:blipFill>
        <p:spPr>
          <a:xfrm>
            <a:off x="5033880" y="428760"/>
            <a:ext cx="411012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C:\Documents and Settings\User\Рабочий стол\Рисунок33.jpg"/>
          <p:cNvPicPr/>
          <p:nvPr/>
        </p:nvPicPr>
        <p:blipFill>
          <a:blip r:embed="rId1"/>
          <a:stretch/>
        </p:blipFill>
        <p:spPr>
          <a:xfrm>
            <a:off x="357120" y="285840"/>
            <a:ext cx="8385120" cy="6062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5580000" y="5877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Природа Яп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C:\Documents and Settings\User\Рабочий стол\Рисунок34.jpg"/>
          <p:cNvPicPr/>
          <p:nvPr/>
        </p:nvPicPr>
        <p:blipFill>
          <a:blip r:embed="rId1"/>
          <a:stretch/>
        </p:blipFill>
        <p:spPr>
          <a:xfrm>
            <a:off x="428760" y="457200"/>
            <a:ext cx="8385120" cy="59720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826920" y="5493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Природа Яп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5"/>
          <p:cNvSpPr/>
          <p:nvPr/>
        </p:nvSpPr>
        <p:spPr>
          <a:xfrm>
            <a:off x="5580000" y="6093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Природа Яп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C:\Documents and Settings\User\Рабочий стол\Рисунок35.jpg"/>
          <p:cNvPicPr/>
          <p:nvPr/>
        </p:nvPicPr>
        <p:blipFill>
          <a:blip r:embed="rId1"/>
          <a:stretch/>
        </p:blipFill>
        <p:spPr>
          <a:xfrm>
            <a:off x="357120" y="357120"/>
            <a:ext cx="751356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C:\Documents and Settings\User\Рабочий стол\Рисунок36.jpg"/>
          <p:cNvPicPr/>
          <p:nvPr/>
        </p:nvPicPr>
        <p:blipFill>
          <a:blip r:embed="rId1"/>
          <a:stretch/>
        </p:blipFill>
        <p:spPr>
          <a:xfrm>
            <a:off x="500040" y="357120"/>
            <a:ext cx="8155080" cy="60008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684360" y="6206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Природа Яп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8920" y="177336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7120" algn="just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Comic Sans MS"/>
              </a:rPr>
              <a:t>Растительный м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Более 2/3 площади Японских островов покрыто лесами. Благодаря островной изоляции здесь сохранились эндемичные виды: криптомерии, </a:t>
            </a:r>
            <a:r>
              <a:rPr b="0" lang="ru-RU" sz="1600" spc="-1" strike="noStrike" u="sng">
                <a:solidFill>
                  <a:srgbClr val="ff0066"/>
                </a:solidFill>
                <a:uFillTx/>
                <a:latin typeface="Comic Sans MS"/>
              </a:rPr>
              <a:t>японские кипарисы</a:t>
            </a: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. Южная часть страны (до острова Кюсю) покрыта тропическими лесами, центральная - субтропическими лесами; на острове Хоккайдо господствуют смешанные леса и тайга. В тропических лесах на юге Рюкю растут сахарная, саговая пальмы и пальма катеху, встречаются банан, фикус, древовидные папоротники, лазающая пальма ротанг. На островах Кюсю, Сикоку господствует субтропическая растительность: леса из вечнозеленых дубов, </a:t>
            </a:r>
            <a:r>
              <a:rPr b="0" lang="ru-RU" sz="1600" spc="-1" strike="noStrike" u="sng">
                <a:solidFill>
                  <a:srgbClr val="ff0066"/>
                </a:solidFill>
                <a:uFillTx/>
                <a:latin typeface="Comic Sans MS"/>
              </a:rPr>
              <a:t>японских сосен</a:t>
            </a: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, эндемичных японских кипарисов, криптомерии, туи перемежаются зарослями ярких гардений, азалий, магнолий. У древних храмов сохранились рощи гонгко -реликта возрастом не менее 40 млн. лет. Много бамбуковых рощ, в которых бамбуки достигают высоты 20-30 м при толщине ствола 20-30 см. В северной половине острова Хонсю и на юге Хоккайдо господствуют дуб и бук, к ним примешиваются маньчжурский ясень, каштаны, вязы, липы. На севере Хоккайдо и в горах господствует елово-пихтовая горная тайга, которая сменяется зарослями рододендрона и кедрового стланика. На высоте 1 500-2 500 м располагаются альпийские луга - хара - из злаков, кустарников, папоротников, бамбу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0_14c9_14cad959_L"/>
          <p:cNvPicPr/>
          <p:nvPr/>
        </p:nvPicPr>
        <p:blipFill>
          <a:blip r:embed="rId1"/>
          <a:stretch/>
        </p:blipFill>
        <p:spPr>
          <a:xfrm>
            <a:off x="7740720" y="0"/>
            <a:ext cx="12380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7"/>
          <p:cNvSpPr/>
          <p:nvPr/>
        </p:nvSpPr>
        <p:spPr>
          <a:xfrm>
            <a:off x="1358640" y="5757840"/>
            <a:ext cx="14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Сак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C:\Documents and Settings\User\Рабочий стол\Рисунок37.jpg"/>
          <p:cNvPicPr/>
          <p:nvPr/>
        </p:nvPicPr>
        <p:blipFill>
          <a:blip r:embed="rId1"/>
          <a:stretch/>
        </p:blipFill>
        <p:spPr>
          <a:xfrm>
            <a:off x="285840" y="428760"/>
            <a:ext cx="5286240" cy="3500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C:\Documents and Settings\User\Рабочий стол\Рисунок38.jpg"/>
          <p:cNvPicPr/>
          <p:nvPr/>
        </p:nvPicPr>
        <p:blipFill>
          <a:blip r:embed="rId2"/>
          <a:stretch/>
        </p:blipFill>
        <p:spPr>
          <a:xfrm>
            <a:off x="5786280" y="1857240"/>
            <a:ext cx="30196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C:\Documents and Settings\User\Рабочий стол\Рисунок3.jpg"/>
          <p:cNvPicPr/>
          <p:nvPr/>
        </p:nvPicPr>
        <p:blipFill>
          <a:blip r:embed="rId1"/>
          <a:stretch/>
        </p:blipFill>
        <p:spPr>
          <a:xfrm>
            <a:off x="428760" y="181080"/>
            <a:ext cx="7929360" cy="66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C:\Documents and Settings\User\Рабочий стол\Рисунок39.jpg"/>
          <p:cNvPicPr/>
          <p:nvPr/>
        </p:nvPicPr>
        <p:blipFill>
          <a:blip r:embed="rId1"/>
          <a:stretch/>
        </p:blipFill>
        <p:spPr>
          <a:xfrm>
            <a:off x="714240" y="642960"/>
            <a:ext cx="7796520" cy="58816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-25560" y="0"/>
            <a:ext cx="14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Сак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C:\Documents and Settings\User\Рабочий стол\Рисунок40.jpg"/>
          <p:cNvPicPr/>
          <p:nvPr/>
        </p:nvPicPr>
        <p:blipFill>
          <a:blip r:embed="rId1"/>
          <a:stretch/>
        </p:blipFill>
        <p:spPr>
          <a:xfrm>
            <a:off x="285840" y="428760"/>
            <a:ext cx="8270640" cy="6072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6485400" y="5734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Сак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5193360" y="6237360"/>
            <a:ext cx="33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Японские кипари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C:\Documents and Settings\User\Рабочий стол\Рисунок41.jpg"/>
          <p:cNvPicPr/>
          <p:nvPr/>
        </p:nvPicPr>
        <p:blipFill>
          <a:blip r:embed="rId1"/>
          <a:stretch/>
        </p:blipFill>
        <p:spPr>
          <a:xfrm>
            <a:off x="428760" y="357120"/>
            <a:ext cx="771516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785840" y="981000"/>
            <a:ext cx="28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Японские сос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C:\Documents and Settings\User\Рабочий стол\Рисунок42.jpg"/>
          <p:cNvPicPr/>
          <p:nvPr/>
        </p:nvPicPr>
        <p:blipFill>
          <a:blip r:embed="rId1"/>
          <a:stretch/>
        </p:blipFill>
        <p:spPr>
          <a:xfrm>
            <a:off x="428760" y="571680"/>
            <a:ext cx="3628800" cy="5786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C:\Documents and Settings\User\Рабочий стол\Рисунок43.jpg"/>
          <p:cNvPicPr/>
          <p:nvPr/>
        </p:nvPicPr>
        <p:blipFill>
          <a:blip r:embed="rId2"/>
          <a:stretch/>
        </p:blipFill>
        <p:spPr>
          <a:xfrm>
            <a:off x="4429080" y="1928880"/>
            <a:ext cx="40957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7120" algn="just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Comic Sans MS"/>
              </a:rPr>
              <a:t>Животный м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Для животного мира Японии характерны особенности, вызванные прежде всего ее островной изоляцией. Первая из них -существенные различия между островами. Так, для южных островов Рюкю характерна тропическая фауна, относительно бедная млекопитающими, и господство животных, ведущих древесный образ жизни. Встречается много обезьян (тонкотелов, макак, гиббонов), летучих мышей (крыланов), обычны древесные виверры, куницы, много белок и летяг. Водится шерстокрыл, из крупных животных - </a:t>
            </a:r>
            <a:r>
              <a:rPr b="0" lang="ru-RU" sz="1600" spc="-1" strike="noStrike" u="sng">
                <a:solidFill>
                  <a:srgbClr val="ff0066"/>
                </a:solidFill>
                <a:uFillTx/>
                <a:latin typeface="Comic Sans MS"/>
              </a:rPr>
              <a:t>японский олень.</a:t>
            </a: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 Встречаются уникальные </a:t>
            </a:r>
            <a:r>
              <a:rPr b="0" lang="ru-RU" sz="1600" spc="-1" strike="noStrike" u="sng">
                <a:solidFill>
                  <a:srgbClr val="ff0066"/>
                </a:solidFill>
                <a:uFillTx/>
                <a:latin typeface="Comic Sans MS"/>
              </a:rPr>
              <a:t>черный заяц</a:t>
            </a: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 «куро-усаги», синяя птица «рури-какесу» (близкая родственница сойки), ядовитая змея «хабу». Гораздо более богата фауна центральных островов Японского архипелага. Здесь водятся материковые животные - волк, лисица, енотовидная собака, барсук, олень, заяц, белка, </a:t>
            </a:r>
            <a:r>
              <a:rPr b="0" lang="ru-RU" sz="1600" spc="-1" strike="noStrike" u="sng">
                <a:solidFill>
                  <a:srgbClr val="ff0066"/>
                </a:solidFill>
                <a:uFillTx/>
                <a:latin typeface="Comic Sans MS"/>
              </a:rPr>
              <a:t>японский макак</a:t>
            </a: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, </a:t>
            </a:r>
            <a:r>
              <a:rPr b="0" lang="ru-RU" sz="1600" spc="-1" strike="noStrike" u="sng">
                <a:solidFill>
                  <a:srgbClr val="ff0066"/>
                </a:solidFill>
                <a:uFillTx/>
                <a:latin typeface="Comic Sans MS"/>
              </a:rPr>
              <a:t>японский черный медведь</a:t>
            </a: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, исполинская (до 1,5 м длиной) саламандра. Но совсем не представлено семейство кошачьих (диких), мало певчих птиц. Животный мир Хоккайдо, самого северного острова, совсем особый. Здесь преобладают северные формы - бурый медведь, ласка, горностай, сибирский соболь. В прибрежных водах в районе холодного течения Ойясио встречаются тюлени, морские котики, сельдь, треска, макрель, кальмар. В теплых водах течения Куросио - скумбрия, бони-то, сард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5481360" y="5805360"/>
            <a:ext cx="28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Японский ма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C:\Documents and Settings\User\Рабочий стол\Рисунок44.jpg"/>
          <p:cNvPicPr/>
          <p:nvPr/>
        </p:nvPicPr>
        <p:blipFill>
          <a:blip r:embed="rId1"/>
          <a:stretch/>
        </p:blipFill>
        <p:spPr>
          <a:xfrm>
            <a:off x="642960" y="428760"/>
            <a:ext cx="409572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7381800" y="57340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Зай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C:\Documents and Settings\User\Рабочий стол\Рисунок45.jpg"/>
          <p:cNvPicPr/>
          <p:nvPr/>
        </p:nvPicPr>
        <p:blipFill>
          <a:blip r:embed="rId1"/>
          <a:stretch/>
        </p:blipFill>
        <p:spPr>
          <a:xfrm>
            <a:off x="357120" y="857160"/>
            <a:ext cx="6864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5910120" y="1052640"/>
            <a:ext cx="27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Японский ол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C:\Documents and Settings\User\Рабочий стол\Рисунок46.jpg"/>
          <p:cNvPicPr/>
          <p:nvPr/>
        </p:nvPicPr>
        <p:blipFill>
          <a:blip r:embed="rId1"/>
          <a:stretch/>
        </p:blipFill>
        <p:spPr>
          <a:xfrm>
            <a:off x="428760" y="1928880"/>
            <a:ext cx="57942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4220640" y="620640"/>
            <a:ext cx="44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Японский черный медве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C:\Documents and Settings\User\Рабочий стол\Рисунок47.jpg"/>
          <p:cNvPicPr/>
          <p:nvPr/>
        </p:nvPicPr>
        <p:blipFill>
          <a:blip r:embed="rId1"/>
          <a:stretch/>
        </p:blipFill>
        <p:spPr>
          <a:xfrm>
            <a:off x="571680" y="1500120"/>
            <a:ext cx="591948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3889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7120" algn="just">
              <a:lnSpc>
                <a:spcPct val="90000"/>
              </a:lnSpc>
              <a:spcBef>
                <a:spcPts val="4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Comic Sans MS"/>
              </a:rPr>
              <a:t>Достопримеча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В Токио интересны: </a:t>
            </a:r>
            <a:r>
              <a:rPr b="0" lang="ru-RU" sz="1600" spc="-1" strike="noStrike" u="sng">
                <a:solidFill>
                  <a:srgbClr val="ff0066"/>
                </a:solidFill>
                <a:uFillTx/>
                <a:latin typeface="Comic Sans MS"/>
              </a:rPr>
              <a:t>буддистские храмы Каннон в Асакуса</a:t>
            </a: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 (17 в.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Мэйдзи (19 в.), Ракандзи; синтоистское святилище Ясукуни (1919); </a:t>
            </a:r>
            <a:r>
              <a:rPr b="0" lang="ru-RU" sz="1600" spc="-1" strike="noStrike" u="sng">
                <a:solidFill>
                  <a:srgbClr val="ff0066"/>
                </a:solidFill>
                <a:uFillTx/>
                <a:latin typeface="Comic Sans MS"/>
              </a:rPr>
              <a:t>императорский дворец</a:t>
            </a: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, до 1869 г. - замок Эдо (15 в.); Национальный музей; национальный музей Западного искусства; Музей народного японского искусства. В Киото: храм Тодзи (8-17 вв.); монастыри Тенрюдзи, Сайходзи (оба 14 в.), Рёандзи (15 в.); Кинкакудзи - «Золотой павильон» (14 в.), Гинкакудзи - «Серебряный павильон» (15 в.); музей в храме Миохойн; дворцовый ансамбль Кацура (17 в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C:\Documents and Settings\User\Рабочий стол\Рисунок48.jpg"/>
          <p:cNvPicPr/>
          <p:nvPr/>
        </p:nvPicPr>
        <p:blipFill>
          <a:blip r:embed="rId1"/>
          <a:stretch/>
        </p:blipFill>
        <p:spPr>
          <a:xfrm>
            <a:off x="4286160" y="1500120"/>
            <a:ext cx="4572000" cy="38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237600" y="476280"/>
            <a:ext cx="80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66"/>
                </a:solidFill>
                <a:uFillTx/>
                <a:latin typeface="Comic Sans MS"/>
              </a:rPr>
              <a:t>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Comic Sans MS"/>
              </a:rPr>
              <a:t>Самая высокая точка страны</a:t>
            </a: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 - вулкан Фудзияма (3 776 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C:\Documents and Settings\User\Рабочий стол\Рисунок5.jpg"/>
          <p:cNvPicPr/>
          <p:nvPr/>
        </p:nvPicPr>
        <p:blipFill>
          <a:blip r:embed="rId1"/>
          <a:stretch/>
        </p:blipFill>
        <p:spPr>
          <a:xfrm>
            <a:off x="928800" y="1000080"/>
            <a:ext cx="7156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449280" y="6165720"/>
            <a:ext cx="67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Буддистский храм Каннон в Асакуса (17 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C:\Documents and Settings\User\Рабочий стол\Рисунок49.jpg"/>
          <p:cNvPicPr/>
          <p:nvPr/>
        </p:nvPicPr>
        <p:blipFill>
          <a:blip r:embed="rId1"/>
          <a:stretch/>
        </p:blipFill>
        <p:spPr>
          <a:xfrm>
            <a:off x="571680" y="571680"/>
            <a:ext cx="77151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280800" y="5234040"/>
            <a:ext cx="701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Императорский дворец. в Токио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резиденция 125-го монарха Японии Акихи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C:\Documents and Settings\User\Рабочий стол\Рисунок50.jpg"/>
          <p:cNvPicPr/>
          <p:nvPr/>
        </p:nvPicPr>
        <p:blipFill>
          <a:blip r:embed="rId1"/>
          <a:stretch/>
        </p:blipFill>
        <p:spPr>
          <a:xfrm>
            <a:off x="857160" y="571680"/>
            <a:ext cx="71438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418680" y="6165720"/>
            <a:ext cx="50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Кинкакудзи. Золотой павиль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C:\Documents and Settings\User\Рабочий стол\Рисунок51.jpg"/>
          <p:cNvPicPr/>
          <p:nvPr/>
        </p:nvPicPr>
        <p:blipFill>
          <a:blip r:embed="rId1"/>
          <a:stretch/>
        </p:blipFill>
        <p:spPr>
          <a:xfrm>
            <a:off x="642960" y="357120"/>
            <a:ext cx="75722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995280" y="2781000"/>
            <a:ext cx="45356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Comic Sans MS"/>
              </a:rPr>
              <a:t>Япония</a:t>
            </a: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 – загадочная страна на востоке, первой встречающая восход солнца; страна, где прошлое встречается с будущим, страна древних традиций и высоких технологий. Удивительная, полная тайн и очарования, непостижимая и потому столь притягательная, еще недавно закрытая и почти недоступная, – о ней не расскажешь словами, ее нужно увидеть самому, чтобы попытаться заглянуть в такой непохожий на наш мир и стать на мгновение его частью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61388a5c96bf1432c5df3dc69c6ed406"/>
          <p:cNvPicPr/>
          <p:nvPr/>
        </p:nvPicPr>
        <p:blipFill>
          <a:blip r:embed="rId1"/>
          <a:stretch/>
        </p:blipFill>
        <p:spPr>
          <a:xfrm>
            <a:off x="7524720" y="404640"/>
            <a:ext cx="1238400" cy="1143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Documents and Settings\User\Рабочий стол\Рисунок52.jpg"/>
          <p:cNvPicPr/>
          <p:nvPr/>
        </p:nvPicPr>
        <p:blipFill>
          <a:blip r:embed="rId2"/>
          <a:stretch/>
        </p:blipFill>
        <p:spPr>
          <a:xfrm>
            <a:off x="500040" y="2357280"/>
            <a:ext cx="28764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924480" y="888840"/>
            <a:ext cx="43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Река Синано</a:t>
            </a: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достигает 369 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C:\Documents and Settings\User\Рабочий стол\Рисунок6.jpg"/>
          <p:cNvPicPr/>
          <p:nvPr/>
        </p:nvPicPr>
        <p:blipFill>
          <a:blip r:embed="rId1"/>
          <a:stretch/>
        </p:blipFill>
        <p:spPr>
          <a:xfrm>
            <a:off x="428760" y="1500120"/>
            <a:ext cx="81691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499320" y="404640"/>
            <a:ext cx="532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Самое крупное</a:t>
            </a: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озеро - Бива (672 км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C:\Documents and Settings\User\Рабочий стол\Рисунок7.jpg"/>
          <p:cNvPicPr/>
          <p:nvPr/>
        </p:nvPicPr>
        <p:blipFill>
          <a:blip r:embed="rId1"/>
          <a:stretch/>
        </p:blipFill>
        <p:spPr>
          <a:xfrm>
            <a:off x="285840" y="785880"/>
            <a:ext cx="842940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5364000" y="1341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Флаг Япо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080000" y="4753080"/>
            <a:ext cx="344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Император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печать Япо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C:\Documents and Settings\User\Рабочий стол\Рисунок8.jpg"/>
          <p:cNvPicPr/>
          <p:nvPr/>
        </p:nvPicPr>
        <p:blipFill>
          <a:blip r:embed="rId1"/>
          <a:stretch/>
        </p:blipFill>
        <p:spPr>
          <a:xfrm>
            <a:off x="500040" y="357120"/>
            <a:ext cx="4425840" cy="2975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C:\Documents and Settings\User\Рабочий стол\Рисунок9.jpg"/>
          <p:cNvPicPr/>
          <p:nvPr/>
        </p:nvPicPr>
        <p:blipFill>
          <a:blip r:embed="rId2"/>
          <a:stretch/>
        </p:blipFill>
        <p:spPr>
          <a:xfrm>
            <a:off x="5286240" y="3214800"/>
            <a:ext cx="33530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omic Sans MS"/>
              </a:rPr>
              <a:t>Токи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3628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Comic Sans MS"/>
              </a:rPr>
              <a:t>Общие с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Токио является столицей Японии (официальная форма государственного управления — конституционная монархия). Здесь находятся парламент, правительство страны и резиденция императора, который имеет статус «символа государства и единства нации» и почти не влияет на решение государственных вопросов.</a:t>
            </a:r>
            <a:r>
              <a:rPr b="0" lang="en-US" sz="1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Город Токио занимает площадь 577 км2. Префектура размещается на территории 2 162 км2. Плотность населения здесь превышает 5 тыс. человек на 1 км2. Это один из самых густонаселенных районов земного шара.</a:t>
            </a:r>
            <a:r>
              <a:rPr b="0" lang="en-US" sz="1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Название города с японского переводится как «восточная столиц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Comic Sans MS"/>
              </a:rPr>
              <a:t>Природные усл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Столица Японии находится на юго-востоке самого крупного из Японских островов — Хонсю. Мегаполис занимает значительную часть равнины Канто и расположен на побережье Токийского залива Тихого океана. Через территорию столицы протекают реки Тама, Сумида, Аракава, Эдогава, которые здесь впадают в море. К северу и западу от Токио находятся горы.</a:t>
            </a:r>
            <a:r>
              <a:rPr b="0" lang="en-US" sz="1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В мегаполисе властвует субтропический климат. Его характер определяют сезонные ветры — муссоны. Зимой температура держится на среднем уровне — около +4° С, летом — около +24° С.За год в главном городе Японии выпадает примерно 1300 мм осадков. На территории Токио наблюдается два дождливых периода: первый — в июне-июле, второй — в сентябре-октябре. В это время на столицу обрушивается основная масса атмосферных осадков.</a:t>
            </a:r>
            <a:r>
              <a:rPr b="0" lang="en-US" sz="1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0066"/>
                </a:solidFill>
                <a:latin typeface="Comic Sans MS"/>
              </a:rPr>
              <a:t>Мегаполис подвержен серьезным природным катаклизмам. Порой они носят весьма разрушительный характер. Периоды дождей нередко сопровождаются тайфунами. Кроме того, в Токио часто происходят землетряс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C:\Documents and Settings\User\Рабочий стол\Рисунок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543240" y="189000"/>
            <a:ext cx="14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Токи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6:54:54Z</dcterms:created>
  <dc:creator>Алексей Павлов</dc:creator>
  <dc:description/>
  <dc:language>en-US</dc:language>
  <cp:lastModifiedBy>User</cp:lastModifiedBy>
  <dcterms:modified xsi:type="dcterms:W3CDTF">2010-02-02T17:35:42Z</dcterms:modified>
  <cp:revision>9</cp:revision>
  <dc:subject/>
  <dc:title>Слайд 1</dc:title>
</cp:coreProperties>
</file>