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00D-F2EC-4FD2-9871-1270911E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46A-F2A0-452F-B59D-B48DA016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F37-3509-4604-A82A-49158559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DC4-50EB-4DF9-BA81-3B77C32C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23CD-244A-4F8D-99C5-586C298F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93EB-1D42-49BD-A191-AFA868C3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B87D-698F-4A60-BDDD-B074E78F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AF57-6767-4C3F-A339-D51566CE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60D6-1EC8-43D0-9322-50000BC7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35A4-D771-4468-BF3F-AD483C91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56AA-BAA0-4680-A493-F43A793F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D56-4061-4209-9685-9DE2273A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CF0E-2DCE-4869-B374-45150A8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8409-9D89-4A1D-B703-56A8B439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5078-FCA3-490F-AFFB-F1676B22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E7D1-3A19-4E1C-BAB8-8F494B07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1D50-AA44-4316-96F8-6EBC1FF3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69E-1621-41E7-A6EF-D220060B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559-4458-4ED3-8D41-B7C9B963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D40-31E7-4B44-B976-4556EB9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197-933D-4BCC-9736-DC068023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BBF-CF11-4500-8728-D21B15F9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41B-8C69-400D-B954-B3F4653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752-9401-4A56-9822-F10CE3E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3A79-9391-482D-BEB9-72851B44D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25F-F240-4237-98B2-4940E1592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Мёд: и вкусно и полезно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сследовательская работ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ченицы 2 «Б» кла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У АР СОШ №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ерных Мар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уководитель: Ермолаева Т.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79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з чего пчёлы делают мёд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доносные пчёлы производят мёд из нектара цветущих растений – сладкого, ароматного сока, который выделяют специальные клетки – нектаринк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челиный мёд – чудесный дар приро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 состав мёда входит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глев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инеральные веществ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итамины (С, В, РР и др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люкоз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руктоза и друг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изические свойства мёда:</a:t>
            </a:r>
            <a:br>
              <a:rPr sz="40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ачество мёда определяется по внешнему виду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консистен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цвет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аромату (запаху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вкус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нсистенция (состав)-степень плотности вещества, густот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вежий мёд по консистенции– это густая прозрачная полужидкая масса, со временем постепенно затвердева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Цвет мёда зависит от веществ, которые находятся в нектар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ромат мёда зависит от сорта мё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кус мёда зависит от происхождения и состава. Мёд обладает сладким, слегка кисловатым вкус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челиный мёд подразделяют на два основных вида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Цветочный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Падевый  мё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мятный мёд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гуще цвето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липовый мёд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 сладости поч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левой мёд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отличает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леверны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 цвето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гречиш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веточных сортов мёда столько, сколько медоносных растений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лезные продукты пчеловодств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чёлы дают человеку не только мёд, но и много других полезных продуктов пчеловодств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поли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точное молочк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челиный я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ыльца и пер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челиный вос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Сладок мёд,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а не по две ложки в рот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 пользе мёда я беседовала со школьной медсестрой Юлией Александров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акова питательная ценность мё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по своей питательной ценности 100 г. мёда равны: 225г. рыбьего жира, 175г. мяса, 120г. грецкого ореха, 90г. жирного сыр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носит ли вред употребление мё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единственный вред – чрезмерное употребление его количества. В среднем  его необходимо употреблять взрослым: 1-2 ст.л. в сутк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тям – 1-2 ч. 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ёд используетс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В медицин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риём внутрь (применять порциями-1 ч.л. Как можно дольше держать во рту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наружное примен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компрессы и полоск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ингаля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местные ван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Кулинария (запеканки, каши, соусы, пряники, медовые напитки и др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Лечебная косметика (маски, крема, мыло, шампунь и др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Медовые соты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40240" y="1681200"/>
            <a:ext cx="265428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ёд полезен растущему организму – детям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тоянное употребление мёд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повышает жизненные си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повышает иммуните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укрепляет нервную систем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обеспечивает спокойный 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ёнок становится умным, сильным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доровым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ывод: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ёд – это чудо природы, предупреждает простудные заболевания, является продуктом красоты, здоровья и долголет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ктуальность тем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имой, когда у меня болело горло, мама мне давала тёплое молоко с мёдом, натирала грудь и спину мёдом, чтобы я не кашляла. И я быстро поправилась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уальность моей работы я вижу в том, что осенью, зимой и весной простудными заболеваниями болеют много людей, а чаще всего дети, так как у них слабый иммунитет и не хватает витаминов. Продукты, которые дают человеку пчёлы, помогают ему вылечивать болезни, а так же оставаться молодым и энергичны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ак ли это? Я задумалась, действительно ли мёд такое целебное лекарств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не захотелось побольше узнать о мёде, исследовать полезные свойства мё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СОВЕТ: прежде, чем пить таблетки, попробуйте полечиться мёдом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шьте мёд и будьте здоровы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34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блем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сутствие знаний о мёде и полезных свойствах мё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ипотез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сли я изучу дополнительную литературу, то смогу рассказать своим одноклассникам о мёде и дать полезные советы о целебных свойствах мё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Цель: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знать о полезных свойствах мёд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Выяснить из чего состоит мёд, чем полезен он дет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Узнать, где используется этот продук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Сделать выв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етоды исследова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Теоретиче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зучение источников информ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Практическ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наблюде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анкетирова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нтервьюирова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обобщение и выв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ъект исследования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мё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дмет исследования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олезные свойства мё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жидаемый результат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и исследования расширят мой кругозор, помогут узнать о полезных свойствах мё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з научной литературы я узнала многое о мёд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 всём мире славился русский мёд за свои великолепные кач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щё первобытный человек применял мёд  как пищевой продукт и как лечебное сред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менитый математик  Пифагор утверждал, что дожил до глубокой старости, потому что постоянно употреблял мё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Цвет - пчёлкам, а мёд деткам»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ёд – уникальный продукт природы, богатый ценными питательными веществами, которые целительно влияют на организ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понцы называют мёд королём натуральных проду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ёд полезен старикам и детям, больным и здоров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 нашем классе я прове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ос детей о пользе мёд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любят мёд – 70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часто употребляют мёд в пищу – 60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употребляют в пищу каждый день – 10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лечебные свойства мёда – знают в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откуда берётся мёд – все опрошенные ответили правиль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то такое мёд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з  энциклопедии я выяснила, что мёд пчелиный – это сладкое сиропообразное густое ВЕЩЕСТВО, которое вырабатывается пчёлами из нектара цветков МЕДОНОСНЫХ РАСТ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0:10:09Z</dcterms:created>
  <dc:creator>777</dc:creator>
  <dc:description/>
  <dc:language>en-US</dc:language>
  <cp:lastModifiedBy>Татьяна</cp:lastModifiedBy>
  <dcterms:modified xsi:type="dcterms:W3CDTF">2009-11-30T15:42:00Z</dcterms:modified>
  <cp:revision>32</cp:revision>
  <dc:subject/>
  <dc:title>Слайд 1</dc:title>
</cp:coreProperties>
</file>