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9B4-B8DB-43ED-9D11-C4205DC8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A31-EB74-476C-B7CC-37C532BB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F2A-415A-486D-9C84-9D88405B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5438-ECBE-4B38-ADAD-EE4E1D49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4E24-B656-448F-A859-74614958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03CA-B071-4108-8C2A-7FA097F3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E92B-BD97-400C-A4C0-705DE284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F7ED-EE31-45BD-8550-6574E46C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8EAA-386B-431E-9B46-32AD35D1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B176-189B-47DC-BF82-9EEEDC07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3A90-7620-404D-9D08-39E728F9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C5D5-134A-44CC-A409-D7DF3A50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A431-D926-476B-929E-9F4F3C04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284C0-B5C6-4EC6-98FB-5C15B06C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1A4C-E635-4ADF-8D39-F0ADFFC9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B19D-1CDD-4ABB-97F1-83E06064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0CCC-5E59-48A6-9573-940E423F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06E-DE0F-4D74-A3D8-43789653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1AB-D4AB-44CD-9E0B-CC8A10A9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205-8B21-4A57-9A0C-61965EE7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9FA-9B55-4DC9-9F3E-D019E5E3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AFC-D1CC-42B2-BAA9-57515402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231-3210-4612-804E-39048DB4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C9D-ED92-4D71-B441-6C457682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A96D-564C-44C4-84A9-E911B34F1F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49E1-A5AE-49DF-AD31-FC6F912E3F3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6095880" cy="3962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Comic Sans MS"/>
              </a:rPr>
              <a:t>Пирсинг </a:t>
            </a:r>
            <a:br>
              <a:rPr sz="5400"/>
            </a:br>
            <a:r>
              <a:rPr b="1" lang="ru-RU" sz="5400" spc="-1" strike="noStrike" u="sng">
                <a:solidFill>
                  <a:srgbClr val="000000"/>
                </a:solidFill>
                <a:uFillTx/>
                <a:latin typeface="Comic Sans MS"/>
              </a:rPr>
              <a:t>«за» </a:t>
            </a:r>
            <a:br>
              <a:rPr sz="5400"/>
            </a:br>
            <a:r>
              <a:rPr b="1" lang="ru-RU" sz="5400" spc="-1" strike="noStrike" u="sng">
                <a:solidFill>
                  <a:srgbClr val="000000"/>
                </a:solidFill>
                <a:uFillTx/>
                <a:latin typeface="Comic Sans MS"/>
              </a:rPr>
              <a:t>и «против»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05560" y="6400800"/>
            <a:ext cx="7596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3049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Федеральное государствен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реднего профессиона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«Чернушинский политехнический колледж 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4495680"/>
            <a:ext cx="32767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боту выполнил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тудентки группы №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Дементьева Окс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Леушина Окс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уллаканова М.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подаватель социальной психолог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7" descr="C:\Program Files\Microsoft Office\MEDIA\CAGCAT10\j0300840.wmf"/>
          <p:cNvPicPr/>
          <p:nvPr/>
        </p:nvPicPr>
        <p:blipFill>
          <a:blip r:embed="rId1"/>
          <a:stretch/>
        </p:blipFill>
        <p:spPr>
          <a:xfrm>
            <a:off x="457200" y="449100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келлоид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торж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ал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вероятность остаться инвалидо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Необычный пирсинг. часть 2(заключительная)"/>
          <p:cNvPicPr/>
          <p:nvPr/>
        </p:nvPicPr>
        <p:blipFill>
          <a:blip r:embed="rId1"/>
          <a:stretch/>
        </p:blipFill>
        <p:spPr>
          <a:xfrm>
            <a:off x="5486400" y="4038480"/>
            <a:ext cx="2873520" cy="238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" descr="Необычный пирсинг. часть 2(заключительная)"/>
          <p:cNvPicPr/>
          <p:nvPr/>
        </p:nvPicPr>
        <p:blipFill>
          <a:blip r:embed="rId2"/>
          <a:stretch/>
        </p:blipFill>
        <p:spPr>
          <a:xfrm>
            <a:off x="5943600" y="1676520"/>
            <a:ext cx="19350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озможные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последствия пирсин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58040" y="-9418320"/>
            <a:ext cx="68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398808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Экстремальный пирсин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35772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48320" cy="34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533520" y="12952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Экстремальны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72480" y="5334120"/>
            <a:ext cx="20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ирсин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3880080" cy="46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714640" y="3505320"/>
            <a:ext cx="2971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Прикольная картинка - Пирсинг - "/>
          <p:cNvPicPr/>
          <p:nvPr/>
        </p:nvPicPr>
        <p:blipFill>
          <a:blip r:embed="rId1"/>
          <a:stretch/>
        </p:blipFill>
        <p:spPr>
          <a:xfrm>
            <a:off x="380880" y="1371600"/>
            <a:ext cx="464832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Прикольная картинка - Пирсинг - "/>
          <p:cNvPicPr/>
          <p:nvPr/>
        </p:nvPicPr>
        <p:blipFill>
          <a:blip r:embed="rId2"/>
          <a:stretch/>
        </p:blipFill>
        <p:spPr>
          <a:xfrm>
            <a:off x="4419720" y="304920"/>
            <a:ext cx="4343400" cy="344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851440" y="3803760"/>
            <a:ext cx="275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о опасно для жизни!!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1449360"/>
            <a:ext cx="7467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так в заключении, на что же следует обратить внимание поклонникам нового веяния "интимной" моды - пирсинг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жде всего, если вы все-таки рискнули воспользоваться подобными услугами, помните, что данная процедура относится к разряду врачебной косметологии. А значит, должна выполняться только врачом, прошедшим специальную профессиональную подготовку. Первое, что вам необходимо сделать, посетив такой салон - убедиться в наличии лицензии. Только этот документ гарантирует компетентность специалистов и качество оказываемых услуг. Отсутствие каких-либо документов, подтверждающих профессиональную пригодность специалистов, несоответствие помещения салона санитарно-эпидемиологическим требованиям должно вас остановить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omic Sans MS"/>
              </a:rPr>
              <a:t>Слишком дорого может стоить легкомысленное отношение к собственному здоров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68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ЕКОМЕНД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истические данные по теме «Пирсинг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и сотрудников и студентов колледж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Диаграмма 1"/>
          <p:cNvGraphicFramePr/>
          <p:nvPr/>
        </p:nvGraphicFramePr>
        <p:xfrm>
          <a:off x="304920" y="1447920"/>
          <a:ext cx="5486400" cy="510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5486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89640" y="2103480"/>
            <a:ext cx="365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Знаете ли вы что такое пирсин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Знаете ли вы последствия пирсинг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Нравятся ли вам люди с пирсингом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.Хотели бы вы сделать пирсин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.Знаете ли вы места, где делают пирсинг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Пирсинг от английского слова «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ierce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»</a:t>
            </a: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«протыкать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Игорь Конденко &quot;Пирсинг&quot;"/>
          <p:cNvPicPr/>
          <p:nvPr/>
        </p:nvPicPr>
        <p:blipFill>
          <a:blip r:embed="rId1"/>
          <a:stretch/>
        </p:blipFill>
        <p:spPr>
          <a:xfrm>
            <a:off x="1295280" y="1523880"/>
            <a:ext cx="6858000" cy="460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2286000" y="38088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Что такое пирсинг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м привлекателен пирсинг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ная тенден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сть выделитьс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ость проверить свой организм «на прочность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рос адреналина  в кров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леск эмоц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овременный стрес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762760" y="-10988280"/>
            <a:ext cx="759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971440" y="609480"/>
            <a:ext cx="33526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рсинг в наше время может находиться в любой части тел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416640" y="380880"/>
            <a:ext cx="247968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514600" cy="18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28600" y="3733920"/>
            <a:ext cx="2933640" cy="286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172200" y="4648320"/>
            <a:ext cx="266688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486400" y="990720"/>
            <a:ext cx="306072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2886840" y="30492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ирсинг ух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262908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3504960" cy="317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733560" cy="326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3429000" y="193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39920" y="304920"/>
            <a:ext cx="351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ирсинг пуп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09480" y="3486240"/>
            <a:ext cx="304812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6324480" y="2971800"/>
            <a:ext cx="2357640" cy="33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81024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676520" y="3808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2072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ирсинг губ и язы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343400" cy="325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4fbfb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ирсинг опасе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13372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о 18 л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Аллергическая реак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и плохой свертываемости кров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2057400"/>
            <a:ext cx="380988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Шрамировани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ражение кров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олезни передаваемые через кров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V</cp:lastModifiedBy>
  <dcterms:modified xsi:type="dcterms:W3CDTF">2010-01-28T12:00:32Z</dcterms:modified>
  <cp:revision>25</cp:revision>
  <dc:subject/>
  <dc:title>PowerPoint Presentation</dc:title>
</cp:coreProperties>
</file>