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C47-C547-4265-B2D0-CA265777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402-BCE4-4469-A3E8-960FCE8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62B5-689A-4C83-AE16-34370BC4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211F4-3282-4BDA-9D0A-F67D7E48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D6238-8321-4F99-B154-39919133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EBA3B-8ECE-40E2-9A7C-5789132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3E3CB-8D06-48CE-941C-95F903B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BA44-6C39-4D47-BF68-2001E4F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699E6-5F90-4C51-B850-1CE3871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F21B5-3EF7-41A2-AB65-BDB9F4F0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99BC1-27CC-4FDB-BEEE-493B994A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A30FF-D190-4F0B-8277-922FC893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6B4-03A3-47C3-8F93-1040B813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67382-412A-419A-BBCA-186E091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C4423-F92E-4DBE-9DBB-B9247172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F7D1E-A770-4753-B5F9-576F5168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AC44F-2DC3-463C-98F6-321BB8C4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01EC1-DDCE-4220-88CA-7B5017FF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647C6-348F-4AFE-8DC8-9E8B039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E61B6-A28E-4C67-AB4A-72527E47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BA480-A207-4C14-A460-6F098DA1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AB5DF-EAA8-42F1-8817-5A5BFF08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AFACE-21FB-4BCF-9A24-8CBE2A50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A58-7F97-48DC-B93D-220BDCD6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92852-9A0F-4870-8E89-90956097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6B2E7-B9A9-416B-A324-6C4ECCE5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79BA1-3678-4379-B6DC-55CDCB0D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3EA7F-3807-44EF-8B1C-AD04DC58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8379B-9480-445C-A2D2-037E4FD3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12BFF-D039-457B-8200-193CA89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6EE4E-FCB3-4A09-ACE8-44404D9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4B555-396A-42F3-9128-512D04C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441F4-C0B0-4868-A547-7573420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490BB-4293-474C-BCF3-8A7F2D2A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B20D-C0FE-44A9-9ADF-814AD431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93145-7734-458C-8134-EAE9E587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313DB-6175-4366-97FE-F7184539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1E317-505E-481F-9F95-FEC2ACF9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E7E12-08EF-4FE4-B2D0-AF6A39E2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5DD27-8A5E-4B19-A178-247BF7CF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2E863-2200-4417-A2D8-D4F9B45E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A147-4399-4D25-B838-007E1467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1CA5-C9B6-4DD6-82D6-3D7B4FD5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D8D36-8D2C-45C6-ACA8-A216B0B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617C3-067A-4077-A939-4CEF269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61CD-855D-4FC9-B088-17B216F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319B4-002D-4AE3-A6B0-F4A1621D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EEC8F-4738-495E-BE95-D809639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FA229-1218-4900-8E99-A2D9D0A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D5CBF-B443-4187-8F85-ED1BB48E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73C98-D289-4FF6-ADE4-0080AEC3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F8A3D-748B-42E2-9206-4827EE10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9BD30-1C12-46B8-B630-269215A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558F0-1E2D-4996-91B9-C1ED92C3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77222-922A-4C87-A39F-1731A13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11FAA-2C80-463D-99BB-EA622714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2D73-B722-4460-8497-086EBA5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B41CE-21E0-42E1-B3EF-BCF4B2DC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5FCF3-9C8B-44CB-AD4B-CF94ECC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2D309-A47B-41D4-89E6-DF47625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F2B78-F4C4-4317-AEC8-3AF0853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DE04B-5155-4886-A88A-A4B21F1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C7B5E-F63B-4B42-A245-2FE20BD4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C3616-5C0A-4E0E-BC6F-A6177EA3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6E5E1-EF64-46E6-BCEA-23ACE218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33EC2-87C2-4980-9125-02F4A0FB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29566-D161-480F-8353-34D480C7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9956-ADCA-411E-83A8-C60EC645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33813-99E5-4B48-9FB1-16C56C9A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469C4-241D-4854-9F68-E6695693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F7672-792C-4013-88DB-9035A8DE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FB2E2-6DC9-4F98-AC21-90A7300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D2671-CE72-45B5-A3BC-90D0571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1C062-4149-4C49-AAA9-7016D6B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8EF1E-D54C-4F17-AFD7-A1724D44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7D4ED-E3FE-45B5-A6AE-92CEE0CE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7DDE9-6E88-4054-BA0C-F2784C79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BD29-999C-49BC-B7C3-9BA5DFD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1CD-8AD6-49C9-9B98-0D33A94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6E8-2945-44C3-A4D1-AF6641E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D4D-006F-4C55-9198-06E4240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5B1-FF28-4C5E-8F5A-F9EF2C7B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AD52-4C00-4046-97DD-F2911D1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F611-7137-4136-94CC-8D39F236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0ED6-E84F-4ADF-8D07-5F36DA24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6244-20EA-4CA6-B961-732F6D1B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6F46-927C-422F-A99F-97EE3F41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3437-A87F-4400-A493-2FB6DA7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7432-FB7E-4AC9-A655-B3237AED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433E-BE40-4586-A7C1-1A530D14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0770-4E2C-4274-B6E8-44EA574B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C12-1817-4B7C-9E67-0C2B420E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058A-239A-4266-A2FA-A7CB3D50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0B9F-9708-48DD-B328-DC69015D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F7F7-6F7B-4DF4-9089-8B2249A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5368-E70E-48FD-A233-1000A6F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2F96-12BA-4F80-925D-4367F01E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6551E-A58D-497D-BC70-A9057C22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CFCF-C3A2-4B7C-AB4B-D944B65A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1300-9F06-44DE-8C50-8D7A7B98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874A-95B7-4EAB-9AB9-2D95D7A4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15F0-8417-4EF6-BAEB-3E46E285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0BE-B935-4CC2-9824-FB7F1662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9E58-9644-43E9-98F6-12B9AAD3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3F67-684B-446E-A430-DD225546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B9E9-45AB-4287-9CD8-37000377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146C-1CDF-4AA0-B1B2-B8EA8BDA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960A-C17B-416F-8355-327CEA9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0A22-4474-49F0-AB3C-036D4DF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8121-2DA0-4F44-B082-F452F6F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B9AD-CEF0-4D65-AF2F-E2249995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C5F2-0291-47D8-9F8F-12274CB5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B519-94A5-46AD-B4BC-DA132451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39C-6111-471E-983D-272C9D01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8E51-820A-45C5-90B8-F3E45EB4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3EE8E-005D-4002-8742-8044E7F1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ABA92-A91B-49ED-A617-98630CA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0AE9-FC35-4DE1-80CE-3A82CBCE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11E79-D444-401E-B95D-7538DDC9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FE0C-AC57-4C08-A0FB-8CC314D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1F12-81A9-4EE4-A96B-CAE99BE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B8D63-1BB7-4F73-932F-32E1B13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7B3C-FB27-4070-B171-2165FA7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54A5D-ACBA-4819-A5DF-8B0A0969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A64-99A8-40BF-8D2B-53BD396A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543EC-8427-4AEE-B4F9-6BB93416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91CC9-D3C2-47D8-B518-1B0DB4E3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27DC-E485-4D27-9682-B160F823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DDCE4-144C-4776-B030-A8FF138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2F66A-182B-43EC-B65D-CF5E323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90E9A-6B97-4018-AB0D-73E6E2CF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615B5-02FA-48D7-BD05-B18573C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88228-B3B7-405C-8448-ED72345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D118F-67C1-42D2-A004-E6C32E86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B9EAB-CCBB-45BB-9137-708FC775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7D2-72E9-4743-806B-5DA3233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4888-6FAC-4304-B189-8C13771A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BC884-1FDB-41B1-83FA-822BC630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03306-226D-4578-B523-347E589A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80FC-BD79-4D46-B556-3D9A4658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E6F24-F0FD-4EF1-A32B-3BD51CA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6CB98-D064-4CBF-BD0F-DA8C6A45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EECD2-6586-4445-A2E0-DB34292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9A9D9-0EC5-4067-926E-C55F7C01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7A0F-FD63-4943-8128-36124B44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2ED1E-2802-425D-9C55-B86E554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8A4-C5E9-4494-BC89-8461D07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CC3C-4BE2-41A7-A3C5-FD3CAE5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314B4-0048-4067-BE95-99FD1EA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ED200-CAE2-47E1-845A-478810CF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10D8-D57B-4966-A165-9F7FB899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E59C-FC92-4688-9923-607A0F24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8530B-EB0B-4A58-931D-C19EDF30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FEFFC-A63A-4108-88A3-DF053B8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6A404-7EBE-49F1-8DD3-7606570F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0062-5572-4E86-84EC-02CBE179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36434-F901-473D-A583-A873BDEC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B5C-9581-4770-A262-344181E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430AF-0DBB-4B63-807C-99A224FA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99FE-5529-4E25-A067-5C0C146D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F24F-043D-4E63-B444-FA1BBA7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2C2B-10B4-46C8-95F1-D089021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40F1-47D5-43DB-AE64-5E29229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03950-2FB7-4976-A275-C9FDA6F5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DBD7F-1DF7-4355-BAEC-AC8FB279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19283-5C90-4FF0-86D8-54587801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D32E1-9E8A-4E39-9B65-4051588B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AB021-8726-455C-8407-297C61EE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14E4-C450-4262-92F8-1A0AE0B9C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BE4-8F48-4F04-A47E-A78D9A92E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1147-4091-4954-BC8F-3BA4008C1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5873-BF35-4EC6-86C8-094A12BC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6656-0922-47B2-8955-1A1ADC24B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CB14-44D7-49E2-BAD0-C20689D6E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B18-371D-4918-A498-A59FD0BF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C158-47FB-4458-80C4-802D3FAFA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E40-0612-4C01-A12C-A3FE51DDF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FDD9-86D7-4891-951C-EB6170046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93C-6CE6-423C-901C-8FF92BA84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9C8F-56A4-4D1B-8CE3-7D8AEB648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4A92-BBE4-49AD-8F56-65FE2FFF9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3B66-6495-4ADF-9E72-5F3AF91D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рихл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задачах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шуко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Юля, 7б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В классе 30 человек. Саша Иванов в диктанте сделал 13 ошибок, а остальные меньше. Докажите, что, по крайней мере, три ученика сделали ошибок поровну (может быть по 0 ошибок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27" descr="Книга"/>
          <p:cNvPicPr/>
          <p:nvPr/>
        </p:nvPicPr>
        <p:blipFill>
          <a:blip r:embed="rId2"/>
          <a:stretch/>
        </p:blipFill>
        <p:spPr>
          <a:xfrm>
            <a:off x="4503600" y="1919160"/>
            <a:ext cx="410220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окажем утверждение задачи от противног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положим, никакие три ученика не сделали по одинаковому числу ошибок, то есть в каждую из "клеток" 0,1,...,12 попало меньше трех школь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огда в каждой из них два человека или меньше, а всего в этих 13 клетках не более 2*13=26 человек. Добавив Сашу Иванова, все равно не наберем 30 ребят. Противореч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ледовательно, утверждение задачи верно, по крайней мере, трое учеников сделали поровну ошибок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В Москве проживает более 10 000 000 людей. На голове у каждого человека не может быть более 300 000 волос. Докажите, что наверняка найдутся 34 москвича с одинаковым числом волос на голове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Люди"/>
          <p:cNvPicPr/>
          <p:nvPr/>
        </p:nvPicPr>
        <p:blipFill>
          <a:blip r:embed="rId2"/>
          <a:stretch/>
        </p:blipFill>
        <p:spPr>
          <a:xfrm>
            <a:off x="466560" y="1697040"/>
            <a:ext cx="410688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голове может быть 0, 1, …, 300 000 волос — всего 300 001 вариант. Каждого москвича отнесём к одной из 300 001 групп в зависимости от количества вол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34 москвича с одинаковым количеством волос не найдутся, то это значит, что в любую из созданных групп входит не более 33 челове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гда всего в Москве живёт не более 33·300 001=9 900 033 &lt; 10 000 000 человек, что противоречит услов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начит, такие 34 москвича обязательно найду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В 500 коробках лежат яблоки. Известно, что в каждой коробке находятся не более 240 яблок. Доказать, что существуют хотя бы 3 коробки, которые содержат одинаковое количество ябл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9" descr="Яблоки"/>
          <p:cNvPicPr/>
          <p:nvPr/>
        </p:nvPicPr>
        <p:blipFill>
          <a:blip r:embed="rId1"/>
          <a:stretch/>
        </p:blipFill>
        <p:spPr>
          <a:xfrm>
            <a:off x="4500720" y="1773360"/>
            <a:ext cx="4427280" cy="44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усть в первых 240 коробках находится различное количество яблок (1,2,...,240) , в следующих 240 коробках - аналогично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им образом, остались 500 - 2·240 = 20 коробок, в которые необходимо поместить яблоки от 1 до 24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В лесу растёт миллион ёлок. Известно, что на каждой из них не более 600000 иголок. Докажите, что в лесу найдутся две ёлки с одинаковым количеством игол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Picture 12" descr="9_elka_allavatars"/>
          <p:cNvPicPr/>
          <p:nvPr/>
        </p:nvPicPr>
        <p:blipFill>
          <a:blip r:embed="rId1"/>
          <a:stretch/>
        </p:blipFill>
        <p:spPr>
          <a:xfrm>
            <a:off x="4356000" y="1341360"/>
            <a:ext cx="42483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усть ёлки – «зайцы», а число иголок на ёлках: 0, 1, 2, 3,…, 600000 – «клетки». «Клеток» будет 600001, а «зайцев» -  1000000. Здесь «зайцев» гораздо больше, чем «клеток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гда, по принципу Дирихле, в какой-то «клетке» будет находиться не менее двух «зайцев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WordArt 5"/>
          <p:cNvSpPr txBox="1"/>
          <p:nvPr/>
        </p:nvSpPr>
        <p:spPr>
          <a:xfrm rot="21189000">
            <a:off x="1117080" y="1119240"/>
            <a:ext cx="573408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74000"/>
                </a:gradFill>
                <a:latin typeface="Impact"/>
              </a:rPr>
              <a:t>Желаю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74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Цель: исследование принципа Дирихле и применение его при решении задач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комить с биографией Дирих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следовать принцип Дирих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менить его при решении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Актуальность тем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следование принципа Дирих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менение принципа Дирихле при решении задач олимпиадн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пользование принципа Дирихле при решении жизненных ситу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труктура рабо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Биограф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Дирих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4" descr="609631860_l"/>
          <p:cNvPicPr/>
          <p:nvPr/>
        </p:nvPicPr>
        <p:blipFill>
          <a:blip r:embed="rId1"/>
          <a:stretch/>
        </p:blipFill>
        <p:spPr>
          <a:xfrm>
            <a:off x="5869080" y="3579840"/>
            <a:ext cx="2303280" cy="2246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РИХЛЕ Петер Густав Лежен(13.2.1805-5.5.1859) - немецкий математик. Род. в Дюрене. В 1822-1827 Д. был домашним учителем в Париже. В 1827 Д. занял место доцента в Бреславле; с 1829 работал в Берлине. В 1831-1855 - профессор Берлинского ун-та, а после смерти К. Гаусса (1855) - Геттингенского ун-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7" descr="Dirichlet"/>
          <p:cNvPicPr/>
          <p:nvPr/>
        </p:nvPicPr>
        <p:blipFill>
          <a:blip r:embed="rId1"/>
          <a:stretch/>
        </p:blipFill>
        <p:spPr>
          <a:xfrm>
            <a:off x="900000" y="1625760"/>
            <a:ext cx="35323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 создал общую теорию алгебраических единиц в алгебраическом числовом п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бласти математического анализа Д. впервые точно сформулировал и исследовал понятие условной сходимости ряда, дал строгое доказательство возможности разложения в ряд Фурье кусочно-непрерывной и монотонной функции, что послужило обоснованием для многих дальнейших исследов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ельны труды Д. в механике и математической физике, в частности в теории потенциа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Picture 8" descr="Dirichlet_4"/>
          <p:cNvPicPr/>
          <p:nvPr/>
        </p:nvPicPr>
        <p:blipFill>
          <a:blip r:embed="rId1"/>
          <a:stretch/>
        </p:blipFill>
        <p:spPr>
          <a:xfrm>
            <a:off x="477720" y="1779480"/>
            <a:ext cx="3940200" cy="41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ринцип Дирихл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Ес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йцев сидят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етках, то найдётся  клетка, в которой не мене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йцев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 надо бояться дробного числа зайцев - если      получается, что в ящике не меньше 7/3 зайцев, значит, их больше дву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дин математик сказал, что Дирихле по частоте упоминаний школьниками навсегда обеспечено одно из самых высших мес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Picture 105" descr="j0304933"/>
          <p:cNvPicPr/>
          <p:nvPr/>
        </p:nvPicPr>
        <p:blipFill>
          <a:blip r:embed="rId1"/>
          <a:stretch/>
        </p:blipFill>
        <p:spPr>
          <a:xfrm>
            <a:off x="611280" y="1989000"/>
            <a:ext cx="3943080" cy="39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ринцип Дирихл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добавил: «Пожалуй, есть способ лишить его лидер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звать чьим-нибудь именем принцип «никакое чётное число не равно никакому нечётному». Доказательство принципа Дирихле очень простое, но заслуживает внимания, поскольку похожие рассуждения «от противного» часто встречаются. Допустим, что в каждой клетке число зайцев меньше, че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Тогда в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клетках зайцев меньше, че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Противореч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8" descr="vetton_ru_12"/>
          <p:cNvPicPr/>
          <p:nvPr/>
        </p:nvPicPr>
        <p:blipFill>
          <a:blip r:embed="rId1"/>
          <a:srcRect l="55136" t="20320" r="-63" b="3420"/>
          <a:stretch/>
        </p:blipFill>
        <p:spPr>
          <a:xfrm>
            <a:off x="468360" y="1341360"/>
            <a:ext cx="40273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10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1:47:44Z</dcterms:created>
  <dc:creator>ксюша</dc:creator>
  <dc:description/>
  <dc:language>en-US</dc:language>
  <cp:lastModifiedBy>Oleg</cp:lastModifiedBy>
  <dcterms:modified xsi:type="dcterms:W3CDTF">2009-04-29T14:29:46Z</dcterms:modified>
  <cp:revision>36</cp:revision>
  <dc:subject/>
  <dc:title>Дирихле </dc:title>
</cp:coreProperties>
</file>