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691B-E6E3-4E7A-AF9B-8D31149B9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3CB5-C4CF-42B5-893C-326F703E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1B20-4D38-456A-A650-AA18553D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6801-A8FA-4E75-A0BF-52376B9B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885F-395C-4B5A-B344-ED1F4607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DB8F-F450-4CD8-913A-1B8996EF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CF0D-15D4-448C-9AB4-E44649BE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549F-7D75-423F-A76A-1188B323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BE02-F5AA-4AD1-81A1-7F6E562E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8FDF-BEE2-4C5E-8A40-433791ED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4476-6C00-4D01-B3BE-1A1C39BA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ED23-67EE-4D33-A8D2-F79EB17A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500B-EC02-4F95-B164-6F3A0A63FC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777240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КЁЛЬНСКИЙ СОБОР - ШЕДЕВР ГОТИЧЕСКОЙ АРХИТЕКТУРЫ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34364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5dea6"/>
                </a:solidFill>
                <a:latin typeface="Calibri"/>
              </a:rPr>
              <a:t>Курсовой прое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5dea6"/>
                </a:solidFill>
                <a:latin typeface="Calibri"/>
              </a:rPr>
              <a:t>Ученицы 8 кла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5dea6"/>
                </a:solidFill>
                <a:latin typeface="Calibri"/>
              </a:rPr>
              <a:t>Анастасии Боровков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5dea6"/>
                </a:solidFill>
                <a:latin typeface="Calibri"/>
              </a:rPr>
              <a:t>Руководитель:  В.В. Михайл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dedc49ec38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1"/>
          <p:cNvSpPr/>
          <p:nvPr/>
        </p:nvSpPr>
        <p:spPr>
          <a:xfrm>
            <a:off x="285840" y="214200"/>
            <a:ext cx="30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та башен – 157 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>
                <a:alpha val="88235"/>
              </a:srgbClr>
            </a:gs>
            <a:gs pos="100000">
              <a:srgbClr val="948a54">
                <a:alpha val="8431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85430-b85a8-16762361-.jpg"/>
          <p:cNvPicPr/>
          <p:nvPr/>
        </p:nvPicPr>
        <p:blipFill>
          <a:blip r:embed="rId1"/>
          <a:stretch/>
        </p:blipFill>
        <p:spPr>
          <a:xfrm>
            <a:off x="0" y="0"/>
            <a:ext cx="497196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18.jpg"/>
          <p:cNvPicPr/>
          <p:nvPr/>
        </p:nvPicPr>
        <p:blipFill>
          <a:blip r:embed="rId2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3" descr="1373176.jpg"/>
          <p:cNvPicPr/>
          <p:nvPr/>
        </p:nvPicPr>
        <p:blipFill>
          <a:blip r:embed="rId2"/>
          <a:stretch/>
        </p:blipFill>
        <p:spPr>
          <a:xfrm rot="20755800">
            <a:off x="835200" y="434880"/>
            <a:ext cx="4270320" cy="56372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"/>
          <p:cNvSpPr/>
          <p:nvPr/>
        </p:nvSpPr>
        <p:spPr>
          <a:xfrm>
            <a:off x="5072040" y="433800"/>
            <a:ext cx="4071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высоты около 100 метров, открывается великолепная панорама Кельна и окрестно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>
                <a:alpha val="88235"/>
              </a:srgbClr>
            </a:gs>
            <a:gs pos="100000">
              <a:srgbClr val="948a54">
                <a:alpha val="8431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3" descr="b28_912-0.jpg"/>
          <p:cNvPicPr/>
          <p:nvPr/>
        </p:nvPicPr>
        <p:blipFill>
          <a:blip r:embed="rId1"/>
          <a:stretch/>
        </p:blipFill>
        <p:spPr>
          <a:xfrm>
            <a:off x="4786200" y="214200"/>
            <a:ext cx="3905280" cy="62722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357120" y="1161360"/>
            <a:ext cx="3786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тория Кельнского собора восходит к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XI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веку - именно тогда было решено построить на месте существовавшего с 9 века и сгоревшего старого собора новый хр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785880" y="857160"/>
            <a:ext cx="7429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В 1248 году, когда архиепископ Кёльна Конрад фон Гохштаден заложил первый камень в основание Кёльнского собора, началась одна из самых длинных глав в истории европейского строительств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 flipV="1" rot="10800000">
            <a:off x="3642840" y="361800"/>
            <a:ext cx="4929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5 октября 1880 года в присутствии германского императора Вильгельм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остоялось празднество по случаю завершения строи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5" descr="Wilhelm_I_Friedrich_Ludwig.jpg"/>
          <p:cNvPicPr/>
          <p:nvPr/>
        </p:nvPicPr>
        <p:blipFill>
          <a:blip r:embed="rId2"/>
          <a:stretch/>
        </p:blipFill>
        <p:spPr>
          <a:xfrm>
            <a:off x="5929200" y="1928880"/>
            <a:ext cx="27162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5" descr="24.jpg"/>
          <p:cNvPicPr/>
          <p:nvPr/>
        </p:nvPicPr>
        <p:blipFill>
          <a:blip r:embed="rId2"/>
          <a:stretch/>
        </p:blipFill>
        <p:spPr>
          <a:xfrm>
            <a:off x="3143160" y="292896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9.jpg"/>
          <p:cNvPicPr/>
          <p:nvPr/>
        </p:nvPicPr>
        <p:blipFill>
          <a:blip r:embed="rId3"/>
          <a:stretch/>
        </p:blipFill>
        <p:spPr>
          <a:xfrm>
            <a:off x="0" y="357120"/>
            <a:ext cx="5978520" cy="44830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6" descr="25.jpg"/>
          <p:cNvPicPr/>
          <p:nvPr/>
        </p:nvPicPr>
        <p:blipFill>
          <a:blip r:embed="rId4"/>
          <a:stretch/>
        </p:blipFill>
        <p:spPr>
          <a:xfrm>
            <a:off x="4071960" y="2928960"/>
            <a:ext cx="4714920" cy="3537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7" descr="85430-91d71-16762778-.jpg"/>
          <p:cNvPicPr/>
          <p:nvPr/>
        </p:nvPicPr>
        <p:blipFill>
          <a:blip r:embed="rId5"/>
          <a:stretch/>
        </p:blipFill>
        <p:spPr>
          <a:xfrm>
            <a:off x="5357880" y="428760"/>
            <a:ext cx="3182760" cy="42386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3" descr="85430-943a4-16762720-.jpg"/>
          <p:cNvPicPr/>
          <p:nvPr/>
        </p:nvPicPr>
        <p:blipFill>
          <a:blip r:embed="rId6"/>
          <a:stretch/>
        </p:blipFill>
        <p:spPr>
          <a:xfrm>
            <a:off x="571680" y="2286000"/>
            <a:ext cx="31604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3" descr="00Собор в Кельне. План0026.jp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00040" y="214200"/>
            <a:ext cx="3667320" cy="56548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sp>
        <p:nvSpPr>
          <p:cNvPr id="76" name="Rectangle 4"/>
          <p:cNvSpPr/>
          <p:nvPr/>
        </p:nvSpPr>
        <p:spPr>
          <a:xfrm>
            <a:off x="4286160" y="1088280"/>
            <a:ext cx="4357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Существует легенда, что когда архитектор собора Герхард, не в силах выполнить чертежи будущего собора, решил пригласить на помощь дьявола. Сатана тут же явился и предложил обмен: архитектор получает долгожданные чертежи, но взамен отдаёт свою душу.  Но архитектору удалось обмануть темного бог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когда дьявол узнал об обмане было уже позд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1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21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2196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2196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2d050"/>
                </a:solidFill>
                <a:latin typeface="Calibri"/>
              </a:rPr>
              <a:t>Рядом с собором расположено большинство музеев города. Кёльнский собор находится прямо в 50 метрах от главного вокзала гор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3" descr="unesco.jpg"/>
          <p:cNvPicPr/>
          <p:nvPr/>
        </p:nvPicPr>
        <p:blipFill>
          <a:blip r:embed="rId2"/>
          <a:stretch/>
        </p:blipFill>
        <p:spPr>
          <a:xfrm>
            <a:off x="5715000" y="39290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500040" y="857160"/>
            <a:ext cx="678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de70"/>
                </a:solidFill>
                <a:latin typeface="Arial"/>
              </a:rPr>
              <a:t>Сегодня Кёльнский собор – туристическая достопримечательность Германии, визитная карточка Кёльна и его исторический центр. Он входит в список всемирного наследия ЮНЕСКО</a:t>
            </a:r>
            <a:r>
              <a:rPr b="1" lang="ru-RU" sz="2400" spc="-1" strike="noStrike" baseline="30000">
                <a:solidFill>
                  <a:srgbClr val="ccde7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5"/>
          <p:cNvSpPr/>
          <p:nvPr/>
        </p:nvSpPr>
        <p:spPr>
          <a:xfrm>
            <a:off x="642960" y="1143000"/>
            <a:ext cx="7143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3d69b"/>
                </a:solidFill>
                <a:latin typeface="Arial"/>
              </a:rPr>
              <a:t>Готика есть явление культовое по назначению и религиозное по темати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3"/>
          <p:cNvSpPr/>
          <p:nvPr/>
        </p:nvSpPr>
        <p:spPr>
          <a:xfrm>
            <a:off x="500040" y="2143080"/>
            <a:ext cx="7500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Благодаря своей архитектуре с каждой точки собор смотрится по-новому, он необозрим, часто асимметричен и даже неоднороден в своих частях: каждый из его фасадов со своим порталом индивидуал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85430-abad9-16762390-.jpg"/>
          <p:cNvPicPr/>
          <p:nvPr/>
        </p:nvPicPr>
        <p:blipFill>
          <a:blip r:embed="rId2"/>
          <a:stretch/>
        </p:blipFill>
        <p:spPr>
          <a:xfrm>
            <a:off x="4381560" y="0"/>
            <a:ext cx="47624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3143160" y="214200"/>
            <a:ext cx="5786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Каркасная система готической архитектуры позволила создать небывалые по высоте и обширности интерьеры собор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4"/>
          <p:cNvSpPr/>
          <p:nvPr/>
        </p:nvSpPr>
        <p:spPr>
          <a:xfrm>
            <a:off x="4857840" y="500040"/>
            <a:ext cx="3714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Система аркбутанов, контрфорсов и нервюр составляет конструктивную ​основу готического хра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5" descr="a&amp;k.jpg"/>
          <p:cNvPicPr/>
          <p:nvPr/>
        </p:nvPicPr>
        <p:blipFill>
          <a:blip r:embed="rId2"/>
          <a:stretch/>
        </p:blipFill>
        <p:spPr>
          <a:xfrm>
            <a:off x="214200" y="285840"/>
            <a:ext cx="321156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pinakl.jpg"/>
          <p:cNvPicPr/>
          <p:nvPr/>
        </p:nvPicPr>
        <p:blipFill>
          <a:blip r:embed="rId1"/>
          <a:stretch/>
        </p:blipFill>
        <p:spPr>
          <a:xfrm>
            <a:off x="5167440" y="0"/>
            <a:ext cx="3976560" cy="32115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85430-b35dd-16762286-.jpg"/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5643720" y="57862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накли «придавали» контрфорсы зем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>
                <a:alpha val="88235"/>
              </a:srgbClr>
            </a:gs>
            <a:gs pos="100000">
              <a:srgbClr val="948a54">
                <a:alpha val="8431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642600"/>
            <a:ext cx="34718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1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рковным башням в Германии присущ кружевной, воздушный характер, благодаря интенсивному использованию просечного камн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7.jpg"/>
          <p:cNvPicPr/>
          <p:nvPr/>
        </p:nvPicPr>
        <p:blipFill>
          <a:blip r:embed="rId1"/>
          <a:stretch/>
        </p:blipFill>
        <p:spPr>
          <a:xfrm>
            <a:off x="4500720" y="571680"/>
            <a:ext cx="4235400" cy="5648040"/>
          </a:xfrm>
          <a:prstGeom prst="rect">
            <a:avLst/>
          </a:prstGeom>
          <a:ln w="0">
            <a:noFill/>
          </a:ln>
          <a:effectLst>
            <a:outerShdw dist="253885" dir="2520682" blurRad="0" rotWithShape="0">
              <a:srgbClr val="948a54">
                <a:alpha val="9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>
                <a:alpha val="88235"/>
              </a:srgbClr>
            </a:gs>
            <a:gs pos="100000">
              <a:srgbClr val="948a54">
                <a:alpha val="8431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1573947.jpg"/>
          <p:cNvPicPr/>
          <p:nvPr/>
        </p:nvPicPr>
        <p:blipFill>
          <a:blip r:embed="rId1"/>
          <a:stretch/>
        </p:blipFill>
        <p:spPr>
          <a:xfrm>
            <a:off x="285840" y="285840"/>
            <a:ext cx="4505400" cy="60386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dedc49ec3831.jpg"/>
          <p:cNvPicPr/>
          <p:nvPr/>
        </p:nvPicPr>
        <p:blipFill>
          <a:blip r:embed="rId2"/>
          <a:stretch/>
        </p:blipFill>
        <p:spPr>
          <a:xfrm>
            <a:off x="3643200" y="3214800"/>
            <a:ext cx="4643640" cy="3483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250px-Koelner_Dom.jpg"/>
          <p:cNvPicPr/>
          <p:nvPr/>
        </p:nvPicPr>
        <p:blipFill>
          <a:blip r:embed="rId3"/>
          <a:stretch/>
        </p:blipFill>
        <p:spPr>
          <a:xfrm>
            <a:off x="6858000" y="357120"/>
            <a:ext cx="17859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0" y="357120"/>
            <a:ext cx="514368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5dea6"/>
                </a:solidFill>
                <a:latin typeface="Calibri"/>
              </a:rPr>
              <a:t>Кёльн – «Рим север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4714920" y="500040"/>
            <a:ext cx="3857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ор представляет собой пятинефную базил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а собора – 144 мет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ирина трансепта – 83 ме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8:24:15Z</dcterms:created>
  <dc:creator>User</dc:creator>
  <dc:description/>
  <dc:language>en-US</dc:language>
  <cp:lastModifiedBy>Влада</cp:lastModifiedBy>
  <dcterms:modified xsi:type="dcterms:W3CDTF">2010-01-28T19:28:10Z</dcterms:modified>
  <cp:revision>34</cp:revision>
  <dc:subject/>
  <dc:title>Кёльнский собор - шедевр готической архитектуры </dc:title>
</cp:coreProperties>
</file>