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0.gif" ContentType="image/gif"/>
  <Override PartName="/ppt/media/image9.gif" ContentType="image/gif"/>
  <Override PartName="/ppt/media/image8.png" ContentType="image/png"/>
  <Override PartName="/ppt/media/image14.jpeg" ContentType="image/jpeg"/>
  <Override PartName="/ppt/media/image16.wmf" ContentType="image/x-wmf"/>
  <Override PartName="/ppt/media/image7.wmf" ContentType="image/x-wmf"/>
  <Override PartName="/ppt/media/image21.jpeg" ContentType="image/jpe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0C5-C5C2-400A-8CF6-0FD6E1BC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D46-AABC-4615-B23B-8D1757E4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E61-BA4D-4F22-A8C4-B95C2E65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870-48F2-4417-AEDB-B01F9A17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340-1428-4953-BE49-AC068008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43A-7A0B-4864-A3D8-54B7A5A5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E68-8065-4E16-A287-F126FDB0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03E-42E1-4606-B0E3-7DD6FA3D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79A-CA4B-43D1-97CC-BCC9B046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02A-3FFA-4065-B6F3-1A759C70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832-2B9B-467F-8239-8E5AE81A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CEC-08EF-491D-935F-A04405D6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A429-9730-4D89-A91D-D4AC3F98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6825-EC8D-485E-899B-F8FEC8B5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F1F2-5D06-44C7-AE79-90A52D46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FCAD-2C2F-43A5-B316-2DB9BA19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E401-936E-41F4-96BB-A47CD51A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6B98-2406-4BFF-AF5C-9A77233E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77D8-DB8E-4666-84B4-C5087429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A45E-2EA6-436D-B3A1-B92A0A30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34A6-36F5-4FDE-84B5-A458801A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6419-9D05-4EE3-B7AC-2A09CC36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7FCC-0F03-4C80-AA54-37C113B6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EB2F-B15A-4F5B-9B3F-48FBDA03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lockworktempla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40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D17B-8BA5-471F-B551-A2143C60F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11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41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43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44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45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45f6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45f67"/>
                      </a:gs>
                      <a:gs pos="100000">
                        <a:srgbClr val="b6cdd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545f67"/>
                      </a:gs>
                      <a:gs pos="100000">
                        <a:srgbClr val="b6cdd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45f6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54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545f67"/>
                    </a:gs>
                    <a:gs pos="5000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64A8-A7BB-44EB-BDF0-E2C823357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&#1082;&#1072;&#1088;&#1090;&#1080;&#1085;&#1082;&#1080;-&#1074;&#1077;&#1082;&#1090;&#1086;&#1088;&#1085;&#1099;&#1077;/C-41%20Skole,%20undervisning/C41-21.exe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5"/>
          <p:cNvSpPr/>
          <p:nvPr/>
        </p:nvSpPr>
        <p:spPr>
          <a:xfrm>
            <a:off x="2286000" y="0"/>
            <a:ext cx="6858000" cy="3276720"/>
          </a:xfrm>
          <a:prstGeom prst="cloudCallout">
            <a:avLst>
              <a:gd name="adj1" fmla="val 27222"/>
              <a:gd name="adj2" fmla="val 118314"/>
            </a:avLst>
          </a:prstGeom>
          <a:solidFill>
            <a:srgbClr val="000099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- Это наши следы, друзья мои! - воскликнул доктор. - Мы заблудились в тумане и набрели на свои же  собственные следы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юль Вер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Приключения капитана Гаттера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j0349657"/>
          <p:cNvPicPr/>
          <p:nvPr/>
        </p:nvPicPr>
        <p:blipFill>
          <a:blip r:embed="rId1"/>
          <a:stretch/>
        </p:blipFill>
        <p:spPr>
          <a:xfrm rot="20854800">
            <a:off x="228600" y="4419720"/>
            <a:ext cx="681120" cy="127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j0349657"/>
          <p:cNvPicPr/>
          <p:nvPr/>
        </p:nvPicPr>
        <p:blipFill>
          <a:blip r:embed="rId2"/>
          <a:stretch/>
        </p:blipFill>
        <p:spPr>
          <a:xfrm flipH="1" rot="1381800">
            <a:off x="1142640" y="3656880"/>
            <a:ext cx="681120" cy="1273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j0349657"/>
          <p:cNvPicPr/>
          <p:nvPr/>
        </p:nvPicPr>
        <p:blipFill>
          <a:blip r:embed="rId3"/>
          <a:stretch/>
        </p:blipFill>
        <p:spPr>
          <a:xfrm rot="20854800">
            <a:off x="457200" y="2742480"/>
            <a:ext cx="681120" cy="1273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j0349657"/>
          <p:cNvPicPr/>
          <p:nvPr/>
        </p:nvPicPr>
        <p:blipFill>
          <a:blip r:embed="rId4"/>
          <a:stretch/>
        </p:blipFill>
        <p:spPr>
          <a:xfrm flipH="1" rot="1381800">
            <a:off x="1294920" y="2133720"/>
            <a:ext cx="681120" cy="1272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j0349657"/>
          <p:cNvPicPr/>
          <p:nvPr/>
        </p:nvPicPr>
        <p:blipFill>
          <a:blip r:embed="rId5"/>
          <a:stretch/>
        </p:blipFill>
        <p:spPr>
          <a:xfrm rot="20854800">
            <a:off x="609480" y="1219320"/>
            <a:ext cx="681120" cy="127296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5"/>
          <p:cNvSpPr/>
          <p:nvPr/>
        </p:nvSpPr>
        <p:spPr>
          <a:xfrm>
            <a:off x="2514600" y="3352680"/>
            <a:ext cx="6400800" cy="3200400"/>
          </a:xfrm>
          <a:prstGeom prst="cloudCallout">
            <a:avLst>
              <a:gd name="adj1" fmla="val -76263"/>
              <a:gd name="adj2" fmla="val -145087"/>
            </a:avLst>
          </a:prstGeom>
          <a:solidFill>
            <a:srgbClr val="006699"/>
          </a:solidFill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200400" y="3597480"/>
            <a:ext cx="5257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асилий Андреич остановился, нагнулся, пригляделся: это был лошадиный, слегка занесенный след и не мог быть ничей иной, как его собственный. Он, очевидно, кружился на небольшом пространстве.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.Н. Толст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«Хозяин и  работник»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j0349657"/>
          <p:cNvPicPr/>
          <p:nvPr/>
        </p:nvPicPr>
        <p:blipFill>
          <a:blip r:embed="rId6"/>
          <a:stretch/>
        </p:blipFill>
        <p:spPr>
          <a:xfrm flipH="1" rot="1381800">
            <a:off x="914040" y="5334120"/>
            <a:ext cx="681120" cy="1272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1600200" y="304200"/>
            <a:ext cx="7162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omic Sans MS"/>
              </a:rPr>
              <a:t>Вторая гипоте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Comic Sans MS"/>
              </a:rPr>
              <a:t>Разница в длине шагов, сделанных правой ногой и лево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676520" y="185796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1. Вычислю, какую траекторию опишет человек, если разница правого и левого шагов составляет 0,5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676520" y="327564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2. Выясню, какая должна быть разница в длине правого и левого шагов, чтобы двигаться по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6"/>
          <p:cNvGrpSpPr/>
          <p:nvPr/>
        </p:nvGrpSpPr>
        <p:grpSpPr>
          <a:xfrm>
            <a:off x="1752480" y="4273200"/>
            <a:ext cx="7086600" cy="2273760"/>
            <a:chOff x="1752480" y="4273200"/>
            <a:chExt cx="7086600" cy="2273760"/>
          </a:xfrm>
        </p:grpSpPr>
        <p:sp>
          <p:nvSpPr>
            <p:cNvPr id="281" name="AutoShape 7"/>
            <p:cNvSpPr/>
            <p:nvPr/>
          </p:nvSpPr>
          <p:spPr>
            <a:xfrm>
              <a:off x="1752480" y="4273560"/>
              <a:ext cx="708660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Picture 8" descr="j0349657"/>
            <p:cNvPicPr/>
            <p:nvPr/>
          </p:nvPicPr>
          <p:blipFill>
            <a:blip r:embed="rId1"/>
            <a:stretch/>
          </p:blipFill>
          <p:spPr>
            <a:xfrm rot="4251000">
              <a:off x="3059280" y="5091480"/>
              <a:ext cx="57744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9" descr="j0349657"/>
            <p:cNvPicPr/>
            <p:nvPr/>
          </p:nvPicPr>
          <p:blipFill>
            <a:blip r:embed="rId2"/>
            <a:stretch/>
          </p:blipFill>
          <p:spPr>
            <a:xfrm rot="4251000">
              <a:off x="6071760" y="4178160"/>
              <a:ext cx="57744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0" descr="j0349657"/>
            <p:cNvPicPr/>
            <p:nvPr/>
          </p:nvPicPr>
          <p:blipFill>
            <a:blip r:embed="rId3"/>
            <a:stretch/>
          </p:blipFill>
          <p:spPr>
            <a:xfrm flipH="1" rot="5251800">
              <a:off x="4977000" y="5090400"/>
              <a:ext cx="577080" cy="10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1" descr="j0349657"/>
            <p:cNvPicPr/>
            <p:nvPr/>
          </p:nvPicPr>
          <p:blipFill>
            <a:blip r:embed="rId4"/>
            <a:stretch/>
          </p:blipFill>
          <p:spPr>
            <a:xfrm flipH="1" rot="5251800">
              <a:off x="7989840" y="4177440"/>
              <a:ext cx="577080" cy="109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Line 12"/>
            <p:cNvSpPr/>
            <p:nvPr/>
          </p:nvSpPr>
          <p:spPr>
            <a:xfrm flipV="1">
              <a:off x="1979280" y="4799880"/>
              <a:ext cx="4016880" cy="118692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 flipV="1">
              <a:off x="2345040" y="4892400"/>
              <a:ext cx="5569920" cy="164196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>
              <a:off x="2984040" y="5713920"/>
              <a:ext cx="2008080" cy="91080"/>
            </a:xfrm>
            <a:prstGeom prst="line">
              <a:avLst/>
            </a:prstGeom>
            <a:ln w="9360">
              <a:solidFill>
                <a:srgbClr val="00051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 flipV="1">
              <a:off x="4992480" y="4799880"/>
              <a:ext cx="1003680" cy="1004760"/>
            </a:xfrm>
            <a:prstGeom prst="line">
              <a:avLst/>
            </a:prstGeom>
            <a:ln w="9360">
              <a:solidFill>
                <a:srgbClr val="00051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6"/>
            <p:cNvSpPr/>
            <p:nvPr/>
          </p:nvSpPr>
          <p:spPr>
            <a:xfrm>
              <a:off x="5996520" y="4800240"/>
              <a:ext cx="1915560" cy="92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H="1" flipV="1">
              <a:off x="4718160" y="5166360"/>
              <a:ext cx="273960" cy="638640"/>
            </a:xfrm>
            <a:prstGeom prst="line">
              <a:avLst/>
            </a:prstGeom>
            <a:ln w="9360">
              <a:solidFill>
                <a:srgbClr val="00051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 flipH="1" flipV="1">
              <a:off x="2437200" y="5805360"/>
              <a:ext cx="272880" cy="637200"/>
            </a:xfrm>
            <a:prstGeom prst="line">
              <a:avLst/>
            </a:prstGeom>
            <a:ln w="9360">
              <a:solidFill>
                <a:srgbClr val="00051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9"/>
            <p:cNvSpPr/>
            <p:nvPr/>
          </p:nvSpPr>
          <p:spPr>
            <a:xfrm>
              <a:off x="1752480" y="5451120"/>
              <a:ext cx="7304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514"/>
                  </a:solidFill>
                  <a:latin typeface="Arial"/>
                </a:rPr>
                <a:t>5,8с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1600200" y="304200"/>
            <a:ext cx="7162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omic Sans MS"/>
              </a:rPr>
              <a:t>Вторая гипоте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Comic Sans MS"/>
              </a:rPr>
              <a:t>Разница в длине шагов, сделанных правой ногой и лево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676520" y="185796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1. Вычислю, какую траекторию опишет человек, если разница правого и левого шагов составляет 0,5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676520" y="327564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2. Выясню, какая должна быть разница в длине правого и левого шагов, чтобы двигаться по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682640" y="472356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3. Сделаю вы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2590920" y="5105160"/>
            <a:ext cx="6157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правая нога делает шаг на 5,4мм длиннее шага, сделанного левой ног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1600200" y="229320"/>
            <a:ext cx="716292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omic Sans MS"/>
              </a:rPr>
              <a:t>Третья гипоте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Траектория движения солнца – дуга окружности, и человек, животное копируют дугу перемещения в случае, когда ориентира нет на н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676520" y="5029200"/>
            <a:ext cx="19684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5f5f5f"/>
                </a:solidFill>
                <a:latin typeface="Arial"/>
              </a:rPr>
              <a:t>вост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6934320" y="4876920"/>
            <a:ext cx="19684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5f5f5f"/>
                </a:solidFill>
                <a:latin typeface="Arial"/>
              </a:rPr>
              <a:t>запа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1219320" y="373392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1219320" y="373392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219320" y="373392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0.16927 -0.19537 C 0.20503 -0.23936 0.25833 -0.26389 0.31372 -0.26389 C 0.37674 -0.26389 0.42743 -0.23936 0.46319 -0.19537 L 0.63333 3.33333E-006 E">
                                      <p:cBhvr>
                                        <p:cTn id="168" dur="5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0.16927 -0.19537 C 0.20503 -0.23936 0.25833 -0.26389 0.31372 -0.26389 C 0.37674 -0.26389 0.42743 -0.23936 0.46319 -0.19537 L 0.63333 3.33333E-006 E">
                                      <p:cBhvr>
                                        <p:cTn id="178" dur="5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0.16927 -0.19537 C 0.20503 -0.23936 0.25833 -0.26389 0.31372 -0.26389 C 0.37674 -0.26389 0.42743 -0.23936 0.46319 -0.19537 L 0.63333 3.33333E-006 E">
                                      <p:cBhvr>
                                        <p:cTn id="188" dur="5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600200" y="229320"/>
            <a:ext cx="716292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omic Sans MS"/>
              </a:rPr>
              <a:t>Третья гипоте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Траектория движения солнца – дуга окружности, и человек, животное копируют дугу перемещения в случае, когда ориентира нет на н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500120" y="1905120"/>
          <a:ext cx="7491600" cy="4601880"/>
        </p:xfrm>
        <a:graphic>
          <a:graphicData uri="http://schemas.openxmlformats.org/drawingml/2006/table">
            <a:tbl>
              <a:tblPr/>
              <a:tblGrid>
                <a:gridCol w="1249560"/>
                <a:gridCol w="1247760"/>
                <a:gridCol w="1249200"/>
                <a:gridCol w="1247760"/>
                <a:gridCol w="1249560"/>
                <a:gridCol w="124776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календ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перевод с летнего врем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календ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перевод с летнего врем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8,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8,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ию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4,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3,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8,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8,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5,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4,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8,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8,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5,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4,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7,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7,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6,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5,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7,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7,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6,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5,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6,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6,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7,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6,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6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7,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6,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6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5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8,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7,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5,7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4,7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7,6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7,6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5,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4,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8,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8,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4,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3,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8,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8,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4,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3,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8,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8,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600200" y="229320"/>
            <a:ext cx="716292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omic Sans MS"/>
              </a:rPr>
              <a:t>Третья гипоте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Траектория движения солнца – дуга окружности, и человек, животное копируют дугу перемещения в случае, когда ориентира нет на н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600200" y="229320"/>
            <a:ext cx="716292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omic Sans MS"/>
              </a:rPr>
              <a:t>Третья гипоте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Траектория движения солнца – дуга окружности, и человек, животное копируют дугу перемещения в случае, когда ориентира нет на н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8" descr=""/>
          <p:cNvPicPr/>
          <p:nvPr/>
        </p:nvPicPr>
        <p:blipFill>
          <a:blip r:embed="rId1"/>
          <a:stretch/>
        </p:blipFill>
        <p:spPr>
          <a:xfrm>
            <a:off x="1523880" y="1738440"/>
            <a:ext cx="7315200" cy="473868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99"/>
          <p:cNvSpPr/>
          <p:nvPr/>
        </p:nvSpPr>
        <p:spPr>
          <a:xfrm>
            <a:off x="1676520" y="182880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00"/>
          <p:cNvSpPr/>
          <p:nvPr/>
        </p:nvSpPr>
        <p:spPr>
          <a:xfrm>
            <a:off x="1676520" y="182880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02"/>
          <p:cNvSpPr/>
          <p:nvPr/>
        </p:nvSpPr>
        <p:spPr>
          <a:xfrm>
            <a:off x="1676520" y="182880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1"/>
          <p:cNvSpPr/>
          <p:nvPr/>
        </p:nvSpPr>
        <p:spPr>
          <a:xfrm>
            <a:off x="1676520" y="182880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C 0.01684 0.0037 0.03385 0.00764 0.04514 0.01296 C 0.05642 0.01828 0.05937 0.02523 0.06771 0.03241 C 0.07604 0.03958 0.08576 0.04629 0.09514 0.05602 C 0.10451 0.06574 0.1151 0.07986 0.12413 0.09051 C 0.13316 0.10116 0.14062 0.10879 0.15 0.1206 C 0.15937 0.13241 0.17118 0.14838 0.18055 0.16134 C 0.18993 0.1743 0.19757 0.1868 0.20642 0.19791 C 0.21527 0.20903 0.22448 0.21828 0.23385 0.22801 C 0.24323 0.23773 0.25312 0.24815 0.26284 0.25602 C 0.27257 0.26389 0.28246 0.27037 0.29184 0.27546 C 0.30121 0.28055 0.30937 0.28541 0.31927 0.28611 C 0.32916 0.2868 0.34166 0.28356 0.35156 0.27963 C 0.36146 0.27569 0.36979 0.26898 0.37899 0.2625 C 0.38819 0.25602 0.39722 0.24884 0.40642 0.24097 C 0.41562 0.2331 0.425 0.225 0.43385 0.21528 C 0.44271 0.20555 0.45034 0.19213 0.45972 0.18287 C 0.46909 0.17361 0.48125 0.16759 0.49027 0.15926 C 0.4993 0.15092 0.50555 0.14166 0.51441 0.13333 C 0.52326 0.125 0.53368 0.12014 0.54357 0.10972 C 0.55347 0.0993 0.56423 0.08102 0.57413 0.07106 C 0.58402 0.06111 0.59427 0.05741 0.60312 0.04953 C 0.61198 0.04166 0.61771 0.03125 0.62743 0.02384 C 0.63715 0.01643 0.65642 0.00717 0.66128 0.0044 E">
                                      <p:cBhvr>
                                        <p:cTn id="202" dur="16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C 0.01684 0.0037 0.03385 0.00764 0.04514 0.01296 C 0.05642 0.01828 0.05937 0.02523 0.06771 0.03241 C 0.07604 0.03958 0.08576 0.04629 0.09514 0.05602 C 0.10451 0.06574 0.1151 0.07986 0.12413 0.09051 C 0.13316 0.10116 0.14062 0.10879 0.15 0.1206 C 0.15937 0.13241 0.17118 0.14838 0.18055 0.16134 C 0.18993 0.1743 0.19757 0.1868 0.20642 0.19791 C 0.21527 0.20903 0.22448 0.21828 0.23385 0.22801 C 0.24323 0.23773 0.25312 0.24815 0.26284 0.25602 C 0.27257 0.26389 0.28246 0.27037 0.29184 0.27546 C 0.30121 0.28055 0.30937 0.28541 0.31927 0.28611 C 0.32916 0.2868 0.34166 0.28356 0.35156 0.27963 C 0.36146 0.27569 0.36979 0.26898 0.37899 0.2625 C 0.38819 0.25602 0.39722 0.24884 0.40642 0.24097 C 0.41562 0.2331 0.425 0.225 0.43385 0.21528 C 0.44271 0.20555 0.45034 0.19213 0.45972 0.18287 C 0.46909 0.17361 0.48125 0.16759 0.49027 0.15926 C 0.4993 0.15092 0.50555 0.14166 0.51441 0.13333 C 0.52326 0.125 0.53368 0.12014 0.54357 0.10972 C 0.55347 0.0993 0.56423 0.08102 0.57413 0.07106 C 0.58402 0.06111 0.59427 0.05741 0.60312 0.04953 C 0.61198 0.04166 0.61771 0.03125 0.62743 0.02384 C 0.63715 0.01643 0.65642 0.00717 0.66128 0.0044 E">
                                      <p:cBhvr>
                                        <p:cTn id="212" dur="16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35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C 0.01684 0.0037 0.03385 0.00764 0.04514 0.01296 C 0.05642 0.01828 0.05937 0.02523 0.06771 0.03241 C 0.07604 0.03958 0.08576 0.04629 0.09514 0.05602 C 0.10451 0.06574 0.1151 0.07986 0.12413 0.09051 C 0.13316 0.10116 0.14062 0.10879 0.15 0.1206 C 0.15937 0.13241 0.17118 0.14838 0.18055 0.16134 C 0.18993 0.1743 0.19757 0.1868 0.20642 0.19791 C 0.21527 0.20903 0.22448 0.21828 0.23385 0.22801 C 0.24323 0.23773 0.25312 0.24815 0.26284 0.25602 C 0.27257 0.26389 0.28246 0.27037 0.29184 0.27546 C 0.30121 0.28055 0.30937 0.28541 0.31927 0.28611 C 0.32916 0.2868 0.34166 0.28356 0.35156 0.27963 C 0.36146 0.27569 0.36979 0.26898 0.37899 0.2625 C 0.38819 0.25602 0.39722 0.24884 0.40642 0.24097 C 0.41562 0.2331 0.425 0.225 0.43385 0.21528 C 0.44271 0.20555 0.45034 0.19213 0.45972 0.18287 C 0.46909 0.17361 0.48125 0.16759 0.49027 0.15926 C 0.4993 0.15092 0.50555 0.14166 0.51441 0.13333 C 0.52326 0.125 0.53368 0.12014 0.54357 0.10972 C 0.55347 0.0993 0.56423 0.08102 0.57413 0.07106 C 0.58402 0.06111 0.59427 0.05741 0.60312 0.04953 C 0.61198 0.04166 0.61771 0.03125 0.62743 0.02384 C 0.63715 0.01643 0.65642 0.00717 0.66128 0.0044 E">
                                      <p:cBhvr>
                                        <p:cTn id="222" dur="16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9500"/>
                            </p:stCondLst>
                            <p:childTnLst>
                              <p:par>
                                <p:cTn id="2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0"/>
                            </p:stCondLst>
                            <p:childTnLst>
                              <p:par>
                                <p:cTn id="2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C 0.01684 0.0037 0.03385 0.00764 0.04514 0.01296 C 0.05642 0.01828 0.05937 0.02523 0.06771 0.03241 C 0.07604 0.03958 0.08576 0.04629 0.09514 0.05602 C 0.10451 0.06574 0.1151 0.07986 0.12413 0.09051 C 0.13316 0.10116 0.14062 0.10879 0.15 0.1206 C 0.15937 0.13241 0.17118 0.14838 0.18055 0.16134 C 0.18993 0.1743 0.19757 0.1868 0.20642 0.19791 C 0.21527 0.20903 0.22448 0.21828 0.23385 0.22801 C 0.24323 0.23773 0.25312 0.24815 0.26284 0.25602 C 0.27257 0.26389 0.28246 0.27037 0.29184 0.27546 C 0.30121 0.28055 0.30937 0.28541 0.31927 0.28611 C 0.32916 0.2868 0.34166 0.28356 0.35156 0.27963 C 0.36146 0.27569 0.36979 0.26898 0.37899 0.2625 C 0.38819 0.25602 0.39722 0.24884 0.40642 0.24097 C 0.41562 0.2331 0.425 0.225 0.43385 0.21528 C 0.44271 0.20555 0.45034 0.19213 0.45972 0.18287 C 0.46909 0.17361 0.48125 0.16759 0.49027 0.15926 C 0.4993 0.15092 0.50555 0.14166 0.51441 0.13333 C 0.52326 0.125 0.53368 0.12014 0.54357 0.10972 C 0.55347 0.0993 0.56423 0.08102 0.57413 0.07106 C 0.58402 0.06111 0.59427 0.05741 0.60312 0.04953 C 0.61198 0.04166 0.61771 0.03125 0.62743 0.02384 C 0.63715 0.01643 0.65642 0.00717 0.66128 0.0044 E">
                                      <p:cBhvr>
                                        <p:cTn id="232" dur="16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60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Chart 7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8626320" cy="62676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749"/>
          <p:cNvSpPr/>
          <p:nvPr/>
        </p:nvSpPr>
        <p:spPr>
          <a:xfrm>
            <a:off x="838080" y="7848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Линейная фун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Chart 7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8626320" cy="62676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749"/>
          <p:cNvSpPr/>
          <p:nvPr/>
        </p:nvSpPr>
        <p:spPr>
          <a:xfrm>
            <a:off x="990720" y="5356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Экспон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Chart 7" descr=""/>
          <p:cNvPicPr/>
          <p:nvPr/>
        </p:nvPicPr>
        <p:blipFill>
          <a:blip r:embed="rId1"/>
          <a:stretch/>
        </p:blipFill>
        <p:spPr>
          <a:xfrm>
            <a:off x="225360" y="298440"/>
            <a:ext cx="8626680" cy="62676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749"/>
          <p:cNvSpPr/>
          <p:nvPr/>
        </p:nvSpPr>
        <p:spPr>
          <a:xfrm>
            <a:off x="990720" y="7848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Логарифмическая фун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Chart 7" descr=""/>
          <p:cNvPicPr/>
          <p:nvPr/>
        </p:nvPicPr>
        <p:blipFill>
          <a:blip r:embed="rId1"/>
          <a:stretch/>
        </p:blipFill>
        <p:spPr>
          <a:xfrm>
            <a:off x="225360" y="298440"/>
            <a:ext cx="8699400" cy="62676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749"/>
          <p:cNvSpPr/>
          <p:nvPr/>
        </p:nvSpPr>
        <p:spPr>
          <a:xfrm>
            <a:off x="1371600" y="25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Полиноминальная фун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Безымянный"/>
          <p:cNvPicPr/>
          <p:nvPr/>
        </p:nvPicPr>
        <p:blipFill>
          <a:blip r:embed="rId1"/>
          <a:stretch/>
        </p:blipFill>
        <p:spPr>
          <a:xfrm>
            <a:off x="1676520" y="2819520"/>
            <a:ext cx="7238880" cy="3668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0004"/>
          <p:cNvPicPr/>
          <p:nvPr/>
        </p:nvPicPr>
        <p:blipFill>
          <a:blip r:embed="rId2"/>
          <a:stretch/>
        </p:blipFill>
        <p:spPr>
          <a:xfrm flipH="1">
            <a:off x="1371600" y="1828800"/>
            <a:ext cx="1447920" cy="1225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0004"/>
          <p:cNvPicPr/>
          <p:nvPr/>
        </p:nvPicPr>
        <p:blipFill>
          <a:blip r:embed="rId3"/>
          <a:stretch/>
        </p:blipFill>
        <p:spPr>
          <a:xfrm flipH="1">
            <a:off x="1371600" y="1828800"/>
            <a:ext cx="1447920" cy="1225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0004"/>
          <p:cNvPicPr/>
          <p:nvPr/>
        </p:nvPicPr>
        <p:blipFill>
          <a:blip r:embed="rId4"/>
          <a:stretch/>
        </p:blipFill>
        <p:spPr>
          <a:xfrm flipH="1">
            <a:off x="1371600" y="1828800"/>
            <a:ext cx="1447920" cy="1225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0004"/>
          <p:cNvPicPr/>
          <p:nvPr/>
        </p:nvPicPr>
        <p:blipFill>
          <a:blip r:embed="rId5"/>
          <a:stretch/>
        </p:blipFill>
        <p:spPr>
          <a:xfrm flipH="1">
            <a:off x="1371600" y="1828800"/>
            <a:ext cx="1447920" cy="1225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1600200" y="685800"/>
            <a:ext cx="733284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4500" spc="-1" strike="noStrike">
                <a:solidFill>
                  <a:srgbClr val="006699"/>
                </a:solidFill>
                <a:latin typeface="Comic Sans MS"/>
              </a:rPr>
              <a:t>Кругами передвигаются и птиц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0004"/>
          <p:cNvPicPr/>
          <p:nvPr/>
        </p:nvPicPr>
        <p:blipFill>
          <a:blip r:embed="rId6"/>
          <a:stretch/>
        </p:blipFill>
        <p:spPr>
          <a:xfrm flipH="1">
            <a:off x="1371600" y="1828800"/>
            <a:ext cx="1447920" cy="122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065 L 0.22639 -0.20278 C 0.27378 -0.25093 0.34514 -0.27732 0.41875 -0.27732 C 0.50364 -0.27732 0.57118 -0.25093 0.61875 -0.20278 L 0.84583 0.01065 E">
                                      <p:cBhvr>
                                        <p:cTn id="36" dur="7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0.01065 L 0.22639 -0.20278 C 0.27378 -0.25093 0.34514 -0.27732 0.41875 -0.27732 C 0.50364 -0.27732 0.57118 -0.25093 0.61875 -0.20278 L 0.84583 0.01065 E">
                                      <p:cBhvr>
                                        <p:cTn id="41" dur="7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4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0.01065 L 0.22639 -0.20278 C 0.27378 -0.25093 0.34514 -0.27732 0.41875 -0.27732 C 0.50364 -0.27732 0.57118 -0.25093 0.61875 -0.20278 L 0.84583 0.01065 E">
                                      <p:cBhvr>
                                        <p:cTn id="46" dur="7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4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3.33333E-006 0.01065 L 0.22639 -0.20278 C 0.27378 -0.25093 0.34514 -0.27732 0.41875 -0.27732 C 0.50364 -0.27732 0.57118 -0.25093 0.61875 -0.20278 L 0.84583 0.01065 E">
                                      <p:cBhvr>
                                        <p:cTn id="51" dur="7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4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3.33333E-006 0.01065 L 0.22639 -0.20278 C 0.27378 -0.25093 0.34514 -0.27732 0.41875 -0.27732 C 0.50364 -0.27732 0.57118 -0.25093 0.61875 -0.20278 L 0.84583 0.01065 E">
                                      <p:cBhvr>
                                        <p:cTn id="56" dur="7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600200" y="229320"/>
            <a:ext cx="716292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omic Sans MS"/>
              </a:rPr>
              <a:t>Третья гипоте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Траектория движения солнца – дуга окружности, и человек, животное копируют дугу перемещения в случае, когда ориентира нет на н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8" descr=""/>
          <p:cNvPicPr/>
          <p:nvPr/>
        </p:nvPicPr>
        <p:blipFill>
          <a:blip r:embed="rId1"/>
          <a:stretch/>
        </p:blipFill>
        <p:spPr>
          <a:xfrm>
            <a:off x="1523880" y="1738440"/>
            <a:ext cx="7315200" cy="47386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07"/>
          <p:cNvSpPr/>
          <p:nvPr/>
        </p:nvSpPr>
        <p:spPr>
          <a:xfrm>
            <a:off x="1523880" y="4495680"/>
            <a:ext cx="73915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99"/>
          <p:cNvSpPr/>
          <p:nvPr/>
        </p:nvSpPr>
        <p:spPr>
          <a:xfrm>
            <a:off x="1676520" y="182880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00"/>
          <p:cNvSpPr/>
          <p:nvPr/>
        </p:nvSpPr>
        <p:spPr>
          <a:xfrm>
            <a:off x="1676520" y="182880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5"/>
          <p:cNvSpPr/>
          <p:nvPr/>
        </p:nvSpPr>
        <p:spPr>
          <a:xfrm>
            <a:off x="2063520" y="5334120"/>
            <a:ext cx="63230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99"/>
                </a:solidFill>
                <a:latin typeface="Comic Sans MS"/>
              </a:rPr>
              <a:t>y = 0,001x</a:t>
            </a:r>
            <a:r>
              <a:rPr b="1" lang="es-ES" sz="2200" spc="-1" strike="noStrike" baseline="30000">
                <a:solidFill>
                  <a:srgbClr val="006699"/>
                </a:solidFill>
                <a:latin typeface="Comic Sans MS"/>
              </a:rPr>
              <a:t>4</a:t>
            </a:r>
            <a:r>
              <a:rPr b="1" lang="es-ES" sz="2200" spc="-1" strike="noStrike">
                <a:solidFill>
                  <a:srgbClr val="006699"/>
                </a:solidFill>
                <a:latin typeface="Comic Sans MS"/>
              </a:rPr>
              <a:t> - 0,02</a:t>
            </a:r>
            <a:r>
              <a:rPr b="1" lang="ru-RU" sz="2200" spc="-1" strike="noStrike">
                <a:solidFill>
                  <a:srgbClr val="006699"/>
                </a:solidFill>
                <a:latin typeface="Comic Sans MS"/>
              </a:rPr>
              <a:t>9</a:t>
            </a:r>
            <a:r>
              <a:rPr b="1" lang="es-ES" sz="2200" spc="-1" strike="noStrike">
                <a:solidFill>
                  <a:srgbClr val="006699"/>
                </a:solidFill>
                <a:latin typeface="Comic Sans MS"/>
              </a:rPr>
              <a:t>x</a:t>
            </a:r>
            <a:r>
              <a:rPr b="1" lang="es-ES" sz="2200" spc="-1" strike="noStrike" baseline="30000">
                <a:solidFill>
                  <a:srgbClr val="006699"/>
                </a:solidFill>
                <a:latin typeface="Comic Sans MS"/>
              </a:rPr>
              <a:t>3</a:t>
            </a:r>
            <a:r>
              <a:rPr b="1" lang="es-ES" sz="2200" spc="-1" strike="noStrike">
                <a:solidFill>
                  <a:srgbClr val="006699"/>
                </a:solidFill>
                <a:latin typeface="Comic Sans MS"/>
              </a:rPr>
              <a:t> + 0,14</a:t>
            </a:r>
            <a:r>
              <a:rPr b="1" lang="ru-RU" sz="2200" spc="-1" strike="noStrike">
                <a:solidFill>
                  <a:srgbClr val="006699"/>
                </a:solidFill>
                <a:latin typeface="Comic Sans MS"/>
              </a:rPr>
              <a:t>7</a:t>
            </a:r>
            <a:r>
              <a:rPr b="1" lang="es-ES" sz="2200" spc="-1" strike="noStrike">
                <a:solidFill>
                  <a:srgbClr val="006699"/>
                </a:solidFill>
                <a:latin typeface="Comic Sans MS"/>
              </a:rPr>
              <a:t>x</a:t>
            </a:r>
            <a:r>
              <a:rPr b="1" lang="es-ES" sz="22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r>
              <a:rPr b="1" lang="es-ES" sz="2200" spc="-1" strike="noStrike">
                <a:solidFill>
                  <a:srgbClr val="006699"/>
                </a:solidFill>
                <a:latin typeface="Comic Sans MS"/>
              </a:rPr>
              <a:t> + 0,341x + 6,27</a:t>
            </a:r>
            <a:r>
              <a:rPr b="1" lang="ru-RU" sz="2200" spc="-1" strike="noStrike">
                <a:solidFill>
                  <a:srgbClr val="006699"/>
                </a:solidFill>
                <a:latin typeface="Comic Sans MS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6"/>
          <p:cNvSpPr/>
          <p:nvPr/>
        </p:nvSpPr>
        <p:spPr>
          <a:xfrm>
            <a:off x="2186640" y="4572000"/>
            <a:ext cx="634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99"/>
                </a:solidFill>
                <a:latin typeface="Comic Sans MS"/>
              </a:rPr>
              <a:t>y = -0,001x</a:t>
            </a:r>
            <a:r>
              <a:rPr b="1" lang="es-ES" sz="2200" spc="-1" strike="noStrike" baseline="30000">
                <a:solidFill>
                  <a:srgbClr val="006699"/>
                </a:solidFill>
                <a:latin typeface="Comic Sans MS"/>
              </a:rPr>
              <a:t>4</a:t>
            </a:r>
            <a:r>
              <a:rPr b="1" lang="es-ES" sz="2200" spc="-1" strike="noStrike">
                <a:solidFill>
                  <a:srgbClr val="006699"/>
                </a:solidFill>
                <a:latin typeface="Comic Sans MS"/>
              </a:rPr>
              <a:t> + 0,027x</a:t>
            </a:r>
            <a:r>
              <a:rPr b="1" lang="es-ES" sz="2200" spc="-1" strike="noStrike" baseline="30000">
                <a:solidFill>
                  <a:srgbClr val="006699"/>
                </a:solidFill>
                <a:latin typeface="Comic Sans MS"/>
              </a:rPr>
              <a:t>3</a:t>
            </a:r>
            <a:r>
              <a:rPr b="1" lang="es-ES" sz="2200" spc="-1" strike="noStrike">
                <a:solidFill>
                  <a:srgbClr val="006699"/>
                </a:solidFill>
                <a:latin typeface="Comic Sans MS"/>
              </a:rPr>
              <a:t> - 0,135x</a:t>
            </a:r>
            <a:r>
              <a:rPr b="1" lang="es-ES" sz="22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r>
              <a:rPr b="1" lang="es-ES" sz="2200" spc="-1" strike="noStrike">
                <a:solidFill>
                  <a:srgbClr val="006699"/>
                </a:solidFill>
                <a:latin typeface="Comic Sans MS"/>
              </a:rPr>
              <a:t> - 0,37</a:t>
            </a:r>
            <a:r>
              <a:rPr b="1" lang="ru-RU" sz="2200" spc="-1" strike="noStrike">
                <a:solidFill>
                  <a:srgbClr val="006699"/>
                </a:solidFill>
                <a:latin typeface="Comic Sans MS"/>
              </a:rPr>
              <a:t>8</a:t>
            </a:r>
            <a:r>
              <a:rPr b="1" lang="es-ES" sz="2200" spc="-1" strike="noStrike">
                <a:solidFill>
                  <a:srgbClr val="006699"/>
                </a:solidFill>
                <a:latin typeface="Comic Sans MS"/>
              </a:rPr>
              <a:t>x + 6,4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02"/>
          <p:cNvSpPr/>
          <p:nvPr/>
        </p:nvSpPr>
        <p:spPr>
          <a:xfrm>
            <a:off x="1676520" y="182880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01"/>
          <p:cNvSpPr/>
          <p:nvPr/>
        </p:nvSpPr>
        <p:spPr>
          <a:xfrm>
            <a:off x="1676520" y="182880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7" descr="j0303385"/>
          <p:cNvPicPr/>
          <p:nvPr/>
        </p:nvPicPr>
        <p:blipFill>
          <a:blip r:embed="rId1"/>
          <a:stretch/>
        </p:blipFill>
        <p:spPr>
          <a:xfrm>
            <a:off x="4648320" y="1828800"/>
            <a:ext cx="1752480" cy="143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j0336894"/>
          <p:cNvPicPr/>
          <p:nvPr/>
        </p:nvPicPr>
        <p:blipFill>
          <a:blip r:embed="rId2"/>
          <a:stretch/>
        </p:blipFill>
        <p:spPr>
          <a:xfrm>
            <a:off x="2133720" y="3429000"/>
            <a:ext cx="1022400" cy="11732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2"/>
          <p:cNvSpPr/>
          <p:nvPr/>
        </p:nvSpPr>
        <p:spPr>
          <a:xfrm>
            <a:off x="1600200" y="76680"/>
            <a:ext cx="71629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omic Sans MS"/>
              </a:rPr>
              <a:t>Третья гипоте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Невероятно, но факт: блуждающий путник, передвигающийся без ориентира «ловит» энергию солнца и, сбившись с пути, начинает двигаться по сегменту параболы, что напоминает дугу к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1676520" y="182880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3" descr="j0336894"/>
          <p:cNvPicPr/>
          <p:nvPr/>
        </p:nvPicPr>
        <p:blipFill>
          <a:blip r:embed="rId3"/>
          <a:stretch/>
        </p:blipFill>
        <p:spPr>
          <a:xfrm>
            <a:off x="2133720" y="3429000"/>
            <a:ext cx="1022400" cy="117324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14"/>
          <p:cNvSpPr/>
          <p:nvPr/>
        </p:nvSpPr>
        <p:spPr>
          <a:xfrm>
            <a:off x="1676520" y="182880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5" descr="j0336894"/>
          <p:cNvPicPr/>
          <p:nvPr/>
        </p:nvPicPr>
        <p:blipFill>
          <a:blip r:embed="rId4"/>
          <a:stretch/>
        </p:blipFill>
        <p:spPr>
          <a:xfrm>
            <a:off x="2133720" y="3429000"/>
            <a:ext cx="1022400" cy="117324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6"/>
          <p:cNvSpPr/>
          <p:nvPr/>
        </p:nvSpPr>
        <p:spPr>
          <a:xfrm>
            <a:off x="1676520" y="1828800"/>
            <a:ext cx="1623960" cy="1333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C 0.01684 0.0037 0.03385 0.00764 0.04514 0.01296 C 0.05642 0.01828 0.05937 0.02523 0.06771 0.03241 C 0.07604 0.03958 0.08576 0.04629 0.09514 0.05602 C 0.10451 0.06574 0.1151 0.07986 0.12413 0.09051 C 0.13316 0.10116 0.14062 0.10879 0.15 0.1206 C 0.15937 0.13241 0.17118 0.14838 0.18055 0.16134 C 0.18993 0.1743 0.19757 0.1868 0.20642 0.19791 C 0.21527 0.20903 0.22448 0.21828 0.23385 0.22801 C 0.24323 0.23773 0.25312 0.24815 0.26284 0.25602 C 0.27257 0.26389 0.28246 0.27037 0.29184 0.27546 C 0.30121 0.28055 0.30937 0.28541 0.31927 0.28611 C 0.32916 0.2868 0.34166 0.28356 0.35156 0.27963 C 0.36146 0.27569 0.36979 0.26898 0.37899 0.2625 C 0.38819 0.25602 0.39722 0.24884 0.40642 0.24097 C 0.41562 0.2331 0.425 0.225 0.43385 0.21528 C 0.44271 0.20555 0.45034 0.19213 0.45972 0.18287 C 0.46909 0.17361 0.48125 0.16759 0.49027 0.15926 C 0.4993 0.15092 0.50555 0.14166 0.51441 0.13333 C 0.52326 0.125 0.53368 0.12014 0.54357 0.10972 C 0.55347 0.0993 0.56423 0.08102 0.57413 0.07106 C 0.58402 0.06111 0.59427 0.05741 0.60312 0.04953 C 0.61198 0.04166 0.61771 0.03125 0.62743 0.02384 C 0.63715 0.01643 0.65642 0.00717 0.66128 0.0044 E">
                                      <p:cBhvr>
                                        <p:cTn id="246" dur="16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5.55556E-006 -5.55556E-006 L 0.02742 0.00856 L 0.05485 0.0236 L 0.08385 0.05161 L 0.11284 0.08379 L 0.14357 0.12036 L 0.1677 0.15694 L 0.19513 0.19143 L 0.22412 0.2236 L 0.25155 0.24721 L 0.28055 0.26874 L 0.30798 0.27962 L 0.33541 0.27522 L 0.3644 0.25809 L 0.39496 0.23448 L 0.421 0.20856 L 0.44843 0.18055 L 0.47569 0.15694 L 0.50485 0.12684 L 0.53228 0.10115 L 0.56128 0.07106 L 0.58871 0.04305 L 0.61926 0.01944 L 0.64669 -5.55556E-006 E">
                                      <p:cBhvr>
                                        <p:cTn id="251" dur="16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C 0.01684 0.0037 0.03385 0.00764 0.04514 0.01296 C 0.05642 0.01828 0.05937 0.02523 0.06771 0.03241 C 0.07604 0.03958 0.08576 0.04629 0.09514 0.05602 C 0.10451 0.06574 0.1151 0.07986 0.12413 0.09051 C 0.13316 0.10116 0.14062 0.10879 0.15 0.1206 C 0.15937 0.13241 0.17118 0.14838 0.18055 0.16134 C 0.18993 0.1743 0.19757 0.1868 0.20642 0.19791 C 0.21527 0.20903 0.22448 0.21828 0.23385 0.22801 C 0.24323 0.23773 0.25312 0.24815 0.26284 0.25602 C 0.27257 0.26389 0.28246 0.27037 0.29184 0.27546 C 0.30121 0.28055 0.30937 0.28541 0.31927 0.28611 C 0.32916 0.2868 0.34166 0.28356 0.35156 0.27963 C 0.36146 0.27569 0.36979 0.26898 0.37899 0.2625 C 0.38819 0.25602 0.39722 0.24884 0.40642 0.24097 C 0.41562 0.2331 0.425 0.225 0.43385 0.21528 C 0.44271 0.20555 0.45034 0.19213 0.45972 0.18287 C 0.46909 0.17361 0.48125 0.16759 0.49027 0.15926 C 0.4993 0.15092 0.50555 0.14166 0.51441 0.13333 C 0.52326 0.125 0.53368 0.12014 0.54357 0.10972 C 0.55347 0.0993 0.56423 0.08102 0.57413 0.07106 C 0.58402 0.06111 0.59427 0.05741 0.60312 0.04953 C 0.61198 0.04166 0.61771 0.03125 0.62743 0.02384 C 0.63715 0.01643 0.65642 0.00717 0.66128 0.0044 E">
                                      <p:cBhvr>
                                        <p:cTn id="264" dur="16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5.55556E-006 -5.55556E-006 L 0.02742 0.00856 L 0.05485 0.0236 L 0.08385 0.05161 L 0.11284 0.08379 L 0.14357 0.12036 L 0.1677 0.15694 L 0.19513 0.19143 L 0.22412 0.2236 L 0.25155 0.24721 L 0.28055 0.26874 L 0.30798 0.27962 L 0.33541 0.27522 L 0.3644 0.25809 L 0.39496 0.23448 L 0.421 0.20856 L 0.44843 0.18055 L 0.47569 0.15694 L 0.50485 0.12684 L 0.53228 0.10115 L 0.56128 0.07106 L 0.58871 0.04305 L 0.61926 0.01944 L 0.64669 -5.55556E-006 E">
                                      <p:cBhvr>
                                        <p:cTn id="269" dur="16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C 0.01684 0.0037 0.03385 0.00764 0.04514 0.01296 C 0.05642 0.01828 0.05937 0.02523 0.06771 0.03241 C 0.07604 0.03958 0.08576 0.04629 0.09514 0.05602 C 0.10451 0.06574 0.1151 0.07986 0.12413 0.09051 C 0.13316 0.10116 0.14062 0.10879 0.15 0.1206 C 0.15937 0.13241 0.17118 0.14838 0.18055 0.16134 C 0.18993 0.1743 0.19757 0.1868 0.20642 0.19791 C 0.21527 0.20903 0.22448 0.21828 0.23385 0.22801 C 0.24323 0.23773 0.25312 0.24815 0.26284 0.25602 C 0.27257 0.26389 0.28246 0.27037 0.29184 0.27546 C 0.30121 0.28055 0.30937 0.28541 0.31927 0.28611 C 0.32916 0.2868 0.34166 0.28356 0.35156 0.27963 C 0.36146 0.27569 0.36979 0.26898 0.37899 0.2625 C 0.38819 0.25602 0.39722 0.24884 0.40642 0.24097 C 0.41562 0.2331 0.425 0.225 0.43385 0.21528 C 0.44271 0.20555 0.45034 0.19213 0.45972 0.18287 C 0.46909 0.17361 0.48125 0.16759 0.49027 0.15926 C 0.4993 0.15092 0.50555 0.14166 0.51441 0.13333 C 0.52326 0.125 0.53368 0.12014 0.54357 0.10972 C 0.55347 0.0993 0.56423 0.08102 0.57413 0.07106 C 0.58402 0.06111 0.59427 0.05741 0.60312 0.04953 C 0.61198 0.04166 0.61771 0.03125 0.62743 0.02384 C 0.63715 0.01643 0.65642 0.00717 0.66128 0.0044 E">
                                      <p:cBhvr>
                                        <p:cTn id="282" dur="16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5.55556E-006 -5.55556E-006 L 0.02742 0.00856 L 0.05485 0.0236 L 0.08385 0.05161 L 0.11284 0.08379 L 0.14357 0.12036 L 0.1677 0.15694 L 0.19513 0.19143 L 0.22412 0.2236 L 0.25155 0.24721 L 0.28055 0.26874 L 0.30798 0.27962 L 0.33541 0.27522 L 0.3644 0.25809 L 0.39496 0.23448 L 0.421 0.20856 L 0.44843 0.18055 L 0.47569 0.15694 L 0.50485 0.12684 L 0.53228 0.10115 L 0.56128 0.07106 L 0.58871 0.04305 L 0.61926 0.01944 L 0.64669 -5.55556E-006 E">
                                      <p:cBhvr>
                                        <p:cTn id="287" dur="16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7000"/>
                            </p:stCondLst>
                            <p:childTnLst>
                              <p:par>
                                <p:cTn id="2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1600200" y="-51480"/>
            <a:ext cx="716292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Comic Sans MS"/>
              </a:rPr>
              <a:t>Факты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Comic Sans MS"/>
              <a:buAutoNum type="arabicPeriod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Comic Sans MS"/>
              </a:rPr>
              <a:t>Несколько холодных ночей в начале осени, и наступает пора – «очей очаровань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Comic Sans MS"/>
              <a:buAutoNum type="arabicPeriod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Comic Sans MS"/>
              </a:rPr>
              <a:t>С изменение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6699"/>
                </a:solidFill>
                <a:latin typeface="Comic Sans MS"/>
              </a:rPr>
              <a:t> цвета листьев фотосинтез прекращается, так как разрушается зелёный хлорофи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Comic Sans MS"/>
              <a:buAutoNum type="arabicPeriod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Comic Sans MS"/>
              </a:rPr>
              <a:t>Фотосинтез энергозатратен и весьма… А солнце ещё в сил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9"/>
          <p:cNvSpPr/>
          <p:nvPr/>
        </p:nvSpPr>
        <p:spPr>
          <a:xfrm>
            <a:off x="1550880" y="2209680"/>
            <a:ext cx="344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omic Sans MS"/>
              </a:rPr>
              <a:t>Развитие гипотез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0"/>
          <p:cNvSpPr/>
          <p:nvPr/>
        </p:nvSpPr>
        <p:spPr>
          <a:xfrm>
            <a:off x="1600200" y="2819520"/>
            <a:ext cx="708660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Можно  ожидать существование «зеркального» я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во время быстрого роста листьев весной должно быть похолод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Comic Sans MS"/>
              </a:rPr>
              <a:t>Есть такое явление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Comic Sans MS"/>
              </a:rPr>
              <a:t>Все знают, что мороз падает на цветение черёмухи. Да и в песне об этом поётся: «Цветёт черёмуха к похолоданию…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1"/>
          <p:cNvSpPr/>
          <p:nvPr/>
        </p:nvSpPr>
        <p:spPr>
          <a:xfrm>
            <a:off x="2906280" y="5486400"/>
            <a:ext cx="51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Comic Sans MS"/>
              </a:rPr>
              <a:t>“</a:t>
            </a:r>
            <a:r>
              <a:rPr b="1" lang="ru-RU" sz="4000" spc="-1" strike="noStrike">
                <a:solidFill>
                  <a:srgbClr val="00cc00"/>
                </a:solidFill>
                <a:latin typeface="Comic Sans MS"/>
              </a:rPr>
              <a:t>Мужичья зима</a:t>
            </a:r>
            <a:r>
              <a:rPr b="1" lang="en-US" sz="4000" spc="-1" strike="noStrike">
                <a:solidFill>
                  <a:srgbClr val="00cc00"/>
                </a:solidFill>
                <a:latin typeface="Comic Sans MS"/>
              </a:rPr>
              <a:t>”</a:t>
            </a:r>
            <a:r>
              <a:rPr b="1" lang="ru-RU" sz="4000" spc="-1" strike="noStrike">
                <a:solidFill>
                  <a:srgbClr val="00cc00"/>
                </a:solidFill>
                <a:latin typeface="Comic Sans MS"/>
              </a:rPr>
              <a:t> 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2"/>
          <p:cNvSpPr/>
          <p:nvPr/>
        </p:nvSpPr>
        <p:spPr>
          <a:xfrm>
            <a:off x="1778760" y="5105520"/>
            <a:ext cx="229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omic Sans MS"/>
              </a:rPr>
              <a:t>Значит, е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WINDOWS\Web\Wallpaper\Осень.jpg"/>
          <p:cNvPicPr/>
          <p:nvPr/>
        </p:nvPicPr>
        <p:blipFill>
          <a:blip r:embed="rId1"/>
          <a:stretch/>
        </p:blipFill>
        <p:spPr>
          <a:xfrm>
            <a:off x="1676520" y="2209680"/>
            <a:ext cx="731520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2743200" y="990720"/>
            <a:ext cx="571500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Тема проекта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6000" spc="-1" strike="noStrike">
                <a:solidFill>
                  <a:srgbClr val="1f4ca1"/>
                </a:solidFill>
                <a:latin typeface="Comic Sans MS"/>
              </a:rPr>
              <a:t>Симметр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38080" y="3429000"/>
            <a:ext cx="8094960" cy="36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5500" spc="-1" strike="noStrike">
                <a:solidFill>
                  <a:srgbClr val="1f4ca1"/>
                </a:solidFill>
                <a:latin typeface="Comic Sans MS"/>
              </a:rPr>
              <a:t>Разгадка тайны загадочного кружени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782440" y="230040"/>
            <a:ext cx="59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Нижнесортым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164840" y="3886200"/>
            <a:ext cx="387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Times New Roman"/>
              </a:rPr>
              <a:t>Составитель: Смяткина Вален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Times New Roman"/>
              </a:rPr>
              <a:t>ученица 11</a:t>
            </a:r>
            <a:r>
              <a:rPr b="1" lang="ru-RU" sz="1800" spc="-1" strike="noStrike" baseline="30000">
                <a:solidFill>
                  <a:srgbClr val="0066cc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66cc"/>
                </a:solidFill>
                <a:latin typeface="Times New Roman"/>
              </a:rPr>
              <a:t>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35200" y="522756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Times New Roman"/>
              </a:rPr>
              <a:t>Руководитель: Лидовская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582000" y="579132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imes New Roman"/>
              </a:rPr>
              <a:t>декабрь,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6" descr="j0283261"/>
          <p:cNvPicPr/>
          <p:nvPr/>
        </p:nvPicPr>
        <p:blipFill>
          <a:blip r:embed="rId1"/>
          <a:stretch/>
        </p:blipFill>
        <p:spPr>
          <a:xfrm>
            <a:off x="380880" y="251460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I:\буклет\ЭШколы.png"/>
          <p:cNvPicPr/>
          <p:nvPr/>
        </p:nvPicPr>
        <p:blipFill>
          <a:blip r:embed="rId2"/>
          <a:stretch/>
        </p:blipFill>
        <p:spPr>
          <a:xfrm rot="20626200">
            <a:off x="146160" y="264960"/>
            <a:ext cx="2092320" cy="134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4.39306E-006 L -0.09167 -0.03376 E">
                                      <p:cBhvr>
                                        <p:cTn id="8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38889E-006 7.51445E-007 L 0.13663 -0.30567 E">
                                      <p:cBhvr>
                                        <p:cTn id="85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5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14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98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06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676520" y="38052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Цель</a:t>
            </a:r>
            <a:r>
              <a:rPr b="0" lang="en-US" sz="4000" spc="-1" strike="noStrike">
                <a:solidFill>
                  <a:srgbClr val="000099"/>
                </a:solidFill>
                <a:latin typeface="Monotype Corsiva"/>
              </a:rPr>
              <a:t>: </a:t>
            </a:r>
            <a:r>
              <a:rPr b="0" i="1" lang="en-US" sz="4000" spc="-1" strike="noStrike">
                <a:solidFill>
                  <a:srgbClr val="006699"/>
                </a:solidFill>
                <a:latin typeface="Monotype Corsiva"/>
              </a:rPr>
              <a:t>разгадать тайну «загадочных кружений человека в темнот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j0303385"/>
          <p:cNvPicPr/>
          <p:nvPr/>
        </p:nvPicPr>
        <p:blipFill>
          <a:blip r:embed="rId1"/>
          <a:stretch/>
        </p:blipFill>
        <p:spPr>
          <a:xfrm>
            <a:off x="6477120" y="380880"/>
            <a:ext cx="2303280" cy="1884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j0336894"/>
          <p:cNvPicPr/>
          <p:nvPr/>
        </p:nvPicPr>
        <p:blipFill>
          <a:blip r:embed="rId2"/>
          <a:stretch/>
        </p:blipFill>
        <p:spPr>
          <a:xfrm>
            <a:off x="304920" y="5334120"/>
            <a:ext cx="1022400" cy="1172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7"/>
          <p:cNvSpPr/>
          <p:nvPr/>
        </p:nvSpPr>
        <p:spPr>
          <a:xfrm>
            <a:off x="3200400" y="3428640"/>
            <a:ext cx="5638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Задача</a:t>
            </a:r>
            <a:r>
              <a:rPr b="0" lang="en-US" sz="4000" spc="-1" strike="noStrike">
                <a:solidFill>
                  <a:srgbClr val="000099"/>
                </a:solidFill>
                <a:latin typeface="Monotype Corsiva"/>
              </a:rPr>
              <a:t>: </a:t>
            </a:r>
            <a:r>
              <a:rPr b="0" i="1" lang="en-US" sz="4000" spc="-1" strike="noStrike">
                <a:solidFill>
                  <a:srgbClr val="006699"/>
                </a:solidFill>
                <a:latin typeface="Monotype Corsiva"/>
              </a:rPr>
              <a:t>найти причины того, почему в темноте человек не может идти прям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444E-006 C 0.01684 -0.02893 -0.00018 0.00278 0.00555 -0.08588 C 0.00573 -0.08935 0.01371 -0.09699 0.01475 -0.09884 C 0.02482 -0.11273 0.03524 -0.12268 0.04618 -0.13541 C 0.04826 -0.13773 0.06823 -0.14259 0.07204 -0.14398 C 0.07986 -0.15 0.08698 -0.15347 0.09583 -0.15694 C 0.09774 -0.15763 0.10156 -0.15902 0.10156 -0.15879 C 0.10902 -0.16481 0.11701 -0.16713 0.12552 -0.1699 C 0.13333 -0.17569 0.13871 -0.17847 0.14774 -0.18055 C 0.16423 -0.19027 0.17986 -0.20324 0.19392 -0.21713 C 0.20243 -0.22546 0.19878 -0.22893 0.21041 -0.23217 C 0.21909 -0.24722 0.21423 -0.24236 0.22343 -0.2493 C 0.22413 -0.25231 0.22413 -0.25532 0.22534 -0.2581 C 0.22725 -0.26273 0.23264 -0.27083 0.23264 -0.2706 C 0.23628 -0.28356 0.2427 -0.29421 0.2493 -0.30532 C 0.25034 -0.31782 0.24878 -0.34328 0.25468 -0.35486 C 0.2809 -0.40578 0.34652 -0.41805 0.39323 -0.41921 C 0.4467 -0.42037 0.50034 -0.42083 0.55382 -0.42152 C 0.55746 -0.42291 0.56163 -0.42291 0.56475 -0.42569 C 0.56701 -0.42777 0.56944 -0.43055 0.57222 -0.43217 C 0.57465 -0.43356 0.57725 -0.43333 0.57986 -0.43425 C 0.58159 -0.43495 0.58333 -0.43564 0.58489 -0.43657 C 0.59114 -0.44027 0.59704 -0.44398 0.60347 -0.44722 C 0.60885 -0.45 0.61475 -0.45162 0.62031 -0.4537 C 0.62187 -0.45439 0.62569 -0.45578 0.62569 -0.45555 C 0.63802 -0.4655 0.65399 -0.47384 0.66823 -0.47939 C 0.68889 -0.4787 0.70989 -0.48032 0.73107 -0.47731 C 0.73541 -0.47662 0.73784 -0.46898 0.74218 -0.46875 C 0.75937 -0.46805 0.77656 -0.46736 0.79375 -0.46666 C 0.82395 -0.46736 0.85399 -0.46759 0.8842 -0.46875 C 0.88958 -0.46898 0.89739 -0.47129 0.90277 -0.47314 C 0.90642 -0.47453 0.91389 -0.47731 0.91389 -0.47708 C 0.91996 -0.48217 0.92552 -0.48263 0.93229 -0.48588 C 0.94027 -0.48981 0.94826 -0.49328 0.95642 -0.49675 C 0.97204 -0.49606 0.98836 -0.4956 1.00434 -0.49444 C 1.02222 -0.49328 1.0342 -0.48819 1.05243 -0.48819 E">
                                      <p:cBhvr>
                                        <p:cTn id="127" dur="16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49"/>
          <p:cNvSpPr/>
          <p:nvPr/>
        </p:nvSpPr>
        <p:spPr>
          <a:xfrm>
            <a:off x="1676520" y="-838800"/>
            <a:ext cx="5181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Первый эксперимент</a:t>
            </a:r>
            <a:r>
              <a:rPr b="0" lang="en-US" sz="4000" spc="-1" strike="noStrike">
                <a:solidFill>
                  <a:srgbClr val="000099"/>
                </a:solidFill>
                <a:latin typeface="Monotype Corsiva"/>
              </a:rPr>
              <a:t>: </a:t>
            </a:r>
            <a:r>
              <a:rPr b="0" i="1" lang="en-US" sz="4000" spc="-1" strike="noStrike">
                <a:solidFill>
                  <a:srgbClr val="006699"/>
                </a:solidFill>
                <a:latin typeface="Monotype Corsiva"/>
              </a:rPr>
              <a:t>дойти с завязанными глазами до объекта, расположенного в 150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65"/>
          <p:cNvSpPr/>
          <p:nvPr/>
        </p:nvSpPr>
        <p:spPr>
          <a:xfrm>
            <a:off x="1676520" y="556164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Пройденное расстояние</a:t>
            </a:r>
            <a:r>
              <a:rPr b="0" lang="en-US" sz="4000" spc="-1" strike="noStrike">
                <a:solidFill>
                  <a:srgbClr val="000099"/>
                </a:solidFill>
                <a:latin typeface="Monotype Corsiva"/>
              </a:rPr>
              <a:t>: </a:t>
            </a:r>
            <a:r>
              <a:rPr b="0" i="1" lang="en-US" sz="4000" spc="-1" strike="noStrike">
                <a:solidFill>
                  <a:srgbClr val="006699"/>
                </a:solidFill>
                <a:latin typeface="Monotype Corsiva"/>
              </a:rPr>
              <a:t>84,15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67" descr="j0303385"/>
          <p:cNvPicPr/>
          <p:nvPr/>
        </p:nvPicPr>
        <p:blipFill>
          <a:blip r:embed="rId1"/>
          <a:stretch/>
        </p:blipFill>
        <p:spPr>
          <a:xfrm>
            <a:off x="6477120" y="380880"/>
            <a:ext cx="2303280" cy="1884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68" descr="j0336894"/>
          <p:cNvPicPr/>
          <p:nvPr/>
        </p:nvPicPr>
        <p:blipFill>
          <a:blip r:embed="rId2"/>
          <a:stretch/>
        </p:blipFill>
        <p:spPr>
          <a:xfrm>
            <a:off x="304920" y="5334120"/>
            <a:ext cx="1022400" cy="1172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69" descr="j0336894"/>
          <p:cNvPicPr/>
          <p:nvPr/>
        </p:nvPicPr>
        <p:blipFill>
          <a:blip r:embed="rId3"/>
          <a:stretch/>
        </p:blipFill>
        <p:spPr>
          <a:xfrm>
            <a:off x="304920" y="5334120"/>
            <a:ext cx="1022400" cy="1172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70" descr="j0336894"/>
          <p:cNvPicPr/>
          <p:nvPr/>
        </p:nvPicPr>
        <p:blipFill>
          <a:blip r:embed="rId4"/>
          <a:stretch/>
        </p:blipFill>
        <p:spPr>
          <a:xfrm>
            <a:off x="304920" y="5334120"/>
            <a:ext cx="1022400" cy="1172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71" descr="j0336894"/>
          <p:cNvPicPr/>
          <p:nvPr/>
        </p:nvPicPr>
        <p:blipFill>
          <a:blip r:embed="rId5"/>
          <a:stretch/>
        </p:blipFill>
        <p:spPr>
          <a:xfrm>
            <a:off x="304920" y="5334120"/>
            <a:ext cx="1022400" cy="1172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72" descr="j0336894"/>
          <p:cNvPicPr/>
          <p:nvPr/>
        </p:nvPicPr>
        <p:blipFill>
          <a:blip r:embed="rId6"/>
          <a:stretch/>
        </p:blipFill>
        <p:spPr>
          <a:xfrm>
            <a:off x="304920" y="5334120"/>
            <a:ext cx="1022400" cy="1172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74" descr="j0336894"/>
          <p:cNvPicPr/>
          <p:nvPr/>
        </p:nvPicPr>
        <p:blipFill>
          <a:blip r:embed="rId7"/>
          <a:stretch/>
        </p:blipFill>
        <p:spPr>
          <a:xfrm>
            <a:off x="304920" y="5334120"/>
            <a:ext cx="1022400" cy="1172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75" descr="j0283261"/>
          <p:cNvPicPr/>
          <p:nvPr/>
        </p:nvPicPr>
        <p:blipFill>
          <a:blip r:embed="rId8"/>
          <a:stretch/>
        </p:blipFill>
        <p:spPr>
          <a:xfrm>
            <a:off x="380880" y="2895480"/>
            <a:ext cx="36576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0093 C 0.01579 -0.01713 -0.00018 0.00278 0.0052 -0.05231 C 0.00538 -0.05463 0.01284 -0.05925 0.01389 -0.06041 C 0.02343 -0.06921 0.03316 -0.07523 0.04357 -0.0831 C 0.04548 -0.08472 0.06441 -0.08773 0.06788 -0.08842 C 0.07534 -0.09236 0.08211 -0.09444 0.09045 -0.09652 C 0.09218 -0.09699 0.09583 -0.09791 0.09583 -0.09768 C 0.10295 -0.10138 0.11041 -0.103 0.1184 -0.10463 C 0.12586 -0.10833 0.1309 -0.10995 0.13941 -0.11134 C 0.15503 -0.11736 0.16979 -0.12546 0.18316 -0.13402 C 0.19114 -0.13912 0.18767 -0.14143 0.19861 -0.14328 C 0.20694 -0.15277 0.20225 -0.14976 0.21093 -0.15393 C 0.21163 -0.15578 0.21163 -0.15763 0.21284 -0.15949 C 0.21458 -0.16226 0.21961 -0.16736 0.21961 -0.16713 C 0.22309 -0.17523 0.22916 -0.18194 0.23541 -0.18888 C 0.23645 -0.19652 0.23489 -0.2125 0.24045 -0.21967 C 0.26527 -0.25115 0.32725 -0.25879 0.37135 -0.25949 C 0.42187 -0.26018 0.47257 -0.26064 0.52309 -0.26111 C 0.52639 -0.2618 0.53038 -0.2618 0.53333 -0.26365 C 0.53541 -0.26481 0.53784 -0.26666 0.54045 -0.26759 C 0.5427 -0.26851 0.54514 -0.26828 0.54757 -0.26898 C 0.5493 -0.26944 0.55086 -0.26967 0.55243 -0.27037 C 0.55833 -0.27268 0.56389 -0.275 0.56996 -0.27708 C 0.575 -0.2787 0.58055 -0.27963 0.58576 -0.28101 C 0.58732 -0.28148 0.59097 -0.2824 0.59097 -0.28217 C 0.6026 -0.28842 0.6177 -0.29351 0.63107 -0.29699 C 0.65069 -0.29652 0.67048 -0.29745 0.69045 -0.2956 C 0.69461 -0.29513 0.69687 -0.2905 0.70104 -0.29027 C 0.71718 -0.28981 0.7335 -0.28958 0.74965 -0.28912 C 0.77812 -0.28958 0.80659 -0.28958 0.83507 -0.29027 C 0.8401 -0.2905 0.84757 -0.29189 0.8526 -0.29305 C 0.85607 -0.29398 0.86319 -0.2956 0.86319 -0.2956 C 0.86892 -0.29861 0.87413 -0.29907 0.88055 -0.30092 C 0.88802 -0.30347 0.89566 -0.30555 0.90329 -0.30763 C 0.91805 -0.3074 0.9335 -0.30694 0.94861 -0.30625 C 0.96545 -0.30555 0.97673 -0.30254 0.99392 -0.30254 E">
                                      <p:cBhvr>
                                        <p:cTn id="136" dur="16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33333E-006 1.11111E-006 C 0.01545 -0.00648 -3.33332999999988E-006 0.00069 0.00521 -0.01898 C 0.00539 -0.01968 0.01268 -0.02153 0.01355 -0.02199 C 0.02275 -0.025 0.0323 -0.02708 0.04219 -0.02986 C 0.0441 -0.03056 0.06233 -0.03148 0.0658 -0.03195 C 0.07292 -0.0331 0.07952 -0.03403 0.0875 -0.03472 C 0.08924 -0.03495 0.09271 -0.03519 0.09271 -0.03495 C 0.09966 -0.03658 0.10695 -0.03704 0.11459 -0.0375 C 0.12188 -0.03889 0.12674 -0.03958 0.1349 -0.04005 C 0.15 -0.04213 0.16424 -0.04491 0.17709 -0.04792 C 0.1849 -0.04977 0.1816 -0.0507 0.19219 -0.05139 C 0.20018 -0.05463 0.19566 -0.0537 0.204 -0.05509 C 0.20469 -0.05579 0.20469 -0.05648 0.20573 -0.05718 C 0.20747 -0.0581 0.2125 -0.05995 0.2125 -0.05972 C 0.2158 -0.06273 0.2217 -0.06505 0.22761 -0.06759 C 0.22865 -0.07037 0.22726 -0.07593 0.23264 -0.07847 C 0.2566 -0.08982 0.3165 -0.09236 0.35903 -0.09259 C 0.40782 -0.09306 0.45677 -0.09306 0.50573 -0.09329 C 0.50903 -0.09352 0.51285 -0.09352 0.51563 -0.09421 C 0.51771 -0.09468 0.51997 -0.09514 0.5224 -0.0956 C 0.52466 -0.09583 0.52709 -0.09583 0.52952 -0.09607 C 0.53108 -0.09607 0.53264 -0.0963 0.53403 -0.09653 C 0.53976 -0.09745 0.54514 -0.09815 0.55105 -0.09884 C 0.55591 -0.09954 0.56129 -0.09977 0.56632 -0.10023 C 0.56771 -0.10046 0.57136 -0.1007 0.57136 -0.10046 C 0.58247 -0.10301 0.59705 -0.10486 0.61007 -0.10602 C 0.629 -0.10579 0.64809 -0.10625 0.66754 -0.10556 C 0.67153 -0.10533 0.67361 -0.1037 0.67761 -0.1037 C 0.69341 -0.10347 0.70903 -0.10324 0.72466 -0.10324 C 0.75226 -0.10324 0.77969 -0.10347 0.8073 -0.1037 C 0.81216 -0.1037 0.81927 -0.10417 0.82431 -0.10463 C 0.82761 -0.10486 0.83438 -0.10556 0.83438 -0.10533 C 0.83993 -0.10671 0.84497 -0.10671 0.85122 -0.10741 C 0.85851 -0.10833 0.8658 -0.10903 0.87327 -0.10972 C 0.8875 -0.10972 0.90243 -0.10949 0.91702 -0.10926 C 0.93334 -0.10903 0.94427 -0.10787 0.96077 -0.10787 E">
                                      <p:cBhvr>
                                        <p:cTn id="141" dur="16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00018 -0.00162 C 0.00173 -0.04745 -0.00018 0.00278 0.00052 -0.13726 C 0.00052 -0.14259 0.00139 -0.15486 0.00156 -0.15763 C 0.00277 -0.17963 0.00399 -0.19537 0.00538 -0.21527 C 0.00555 -0.21898 0.00798 -0.22662 0.0085 -0.22893 C 0.00937 -0.23842 0.01024 -0.24398 0.01145 -0.2493 C 0.01163 -0.25046 0.01215 -0.25254 0.01215 -0.25231 C 0.01302 -0.2618 0.01389 -0.2655 0.01493 -0.2699 C 0.01597 -0.27893 0.01649 -0.28333 0.0177 -0.28657 C 0.01961 -0.30185 0.02152 -0.32245 0.02326 -0.34421 C 0.0243 -0.3574 0.02378 -0.36296 0.02534 -0.36805 C 0.02639 -0.39189 0.02569 -0.38402 0.02691 -0.39513 C 0.02691 -0.39976 0.02691 -0.40463 0.02708 -0.40902 C 0.02725 -0.4162 0.02795 -0.42916 0.02795 -0.4287 C 0.02847 -0.44907 0.02916 -0.46597 0.03003 -0.48356 C 0.03003 -0.50324 0.02986 -0.54328 0.03055 -0.56157 C 0.03385 -0.64189 0.04184 -0.66134 0.04739 -0.66319 C 0.05399 -0.66504 0.06041 -0.66574 0.06684 -0.66689 C 0.06736 -0.66898 0.06788 -0.66898 0.06823 -0.67338 C 0.06857 -0.67662 0.06875 -0.68101 0.06909 -0.68356 C 0.06944 -0.68588 0.06979 -0.68541 0.07014 -0.6868 C 0.07031 -0.68796 0.07048 -0.68912 0.07066 -0.6905 C 0.07135 -0.69652 0.07222 -0.70231 0.07291 -0.7074 C 0.07361 -0.7118 0.0743 -0.71435 0.075 -0.71759 C 0.07517 -0.71875 0.07569 -0.72083 0.07569 -0.7206 C 0.07708 -0.73611 0.07899 -0.7493 0.08073 -0.7581 C 0.08333 -0.75694 0.08576 -0.75949 0.08836 -0.75486 C 0.08889 -0.7537 0.08923 -0.74166 0.08975 -0.74143 C 0.09184 -0.74027 0.09392 -0.73912 0.096 -0.73796 C 0.09965 -0.73912 0.10329 -0.73958 0.10694 -0.74143 C 0.10764 -0.74166 0.1085 -0.74537 0.1092 -0.74838 C 0.10972 -0.75046 0.11059 -0.75486 0.11059 -0.75439 C 0.11128 -0.7625 0.11198 -0.76319 0.11284 -0.76828 C 0.11371 -0.77453 0.11475 -0.78009 0.11562 -0.78541 C 0.11753 -0.78449 0.11961 -0.78379 0.12152 -0.78194 C 0.12361 -0.78009 0.12517 -0.77199 0.12743 -0.77199 E">
                                      <p:cBhvr>
                                        <p:cTn id="146" dur="16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5.55556E-007 9.25926E-006 C 0.00711 -0.00949 0.00607 -0.01805 0.01128 -0.028 C 0.0151 -0.03541 0.02048 -0.04189 0.0243 -0.04953 C 0.0276 -0.06736 0.02309 -0.04953 0.03073 -0.06458 C 0.03698 -0.07708 0.02604 -0.06527 0.03715 -0.07523 C 0.04149 -0.09884 0.03489 -0.07106 0.04357 -0.08819 C 0.04479 -0.09074 0.04427 -0.09421 0.04531 -0.09675 C 0.0533 -0.11805 0.04826 -0.10393 0.05659 -0.11388 C 0.06979 -0.12939 0.06093 -0.12453 0.071 -0.12893 C 0.08073 -0.13773 0.09236 -0.15393 0.1033 -0.15902 C 0.10937 -0.16203 0.11475 -0.16736 0.121 -0.1699 C 0.13663 -0.17662 0.1533 -0.17986 0.16944 -0.18287 C 0.17708 -0.18773 0.18368 -0.19143 0.19201 -0.19351 C 0.20052 -0.20046 0.20955 -0.20555 0.21788 -0.21296 C 0.2217 -0.21643 0.22916 -0.22361 0.22916 -0.22361 C 0.2335 -0.23263 0.24045 -0.23842 0.24531 -0.24722 C 0.25711 -0.26874 0.2434 -0.2493 0.25486 -0.26458 C 0.2592 -0.27986 0.26736 -0.28981 0.27586 -0.30115 C 0.27743 -0.30324 0.28073 -0.3074 0.28073 -0.3074 C 0.2835 -0.31874 0.28889 -0.32569 0.29531 -0.33333 C 0.30468 -0.34444 0.31493 -0.36157 0.32743 -0.3655 C 0.33802 -0.37962 0.35017 -0.38541 0.36458 -0.38912 C 0.37743 -0.38842 0.39045 -0.38819 0.4033 -0.38703 C 0.41475 -0.38587 0.42187 -0.37222 0.43229 -0.36782 C 0.4375 -0.36249 0.44427 -0.35439 0.45 -0.35046 C 0.45312 -0.34837 0.45972 -0.34629 0.45972 -0.34629 C 0.47448 -0.32662 0.54809 -0.33148 0.5533 -0.33124 C 0.59288 -0.33379 0.61198 -0.33587 0.64531 -0.34189 C 0.66198 -0.34953 0.67812 -0.36018 0.69531 -0.3655 C 0.70382 -0.37361 0.71736 -0.37361 0.72743 -0.37638 C 0.73975 -0.37499 0.75225 -0.37453 0.76458 -0.37199 C 0.76649 -0.37152 0.76771 -0.36898 0.76944 -0.36782 C 0.77465 -0.36458 0.78021 -0.36203 0.78559 -0.35902 C 0.78975 -0.35671 0.79357 -0.34999 0.79687 -0.34629 C 0.80416 -0.33819 0.81163 -0.32939 0.81944 -0.32245 C 0.82048 -0.32037 0.82135 -0.31805 0.82257 -0.3162 C 0.82396 -0.31388 0.82621 -0.31226 0.82743 -0.30972 C 0.83229 -0.30023 0.83142 -0.28611 0.83385 -0.27523 C 0.84132 -0.24259 0.84392 -0.21921 0.85972 -0.19143 C 0.86458 -0.17106 0.87569 -0.14675 0.89201 -0.13981 C 0.90625 -0.12083 0.93385 -0.12083 0.95173 -0.11828 C 0.96146 -0.11898 0.97118 -0.11851 0.98073 -0.12037 C 0.98264 -0.12083 0.98385 -0.12361 0.98559 -0.12476 C 0.98871 -0.12662 0.99201 -0.12754 0.99531 -0.12893 C 0.99687 -0.12962 1 -0.13124 1 -0.13124 E">
                                      <p:cBhvr>
                                        <p:cTn id="151" dur="16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1.66667E-006 2.59259E-006 C 0.00677 -0.01528 0.00312 -0.00741 0.01128 -0.02361 C 0.01927 -0.03935 0.01475 -0.04768 0.02743 -0.05602 C 0.03264 -0.05949 0.03958 -0.06041 0.04514 -0.0625 C 0.08003 -0.05972 0.11545 -0.0581 0.15 -0.05162 C 0.16441 -0.04907 0.18125 -0.0375 0.19514 -0.03657 C 0.21267 -0.03541 0.23073 -0.03518 0.24844 -0.03449 C 0.27257 -0.03518 0.29687 -0.03403 0.321 -0.03657 C 0.32621 -0.03704 0.33038 -0.04352 0.33559 -0.04514 C 0.34253 -0.05139 0.35052 -0.05579 0.35816 -0.06018 C 0.36215 -0.0625 0.36545 -0.06643 0.36944 -0.06875 C 0.37153 -0.06991 0.37378 -0.07014 0.37569 -0.07106 C 0.37916 -0.07245 0.38559 -0.07523 0.38559 -0.07523 C 0.39323 -0.08565 0.4026 -0.09143 0.41302 -0.09467 C 0.42135 -0.10254 0.4316 -0.10509 0.44028 -0.1118 C 0.44653 -0.11643 0.44965 -0.12384 0.45642 -0.12685 C 0.46267 -0.13541 0.46944 -0.14421 0.47587 -0.15278 C 0.48559 -0.16574 0.47899 -0.15278 0.48715 -0.16574 C 0.49201 -0.17361 0.49705 -0.18125 0.50173 -0.18935 C 0.50416 -0.19329 0.50816 -0.20208 0.50816 -0.20208 C 0.51007 -0.21065 0.51232 -0.21944 0.51458 -0.22801 C 0.51597 -0.25463 0.51232 -0.26504 0.52899 -0.27754 E">
                                      <p:cBhvr>
                                        <p:cTn id="156" dur="16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4191120" y="68508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Выдвижение гипотез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419720" y="3351960"/>
            <a:ext cx="4276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Comic Sans MS"/>
              </a:rPr>
              <a:t>2. Разница в длине шагов, сделанных правой ногой и лево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600200" y="4952160"/>
            <a:ext cx="7232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Comic Sans MS"/>
              </a:rPr>
              <a:t>3. Траектория движения солнца – дуга окружности, и человек копирует дугу перемещения в случае, когда ориентира нет на неб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343400" y="2133000"/>
            <a:ext cx="442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Comic Sans MS"/>
              </a:rPr>
              <a:t>1. Разница в длине правой ноги и лево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C41-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33520"/>
            <a:ext cx="23050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1600200" y="266040"/>
            <a:ext cx="7162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omic Sans MS"/>
              </a:rPr>
              <a:t>Первая гипоте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Comic Sans MS"/>
              </a:rPr>
              <a:t>Разница в длине правой ноги и лево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676520" y="1142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Для </a:t>
            </a: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доказательства первой гипотезы </a:t>
            </a: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предположу, что одна из ног длиннее другой. Сделаю схематический чертёж шагов правой и левой ног, и, сравнив получившиеся треугольники, сделаю вы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3809880" y="2438280"/>
                <a:ext cx="496584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С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С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правая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нога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ВС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С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левая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нога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В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по</m:t>
                    </m:r>
                    <m:r>
                      <m:rPr>
                        <m:lit/>
                        <m:nor/>
                      </m:rPr>
                      <m:t xml:space="preserve">двум</m:t>
                    </m:r>
                    <m:r>
                      <m:rPr>
                        <m:lit/>
                        <m:nor/>
                      </m:rPr>
                      <m:t xml:space="preserve">сторонам</m:t>
                    </m:r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углу</m:t>
                    </m:r>
                    <m:r>
                      <m:rPr>
                        <m:lit/>
                        <m:nor/>
                      </m:rPr>
                      <m:t xml:space="preserve">между</m:t>
                    </m:r>
                    <m:r>
                      <m:rPr>
                        <m:lit/>
                        <m:nor/>
                      </m:rPr>
                      <m:t xml:space="preserve">ними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вны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реугольника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отив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вны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глов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ежа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вны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тороны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значит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Line 7"/>
          <p:cNvSpPr/>
          <p:nvPr/>
        </p:nvSpPr>
        <p:spPr>
          <a:xfrm flipH="1">
            <a:off x="1800000" y="2535120"/>
            <a:ext cx="726840" cy="19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811160" y="4486320"/>
            <a:ext cx="145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2538360" y="2535120"/>
            <a:ext cx="727200" cy="19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0"/>
          <p:cNvSpPr/>
          <p:nvPr/>
        </p:nvSpPr>
        <p:spPr>
          <a:xfrm>
            <a:off x="2355840" y="2535120"/>
            <a:ext cx="363600" cy="487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1992240" y="3510000"/>
            <a:ext cx="363600" cy="16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1992240" y="3348000"/>
            <a:ext cx="363600" cy="16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 flipH="1">
            <a:off x="2719440" y="3510000"/>
            <a:ext cx="363600" cy="16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1447920" y="4160880"/>
            <a:ext cx="544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3265560" y="4160880"/>
            <a:ext cx="544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2538360" y="2209680"/>
            <a:ext cx="54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2862000" y="4352760"/>
            <a:ext cx="718920" cy="188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2873520" y="6238800"/>
            <a:ext cx="14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3592440" y="4352760"/>
            <a:ext cx="717480" cy="188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1"/>
          <p:cNvSpPr/>
          <p:nvPr/>
        </p:nvSpPr>
        <p:spPr>
          <a:xfrm>
            <a:off x="3413160" y="4352760"/>
            <a:ext cx="358920" cy="471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3052800" y="5295960"/>
            <a:ext cx="360360" cy="156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 flipH="1">
            <a:off x="3772080" y="5295960"/>
            <a:ext cx="358560" cy="156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2514600" y="6081840"/>
            <a:ext cx="5382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4309920" y="5924520"/>
            <a:ext cx="719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3592440" y="4038480"/>
            <a:ext cx="538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7"/>
          <p:cNvSpPr/>
          <p:nvPr/>
        </p:nvSpPr>
        <p:spPr>
          <a:xfrm flipH="1">
            <a:off x="3772080" y="5138640"/>
            <a:ext cx="358560" cy="157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9"/>
          <p:cNvSpPr/>
          <p:nvPr/>
        </p:nvSpPr>
        <p:spPr>
          <a:xfrm>
            <a:off x="4800600" y="4418280"/>
            <a:ext cx="4114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Разница в длине ног не влияет на длину шага, а, следовательно, и на тот факт, что во время эксперимента «испытуемые» не дошли до поставленной ц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600200" y="304200"/>
            <a:ext cx="7162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omic Sans MS"/>
              </a:rPr>
              <a:t>Вторая гипоте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Comic Sans MS"/>
              </a:rPr>
              <a:t>Разница в длине шагов, сделанных правой ногой и лево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676520" y="185796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1. Вычислю, какую траекторию опишет человек, если разница правого и левого шагов составляет 0,5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676520" y="327564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2. Выясню, какая должна быть разница в длине правого и левого шагов, чтобы двигаться по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1682640" y="472356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3. Сделаю вы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1600200" y="304200"/>
            <a:ext cx="7162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omic Sans MS"/>
              </a:rPr>
              <a:t>Вторая гипоте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Comic Sans MS"/>
              </a:rPr>
              <a:t>Разница в длине шагов, сделанных правой ногой и лево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676520" y="185796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1. Вычислю, какую траекторию опишет человек, если разница правого и левого шагов составляет 0,5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752480" y="2533320"/>
            <a:ext cx="6962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Пусть правая нога делает шаг на 0,5мм длиннее лево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Сделав 2000 шагов (по 1000 шагов левой и правой ногами), человек опишет правой ногой пу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1828800" y="4800600"/>
                <a:ext cx="6570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0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5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8"/>
          <p:cNvSpPr/>
          <p:nvPr/>
        </p:nvSpPr>
        <p:spPr>
          <a:xfrm>
            <a:off x="1752480" y="560016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то есть на целых полметра длиннее,  чем путь, описанный левой ног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29T16:30:0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