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C74A-C330-44D4-A4B0-2DEEE6E265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1B62-C381-4353-972A-299CE3BA56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185-EFD2-4D79-8C31-0D975018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CCA-CD0A-49AB-AB1D-09360925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176-C469-4E25-B87B-8C228A1A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AE5-8EED-4129-A7CA-50121276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31E-37AB-49E4-B721-B2BC5092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58F-DACB-4C4B-821B-BCB3AE49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3EA-522F-4617-8BC0-74710524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9B1-B9A5-407A-B119-81564314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649-3F5C-4304-B81A-8E3C5FC2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C54-E20F-43C4-B8CA-C2EEAF3F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4E4-3B62-40E2-8095-694D1129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EB8-6935-4755-9BA5-97122A6F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767B-A6DC-4F42-A8FC-E5CD0202F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8" descr=""/>
          <p:cNvPicPr/>
          <p:nvPr/>
        </p:nvPicPr>
        <p:blipFill>
          <a:blip r:embed="rId1"/>
          <a:stretch/>
        </p:blipFill>
        <p:spPr>
          <a:xfrm>
            <a:off x="1639800" y="609480"/>
            <a:ext cx="6059520" cy="1109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Сергей\Desktop\DSC01547.JPG"/>
          <p:cNvPicPr/>
          <p:nvPr/>
        </p:nvPicPr>
        <p:blipFill>
          <a:blip r:embed="rId2"/>
          <a:stretch/>
        </p:blipFill>
        <p:spPr>
          <a:xfrm>
            <a:off x="1047600" y="2174760"/>
            <a:ext cx="2859120" cy="3951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Users\Сергей\Desktop\DSC01543.JPG"/>
          <p:cNvPicPr/>
          <p:nvPr/>
        </p:nvPicPr>
        <p:blipFill>
          <a:blip r:embed="rId3"/>
          <a:stretch/>
        </p:blipFill>
        <p:spPr>
          <a:xfrm>
            <a:off x="4645080" y="2239920"/>
            <a:ext cx="40417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1_Rouble_1998_a"/>
          <p:cNvPicPr/>
          <p:nvPr/>
        </p:nvPicPr>
        <p:blipFill>
          <a:blip r:embed="rId1"/>
          <a:stretch/>
        </p:blipFill>
        <p:spPr>
          <a:xfrm>
            <a:off x="4929120" y="2286000"/>
            <a:ext cx="1919520" cy="19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rubl"/>
          <p:cNvPicPr/>
          <p:nvPr/>
        </p:nvPicPr>
        <p:blipFill>
          <a:blip r:embed="rId2"/>
          <a:stretch/>
        </p:blipFill>
        <p:spPr>
          <a:xfrm>
            <a:off x="1214280" y="18572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07_net-lu4ei_diska-solnca_d-kant"/>
          <p:cNvPicPr/>
          <p:nvPr/>
        </p:nvPicPr>
        <p:blipFill>
          <a:blip r:embed="rId3"/>
          <a:stretch/>
        </p:blipFill>
        <p:spPr>
          <a:xfrm>
            <a:off x="2071800" y="4429080"/>
            <a:ext cx="3976560" cy="1995480"/>
          </a:xfrm>
          <a:prstGeom prst="rect">
            <a:avLst/>
          </a:prstGeom>
          <a:ln w="0">
            <a:noFill/>
          </a:ln>
        </p:spPr>
      </p:pic>
      <p:sp>
        <p:nvSpPr>
          <p:cNvPr id="54" name="Line 7"/>
          <p:cNvSpPr/>
          <p:nvPr/>
        </p:nvSpPr>
        <p:spPr>
          <a:xfrm flipV="1">
            <a:off x="285840" y="2499840"/>
            <a:ext cx="2449440" cy="151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4076640"/>
            <a:ext cx="18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ве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решк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64360" y="3789360"/>
            <a:ext cx="16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вер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ор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H="1" flipV="1">
            <a:off x="6428880" y="3071520"/>
            <a:ext cx="135756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 flipV="1">
            <a:off x="6072120" y="5643720"/>
            <a:ext cx="571680" cy="14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715080" y="5643720"/>
            <a:ext cx="205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у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ребр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12" descr=""/>
          <p:cNvPicPr/>
          <p:nvPr/>
        </p:nvPicPr>
        <p:blipFill>
          <a:blip r:embed="rId4"/>
          <a:stretch/>
        </p:blipFill>
        <p:spPr>
          <a:xfrm>
            <a:off x="1706400" y="109440"/>
            <a:ext cx="615816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Barter"/>
          <p:cNvPicPr/>
          <p:nvPr/>
        </p:nvPicPr>
        <p:blipFill>
          <a:blip r:embed="rId1"/>
          <a:stretch/>
        </p:blipFill>
        <p:spPr>
          <a:xfrm>
            <a:off x="500040" y="3429000"/>
            <a:ext cx="3773520" cy="221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928760" y="1785600"/>
            <a:ext cx="4040280" cy="482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Такой способ обмена был неудобе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- затрачивалось много време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- сложный и неудобный был поиск нужного това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- обмен мог не состоя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товары"/>
          <p:cNvPicPr/>
          <p:nvPr/>
        </p:nvPicPr>
        <p:blipFill>
          <a:blip r:embed="rId2"/>
          <a:stretch/>
        </p:blipFill>
        <p:spPr>
          <a:xfrm>
            <a:off x="5000760" y="1571760"/>
            <a:ext cx="3741480" cy="16430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8" descr=""/>
          <p:cNvPicPr/>
          <p:nvPr/>
        </p:nvPicPr>
        <p:blipFill>
          <a:blip r:embed="rId3"/>
          <a:stretch/>
        </p:blipFill>
        <p:spPr>
          <a:xfrm>
            <a:off x="66600" y="171360"/>
            <a:ext cx="548640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642840" y="2428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рубль в ХIII ве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3240" y="4429080"/>
            <a:ext cx="404208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копейка в Х ве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р"/>
          <p:cNvPicPr/>
          <p:nvPr/>
        </p:nvPicPr>
        <p:blipFill>
          <a:blip r:embed="rId1"/>
          <a:stretch/>
        </p:blipFill>
        <p:spPr>
          <a:xfrm>
            <a:off x="1428840" y="2214720"/>
            <a:ext cx="1904760" cy="1285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"/>
          <p:cNvPicPr/>
          <p:nvPr/>
        </p:nvPicPr>
        <p:blipFill>
          <a:blip r:embed="rId2"/>
          <a:srcRect l="69206" t="54190" r="2674" b="2010"/>
          <a:stretch/>
        </p:blipFill>
        <p:spPr>
          <a:xfrm>
            <a:off x="1571760" y="4214880"/>
            <a:ext cx="119988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9" descr=""/>
          <p:cNvPicPr/>
          <p:nvPr/>
        </p:nvPicPr>
        <p:blipFill>
          <a:blip r:embed="rId3"/>
          <a:stretch/>
        </p:blipFill>
        <p:spPr>
          <a:xfrm>
            <a:off x="706320" y="36360"/>
            <a:ext cx="78044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6" descr=""/>
          <p:cNvPicPr/>
          <p:nvPr/>
        </p:nvPicPr>
        <p:blipFill>
          <a:blip r:embed="rId1"/>
          <a:stretch/>
        </p:blipFill>
        <p:spPr>
          <a:xfrm>
            <a:off x="1158840" y="249120"/>
            <a:ext cx="7674120" cy="110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3500280" y="1500120"/>
            <a:ext cx="2571840" cy="15969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1"/>
          <p:cNvSpPr/>
          <p:nvPr/>
        </p:nvSpPr>
        <p:spPr>
          <a:xfrm>
            <a:off x="571680" y="328608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У названия «копейка» интересная и долгая история. В </a:t>
            </a:r>
            <a:r>
              <a:rPr b="0" lang="en-US" sz="1800" spc="-1" strike="noStrike">
                <a:solidFill>
                  <a:srgbClr val="17375e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 веке на Руси  чеканились серебряные монеты, на которых изображался всадник, или, как тогда говорили – «ездец». По размерам они были малы – с ноготь мизинца взрослого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500040" y="464760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После денежной реформы 1535 года, которая сделала  монетную систему государства единой. В России стали чеканить только деньгу с изображением всадника на коне с копьем в руках. С тех пор название «копейка»  прочно  заняла место в нашем слова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659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0040" y="1285920"/>
            <a:ext cx="6757920" cy="432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лово «рубль» имеет возраст почтенный, и видимо, старше других, доживших до наших дней названий мон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В Новгороде в XIII веке наряду с названием "гривна" стало употребляться название "рубль". Так стали называть новгородскую гривну, которая представляла собой слиток серебра палочкообразной формы, длиной 14-20 см, с одной или несколькими вмятинами на "спинке" и весом примерно 20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Сергей\Desktop\1112.PNG"/>
          <p:cNvPicPr/>
          <p:nvPr/>
        </p:nvPicPr>
        <p:blipFill>
          <a:blip r:embed="rId1"/>
          <a:stretch/>
        </p:blipFill>
        <p:spPr>
          <a:xfrm>
            <a:off x="2286000" y="3286080"/>
            <a:ext cx="4486320" cy="33577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В 1654 году при царе Алексее Михайловиче (1645-1676) впервые были выпущены реальные рублевые серебряные монеты - "ефимки", перечеканенные из западногерманских талеров - полноценных ходячих монет Европы. На монете впервые была помещена надпись "рубль", на лицевой стороне - двуглавый орел, на оборотной - царь на кон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  Советское время (1931 году) серебро стали заменять никелем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рубль"/>
          <p:cNvPicPr/>
          <p:nvPr/>
        </p:nvPicPr>
        <p:blipFill>
          <a:blip r:embed="rId1"/>
          <a:stretch/>
        </p:blipFill>
        <p:spPr>
          <a:xfrm>
            <a:off x="1214280" y="1571760"/>
            <a:ext cx="2067120" cy="2057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214200" y="43628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Times New Roman"/>
              </a:rPr>
              <a:t>На русских монетах издавна изображался герб Российской империи или Московский герб, в СССР </a:t>
            </a: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—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</a:rPr>
              <a:t> герб СССР, соответственно. В современной России на монетах изображается герб центробанка РФ, похожий на герб Временного правительства 1917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Сергей\Desktop\1256214184_002-640.jpeg"/>
          <p:cNvPicPr/>
          <p:nvPr/>
        </p:nvPicPr>
        <p:blipFill>
          <a:blip r:embed="rId2"/>
          <a:stretch/>
        </p:blipFill>
        <p:spPr>
          <a:xfrm>
            <a:off x="6000840" y="150012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уществуют особые монеты: памятные и юбилейные , посвященные памятным событиям и юбилеям, исторических дея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800px-Soviet_Union_1_rouble_1965_WWII_victory"/>
          <p:cNvPicPr/>
          <p:nvPr/>
        </p:nvPicPr>
        <p:blipFill>
          <a:blip r:embed="rId1"/>
          <a:stretch/>
        </p:blipFill>
        <p:spPr>
          <a:xfrm>
            <a:off x="785880" y="2286000"/>
            <a:ext cx="2949480" cy="150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USSR_1_soviet_ruble_1980"/>
          <p:cNvPicPr/>
          <p:nvPr/>
        </p:nvPicPr>
        <p:blipFill>
          <a:blip r:embed="rId2"/>
          <a:stretch/>
        </p:blipFill>
        <p:spPr>
          <a:xfrm>
            <a:off x="2928960" y="392904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USSR_1_soviet_ruble_1981"/>
          <p:cNvPicPr/>
          <p:nvPr/>
        </p:nvPicPr>
        <p:blipFill>
          <a:blip r:embed="rId3"/>
          <a:stretch/>
        </p:blipFill>
        <p:spPr>
          <a:xfrm>
            <a:off x="5357880" y="192888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5:32:36Z</dcterms:created>
  <dc:creator>Сергей</dc:creator>
  <dc:description/>
  <dc:language>en-US</dc:language>
  <cp:lastModifiedBy>Сергей</cp:lastModifiedBy>
  <dcterms:modified xsi:type="dcterms:W3CDTF">2010-01-31T05:10:11Z</dcterms:modified>
  <cp:revision>21</cp:revision>
  <dc:subject/>
  <dc:title>Исследовательская работа ученика 2 класса А Нижневартовской  санаторно-лесной школы</dc:title>
</cp:coreProperties>
</file>