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7BF-7A65-4E8F-A10C-7CC3E73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10B-822A-4E4C-AE74-EAC6CE05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68D-25F7-4BDB-9A8B-42F3866A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BA4-B201-4EE5-BAB4-E77A4E2F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89C-27A1-48E1-A4C1-88A5F965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FFB-362D-430F-8A6E-EE81BBD7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3CE8-A508-4928-A33F-7C5517D3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13C0-F66B-424B-A3A2-B4A9024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DD1A-4AF0-43D2-9DF9-4C4CDC1A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121-DBD1-4A4B-A24E-E2EF6246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128-A12C-4E73-A95E-4AADC4D0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41A-9F87-4725-A120-BE2A0022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B8C-DF31-4749-B4D3-C465BB0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C1CF-DABD-46E2-90FC-F515623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CB7-62AA-4777-82C1-0226631A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883F-B206-43AC-A594-511AE88D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3B1D-807D-4596-A23E-38A8A61F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63D-6230-483A-99BD-F7507DA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A18-5F9A-493F-9C9C-EDB2A50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64A-C288-46AC-BA53-F482DF0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D54-D651-4BE5-8220-86B6EFE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423-6E70-4719-B191-93991CE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139-12DB-46CA-9F0B-174E2C5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14E-7D3E-4209-9B99-7521932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FA5-F8A2-4FC8-9BAC-B1C873C448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DA1F-CA40-4320-8082-E9380D5FC29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Средняя общеобразовательная школа №70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стория развития солнечных час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ыполнил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еник 9 класс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ощинин Никит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уководитель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юкова Татьяна Сергеев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физик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рнаул, 201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рнаул,2009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4" descr="ммммм"/>
          <p:cNvPicPr/>
          <p:nvPr/>
        </p:nvPicPr>
        <p:blipFill>
          <a:blip r:embed="rId1"/>
          <a:stretch/>
        </p:blipFill>
        <p:spPr>
          <a:xfrm>
            <a:off x="214200" y="357120"/>
            <a:ext cx="86043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зучив теоретический материал по теме, мы установили, что существует несколько видов солнечных часов: экваториальные, горизонтальные, вертикальны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знали историю развития солнечных час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онструировав модель экваториальных солнечных часов, мы узнали как они функционируют и теперь можем определять время с их помощью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Литератур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ксенова Мария  Время, его измерение и хранение. Астрономия: энциклопедия.- с. 302-306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лнечные часы. Энциклопедический словарь юного астронома. Сост. Н.П. Ерпылев. - М.: Педагогика, 1980.- с. 248-25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асы.- Большая Советская энциклопедия. /гл. ред. Б.А. Введенский. Т. 47. 2-е изд. – М.: Большая Советская энциклопедия, 1957.- с.70-71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ww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ky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er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ужок «Умелые руки». – СПб.: Кристалл; Валерии СПб, 1997. – 224с., и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Объектом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сследования являются часы - прибор, служащий для определения времени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Предметом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сследования явились солнечные часы и механизм работы солнечных часов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ель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его исследования рассмотреть историю развития и функционирование солнечных часов с древности до наших дн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Задачи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следова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изучить теоретический материал по теме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сконструировать модель экваториальных солнечных час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сновная гипотеза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солнечные часы в наше время имеют право на существование в качестве эстетического предме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Методы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следования: традиционный анализ литературы, метод эксперимен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учная новизна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шей работы заключается в значимости солнечных часов рассматриваемых на современном этапе развития науки и техник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рактическая значимость: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атериал о солнечных часах может быть использован на уроках физики и классных часах, а так же хотелось бы чтобы солнечные часы появились в парках и садах нашего города, на площадях, на фасадах здани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072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кваториальные солнечные час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5" descr="ммммм"/>
          <p:cNvPicPr/>
          <p:nvPr/>
        </p:nvPicPr>
        <p:blipFill>
          <a:blip r:embed="rId1"/>
          <a:stretch/>
        </p:blipFill>
        <p:spPr>
          <a:xfrm>
            <a:off x="539640" y="-243000"/>
            <a:ext cx="824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оризонтальные солнечные час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ap29-001"/>
          <p:cNvPicPr/>
          <p:nvPr/>
        </p:nvPicPr>
        <p:blipFill>
          <a:blip r:embed="rId1"/>
          <a:stretch/>
        </p:blipFill>
        <p:spPr>
          <a:xfrm>
            <a:off x="1332000" y="0"/>
            <a:ext cx="6192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6381360"/>
            <a:ext cx="7859880" cy="2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ертикальные солнечные час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Scan10002"/>
          <p:cNvPicPr/>
          <p:nvPr/>
        </p:nvPicPr>
        <p:blipFill>
          <a:blip r:embed="rId1"/>
          <a:stretch/>
        </p:blipFill>
        <p:spPr>
          <a:xfrm>
            <a:off x="1643040" y="-428760"/>
            <a:ext cx="5487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979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2:34:34Z</dcterms:created>
  <dc:creator>Гость</dc:creator>
  <dc:description/>
  <dc:language>en-US</dc:language>
  <cp:lastModifiedBy>прпарпарпа</cp:lastModifiedBy>
  <dcterms:modified xsi:type="dcterms:W3CDTF">2010-01-29T10:11:25Z</dcterms:modified>
  <cp:revision>15</cp:revision>
  <dc:subject/>
  <dc:title>Слайд 1</dc:title>
</cp:coreProperties>
</file>