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6FB-E198-48D3-AD4C-037C7724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B19-27FF-4548-9B3F-5E7D0B60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D65-7461-4AB8-8AB4-8C24463C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44F-84CB-44A6-AB36-8FA67490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1F5-E26A-488E-8249-14B199E1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53E-5027-40D0-BA78-C9D22DC0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7CF-8A2E-4409-A867-079E8BC6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674-4491-48F9-B4D4-ED15D5D2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BA0-0A51-4D71-A192-41FC737C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BA7-A1A2-4548-8ACD-FABBBC39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781-643C-43CA-8F27-7559D654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466-0787-4FD1-B1A7-ADDB731A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C7C5-8B8A-4F7D-A32E-C6EB98C8A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0920" y="549360"/>
            <a:ext cx="849780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«Первичная профилактика стрессовых ситуаций в школе и способах их разрешения в условиях образовательного учреждени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Нетунаева Анастас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9«Б» класса МОУ СОШ №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Научный 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Янис Татьяна Борисо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едагог-психолог МОУ СОШ№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468360" y="1369800"/>
            <a:ext cx="81360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«Умение управлять стрессом – значит прожить долгую счастливую жизнь в полном здравии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ГРОМОВА О. 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539640" y="818640"/>
            <a:ext cx="835200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тресс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это совокупность общих, неспецифических биохимических, физиологических и психологических реакций организма в ответ на  действие чрезвычайных раздражителей различной природы и характ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трессор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это раздражитель под влиянием которого (позитивного или негативного) возникает стр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Эустресс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положительн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стресс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отрицательн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2"/>
          <p:cNvSpPr/>
          <p:nvPr/>
        </p:nvSpPr>
        <p:spPr>
          <a:xfrm>
            <a:off x="947880" y="97920"/>
            <a:ext cx="72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1692360" y="981000"/>
            <a:ext cx="5622840" cy="5472360"/>
            <a:chOff x="1692360" y="981000"/>
            <a:chExt cx="5622840" cy="5472360"/>
          </a:xfrm>
        </p:grpSpPr>
        <p:sp>
          <p:nvSpPr>
            <p:cNvPr id="46" name="AutoShape 51"/>
            <p:cNvSpPr/>
            <p:nvPr/>
          </p:nvSpPr>
          <p:spPr>
            <a:xfrm>
              <a:off x="1801440" y="2216880"/>
              <a:ext cx="1424880" cy="528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50"/>
            <p:cNvSpPr/>
            <p:nvPr/>
          </p:nvSpPr>
          <p:spPr>
            <a:xfrm>
              <a:off x="3938760" y="2322720"/>
              <a:ext cx="1424880" cy="317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стрессо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49"/>
            <p:cNvSpPr/>
            <p:nvPr/>
          </p:nvSpPr>
          <p:spPr>
            <a:xfrm>
              <a:off x="5985360" y="2239200"/>
              <a:ext cx="1306080" cy="529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негативное </a:t>
              </a:r>
              <a:br>
                <a:rPr sz="1400"/>
              </a:br>
              <a:r>
                <a:rPr b="1" lang="en-US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воздейств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48"/>
            <p:cNvSpPr/>
            <p:nvPr/>
          </p:nvSpPr>
          <p:spPr>
            <a:xfrm>
              <a:off x="3226320" y="2428560"/>
              <a:ext cx="71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47"/>
            <p:cNvSpPr/>
            <p:nvPr/>
          </p:nvSpPr>
          <p:spPr>
            <a:xfrm>
              <a:off x="5364000" y="2452680"/>
              <a:ext cx="5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46"/>
            <p:cNvSpPr/>
            <p:nvPr/>
          </p:nvSpPr>
          <p:spPr>
            <a:xfrm>
              <a:off x="1822320" y="1714320"/>
              <a:ext cx="142488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Arial"/>
                </a:rPr>
                <a:t>эустр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5"/>
            <p:cNvSpPr/>
            <p:nvPr/>
          </p:nvSpPr>
          <p:spPr>
            <a:xfrm>
              <a:off x="3959280" y="1691280"/>
              <a:ext cx="142488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стр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4"/>
            <p:cNvSpPr/>
            <p:nvPr/>
          </p:nvSpPr>
          <p:spPr>
            <a:xfrm>
              <a:off x="5985360" y="1692000"/>
              <a:ext cx="130608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дистр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3"/>
            <p:cNvSpPr/>
            <p:nvPr/>
          </p:nvSpPr>
          <p:spPr>
            <a:xfrm>
              <a:off x="1703520" y="2854440"/>
              <a:ext cx="558108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уровень 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2"/>
            <p:cNvSpPr/>
            <p:nvPr/>
          </p:nvSpPr>
          <p:spPr>
            <a:xfrm>
              <a:off x="1703520" y="3383640"/>
              <a:ext cx="166248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физи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1"/>
            <p:cNvSpPr/>
            <p:nvPr/>
          </p:nvSpPr>
          <p:spPr>
            <a:xfrm>
              <a:off x="3603600" y="3383640"/>
              <a:ext cx="20185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психофизи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40"/>
            <p:cNvSpPr/>
            <p:nvPr/>
          </p:nvSpPr>
          <p:spPr>
            <a:xfrm>
              <a:off x="5887800" y="3383640"/>
              <a:ext cx="142488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эмоциональ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9"/>
            <p:cNvSpPr/>
            <p:nvPr/>
          </p:nvSpPr>
          <p:spPr>
            <a:xfrm>
              <a:off x="1692360" y="3912840"/>
              <a:ext cx="558108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Психическое здоровье субъекта образовательного 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8"/>
            <p:cNvSpPr/>
            <p:nvPr/>
          </p:nvSpPr>
          <p:spPr>
            <a:xfrm>
              <a:off x="1692360" y="4442400"/>
              <a:ext cx="558108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нервно-психическое состояние субъек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7"/>
            <p:cNvSpPr/>
            <p:nvPr/>
          </p:nvSpPr>
          <p:spPr>
            <a:xfrm>
              <a:off x="1692360" y="4971600"/>
              <a:ext cx="27309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нервно психическая адапт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6"/>
            <p:cNvSpPr/>
            <p:nvPr/>
          </p:nvSpPr>
          <p:spPr>
            <a:xfrm>
              <a:off x="5384880" y="4971600"/>
              <a:ext cx="18997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нестаби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"/>
            <p:cNvSpPr/>
            <p:nvPr/>
          </p:nvSpPr>
          <p:spPr>
            <a:xfrm>
              <a:off x="1734120" y="5394960"/>
              <a:ext cx="558108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уровень регуля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1734120" y="5924160"/>
              <a:ext cx="949680" cy="5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социаль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3"/>
            <p:cNvSpPr/>
            <p:nvPr/>
          </p:nvSpPr>
          <p:spPr>
            <a:xfrm>
              <a:off x="2921400" y="5924160"/>
              <a:ext cx="949680" cy="5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псих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2"/>
            <p:cNvSpPr/>
            <p:nvPr/>
          </p:nvSpPr>
          <p:spPr>
            <a:xfrm>
              <a:off x="4109040" y="5924160"/>
              <a:ext cx="1187280" cy="5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Медицин</a:t>
              </a:r>
              <a:r>
                <a:rPr b="1" lang="ru-RU" sz="1400" spc="-1" strike="noStrike">
                  <a:solidFill>
                    <a:srgbClr val="800000"/>
                  </a:solidFill>
                  <a:latin typeface="Arial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5533920" y="5889600"/>
              <a:ext cx="1543680" cy="5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педаг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4650840" y="2024640"/>
              <a:ext cx="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3254400" y="1923480"/>
              <a:ext cx="71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5364000" y="1927800"/>
              <a:ext cx="5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>
              <a:off x="2506320" y="2027520"/>
              <a:ext cx="36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6"/>
            <p:cNvSpPr/>
            <p:nvPr/>
          </p:nvSpPr>
          <p:spPr>
            <a:xfrm flipH="1">
              <a:off x="6670800" y="2009520"/>
              <a:ext cx="2880" cy="2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5"/>
            <p:cNvSpPr/>
            <p:nvPr/>
          </p:nvSpPr>
          <p:spPr>
            <a:xfrm flipH="1">
              <a:off x="4625280" y="2658600"/>
              <a:ext cx="504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4"/>
            <p:cNvSpPr/>
            <p:nvPr/>
          </p:nvSpPr>
          <p:spPr>
            <a:xfrm>
              <a:off x="2534760" y="317196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3"/>
            <p:cNvSpPr/>
            <p:nvPr/>
          </p:nvSpPr>
          <p:spPr>
            <a:xfrm>
              <a:off x="4553640" y="317196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2"/>
            <p:cNvSpPr/>
            <p:nvPr/>
          </p:nvSpPr>
          <p:spPr>
            <a:xfrm>
              <a:off x="6572160" y="317196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>
              <a:off x="2523240" y="370116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4542120" y="370116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9"/>
            <p:cNvSpPr/>
            <p:nvPr/>
          </p:nvSpPr>
          <p:spPr>
            <a:xfrm>
              <a:off x="6560640" y="370116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8"/>
            <p:cNvSpPr/>
            <p:nvPr/>
          </p:nvSpPr>
          <p:spPr>
            <a:xfrm>
              <a:off x="4542120" y="4230360"/>
              <a:ext cx="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7"/>
            <p:cNvSpPr/>
            <p:nvPr/>
          </p:nvSpPr>
          <p:spPr>
            <a:xfrm>
              <a:off x="2879640" y="4759920"/>
              <a:ext cx="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6"/>
            <p:cNvSpPr/>
            <p:nvPr/>
          </p:nvSpPr>
          <p:spPr>
            <a:xfrm>
              <a:off x="6216120" y="4759920"/>
              <a:ext cx="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>
              <a:off x="2921400" y="528912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6246360" y="528912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3"/>
            <p:cNvSpPr/>
            <p:nvPr/>
          </p:nvSpPr>
          <p:spPr>
            <a:xfrm>
              <a:off x="2208960" y="571248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3396600" y="571248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1"/>
            <p:cNvSpPr/>
            <p:nvPr/>
          </p:nvSpPr>
          <p:spPr>
            <a:xfrm>
              <a:off x="4702680" y="571248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0"/>
            <p:cNvSpPr/>
            <p:nvPr/>
          </p:nvSpPr>
          <p:spPr>
            <a:xfrm>
              <a:off x="6221160" y="5706720"/>
              <a:ext cx="108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2684160" y="6135840"/>
              <a:ext cx="2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8"/>
            <p:cNvSpPr/>
            <p:nvPr/>
          </p:nvSpPr>
          <p:spPr>
            <a:xfrm>
              <a:off x="3871440" y="6135840"/>
              <a:ext cx="2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H="1">
              <a:off x="5296320" y="613584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6"/>
            <p:cNvSpPr/>
            <p:nvPr/>
          </p:nvSpPr>
          <p:spPr>
            <a:xfrm>
              <a:off x="3107520" y="981000"/>
              <a:ext cx="3206160" cy="529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Психофизиологическое состояние субъект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"/>
            <p:cNvSpPr/>
            <p:nvPr/>
          </p:nvSpPr>
          <p:spPr>
            <a:xfrm>
              <a:off x="4644360" y="1508400"/>
              <a:ext cx="36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73"/>
          <p:cNvSpPr/>
          <p:nvPr/>
        </p:nvSpPr>
        <p:spPr>
          <a:xfrm>
            <a:off x="1908000" y="1730520"/>
            <a:ext cx="151164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Позитив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воздействи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сихофизиологические основы конфликтных взаимодействий 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между субъектами в учебной деятельн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68360" y="700200"/>
            <a:ext cx="7848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етодика выхода из стрессовых состояний в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. Изменения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. Антистрессовые средства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ректировка своего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4.Средства вытесняющего 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нализ причин стрессовых состояний для их            преодоления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амокорректировка личности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спользование медикаментозных средств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6948360" y="1844640"/>
            <a:ext cx="1224000" cy="11527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1.wmv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8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684360" y="399960"/>
          <a:ext cx="7848360" cy="605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9960"/>
                    <a:ext cx="7848360" cy="60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539640" y="685800"/>
          <a:ext cx="7920000" cy="576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85800"/>
                    <a:ext cx="79200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31:29Z</dcterms:created>
  <dc:creator>Андрей</dc:creator>
  <dc:description/>
  <dc:language>en-US</dc:language>
  <cp:lastModifiedBy>Comp_03</cp:lastModifiedBy>
  <dcterms:modified xsi:type="dcterms:W3CDTF">1998-12-31T21:39:29Z</dcterms:modified>
  <cp:revision>7</cp:revision>
  <dc:subject/>
  <dc:title>Слайд 1</dc:title>
</cp:coreProperties>
</file>