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1.jpeg" ContentType="image/jpeg"/>
  <Override PartName="/ppt/media/image20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59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media/image56.jpeg" ContentType="image/jpeg"/>
  <Override PartName="/ppt/media/image33.png" ContentType="image/png"/>
  <Override PartName="/ppt/media/image32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52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E4E-2EEF-4667-AD1A-E87A431B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F59-5C18-4A16-8121-8328E543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9697-1530-4A87-AF9F-6B59898A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601-E4F8-4EC7-BDAD-11A2A727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5F9-7419-4EC2-8428-89747009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608-8A89-462A-B9B1-CB3C5CC7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1CE-F589-40BB-9433-03A5EC7C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6414-6B93-4348-8E6E-D54C7A40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D91D-1D35-490F-8346-67047F4D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2D3-8BB6-4DD1-BDB3-57BE421A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E8F5-C8A1-4428-9D24-ECCAA00D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5608-F82D-41AF-991F-B298B3C7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C1E0-B1BF-4BCC-86F6-43AE3A420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50920" y="2924280"/>
            <a:ext cx="8613720" cy="26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Здесь с криками чудовищных глумлений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 сатана на огненном коне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 Гюнт летал на бешенном оле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самой неприступной крутизне" 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 Гумилё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332000" y="260280"/>
            <a:ext cx="72975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1/5 территории стран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занята  леса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Однако леса гибну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из-за многолетне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воздействия кислотн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дождей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и это одна из серьёзнейши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местных пробле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34000" cy="6524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675320" y="1197000"/>
            <a:ext cx="4468680" cy="5661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0" y="0"/>
            <a:ext cx="457200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Норвегия богата водными ресурсами (много рек и озё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огата гидроэнергоресур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940280"/>
            <a:ext cx="5040360" cy="1922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ая крупная река Гломма длиной 600 км. В королевстве несколько тысяч озёр , самое крупное - Озеро Мьёса площадью 364 кв.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3512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472428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Рождаемость 13,7 чел. на тысячу жител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Смертность   10,1 чел. на тысячу ж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Естественный прирост 3,6 чел. на тысячу ж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94920" y="6165720"/>
            <a:ext cx="50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родолжительность жизни 77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0320" y="115920"/>
            <a:ext cx="278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1b69"/>
                </a:solidFill>
                <a:latin typeface="Arial"/>
              </a:rPr>
              <a:t>Нас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95640" y="1125360"/>
            <a:ext cx="475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Население страны  на 97%  состоит из норвежцев, остальную часть составляют квены (норвежские  финны), саамы (в Северной Норвегии) финны и шв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5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9280" y="3357720"/>
            <a:ext cx="36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1339"/>
                </a:solidFill>
                <a:latin typeface="Arial"/>
              </a:rPr>
              <a:t>Для сельской местности характер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1339"/>
                </a:solidFill>
                <a:latin typeface="Arial"/>
              </a:rPr>
              <a:t>хуторской тип рас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5157720"/>
            <a:ext cx="342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реобладают мел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Фермерские хозяй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 до 10 га  зем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89000"/>
            <a:ext cx="324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1339"/>
                </a:solidFill>
                <a:latin typeface="Arial"/>
              </a:rPr>
              <a:t>В городах проживает 73% нас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1339"/>
                </a:solidFill>
                <a:latin typeface="Arial"/>
              </a:rPr>
              <a:t>Преобладают малые города и посёлки(от 5 до 10 тыс. чел.), построенные по берегам фьордов, озёр, долинам р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051440" y="0"/>
            <a:ext cx="5092560" cy="3500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067280" y="3454560"/>
            <a:ext cx="50767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208160" y="1393920"/>
          <a:ext cx="7535880" cy="527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8160" y="1393920"/>
                    <a:ext cx="7535880" cy="52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623960" y="476280"/>
            <a:ext cx="628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ределение занятого насе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отраслям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94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987640" y="3860640"/>
            <a:ext cx="5713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рвежцы экспортируют сушёную рыбу с начала 13 ве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годня рыбу по-прежнему сушат, а также замораживают и консервируют. Промышляют треску, сельдь, пикш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60280"/>
            <a:ext cx="66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новным занятием большинства населения являются рыболовство и китобойный промы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408720" y="0"/>
            <a:ext cx="2735280" cy="2852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0" y="3079800"/>
            <a:ext cx="30020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5229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ьшая часть заводов страны по выплавке металлов (алюминий, никель, цинк)  находятся на юге, в портах.  Оттуда  удобнее вывозить проду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10120" cy="4803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635280" y="3068640"/>
            <a:ext cx="5364360" cy="3646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12920" y="0"/>
            <a:ext cx="603108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Химическая промыш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Электрохимия в Гломфьорде, Рюка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Нутоддене производят аммоний, карб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кальция, магнезию, в небольш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количествах химические волок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пластмассы и смол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476280"/>
            <a:ext cx="68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агодар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рным рекам больш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сть энергии вырабатывается  на   гидроэлектростанц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59280" y="3930480"/>
            <a:ext cx="3995640" cy="262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5280" y="3860640"/>
            <a:ext cx="4249800" cy="2684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556000" y="189000"/>
            <a:ext cx="4824360" cy="792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700280"/>
            <a:ext cx="3671640" cy="863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лоч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отново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56360" y="1773360"/>
            <a:ext cx="3887640" cy="936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изводство зер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картоф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2492280"/>
            <a:ext cx="345600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цево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500"/>
                            </p:stCondLst>
                            <p:childTnLst>
                              <p:par>
                                <p:cTn id="3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20817600">
            <a:off x="1402920" y="1844280"/>
            <a:ext cx="2808360" cy="18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орве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95640" y="3860640"/>
            <a:ext cx="1095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л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4365720"/>
            <a:ext cx="21600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594036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g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-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ть на сев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867480" cy="4753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3232080"/>
            <a:ext cx="4932360" cy="362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88000" cy="3295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0" y="0"/>
            <a:ext cx="4572000" cy="73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 внутренних перевозках лидир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мобильный транспор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5667480"/>
            <a:ext cx="457200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дущая роль в перевозках у мор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нспорта. Более 90%  тоннаж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ходится на международ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возки по иностранным фрах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357720"/>
            <a:ext cx="45626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рвегия находится на одном из пер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 в мире по внутренним перевоз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ссажиров на самолё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8000"/>
                            </p:stCondLst>
                            <p:childTnLst>
                              <p:par>
                                <p:cTn id="3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1280" y="115920"/>
            <a:ext cx="8280360" cy="15843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рвегии принадлежит ведущее место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производству  на душу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3429000"/>
            <a:ext cx="3024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лектроэнер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6000" y="2205000"/>
            <a:ext cx="2952720" cy="7192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люл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1916280"/>
            <a:ext cx="2592360" cy="647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ма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3068640"/>
            <a:ext cx="2736720" cy="64944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юми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3573360"/>
            <a:ext cx="2665440" cy="5763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ерроспла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76424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19974" t="26666" r="27402" b="0"/>
          <a:stretch/>
        </p:blipFill>
        <p:spPr>
          <a:xfrm>
            <a:off x="179280" y="1341360"/>
            <a:ext cx="4175280" cy="4160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272320" y="270828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2924280"/>
            <a:ext cx="18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ктор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1557360"/>
            <a:ext cx="7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/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40464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уктура ВВ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1125360"/>
            <a:ext cx="460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1b69"/>
                </a:solidFill>
                <a:latin typeface="Arial"/>
              </a:rPr>
              <a:t>ВВП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7,3 млрд долл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1339"/>
                </a:solidFill>
                <a:latin typeface="Arial"/>
              </a:rPr>
              <a:t>ВВП на душу населения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7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1339"/>
                </a:solidFill>
                <a:latin typeface="Arial"/>
              </a:rPr>
              <a:t>Главные продукты экспор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фть и природный газ, цветные металлы, суда , древес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79280" y="353880"/>
          <a:ext cx="8785440" cy="627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353880"/>
                    <a:ext cx="8785440" cy="62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779480" y="682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2720" y="836640"/>
            <a:ext cx="79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раслевая структура промышленности Норве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1339"/>
                </a:solidFill>
                <a:latin typeface="Arial"/>
              </a:rPr>
              <a:t>Внешнеторговые связи Норве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4358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1b69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51b69"/>
                </a:solidFill>
                <a:latin typeface="Arial"/>
              </a:rPr>
              <a:t>Экспорт превышает им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1700280"/>
            <a:ext cx="3672000" cy="4824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1700280"/>
            <a:ext cx="3672000" cy="4824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2060640"/>
            <a:ext cx="3024000" cy="360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2060640"/>
            <a:ext cx="2808360" cy="361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2520" y="2637000"/>
            <a:ext cx="3414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ц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фтедобывающей промыш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фтехимической промыш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химической промыш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металлург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ышл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иностро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боловецкие су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мага, ры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6160" y="2852640"/>
            <a:ext cx="2567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еральное топли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кс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лезная 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ромовая 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рганцевая 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моб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500"/>
                            </p:stCondLst>
                            <p:childTnLst>
                              <p:par>
                                <p:cTn id="4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63640" y="404640"/>
            <a:ext cx="547236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133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91339"/>
                </a:solidFill>
                <a:latin typeface="Arial"/>
              </a:rPr>
              <a:t>Внешнеторговые партнёры</a:t>
            </a:r>
            <a:r>
              <a:rPr b="0" lang="en-US" sz="2400" spc="-1" strike="noStrike">
                <a:solidFill>
                  <a:srgbClr val="f9133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844640"/>
            <a:ext cx="3672000" cy="7207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Норве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2924280"/>
            <a:ext cx="3059280" cy="1008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Великобр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3716280"/>
            <a:ext cx="3527280" cy="1081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Шве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08720" y="2852640"/>
            <a:ext cx="3456000" cy="1079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Ф Р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2565360"/>
            <a:ext cx="71640" cy="1224000"/>
          </a:xfrm>
          <a:prstGeom prst="upDownArrow">
            <a:avLst>
              <a:gd name="adj1" fmla="val 50000"/>
              <a:gd name="adj2" fmla="val 340126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4720" y="2276640"/>
            <a:ext cx="71640" cy="792000"/>
          </a:xfrm>
          <a:prstGeom prst="upDownArrow">
            <a:avLst>
              <a:gd name="adj1" fmla="val 50000"/>
              <a:gd name="adj2" fmla="val 220082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2276640"/>
            <a:ext cx="71640" cy="792000"/>
          </a:xfrm>
          <a:prstGeom prst="upDownArrow">
            <a:avLst>
              <a:gd name="adj1" fmla="val 50000"/>
              <a:gd name="adj2" fmla="val 220082"/>
            </a:avLst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25"/>
                            </p:stCondLst>
                            <p:childTnLst>
                              <p:par>
                                <p:cTn id="5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25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4525"/>
                            </p:stCondLst>
                            <p:childTnLst>
                              <p:par>
                                <p:cTn id="5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6525"/>
                            </p:stCondLst>
                            <p:childTnLst>
                              <p:par>
                                <p:cTn id="5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8525"/>
                            </p:stCondLst>
                            <p:childTnLst>
                              <p:par>
                                <p:cTn id="5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428920" y="1197000"/>
            <a:ext cx="6715080" cy="4957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765000"/>
            <a:ext cx="3564000" cy="3011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281040" y="189000"/>
            <a:ext cx="51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Крупнейшие города Норве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35240" y="6237360"/>
            <a:ext cx="13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Берг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0" y="3780000"/>
            <a:ext cx="52927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500"/>
                            </p:stCondLst>
                            <p:childTnLst>
                              <p:par>
                                <p:cTn id="5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948360" cy="4452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724200" y="0"/>
            <a:ext cx="5419800" cy="947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вангер – быстро растущ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фтяная столица Норве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500720" y="3370320"/>
            <a:ext cx="464328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305160" y="3106800"/>
            <a:ext cx="5838840" cy="3751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199120" y="333360"/>
            <a:ext cx="3944880" cy="2635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84360" y="4005360"/>
            <a:ext cx="216036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Белые но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6680" y="0"/>
            <a:ext cx="44449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Столица Норвегии - О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78160" y="2781360"/>
            <a:ext cx="330048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Крепость Акерсх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000"/>
                            </p:stCondLst>
                            <p:childTnLst>
                              <p:par>
                                <p:cTn id="6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203640" y="2401920"/>
            <a:ext cx="5940360" cy="4456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932360" y="0"/>
            <a:ext cx="3924360" cy="2249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0" y="3500280"/>
            <a:ext cx="3564000" cy="2684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27560" y="6338880"/>
            <a:ext cx="21132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Театр О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7440" y="6237360"/>
            <a:ext cx="249732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Ратуша О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500"/>
                            </p:stCondLst>
                            <p:childTnLst>
                              <p:par>
                                <p:cTn id="6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500"/>
                            </p:stCondLst>
                            <p:childTnLst>
                              <p:par>
                                <p:cTn id="6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000"/>
                            </p:stCondLst>
                            <p:childTnLst>
                              <p:par>
                                <p:cTn id="6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27604" t="11475" r="29019" b="524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4427640" cy="1130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Норвегия имеет сухопутные границы с тремя государст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с Россией, Финляндией, Швецией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00280"/>
            <a:ext cx="3564000" cy="1313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орвегия напоминает собой гребешок, развёрну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зубчиками -фьорд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а запад и сев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58920" y="0"/>
            <a:ext cx="64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1b69"/>
                </a:solidFill>
                <a:latin typeface="Arial"/>
              </a:rPr>
              <a:t>Норвегия считается родиной лыж и конь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7040" y="6156360"/>
            <a:ext cx="872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1b69"/>
                </a:solidFill>
                <a:latin typeface="Arial"/>
              </a:rPr>
              <a:t>Слово «слалом» тоже пришло к нам из норвежского языка и букв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1b69"/>
                </a:solidFill>
                <a:latin typeface="Arial"/>
              </a:rPr>
              <a:t>означает «спуск по льд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3807000" cy="5589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500720" y="549360"/>
            <a:ext cx="434340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633760" y="2781360"/>
            <a:ext cx="3219480" cy="3844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79280" y="27936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Тёплые вязанные свитера с национальным норвежским орнаментом исключительно популярны во всём ми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0" y="1413000"/>
            <a:ext cx="2992320" cy="3616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5846760" y="1125360"/>
            <a:ext cx="32972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3000"/>
                            </p:stCondLst>
                            <p:childTnLst>
                              <p:par>
                                <p:cTn id="7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694480" y="2509920"/>
            <a:ext cx="3449520" cy="4348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651640" cy="2589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03120" y="2965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637000"/>
            <a:ext cx="57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поха викингов началась в 8 веке н.э. В течение двух с половиной столетий викинги безразде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аствовали над вс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бережьем северной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и основали там 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елений, колонизиро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ландию, а затем побереж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енландии и Ньюфаундлен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0" y="260280"/>
            <a:ext cx="33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кинги – бесстраш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реплаватели и во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300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000"/>
                            </p:stCondLst>
                            <p:childTnLst>
                              <p:par>
                                <p:cTn id="7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80000" y="0"/>
            <a:ext cx="4464000" cy="4079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364000" y="2924280"/>
            <a:ext cx="3780000" cy="3933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rcRect l="0" t="0" r="0" b="9053"/>
          <a:stretch/>
        </p:blipFill>
        <p:spPr>
          <a:xfrm>
            <a:off x="0" y="620640"/>
            <a:ext cx="5400720" cy="6237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0"/>
            <a:ext cx="709308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му миру известны норвежские сказки, где рассказывается о горных пещерах, живущих там гномах, злых тролл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150"/>
                            </p:stCondLst>
                            <p:childTnLst>
                              <p:par>
                                <p:cTn id="7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6150"/>
                            </p:stCondLst>
                            <p:childTnLst>
                              <p:par>
                                <p:cTn id="7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7150"/>
                            </p:stCondLst>
                            <p:childTnLst>
                              <p:par>
                                <p:cTn id="7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916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Знаменитые люди Норве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92800" y="2421000"/>
            <a:ext cx="4324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Писатель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Генрих Иб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Композитор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Эдвард Гри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Путешествен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Фритьоф Нан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Руаль Амунд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Тур Хейерд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03680" y="0"/>
            <a:ext cx="634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Норвегия – страна сильных и отважных люд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трана самобытн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112536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. В.Л.Бабурин А.И.Даньшин Л.И.Елховская  «Ге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Российского порубежья: мы и наши соседи. 8 – 9 класс»  Москва «Просвещение»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. Малый атлас мира для шк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Москва ОЛМА пресс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. Энциклопедия «Я познаю мир» Страны и контин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Евразия АСТ «Астрель»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4. «Я познаю мир» Страны и народы Европ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Москва издательство АСТ 1998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724280"/>
            <a:ext cx="47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резентацию 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ученица 11«А»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Гаманкова Дар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школа №13 г.Вичуга Ивановская обл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876920" y="4368960"/>
            <a:ext cx="42670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3000"/>
                            </p:stCondLst>
                            <p:childTnLst>
                              <p:par>
                                <p:cTn id="8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rcRect l="0" t="0" r="194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478560" y="98100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лица: О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9960" y="1557360"/>
            <a:ext cx="40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щадь: 387000 кв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54520" y="4365720"/>
            <a:ext cx="333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еление: (200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611 тыс ч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5200" y="5734080"/>
            <a:ext cx="479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 устройс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итуционная монарх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4680" y="260280"/>
            <a:ext cx="8247240" cy="52056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фициальное название: Королевство Норвегия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014720" y="1268280"/>
            <a:ext cx="5129280" cy="3440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Норвежские фьорды – это длинные, узкие, глубокие, сильно разветвлённые заливы с крутыми, высокими и скалистыми берегами. Самый длинный Согне-фьорд вдаётся в сушу на 204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3382920"/>
            <a:ext cx="521172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60" y="0"/>
            <a:ext cx="44449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Здание парламента О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5911920"/>
            <a:ext cx="7524720" cy="947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Законодательная власть принадлеж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парламенту (стортинг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5057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ьшую часть поверхности Норвегии заним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андинавские горы. Высокие плоскогор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фьельды) покрыты крупнейшими в материк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вропе лед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34173" r="0" b="0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99080" y="0"/>
            <a:ext cx="8940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орвегии есть месторождения железных ру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Киркенес), кварцитов (Зирвангер), молибденов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д (Кнабен), медных руд и  пиритов  (Сулетельм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ёрус, Лёккен ), титановых руд  (Хёуге),   грани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рамора. На Шпицбергене ведётся добы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менного уг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404640"/>
            <a:ext cx="878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1339"/>
                </a:solidFill>
                <a:latin typeface="Arial"/>
              </a:rPr>
              <a:t>После того как на прибрежном шельфе были открыты богатейшие месторождения нефти и природного газа, Норвегия превратилась в государство с одним из самых высоких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1339"/>
                </a:solidFill>
                <a:latin typeface="Arial"/>
              </a:rPr>
              <a:t>Европе  уровне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6:25:24Z</dcterms:created>
  <dc:creator>Даша</dc:creator>
  <dc:description/>
  <dc:language>en-US</dc:language>
  <cp:lastModifiedBy>Даша</cp:lastModifiedBy>
  <dcterms:modified xsi:type="dcterms:W3CDTF">2010-01-24T14:05:40Z</dcterms:modified>
  <cp:revision>76</cp:revision>
  <dc:subject/>
  <dc:title>Слайд 1</dc:title>
</cp:coreProperties>
</file>