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chimes.wav" ContentType="audio/x-wav"/>
  <Override PartName="/ppt/media/image26.jpeg" ContentType="image/jpeg"/>
  <Override PartName="/ppt/media/image20.wmf" ContentType="image/x-wmf"/>
  <Override PartName="/ppt/media/image19.png" ContentType="image/png"/>
  <Override PartName="/ppt/media/image28.png" ContentType="image/png"/>
  <Override PartName="/ppt/media/image29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9.png" ContentType="image/png"/>
  <Override PartName="/ppt/media/image5.png" ContentType="image/png"/>
  <Override PartName="/ppt/media/image35.png" ContentType="image/png"/>
  <Override PartName="/ppt/media/image32.gif" ContentType="image/gif"/>
  <Override PartName="/ppt/media/image11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7.png" ContentType="image/png"/>
  <Override PartName="/ppt/media/image7.png" ContentType="image/png"/>
  <Override PartName="/ppt/media/image36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8.png" ContentType="image/png"/>
  <Override PartName="/ppt/media/image1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E71-6574-4C62-9B67-F2221743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0358-ED09-48E8-AB35-0E5496B0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8CB99-A993-4F44-866F-0F81F740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30075-3893-4C1B-AE9A-15053BC2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B3876-076E-40D4-9FDB-D772D234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595B0-6DFA-4B24-A881-849B288B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F8577-60D8-4F85-AEBE-D43A4F75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C4221-8D22-4B76-8FCF-147A9F44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FDEB5-F0DD-4DB1-BD17-8D951818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1D871-72E0-4F28-89A4-7F1ABF94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B2DE7-8167-420D-BC54-489E5ABC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F1A45-C1E5-489E-B4BD-A7164624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BB3-322C-4A99-87A0-05569532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4924A-5EB4-450F-AE64-DD090C13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1310B-ED5A-4227-9926-20D4C9B4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73D24-7398-4EE3-9BE8-39A3F870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5B885-CF82-4F9C-BCD7-93421B79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2F2B7-FB29-4F85-A9B2-E131DFFD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C5DC8-EF8B-4DCE-A568-D38B3132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93A4E-2A62-4698-A7FE-9C205B59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ED59A-6E06-4449-80A7-121C71CB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ADB95-5E9F-4AB3-AED1-0A0E375C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88DFC-C1D4-448F-B8CB-B225138E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30D-80AA-4F02-9C01-5FF2E2BE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FFF18-0212-49E4-8B3C-484A6C02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AD508-88BE-4829-BD43-3C7904FC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C94C2-0D04-447E-AFCC-F77198ED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69845-4B7E-4E01-89DA-23C3AFD3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7C758-9B43-4A7F-94ED-E0EB6A63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EF162-B725-4131-9B99-EF97602D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AD7A6-4967-4C83-A6D4-C01B2F3B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7CF78-9B43-4F44-AC9A-4846776D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C192F-B7DD-46E6-989B-1D82E79B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F8AC8-8E84-43FC-B25C-6A2B9B06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D860-AEB3-4BE0-B93A-BBE20A7F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1CC7A-936A-4D23-8169-8FD2A355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CCC36-DF1B-4C29-8916-3B174D9F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DFA6B-366B-4804-8F40-2012B3D1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E6A7C-3CD9-43A3-A947-E5A0D38B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AE767-F9CC-43E7-A054-C75DE000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C8A1E-58FF-4FE0-B776-C42D659F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9DE44-BD49-46EF-95C9-6C43B269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AAEC6-77A4-4198-920C-708E4E1E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1C909-0C7E-47FB-BA3A-3DC7115C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F7367-9AEB-4355-93C2-80D9B804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2E8B-4700-409F-87D3-FC87E319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4EB2E-3ABB-402F-9608-0CB270EE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A9BDF-6B6A-4DFD-B2BF-58CFD6D0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FFB90-4512-4C62-8A89-F787C5C1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11B3D-B68E-4129-8E1F-8490BD0D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470BB-A21E-4ECD-8AE8-A4920D1A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5D125-DCD2-495E-9DFB-74BD3180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8603F-7BF8-4F68-9CCD-49A976B2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AF841-1F54-4D62-9BCC-9F276528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CB8D7-905F-4E2E-A86F-6D1D48F8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EC924-20D9-4300-AE11-BE8824CB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74BC-01FD-4FA4-89EB-77D305B2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58675-1AAE-4849-80DF-E2D568AA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410A8-FCE1-462F-A66D-9881B488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7D408-452C-4A40-829F-5A42DB71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018DE-E5CF-4857-B1F9-214CE5E9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5950D-0164-4107-9023-2B221843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37C72-2FD0-4738-8F34-F876F2C2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952D7-B6CD-4663-A5D3-BD02A963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49C8DB-C22A-4B7E-89CC-8DA0A151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09AF1-E053-4204-A732-ED70D10A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61A57-A567-4EF7-96AD-993FEFF4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0B2F-1B34-4230-BD88-AE59E9B4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EF673-A20F-4A6B-BDB4-38EE1731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E2F493-8746-44EE-8216-10BB4D96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8B116-EB65-4173-BC01-3FCCD29D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3782F-0639-4D68-A921-C5F59B1F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18B2D-9D12-46D2-860C-629D27B4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AB181-B1C0-4D74-A9CC-22D7BC3A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F54643-B5A1-4F04-BA32-E3F19290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1AF257-CEA8-499D-BADF-E73D601B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36ECC-E3E6-4A20-BABD-E58B0BE4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83CB-2816-4A13-95CE-7C296C4E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A235-87A9-48ED-B268-A21ABBCD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B06D-9E44-4330-9281-D719CDC2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F6A-DC37-454C-AF22-9A4B53E1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EE74-F2B0-4CC3-90AD-87BA22AE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FFFE-5BCD-455F-9174-1651A772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1D11-41D8-45B6-9E39-44B19F68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5EAA-ED33-4835-8F80-A1E89AE2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CD4D-3F40-4F81-B9BC-A4178550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C372C-557B-4137-9BFA-81D8D270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A59DF-5AAF-4727-BBD8-91477E46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F905-792D-492E-BA5E-2FA4D72F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FF52C-A44B-4FB0-9BC2-1F370EDD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7F83-777B-4DB6-96EC-4F5B6FA3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FD1-3634-4672-9C3F-A784DC5A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3BFAA-274C-409A-B353-0E822209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E571F-1762-4D75-8BA5-EF8280CB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37BCA-FD4D-47D5-B353-BD2B44C8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93A3-74F7-44D6-A531-90031114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AF6A1-9B57-4F2E-9630-DE93CDA1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DD7BE-2D54-4E33-ADDB-C925B801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0DAC-BED9-42E5-B8E0-B7017CDE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5010E-824E-458C-8C26-FE0EAB37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FE985-CE54-4D31-9EE1-C59D63F7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4EDAB-1D50-4706-9115-F3CE133F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C47-192E-4B4D-AD35-C58F4C43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08A82-36F2-47BA-BA9C-32511FE1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56022-0D05-4FC9-8F56-E36C0F32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C3B19-D3B8-47FF-9F41-A04809E3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C8058-5368-4BBE-AA7F-C644936C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124F5-9E36-4D5B-ACA6-2457BF81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D39EF-CC7B-4ED8-8956-1529DE8B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FD41A-A5CD-4F0B-9AC2-83D377F4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3E5AA-91FB-4224-A31E-C0A456BB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45B2B-BF74-4D2E-8354-9EF6081E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4B0E7-C803-48DE-AA8F-C80457D5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4D4-C34A-4BE4-BB53-7B17C16A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259F7-A0C6-41EE-9D8A-7F619EE0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8F77D-D77D-42DA-A428-A698FD9D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D0F76-1A9E-4315-907E-015E104E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5B533-CC98-4246-BCD4-849D5280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F7D8C-3B31-4610-918A-4A49BE15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E5750-2390-4B8E-BA17-00FB4D38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82825-53FB-432B-A6F6-E7E8C8C2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880F6-C5E3-488B-88DF-1D8398C7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895A6-BD70-4922-B002-D19B950E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3FEE2-3953-419C-A647-247761D5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07B-5F4F-477B-AB63-28591FC2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1745D-A1C8-4726-B731-10CB08AE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0394E-A781-41CC-BBF5-34939DF7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85082-53F1-4A05-99AE-2B5A9980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48E83-1480-45F0-B1CA-C4B4C6B6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4F430-4A8D-4967-8D76-F2F4A630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75B60-203D-4EB3-849E-CA933674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C0B86-C847-4626-955A-EDC801A4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A19E0-930D-443B-A557-B0BD9021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B776B-ABB4-4BB7-A535-B237DB3E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2D57F-3D68-4781-A122-FC755F45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A8E-A5E5-43EA-AC2C-0DE58CDE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EB5A4-0059-40C2-B614-DFFED67E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517FF-2B00-4ACD-A93E-03CE4F92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94C40-EF16-4D39-B9AA-AE2B4698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85CE2-6AFB-436D-8967-AA0D29DD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55E17-C4BD-4A20-ADC8-59A493E6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256AB-BB79-4267-AFF7-F0C1FB87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B0868-E599-47B7-A5EC-DD354487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6A60F-BFC4-40A7-BB7F-EB1131CB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577C9-FF70-4DF4-AD73-0C6ABE97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68026-59F5-4163-8291-A276B966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B3C-3096-43AE-AC08-75329690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D37FB-2BBE-450E-8198-EAFCF729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60F17-C825-496E-95B2-A723C65A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9D065-93E1-464A-812C-0D87EDD7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31C51-4F2E-4708-9333-E4F77213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C439A-B55C-4234-B626-7899A423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FB7E0-CA7B-469F-BDCE-A2FCB85E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9E879-F42E-4C91-B2CC-CBE2BFE7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C05CD-CCCE-4DC1-B124-BEDFB8AD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91DB4-3B42-4D58-9DBF-D19EDBAC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017DC-004E-4F74-971D-EEA74CE3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EC7-8C9A-4BF5-9C66-D939ED65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C3251-3D2C-4854-843E-6908309F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49F2F-36A2-43ED-BA95-6461ABFC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56061-C58E-4F6A-93A1-62677BBA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99140-3B1F-4892-883E-D66F880C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070CE-3AA9-4970-AE1E-277997EA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DE07B-0131-4769-AC81-2EDA79C7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3013A-1DFA-415D-92C1-7239FEBE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CE5AF-5574-42CE-BE5C-1A918EB4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5BB38-04D2-4780-B32D-3838AA38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0220C-F09C-4C18-B7AE-3662FD37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38C6-85BA-4C6B-A2B1-AB7DBBF32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FCAC-1BFB-415E-B3B5-5F291EC69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42CE-1D9F-44F5-A488-4C5F997C0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DF16-4F86-4B39-82E6-32159F729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FD93-93A1-4806-B92D-85FCCE814A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4F3F-883D-4F7F-ABB5-F60F20018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8918-5C38-4F2B-98DF-F647DEF10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6572-E596-43B5-9113-48DEB02BB6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EC6F-9B1B-4F6E-93E2-010C53E3E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3CB8-16A1-499F-A31A-BCC90C6CE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7851-5CF9-43A5-8AD7-C139AE1C7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A480-1FC3-4AE4-916D-E522BE268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2EC6-51C1-4C60-9757-ACE082A1D1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25ED-4443-41A5-8CDA-9CEDD8FA8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20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image" Target="../media/image4.png"/><Relationship Id="rId7" Type="http://schemas.openxmlformats.org/officeDocument/2006/relationships/slide" Target="slide6.xml"/><Relationship Id="rId8" Type="http://schemas.openxmlformats.org/officeDocument/2006/relationships/image" Target="../media/image4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image" Target="../media/image2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pyphagor.newacropol.ru/" TargetMode="External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4"/>
          <p:cNvSpPr/>
          <p:nvPr/>
        </p:nvSpPr>
        <p:spPr>
          <a:xfrm>
            <a:off x="5214960" y="5143680"/>
            <a:ext cx="3592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готовили: Алексей Арлашёв,</a:t>
            </a:r>
            <a:endParaRPr b="0" lang="en-US" sz="1600" spc="-1" strike="noStrike">
              <a:solidFill>
                <a:srgbClr val="000000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вел Лебеденко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щиеся 8 класса МОУ «Старопестерёвская средняя общеобразовательная школа»</a:t>
            </a:r>
            <a:endParaRPr b="0" lang="en-US" sz="1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575" name="Picture 6" descr="Пифагор"/>
          <p:cNvPicPr/>
          <p:nvPr/>
        </p:nvPicPr>
        <p:blipFill>
          <a:blip r:embed="rId1"/>
          <a:stretch/>
        </p:blipFill>
        <p:spPr>
          <a:xfrm>
            <a:off x="285840" y="2000160"/>
            <a:ext cx="3743280" cy="3529080"/>
          </a:xfrm>
          <a:prstGeom prst="rect">
            <a:avLst/>
          </a:prstGeom>
          <a:ln w="0">
            <a:noFill/>
          </a:ln>
        </p:spPr>
      </p:pic>
      <p:pic>
        <p:nvPicPr>
          <p:cNvPr id="576" name="Прямоугольник 5" descr=""/>
          <p:cNvPicPr/>
          <p:nvPr/>
        </p:nvPicPr>
        <p:blipFill>
          <a:blip r:embed="rId2"/>
          <a:stretch/>
        </p:blipFill>
        <p:spPr>
          <a:xfrm>
            <a:off x="1212840" y="590400"/>
            <a:ext cx="6718320" cy="1451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6"/>
          <p:cNvSpPr/>
          <p:nvPr/>
        </p:nvSpPr>
        <p:spPr>
          <a:xfrm>
            <a:off x="539640" y="260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 1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629" name="Group 74"/>
          <p:cNvGrpSpPr/>
          <p:nvPr/>
        </p:nvGrpSpPr>
        <p:grpSpPr>
          <a:xfrm>
            <a:off x="4205160" y="2082960"/>
            <a:ext cx="1928880" cy="3340800"/>
            <a:chOff x="4205160" y="2082960"/>
            <a:chExt cx="1928880" cy="3340800"/>
          </a:xfrm>
        </p:grpSpPr>
        <p:sp>
          <p:nvSpPr>
            <p:cNvPr id="630" name="Line 11"/>
            <p:cNvSpPr/>
            <p:nvPr/>
          </p:nvSpPr>
          <p:spPr>
            <a:xfrm>
              <a:off x="4780080" y="2262240"/>
              <a:ext cx="0" cy="2654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grpSp>
          <p:nvGrpSpPr>
            <p:cNvPr id="631" name="Group 73"/>
            <p:cNvGrpSpPr/>
            <p:nvPr/>
          </p:nvGrpSpPr>
          <p:grpSpPr>
            <a:xfrm>
              <a:off x="4205160" y="2082960"/>
              <a:ext cx="1928880" cy="3340800"/>
              <a:chOff x="4205160" y="2082960"/>
              <a:chExt cx="1928880" cy="3340800"/>
            </a:xfrm>
          </p:grpSpPr>
          <p:sp>
            <p:nvSpPr>
              <p:cNvPr id="632" name="Line 12"/>
              <p:cNvSpPr/>
              <p:nvPr/>
            </p:nvSpPr>
            <p:spPr>
              <a:xfrm>
                <a:off x="4780080" y="2262240"/>
                <a:ext cx="1212840" cy="2654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33" name="Line 13"/>
              <p:cNvSpPr/>
              <p:nvPr/>
            </p:nvSpPr>
            <p:spPr>
              <a:xfrm>
                <a:off x="4780080" y="4916520"/>
                <a:ext cx="12110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34" name="Rectangle 116"/>
              <p:cNvSpPr/>
              <p:nvPr/>
            </p:nvSpPr>
            <p:spPr>
              <a:xfrm>
                <a:off x="4780080" y="4638600"/>
                <a:ext cx="288720" cy="289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35" name="Text Box 118"/>
              <p:cNvSpPr/>
              <p:nvPr/>
            </p:nvSpPr>
            <p:spPr>
              <a:xfrm>
                <a:off x="4456080" y="496404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36" name="Rectangle 119"/>
              <p:cNvSpPr/>
              <p:nvPr/>
            </p:nvSpPr>
            <p:spPr>
              <a:xfrm>
                <a:off x="4205160" y="20829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М</a:t>
                </a:r>
                <a:endParaRPr b="0" lang="en-US" sz="24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37" name="Text Box 120"/>
              <p:cNvSpPr/>
              <p:nvPr/>
            </p:nvSpPr>
            <p:spPr>
              <a:xfrm>
                <a:off x="5788080" y="4927680"/>
                <a:ext cx="34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endParaRPr b="0" lang="en-US" sz="24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38" name="Text Box 121"/>
              <p:cNvSpPr/>
              <p:nvPr/>
            </p:nvSpPr>
            <p:spPr>
              <a:xfrm>
                <a:off x="4419720" y="3451320"/>
                <a:ext cx="2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39" name="Rectangle 122"/>
              <p:cNvSpPr/>
              <p:nvPr/>
            </p:nvSpPr>
            <p:spPr>
              <a:xfrm>
                <a:off x="5250240" y="4964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40" name="Rectangle 123"/>
              <p:cNvSpPr/>
              <p:nvPr/>
            </p:nvSpPr>
            <p:spPr>
              <a:xfrm>
                <a:off x="5069160" y="3703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</p:grpSp>
      </p:grpSp>
      <p:grpSp>
        <p:nvGrpSpPr>
          <p:cNvPr id="641" name="Group 75"/>
          <p:cNvGrpSpPr/>
          <p:nvPr/>
        </p:nvGrpSpPr>
        <p:grpSpPr>
          <a:xfrm>
            <a:off x="4752720" y="1120320"/>
            <a:ext cx="3867480" cy="3829320"/>
            <a:chOff x="4752720" y="1120320"/>
            <a:chExt cx="3867480" cy="3829320"/>
          </a:xfrm>
        </p:grpSpPr>
        <p:sp>
          <p:nvSpPr>
            <p:cNvPr id="642" name="Line 134"/>
            <p:cNvSpPr/>
            <p:nvPr/>
          </p:nvSpPr>
          <p:spPr>
            <a:xfrm flipV="1">
              <a:off x="8596440" y="3738240"/>
              <a:ext cx="0" cy="1211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grpSp>
          <p:nvGrpSpPr>
            <p:cNvPr id="643" name="Group 137"/>
            <p:cNvGrpSpPr/>
            <p:nvPr/>
          </p:nvGrpSpPr>
          <p:grpSpPr>
            <a:xfrm>
              <a:off x="4752720" y="1120320"/>
              <a:ext cx="3867480" cy="3805560"/>
              <a:chOff x="4752720" y="1120320"/>
              <a:chExt cx="3867480" cy="3805560"/>
            </a:xfrm>
          </p:grpSpPr>
          <p:sp>
            <p:nvSpPr>
              <p:cNvPr id="644" name="Line 131"/>
              <p:cNvSpPr/>
              <p:nvPr/>
            </p:nvSpPr>
            <p:spPr>
              <a:xfrm>
                <a:off x="4780080" y="1146240"/>
                <a:ext cx="0" cy="1211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45" name="Line 132"/>
              <p:cNvSpPr/>
              <p:nvPr/>
            </p:nvSpPr>
            <p:spPr>
              <a:xfrm flipH="1">
                <a:off x="4752720" y="1146240"/>
                <a:ext cx="2654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46" name="Line 133"/>
              <p:cNvSpPr/>
              <p:nvPr/>
            </p:nvSpPr>
            <p:spPr>
              <a:xfrm>
                <a:off x="5967360" y="4925880"/>
                <a:ext cx="2652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47" name="Line 135"/>
              <p:cNvSpPr/>
              <p:nvPr/>
            </p:nvSpPr>
            <p:spPr>
              <a:xfrm flipV="1">
                <a:off x="8596440" y="1120320"/>
                <a:ext cx="0" cy="2654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</p:grpSp>
        <p:sp>
          <p:nvSpPr>
            <p:cNvPr id="648" name="Line 136"/>
            <p:cNvSpPr/>
            <p:nvPr/>
          </p:nvSpPr>
          <p:spPr>
            <a:xfrm flipH="1">
              <a:off x="7384680" y="1146240"/>
              <a:ext cx="1211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sp>
        <p:nvSpPr>
          <p:cNvPr id="649" name="Text Box 139"/>
          <p:cNvSpPr/>
          <p:nvPr/>
        </p:nvSpPr>
        <p:spPr>
          <a:xfrm>
            <a:off x="7731000" y="78588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50" name="Rectangle 140"/>
          <p:cNvSpPr/>
          <p:nvPr/>
        </p:nvSpPr>
        <p:spPr>
          <a:xfrm>
            <a:off x="5356440" y="7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51" name="Rectangle 141"/>
          <p:cNvSpPr/>
          <p:nvPr/>
        </p:nvSpPr>
        <p:spPr>
          <a:xfrm>
            <a:off x="8706240" y="197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52" name="Text Box 142"/>
          <p:cNvSpPr/>
          <p:nvPr/>
        </p:nvSpPr>
        <p:spPr>
          <a:xfrm>
            <a:off x="8741160" y="420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53" name="Text Box 143"/>
          <p:cNvSpPr/>
          <p:nvPr/>
        </p:nvSpPr>
        <p:spPr>
          <a:xfrm>
            <a:off x="7299360" y="49989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54" name="Line 148"/>
          <p:cNvSpPr/>
          <p:nvPr/>
        </p:nvSpPr>
        <p:spPr>
          <a:xfrm flipH="1">
            <a:off x="4779720" y="1146240"/>
            <a:ext cx="2654280" cy="121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55" name="Line 152"/>
          <p:cNvSpPr/>
          <p:nvPr/>
        </p:nvSpPr>
        <p:spPr>
          <a:xfrm flipH="1" flipV="1">
            <a:off x="7372080" y="1155240"/>
            <a:ext cx="1212840" cy="2654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56" name="Line 160"/>
          <p:cNvSpPr/>
          <p:nvPr/>
        </p:nvSpPr>
        <p:spPr>
          <a:xfrm flipV="1">
            <a:off x="5967360" y="3774960"/>
            <a:ext cx="2654280" cy="11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57" name="Rectangle 163"/>
          <p:cNvSpPr/>
          <p:nvPr/>
        </p:nvSpPr>
        <p:spPr>
          <a:xfrm>
            <a:off x="4780080" y="1146240"/>
            <a:ext cx="28872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58" name="Rectangle 164"/>
          <p:cNvSpPr/>
          <p:nvPr/>
        </p:nvSpPr>
        <p:spPr>
          <a:xfrm>
            <a:off x="8307360" y="1146240"/>
            <a:ext cx="28908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59" name="Rectangle 165"/>
          <p:cNvSpPr/>
          <p:nvPr/>
        </p:nvSpPr>
        <p:spPr>
          <a:xfrm>
            <a:off x="8307360" y="4638600"/>
            <a:ext cx="289080" cy="28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60" name="Text Box 166"/>
          <p:cNvSpPr/>
          <p:nvPr/>
        </p:nvSpPr>
        <p:spPr>
          <a:xfrm>
            <a:off x="4284720" y="6206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61" name="Rectangle 169"/>
          <p:cNvSpPr/>
          <p:nvPr/>
        </p:nvSpPr>
        <p:spPr>
          <a:xfrm>
            <a:off x="8706960" y="3557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62" name="Text Box 63"/>
          <p:cNvSpPr/>
          <p:nvPr/>
        </p:nvSpPr>
        <p:spPr>
          <a:xfrm>
            <a:off x="466560" y="620640"/>
            <a:ext cx="3456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 треугольни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K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катет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гипотенузо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63" name="Text Box 64"/>
          <p:cNvSpPr/>
          <p:nvPr/>
        </p:nvSpPr>
        <p:spPr>
          <a:xfrm>
            <a:off x="8459640" y="62064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64" name="Text Box 65"/>
          <p:cNvSpPr/>
          <p:nvPr/>
        </p:nvSpPr>
        <p:spPr>
          <a:xfrm>
            <a:off x="8604360" y="49417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65" name="Text Box 66"/>
          <p:cNvSpPr/>
          <p:nvPr/>
        </p:nvSpPr>
        <p:spPr>
          <a:xfrm>
            <a:off x="466560" y="112392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строим треугольни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K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до квадрата со стороно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+b.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66" name="Oval 68"/>
          <p:cNvSpPr/>
          <p:nvPr/>
        </p:nvSpPr>
        <p:spPr>
          <a:xfrm>
            <a:off x="324000" y="765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67" name="Oval 69"/>
          <p:cNvSpPr/>
          <p:nvPr/>
        </p:nvSpPr>
        <p:spPr>
          <a:xfrm>
            <a:off x="324000" y="1270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68" name="Oval 72"/>
          <p:cNvSpPr/>
          <p:nvPr/>
        </p:nvSpPr>
        <p:spPr>
          <a:xfrm>
            <a:off x="324000" y="34304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669" name="Group 86"/>
          <p:cNvGrpSpPr/>
          <p:nvPr/>
        </p:nvGrpSpPr>
        <p:grpSpPr>
          <a:xfrm>
            <a:off x="324000" y="1700280"/>
            <a:ext cx="1383480" cy="307080"/>
            <a:chOff x="324000" y="1700280"/>
            <a:chExt cx="1383480" cy="307080"/>
          </a:xfrm>
        </p:grpSpPr>
        <p:sp>
          <p:nvSpPr>
            <p:cNvPr id="670" name="Oval 70"/>
            <p:cNvSpPr/>
            <p:nvPr/>
          </p:nvSpPr>
          <p:spPr>
            <a:xfrm>
              <a:off x="324000" y="184464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671" name="Rectangle 76"/>
            <p:cNvSpPr/>
            <p:nvPr/>
          </p:nvSpPr>
          <p:spPr>
            <a:xfrm>
              <a:off x="464400" y="1700280"/>
              <a:ext cx="124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S кв = (a+b)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endParaRPr b="0" lang="en-US" sz="14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grpSp>
        <p:nvGrpSpPr>
          <p:cNvPr id="672" name="Group 99"/>
          <p:cNvGrpSpPr/>
          <p:nvPr/>
        </p:nvGrpSpPr>
        <p:grpSpPr>
          <a:xfrm>
            <a:off x="324000" y="1146240"/>
            <a:ext cx="8272440" cy="3798720"/>
            <a:chOff x="324000" y="1146240"/>
            <a:chExt cx="8272440" cy="3798720"/>
          </a:xfrm>
        </p:grpSpPr>
        <p:sp>
          <p:nvSpPr>
            <p:cNvPr id="673" name="Freeform 174"/>
            <p:cNvSpPr/>
            <p:nvPr/>
          </p:nvSpPr>
          <p:spPr>
            <a:xfrm>
              <a:off x="4815000" y="2009880"/>
              <a:ext cx="284040" cy="1634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grpSp>
          <p:nvGrpSpPr>
            <p:cNvPr id="674" name="Group 94"/>
            <p:cNvGrpSpPr/>
            <p:nvPr/>
          </p:nvGrpSpPr>
          <p:grpSpPr>
            <a:xfrm>
              <a:off x="6759720" y="1146240"/>
              <a:ext cx="172800" cy="261720"/>
              <a:chOff x="6759720" y="1146240"/>
              <a:chExt cx="172800" cy="261720"/>
            </a:xfrm>
          </p:grpSpPr>
          <p:sp>
            <p:nvSpPr>
              <p:cNvPr id="675" name="Freeform 176"/>
              <p:cNvSpPr/>
              <p:nvPr/>
            </p:nvSpPr>
            <p:spPr>
              <a:xfrm>
                <a:off x="6886440" y="1146240"/>
                <a:ext cx="46080" cy="2109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76" name="Freeform 177"/>
              <p:cNvSpPr/>
              <p:nvPr/>
            </p:nvSpPr>
            <p:spPr>
              <a:xfrm>
                <a:off x="6759720" y="1174680"/>
                <a:ext cx="91800" cy="2332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</p:grpSp>
        <p:sp>
          <p:nvSpPr>
            <p:cNvPr id="677" name="Freeform 178"/>
            <p:cNvSpPr/>
            <p:nvPr/>
          </p:nvSpPr>
          <p:spPr>
            <a:xfrm>
              <a:off x="7515360" y="1146240"/>
              <a:ext cx="152280" cy="234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grpSp>
          <p:nvGrpSpPr>
            <p:cNvPr id="678" name="Group 95"/>
            <p:cNvGrpSpPr/>
            <p:nvPr/>
          </p:nvGrpSpPr>
          <p:grpSpPr>
            <a:xfrm>
              <a:off x="8307360" y="3162240"/>
              <a:ext cx="285840" cy="208080"/>
              <a:chOff x="8307360" y="3162240"/>
              <a:chExt cx="285840" cy="208080"/>
            </a:xfrm>
          </p:grpSpPr>
          <p:sp>
            <p:nvSpPr>
              <p:cNvPr id="679" name="Freeform 181"/>
              <p:cNvSpPr/>
              <p:nvPr/>
            </p:nvSpPr>
            <p:spPr>
              <a:xfrm>
                <a:off x="8397720" y="3246480"/>
                <a:ext cx="195480" cy="1238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80" name="Freeform 182"/>
              <p:cNvSpPr/>
              <p:nvPr/>
            </p:nvSpPr>
            <p:spPr>
              <a:xfrm>
                <a:off x="8307360" y="3162240"/>
                <a:ext cx="285840" cy="651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</p:grpSp>
        <p:sp>
          <p:nvSpPr>
            <p:cNvPr id="681" name="Freeform 183"/>
            <p:cNvSpPr/>
            <p:nvPr/>
          </p:nvSpPr>
          <p:spPr>
            <a:xfrm>
              <a:off x="8344080" y="3882960"/>
              <a:ext cx="252360" cy="130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grpSp>
          <p:nvGrpSpPr>
            <p:cNvPr id="682" name="Group 96"/>
            <p:cNvGrpSpPr/>
            <p:nvPr/>
          </p:nvGrpSpPr>
          <p:grpSpPr>
            <a:xfrm>
              <a:off x="6291360" y="4710240"/>
              <a:ext cx="230040" cy="234720"/>
              <a:chOff x="6291360" y="4710240"/>
              <a:chExt cx="230040" cy="234720"/>
            </a:xfrm>
          </p:grpSpPr>
          <p:sp>
            <p:nvSpPr>
              <p:cNvPr id="683" name="Freeform 185"/>
              <p:cNvSpPr/>
              <p:nvPr/>
            </p:nvSpPr>
            <p:spPr>
              <a:xfrm>
                <a:off x="6291360" y="4781520"/>
                <a:ext cx="63360" cy="1522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84" name="Freeform 186"/>
              <p:cNvSpPr/>
              <p:nvPr/>
            </p:nvSpPr>
            <p:spPr>
              <a:xfrm>
                <a:off x="6404040" y="4710240"/>
                <a:ext cx="117360" cy="2347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</p:grpSp>
        <p:sp>
          <p:nvSpPr>
            <p:cNvPr id="685" name="Freeform 187"/>
            <p:cNvSpPr/>
            <p:nvPr/>
          </p:nvSpPr>
          <p:spPr>
            <a:xfrm>
              <a:off x="5715000" y="4675320"/>
              <a:ext cx="163440" cy="218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686" name="Text Box 189"/>
            <p:cNvSpPr/>
            <p:nvPr/>
          </p:nvSpPr>
          <p:spPr>
            <a:xfrm>
              <a:off x="5003640" y="1628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687" name="Text Box 190"/>
            <p:cNvSpPr/>
            <p:nvPr/>
          </p:nvSpPr>
          <p:spPr>
            <a:xfrm>
              <a:off x="6327720" y="11826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688" name="Text Box 191"/>
            <p:cNvSpPr/>
            <p:nvPr/>
          </p:nvSpPr>
          <p:spPr>
            <a:xfrm>
              <a:off x="7731000" y="129060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689" name="Rectangle 192"/>
            <p:cNvSpPr/>
            <p:nvPr/>
          </p:nvSpPr>
          <p:spPr>
            <a:xfrm>
              <a:off x="8199360" y="3990960"/>
              <a:ext cx="24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690" name="Text Box 193"/>
            <p:cNvSpPr/>
            <p:nvPr/>
          </p:nvSpPr>
          <p:spPr>
            <a:xfrm>
              <a:off x="6543720" y="456732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grpSp>
          <p:nvGrpSpPr>
            <p:cNvPr id="691" name="Group 98"/>
            <p:cNvGrpSpPr/>
            <p:nvPr/>
          </p:nvGrpSpPr>
          <p:grpSpPr>
            <a:xfrm>
              <a:off x="4746600" y="2693880"/>
              <a:ext cx="295200" cy="270000"/>
              <a:chOff x="4746600" y="2693880"/>
              <a:chExt cx="295200" cy="270000"/>
            </a:xfrm>
          </p:grpSpPr>
          <p:sp>
            <p:nvSpPr>
              <p:cNvPr id="692" name="Freeform 171"/>
              <p:cNvSpPr/>
              <p:nvPr/>
            </p:nvSpPr>
            <p:spPr>
              <a:xfrm>
                <a:off x="4780080" y="2693880"/>
                <a:ext cx="204840" cy="716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93" name="Freeform 172"/>
              <p:cNvSpPr/>
              <p:nvPr/>
            </p:nvSpPr>
            <p:spPr>
              <a:xfrm>
                <a:off x="4746600" y="2862360"/>
                <a:ext cx="295200" cy="101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</p:grpSp>
        <p:sp>
          <p:nvSpPr>
            <p:cNvPr id="694" name="Rectangle 194"/>
            <p:cNvSpPr/>
            <p:nvPr/>
          </p:nvSpPr>
          <p:spPr>
            <a:xfrm>
              <a:off x="4789800" y="3213000"/>
              <a:ext cx="30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695" name="Text Box 195"/>
            <p:cNvSpPr/>
            <p:nvPr/>
          </p:nvSpPr>
          <p:spPr>
            <a:xfrm>
              <a:off x="5391000" y="4494240"/>
              <a:ext cx="2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696" name="Text Box 196"/>
            <p:cNvSpPr/>
            <p:nvPr/>
          </p:nvSpPr>
          <p:spPr>
            <a:xfrm>
              <a:off x="8199360" y="26938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697" name="Oval 71"/>
            <p:cNvSpPr/>
            <p:nvPr/>
          </p:nvSpPr>
          <p:spPr>
            <a:xfrm>
              <a:off x="324000" y="22068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698" name="Rectangle 77"/>
            <p:cNvSpPr/>
            <p:nvPr/>
          </p:nvSpPr>
          <p:spPr>
            <a:xfrm>
              <a:off x="465120" y="2060640"/>
              <a:ext cx="20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реугольники равны</a:t>
              </a:r>
              <a:endParaRPr b="0" lang="en-US" sz="14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699" name="Rectangle 78"/>
            <p:cNvSpPr/>
            <p:nvPr/>
          </p:nvSpPr>
          <p:spPr>
            <a:xfrm>
              <a:off x="466560" y="2349360"/>
              <a:ext cx="29530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Четырёхугольник KMNP – квадрат, т.к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=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=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3=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 и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5=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6=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7=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8 =&gt;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8  =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5 =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3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6 =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7 =9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sp>
        <p:nvSpPr>
          <p:cNvPr id="700" name="Rectangle 79"/>
          <p:cNvSpPr/>
          <p:nvPr/>
        </p:nvSpPr>
        <p:spPr>
          <a:xfrm>
            <a:off x="464760" y="3284640"/>
            <a:ext cx="31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йдём площадь квадрата ABCD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01" name="Rectangle 80"/>
          <p:cNvSpPr/>
          <p:nvPr/>
        </p:nvSpPr>
        <p:spPr>
          <a:xfrm>
            <a:off x="455040" y="3645000"/>
            <a:ext cx="373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S кв =4Sтр + S1кв =4x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ab + 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2ab +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02" name="Oval 81"/>
          <p:cNvSpPr/>
          <p:nvPr/>
        </p:nvSpPr>
        <p:spPr>
          <a:xfrm>
            <a:off x="324000" y="3789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03" name="Rectangle 82"/>
          <p:cNvSpPr/>
          <p:nvPr/>
        </p:nvSpPr>
        <p:spPr>
          <a:xfrm>
            <a:off x="462600" y="4005360"/>
            <a:ext cx="19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гд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a+b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ab+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04" name="Oval 83"/>
          <p:cNvSpPr/>
          <p:nvPr/>
        </p:nvSpPr>
        <p:spPr>
          <a:xfrm>
            <a:off x="324000" y="414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05" name="Rectangle 84"/>
          <p:cNvSpPr/>
          <p:nvPr/>
        </p:nvSpPr>
        <p:spPr>
          <a:xfrm>
            <a:off x="453960" y="4292640"/>
            <a:ext cx="31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ab +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, 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06" name="Oval 85"/>
          <p:cNvSpPr/>
          <p:nvPr/>
        </p:nvSpPr>
        <p:spPr>
          <a:xfrm>
            <a:off x="324000" y="44388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6"/>
          <p:cNvSpPr/>
          <p:nvPr/>
        </p:nvSpPr>
        <p:spPr>
          <a:xfrm>
            <a:off x="108000" y="333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 2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708" name="Group 25"/>
          <p:cNvGrpSpPr/>
          <p:nvPr/>
        </p:nvGrpSpPr>
        <p:grpSpPr>
          <a:xfrm>
            <a:off x="2843280" y="260280"/>
            <a:ext cx="2016000" cy="2816280"/>
            <a:chOff x="2843280" y="260280"/>
            <a:chExt cx="2016000" cy="2816280"/>
          </a:xfrm>
        </p:grpSpPr>
        <p:sp>
          <p:nvSpPr>
            <p:cNvPr id="709" name="Line 7"/>
            <p:cNvSpPr/>
            <p:nvPr/>
          </p:nvSpPr>
          <p:spPr>
            <a:xfrm>
              <a:off x="3132000" y="549360"/>
              <a:ext cx="0" cy="2158920"/>
            </a:xfrm>
            <a:prstGeom prst="line">
              <a:avLst/>
            </a:prstGeom>
            <a:ln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10" name="Line 10"/>
            <p:cNvSpPr/>
            <p:nvPr/>
          </p:nvSpPr>
          <p:spPr>
            <a:xfrm>
              <a:off x="3132000" y="549360"/>
              <a:ext cx="1440000" cy="2158920"/>
            </a:xfrm>
            <a:prstGeom prst="line">
              <a:avLst/>
            </a:prstGeom>
            <a:ln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11" name="Line 13"/>
            <p:cNvSpPr/>
            <p:nvPr/>
          </p:nvSpPr>
          <p:spPr>
            <a:xfrm>
              <a:off x="3132000" y="2708280"/>
              <a:ext cx="1440000" cy="0"/>
            </a:xfrm>
            <a:prstGeom prst="line">
              <a:avLst/>
            </a:prstGeom>
            <a:ln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12" name="Line 14"/>
            <p:cNvSpPr/>
            <p:nvPr/>
          </p:nvSpPr>
          <p:spPr>
            <a:xfrm>
              <a:off x="3132000" y="2492280"/>
              <a:ext cx="216000" cy="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13" name="Line 15"/>
            <p:cNvSpPr/>
            <p:nvPr/>
          </p:nvSpPr>
          <p:spPr>
            <a:xfrm>
              <a:off x="3348000" y="2492280"/>
              <a:ext cx="0" cy="21600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14" name="Text Box 16"/>
            <p:cNvSpPr/>
            <p:nvPr/>
          </p:nvSpPr>
          <p:spPr>
            <a:xfrm>
              <a:off x="2843280" y="2565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15" name="Text Box 17"/>
            <p:cNvSpPr/>
            <p:nvPr/>
          </p:nvSpPr>
          <p:spPr>
            <a:xfrm>
              <a:off x="3059280" y="260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16" name="Text Box 18"/>
            <p:cNvSpPr/>
            <p:nvPr/>
          </p:nvSpPr>
          <p:spPr>
            <a:xfrm>
              <a:off x="4500720" y="270828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17" name="Text Box 19"/>
            <p:cNvSpPr/>
            <p:nvPr/>
          </p:nvSpPr>
          <p:spPr>
            <a:xfrm>
              <a:off x="2843280" y="1557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18" name="Text Box 20"/>
            <p:cNvSpPr/>
            <p:nvPr/>
          </p:nvSpPr>
          <p:spPr>
            <a:xfrm>
              <a:off x="3635280" y="270828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sp>
        <p:nvSpPr>
          <p:cNvPr id="719" name="Line 26"/>
          <p:cNvSpPr/>
          <p:nvPr/>
        </p:nvSpPr>
        <p:spPr>
          <a:xfrm>
            <a:off x="3132000" y="549360"/>
            <a:ext cx="3600720" cy="71892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20" name="Text Box 28"/>
          <p:cNvSpPr/>
          <p:nvPr/>
        </p:nvSpPr>
        <p:spPr>
          <a:xfrm>
            <a:off x="6675480" y="1833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21" name="Text Box 29"/>
          <p:cNvSpPr/>
          <p:nvPr/>
        </p:nvSpPr>
        <p:spPr>
          <a:xfrm>
            <a:off x="6783480" y="191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722" name="Group 59"/>
          <p:cNvGrpSpPr/>
          <p:nvPr/>
        </p:nvGrpSpPr>
        <p:grpSpPr>
          <a:xfrm>
            <a:off x="4572000" y="981000"/>
            <a:ext cx="2592360" cy="1971720"/>
            <a:chOff x="4572000" y="981000"/>
            <a:chExt cx="2592360" cy="1971720"/>
          </a:xfrm>
        </p:grpSpPr>
        <p:sp>
          <p:nvSpPr>
            <p:cNvPr id="723" name="Line 21"/>
            <p:cNvSpPr/>
            <p:nvPr/>
          </p:nvSpPr>
          <p:spPr>
            <a:xfrm>
              <a:off x="4572000" y="2708280"/>
              <a:ext cx="2160720" cy="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V="1">
              <a:off x="6732720" y="1268280"/>
              <a:ext cx="0" cy="144000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25" name="Line 23"/>
            <p:cNvSpPr/>
            <p:nvPr/>
          </p:nvSpPr>
          <p:spPr>
            <a:xfrm flipH="1">
              <a:off x="4572000" y="1251000"/>
              <a:ext cx="2160720" cy="14396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26" name="Text Box 24"/>
            <p:cNvSpPr/>
            <p:nvPr/>
          </p:nvSpPr>
          <p:spPr>
            <a:xfrm>
              <a:off x="6732720" y="981000"/>
              <a:ext cx="42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6659640" y="2565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28" name="Text Box 27"/>
            <p:cNvSpPr/>
            <p:nvPr/>
          </p:nvSpPr>
          <p:spPr>
            <a:xfrm>
              <a:off x="5561280" y="2584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29" name="Text Box 31"/>
            <p:cNvSpPr/>
            <p:nvPr/>
          </p:nvSpPr>
          <p:spPr>
            <a:xfrm>
              <a:off x="6804000" y="184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sp>
        <p:nvSpPr>
          <p:cNvPr id="730" name="Text Box 27"/>
          <p:cNvSpPr/>
          <p:nvPr/>
        </p:nvSpPr>
        <p:spPr>
          <a:xfrm>
            <a:off x="611280" y="3500280"/>
            <a:ext cx="46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должим отрезок СВ за точку В и построим треугольник В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:BD=b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BDM=90°, DM=a.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31" name="Text Box 26"/>
          <p:cNvSpPr/>
          <p:nvPr/>
        </p:nvSpPr>
        <p:spPr>
          <a:xfrm>
            <a:off x="611280" y="328464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 треугольни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C c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тета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32" name="Oval 56"/>
          <p:cNvSpPr/>
          <p:nvPr/>
        </p:nvSpPr>
        <p:spPr>
          <a:xfrm>
            <a:off x="466560" y="3357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33" name="Oval 58"/>
          <p:cNvSpPr/>
          <p:nvPr/>
        </p:nvSpPr>
        <p:spPr>
          <a:xfrm>
            <a:off x="466560" y="3645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34" name="Text Box 60"/>
          <p:cNvSpPr/>
          <p:nvPr/>
        </p:nvSpPr>
        <p:spPr>
          <a:xfrm>
            <a:off x="611280" y="4005360"/>
            <a:ext cx="43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чки А и М соединим отрезком АМ.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35" name="Oval 61"/>
          <p:cNvSpPr/>
          <p:nvPr/>
        </p:nvSpPr>
        <p:spPr>
          <a:xfrm>
            <a:off x="466560" y="4076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36" name="Rectangle 62"/>
          <p:cNvSpPr/>
          <p:nvPr/>
        </p:nvSpPr>
        <p:spPr>
          <a:xfrm>
            <a:off x="607320" y="4292640"/>
            <a:ext cx="32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AMDC – прямоугольная трапеция. 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37" name="Oval 63"/>
          <p:cNvSpPr/>
          <p:nvPr/>
        </p:nvSpPr>
        <p:spPr>
          <a:xfrm>
            <a:off x="466560" y="4365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38" name="Rectangle 64"/>
          <p:cNvSpPr/>
          <p:nvPr/>
        </p:nvSpPr>
        <p:spPr>
          <a:xfrm>
            <a:off x="611280" y="4653000"/>
            <a:ext cx="656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рямоугольных треугольниках ABC и BMD &lt;1 + &lt;2 =9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&lt;3+&lt;4=9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но так как &lt;1 = &lt;3, то &lt;3 + &lt;2 = 9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; тогда &lt;ABM = 18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9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9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Оказалось, что трапеция AMDC разбита на три прямоугольных треугольника, тогда по свойствам площадей имеем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39" name="Oval 65"/>
          <p:cNvSpPr/>
          <p:nvPr/>
        </p:nvSpPr>
        <p:spPr>
          <a:xfrm>
            <a:off x="466560" y="4797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40" name="Rectangle 66"/>
          <p:cNvSpPr/>
          <p:nvPr/>
        </p:nvSpPr>
        <p:spPr>
          <a:xfrm>
            <a:off x="611280" y="5589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BC + S ABM + S BMD = 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½ a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41" name="Oval 67"/>
          <p:cNvSpPr/>
          <p:nvPr/>
        </p:nvSpPr>
        <p:spPr>
          <a:xfrm>
            <a:off x="466560" y="566100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42" name="Rectangle 68"/>
          <p:cNvSpPr/>
          <p:nvPr/>
        </p:nvSpPr>
        <p:spPr>
          <a:xfrm>
            <a:off x="611280" y="61657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ножив обе части равенства на 2, получим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 +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ab = (a + b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2ab +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куд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43" name="Oval 69"/>
          <p:cNvSpPr/>
          <p:nvPr/>
        </p:nvSpPr>
        <p:spPr>
          <a:xfrm>
            <a:off x="466560" y="6237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3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671640" cy="3511800"/>
          </a:xfrm>
          <a:prstGeom prst="rect">
            <a:avLst/>
          </a:prstGeom>
          <a:ln w="0">
            <a:noFill/>
          </a:ln>
        </p:spPr>
      </p:pic>
      <p:sp>
        <p:nvSpPr>
          <p:cNvPr id="745" name="WordArt 3"/>
          <p:cNvSpPr txBox="1"/>
          <p:nvPr/>
        </p:nvSpPr>
        <p:spPr>
          <a:xfrm>
            <a:off x="971640" y="260280"/>
            <a:ext cx="7634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"Пифагоровы штаны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о все стороны равны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746" name="Picture 4" descr="Шарж"/>
          <p:cNvPicPr/>
          <p:nvPr/>
        </p:nvPicPr>
        <p:blipFill>
          <a:blip r:embed="rId2"/>
          <a:stretch/>
        </p:blipFill>
        <p:spPr>
          <a:xfrm>
            <a:off x="4067280" y="3645000"/>
            <a:ext cx="4716360" cy="3039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Решение старинны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96872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мнению Кантор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арпедонап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ли "натягиватели веревок", строили прямые углы при помощи прямоугольных треугольников со сторонами 3, 4 и 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чень легко можно воспроизвести их способ построения. Возьмем веревку длиною в 12 м. и привяжем к ней по цветной полоске на расстоянии 3м. от одного конца и 4 метра от другого . Прямой угол окажется заключенным между сторонами длиной в 3 и 4 метра. Гарпедонаптам можно было бы возразить, что их способ построения становиться излишним, если воспользоваться, например, деревянным угольником, применяемым всеми плотниками. И действительно, известны египетские рисунки, на которых встречается такой инструмент, например рисунки, изображающие столярную мастерск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7" descr="garped"/>
          <p:cNvPicPr/>
          <p:nvPr/>
        </p:nvPicPr>
        <p:blipFill>
          <a:blip r:embed="rId1"/>
          <a:stretch/>
        </p:blipFill>
        <p:spPr>
          <a:xfrm>
            <a:off x="5580000" y="765000"/>
            <a:ext cx="3167280" cy="4753080"/>
          </a:xfrm>
          <a:prstGeom prst="rect">
            <a:avLst/>
          </a:prstGeom>
          <a:ln w="0">
            <a:noFill/>
          </a:ln>
        </p:spPr>
      </p:pic>
      <p:pic>
        <p:nvPicPr>
          <p:cNvPr id="750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560520"/>
            <a:ext cx="5443560" cy="1476360"/>
          </a:xfrm>
          <a:prstGeom prst="rect">
            <a:avLst/>
          </a:prstGeom>
          <a:ln w="0">
            <a:noFill/>
          </a:ln>
        </p:spPr>
      </p:pic>
      <p:sp>
        <p:nvSpPr>
          <p:cNvPr id="751" name="Прямоугольник 5"/>
          <p:cNvSpPr/>
          <p:nvPr/>
        </p:nvSpPr>
        <p:spPr>
          <a:xfrm>
            <a:off x="220680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752" name="Picture 7" descr="egipet"/>
          <p:cNvPicPr/>
          <p:nvPr/>
        </p:nvPicPr>
        <p:blipFill>
          <a:blip r:embed="rId3"/>
          <a:stretch/>
        </p:blipFill>
        <p:spPr>
          <a:xfrm>
            <a:off x="6114960" y="4429080"/>
            <a:ext cx="3029040" cy="2163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4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Решение старинных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ема Пифагора всегда имела широкое применение при решении самых разнообразных геометрических зада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(Задача индийского ученого Бхаскара Акариа, 1114 г.) На берегу ручья, ширина которого 4 фута, рос тополь. Порыв ветра сломил его на высоте в 3 фута от земли так, что верхний конец его коснулся другого берега ручья (ствол направлен перпендикулярно течению). Определить высоту топ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) A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 AC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+ BC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AB = 5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) 5 + 3 = 8 (футов) – высота топ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8" descr="Рисунок19_resize"/>
          <p:cNvPicPr/>
          <p:nvPr/>
        </p:nvPicPr>
        <p:blipFill>
          <a:blip r:embed="rId1"/>
          <a:srcRect l="504" t="357" r="983" b="751"/>
          <a:stretch/>
        </p:blipFill>
        <p:spPr>
          <a:xfrm>
            <a:off x="4703760" y="965160"/>
            <a:ext cx="4011480" cy="5678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8680" y="353520"/>
            <a:ext cx="8678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Monotype Corsiva"/>
              </a:rPr>
              <a:t>Задача из учебника «Арифметика»                                             Леонтия Магницкого</a:t>
            </a:r>
            <a:r>
              <a:rPr b="0" lang="ru-RU" sz="3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772080" y="2238120"/>
            <a:ext cx="4954320" cy="31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«Случися некому человеку к стене лестницу прибрати, стены же тоя высота есть 117 стоп. И обреете лестницу долготью 125 стоп.  И ведати хочет, колико стоп сея лестницы нижний конец от стены отстояти има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8" descr="Рисунок21_resize"/>
          <p:cNvPicPr/>
          <p:nvPr/>
        </p:nvPicPr>
        <p:blipFill>
          <a:blip r:embed="rId1"/>
          <a:srcRect l="0" t="380" r="882" b="0"/>
          <a:stretch/>
        </p:blipFill>
        <p:spPr>
          <a:xfrm>
            <a:off x="122400" y="2098800"/>
            <a:ext cx="3848040" cy="3973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700"/>
                            </p:stCondLst>
                            <p:childTnLst>
                              <p:par>
                                <p:cTn id="3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700"/>
                            </p:stCondLst>
                            <p:childTnLst>
                              <p:par>
                                <p:cTn id="3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5"/>
          <p:cNvSpPr/>
          <p:nvPr/>
        </p:nvSpPr>
        <p:spPr>
          <a:xfrm>
            <a:off x="179280" y="174600"/>
            <a:ext cx="4572000" cy="582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Индии был обычай предлагать задачи в стихах.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д озером тихи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полфута размеро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сился лотоса цвет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рос одиноко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етер порыво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нёс его в сторону. Не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е цветка над водо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шёл же рыбак ег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нней весною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двух футах от места, где рос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так, предложу я вопрос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Как озера вода здесь глубока?”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им чертёж к задаче и обозначим глубину озера АС =Х, тогда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AD = AB = Х + 0,5 .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треугольника ACB по теореме Пифагора имеем AB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AC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BC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Х + 0,5 )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Х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+ Х + 0,25 – Х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4, Х = 3,75.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ким образом, глубина озера составляет 3,75 фута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760" name="Picture 10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3057840" cy="36478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2" descr=""/>
          <p:cNvPicPr/>
          <p:nvPr/>
        </p:nvPicPr>
        <p:blipFill>
          <a:blip r:embed="rId2"/>
          <a:stretch/>
        </p:blipFill>
        <p:spPr>
          <a:xfrm>
            <a:off x="7829640" y="1901880"/>
            <a:ext cx="131436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30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30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30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3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300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3000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3000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3000"/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4"/>
          <p:cNvSpPr/>
          <p:nvPr/>
        </p:nvSpPr>
        <p:spPr>
          <a:xfrm>
            <a:off x="360360" y="31608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геометрических задач 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63" name="Равнобедренный треугольник 14"/>
          <p:cNvSpPr/>
          <p:nvPr/>
        </p:nvSpPr>
        <p:spPr>
          <a:xfrm>
            <a:off x="179280" y="1268280"/>
            <a:ext cx="2928960" cy="1414440"/>
          </a:xfrm>
          <a:prstGeom prst="triangle">
            <a:avLst>
              <a:gd name="adj" fmla="val 10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64" name="TextBox 15"/>
          <p:cNvSpPr/>
          <p:nvPr/>
        </p:nvSpPr>
        <p:spPr>
          <a:xfrm>
            <a:off x="3179880" y="2054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65" name="TextBox 17"/>
          <p:cNvSpPr/>
          <p:nvPr/>
        </p:nvSpPr>
        <p:spPr>
          <a:xfrm>
            <a:off x="1038960" y="176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66" name="TextBox 18"/>
          <p:cNvSpPr/>
          <p:nvPr/>
        </p:nvSpPr>
        <p:spPr>
          <a:xfrm>
            <a:off x="1182240" y="276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67" name="Прямоугольник 19"/>
          <p:cNvSpPr/>
          <p:nvPr/>
        </p:nvSpPr>
        <p:spPr>
          <a:xfrm>
            <a:off x="2808360" y="2381400"/>
            <a:ext cx="2858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68" name="Равнобедренный треугольник 20"/>
          <p:cNvSpPr/>
          <p:nvPr/>
        </p:nvSpPr>
        <p:spPr>
          <a:xfrm>
            <a:off x="4032360" y="1179360"/>
            <a:ext cx="1643040" cy="1500480"/>
          </a:xfrm>
          <a:prstGeom prst="triangle">
            <a:avLst>
              <a:gd name="adj" fmla="val 63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69" name="Прямоугольник 21"/>
          <p:cNvSpPr/>
          <p:nvPr/>
        </p:nvSpPr>
        <p:spPr>
          <a:xfrm>
            <a:off x="4032360" y="2394000"/>
            <a:ext cx="28548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70" name="TextBox 22"/>
          <p:cNvSpPr/>
          <p:nvPr/>
        </p:nvSpPr>
        <p:spPr>
          <a:xfrm>
            <a:off x="4962960" y="1608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71" name="TextBox 23"/>
          <p:cNvSpPr/>
          <p:nvPr/>
        </p:nvSpPr>
        <p:spPr>
          <a:xfrm>
            <a:off x="3605040" y="182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72" name="TextBox 24"/>
          <p:cNvSpPr/>
          <p:nvPr/>
        </p:nvSpPr>
        <p:spPr>
          <a:xfrm>
            <a:off x="4533840" y="2751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73" name="Равнобедренный треугольник 25"/>
          <p:cNvSpPr/>
          <p:nvPr/>
        </p:nvSpPr>
        <p:spPr>
          <a:xfrm rot="10800000">
            <a:off x="6408720" y="1149120"/>
            <a:ext cx="1643040" cy="1500120"/>
          </a:xfrm>
          <a:prstGeom prst="triangle">
            <a:avLst>
              <a:gd name="adj" fmla="val 63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74" name="TextBox 27"/>
          <p:cNvSpPr/>
          <p:nvPr/>
        </p:nvSpPr>
        <p:spPr>
          <a:xfrm>
            <a:off x="6838920" y="172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75" name="TextBox 28"/>
          <p:cNvSpPr/>
          <p:nvPr/>
        </p:nvSpPr>
        <p:spPr>
          <a:xfrm>
            <a:off x="6910560" y="79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76" name="TextBox 29"/>
          <p:cNvSpPr/>
          <p:nvPr/>
        </p:nvSpPr>
        <p:spPr>
          <a:xfrm>
            <a:off x="8268120" y="150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77" name="Прямоугольник 30"/>
          <p:cNvSpPr/>
          <p:nvPr/>
        </p:nvSpPr>
        <p:spPr>
          <a:xfrm>
            <a:off x="7765920" y="1149480"/>
            <a:ext cx="2858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78" name="Text Box 18"/>
          <p:cNvSpPr/>
          <p:nvPr/>
        </p:nvSpPr>
        <p:spPr>
          <a:xfrm>
            <a:off x="338760" y="3502080"/>
            <a:ext cx="172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 = 5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779" name="Group 19"/>
          <p:cNvGrpSpPr/>
          <p:nvPr/>
        </p:nvGrpSpPr>
        <p:grpSpPr>
          <a:xfrm>
            <a:off x="3888720" y="3483000"/>
            <a:ext cx="1928880" cy="1191240"/>
            <a:chOff x="3888720" y="3483000"/>
            <a:chExt cx="1928880" cy="1191240"/>
          </a:xfrm>
        </p:grpSpPr>
        <p:sp>
          <p:nvSpPr>
            <p:cNvPr id="780" name="Text Box 20"/>
            <p:cNvSpPr/>
            <p:nvPr/>
          </p:nvSpPr>
          <p:spPr>
            <a:xfrm>
              <a:off x="3888720" y="3483000"/>
              <a:ext cx="1928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 Х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3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endParaRPr b="0" lang="en-US" sz="2400" spc="-1" strike="noStrike">
                <a:solidFill>
                  <a:srgbClr val="000000"/>
                </a:solidFill>
                <a:latin typeface="Castel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stel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 = 16√2</a:t>
              </a:r>
              <a:endParaRPr b="0" lang="en-US" sz="24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81" name="Line 21"/>
            <p:cNvSpPr/>
            <p:nvPr/>
          </p:nvSpPr>
          <p:spPr>
            <a:xfrm>
              <a:off x="5113440" y="42750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grpSp>
        <p:nvGrpSpPr>
          <p:cNvPr id="782" name="Group 22"/>
          <p:cNvGrpSpPr/>
          <p:nvPr/>
        </p:nvGrpSpPr>
        <p:grpSpPr>
          <a:xfrm>
            <a:off x="6784560" y="3435480"/>
            <a:ext cx="1607400" cy="1191240"/>
            <a:chOff x="6784560" y="3435480"/>
            <a:chExt cx="1607400" cy="1191240"/>
          </a:xfrm>
        </p:grpSpPr>
        <p:sp>
          <p:nvSpPr>
            <p:cNvPr id="783" name="Text Box 23"/>
            <p:cNvSpPr/>
            <p:nvPr/>
          </p:nvSpPr>
          <p:spPr>
            <a:xfrm>
              <a:off x="6784560" y="3435480"/>
              <a:ext cx="160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</a:t>
              </a:r>
              <a:endParaRPr b="0" lang="en-US" sz="2400" spc="-1" strike="noStrike">
                <a:solidFill>
                  <a:srgbClr val="000000"/>
                </a:solidFill>
                <a:latin typeface="Castel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stel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 =5√2</a:t>
              </a:r>
              <a:endParaRPr b="0" lang="en-US" sz="24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784" name="Line 24"/>
            <p:cNvSpPr/>
            <p:nvPr/>
          </p:nvSpPr>
          <p:spPr>
            <a:xfrm>
              <a:off x="7648560" y="42274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</p:spTree>
  </p:cSld>
  <p:transition spd="med">
    <p:wheel spokes="8"/>
    <p:sndAc>
      <p:stSnd>
        <p:snd r:embed="rId1" name="chimes.wav"/>
      </p:stSnd>
    </p:sndAc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Равнобедренный треугольник 31"/>
          <p:cNvSpPr/>
          <p:nvPr/>
        </p:nvSpPr>
        <p:spPr>
          <a:xfrm>
            <a:off x="1039680" y="1832040"/>
            <a:ext cx="1357560" cy="2143080"/>
          </a:xfrm>
          <a:prstGeom prst="triangle">
            <a:avLst>
              <a:gd name="adj" fmla="val 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86" name="Прямоугольник 32"/>
          <p:cNvSpPr/>
          <p:nvPr/>
        </p:nvSpPr>
        <p:spPr>
          <a:xfrm>
            <a:off x="1039680" y="3689280"/>
            <a:ext cx="2858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87" name="TextBox 36"/>
          <p:cNvSpPr/>
          <p:nvPr/>
        </p:nvSpPr>
        <p:spPr>
          <a:xfrm>
            <a:off x="898560" y="1403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88" name="TextBox 37"/>
          <p:cNvSpPr/>
          <p:nvPr/>
        </p:nvSpPr>
        <p:spPr>
          <a:xfrm>
            <a:off x="1613520" y="233208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м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89" name="TextBox 38"/>
          <p:cNvSpPr/>
          <p:nvPr/>
        </p:nvSpPr>
        <p:spPr>
          <a:xfrm>
            <a:off x="877680" y="28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0" name="TextBox 39"/>
          <p:cNvSpPr/>
          <p:nvPr/>
        </p:nvSpPr>
        <p:spPr>
          <a:xfrm>
            <a:off x="877680" y="404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1" name="TextBox 40"/>
          <p:cNvSpPr/>
          <p:nvPr/>
        </p:nvSpPr>
        <p:spPr>
          <a:xfrm>
            <a:off x="2470320" y="3832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2" name="TextBox 41"/>
          <p:cNvSpPr/>
          <p:nvPr/>
        </p:nvSpPr>
        <p:spPr>
          <a:xfrm>
            <a:off x="899280" y="21891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’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3" name="Прямоугольник 42"/>
          <p:cNvSpPr/>
          <p:nvPr/>
        </p:nvSpPr>
        <p:spPr>
          <a:xfrm>
            <a:off x="5183280" y="2046240"/>
            <a:ext cx="2928960" cy="21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4" name="Равнобедренный треугольник 46"/>
          <p:cNvSpPr/>
          <p:nvPr/>
        </p:nvSpPr>
        <p:spPr>
          <a:xfrm>
            <a:off x="5183280" y="2046240"/>
            <a:ext cx="2928960" cy="2143080"/>
          </a:xfrm>
          <a:prstGeom prst="triangle">
            <a:avLst>
              <a:gd name="adj" fmla="val 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5" name="TextBox 47"/>
          <p:cNvSpPr/>
          <p:nvPr/>
        </p:nvSpPr>
        <p:spPr>
          <a:xfrm>
            <a:off x="6541920" y="154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6" name="TextBox 48"/>
          <p:cNvSpPr/>
          <p:nvPr/>
        </p:nvSpPr>
        <p:spPr>
          <a:xfrm>
            <a:off x="8114040" y="1474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7" name="TextBox 49"/>
          <p:cNvSpPr/>
          <p:nvPr/>
        </p:nvSpPr>
        <p:spPr>
          <a:xfrm>
            <a:off x="4827960" y="154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8" name="TextBox 50"/>
          <p:cNvSpPr/>
          <p:nvPr/>
        </p:nvSpPr>
        <p:spPr>
          <a:xfrm>
            <a:off x="8184960" y="38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9" name="TextBox 51"/>
          <p:cNvSpPr/>
          <p:nvPr/>
        </p:nvSpPr>
        <p:spPr>
          <a:xfrm>
            <a:off x="4761000" y="2813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00" name="TextBox 52"/>
          <p:cNvSpPr/>
          <p:nvPr/>
        </p:nvSpPr>
        <p:spPr>
          <a:xfrm>
            <a:off x="8185680" y="283212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01" name="TextBox 53"/>
          <p:cNvSpPr/>
          <p:nvPr/>
        </p:nvSpPr>
        <p:spPr>
          <a:xfrm>
            <a:off x="5114160" y="226044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802" name="Group 19"/>
          <p:cNvGrpSpPr/>
          <p:nvPr/>
        </p:nvGrpSpPr>
        <p:grpSpPr>
          <a:xfrm>
            <a:off x="1238760" y="4761000"/>
            <a:ext cx="1646640" cy="1191240"/>
            <a:chOff x="1238760" y="4761000"/>
            <a:chExt cx="1646640" cy="1191240"/>
          </a:xfrm>
        </p:grpSpPr>
        <p:sp>
          <p:nvSpPr>
            <p:cNvPr id="803" name="Text Box 20"/>
            <p:cNvSpPr/>
            <p:nvPr/>
          </p:nvSpPr>
          <p:spPr>
            <a:xfrm>
              <a:off x="1238760" y="4761000"/>
              <a:ext cx="164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Y=13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м</a:t>
              </a:r>
              <a:endParaRPr b="0" lang="en-US" sz="2400" spc="-1" strike="noStrike">
                <a:solidFill>
                  <a:srgbClr val="000000"/>
                </a:solidFill>
                <a:latin typeface="Castel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=26²-13²</a:t>
              </a:r>
              <a:endParaRPr b="0" lang="en-US" sz="2400" spc="-1" strike="noStrike">
                <a:solidFill>
                  <a:srgbClr val="000000"/>
                </a:solidFill>
                <a:latin typeface="Castel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√507</a:t>
              </a:r>
              <a:endParaRPr b="0" lang="en-US" sz="24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804" name="Line 21"/>
            <p:cNvSpPr/>
            <p:nvPr/>
          </p:nvSpPr>
          <p:spPr>
            <a:xfrm>
              <a:off x="1812960" y="5553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sp>
        <p:nvSpPr>
          <p:cNvPr id="805" name="Text Box 22"/>
          <p:cNvSpPr/>
          <p:nvPr/>
        </p:nvSpPr>
        <p:spPr>
          <a:xfrm>
            <a:off x="5234040" y="506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806" name="Group 23"/>
          <p:cNvGrpSpPr/>
          <p:nvPr/>
        </p:nvGrpSpPr>
        <p:grpSpPr>
          <a:xfrm>
            <a:off x="5833080" y="4975200"/>
            <a:ext cx="1236960" cy="1191240"/>
            <a:chOff x="5833080" y="4975200"/>
            <a:chExt cx="1236960" cy="1191240"/>
          </a:xfrm>
        </p:grpSpPr>
        <p:sp>
          <p:nvSpPr>
            <p:cNvPr id="807" name="Text Box 24"/>
            <p:cNvSpPr/>
            <p:nvPr/>
          </p:nvSpPr>
          <p:spPr>
            <a:xfrm>
              <a:off x="5833080" y="4975200"/>
              <a:ext cx="1236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T=14</a:t>
              </a:r>
              <a:endParaRPr b="0" lang="en-US" sz="2400" spc="-1" strike="noStrike">
                <a:solidFill>
                  <a:srgbClr val="000000"/>
                </a:solidFill>
                <a:latin typeface="Castel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²=147</a:t>
              </a:r>
              <a:endParaRPr b="0" lang="en-US" sz="2400" spc="-1" strike="noStrike">
                <a:solidFill>
                  <a:srgbClr val="000000"/>
                </a:solidFill>
                <a:latin typeface="Castellar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=√147</a:t>
              </a:r>
              <a:endParaRPr b="0" lang="en-US" sz="24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808" name="Line 25"/>
            <p:cNvSpPr/>
            <p:nvPr/>
          </p:nvSpPr>
          <p:spPr>
            <a:xfrm>
              <a:off x="6460920" y="5769000"/>
              <a:ext cx="57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sp>
        <p:nvSpPr>
          <p:cNvPr id="809" name="Прямоугольник 25"/>
          <p:cNvSpPr/>
          <p:nvPr/>
        </p:nvSpPr>
        <p:spPr>
          <a:xfrm>
            <a:off x="539640" y="26028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геометрических задач 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ОБЛАСТИ ПРИМЕ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Архитектура и строи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обильная связ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Астроно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4" descr="j0301076"/>
          <p:cNvPicPr/>
          <p:nvPr/>
        </p:nvPicPr>
        <p:blipFill>
          <a:blip r:embed="rId4"/>
          <a:stretch/>
        </p:blipFill>
        <p:spPr>
          <a:xfrm>
            <a:off x="4932360" y="2781360"/>
            <a:ext cx="3772080" cy="3771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5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77564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Кто такой Пифагор Самосск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Теорема Пифагора, её доказате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Решение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Практическое применение теоремы</a:t>
            </a: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" descr="01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2960" y="342900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" descr="01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2960" y="242892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018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11280" y="134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" descr="018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71680" y="4429080"/>
            <a:ext cx="355320" cy="355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9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Архите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7" descr="rom"/>
          <p:cNvPicPr/>
          <p:nvPr/>
        </p:nvPicPr>
        <p:blipFill>
          <a:blip r:embed="rId1"/>
          <a:stretch/>
        </p:blipFill>
        <p:spPr>
          <a:xfrm>
            <a:off x="179280" y="260280"/>
            <a:ext cx="2349720" cy="283212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3"/>
          <p:cNvSpPr/>
          <p:nvPr/>
        </p:nvSpPr>
        <p:spPr>
          <a:xfrm>
            <a:off x="2484360" y="692280"/>
            <a:ext cx="581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дания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ического и романского сти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рхние части окон расчленяются каменными ребрами, которые не только играют роль орнамента, но и способствуют прочности окон. На рисунке представлен простой пример такого окна в готическом стиле. Способ построения его очень прост: Из рисунка легко найти центры шести дуг окружностей, радиусы которых равны</a:t>
            </a: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ине окна (b) для наружных дуг </a:t>
            </a: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вине ширины, (b/2) для внутренних дуг </a:t>
            </a: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ется еще полная окружность, касающаяся четырех дуг.   Т. к. она заключена между двумя концентрическими окружностями, то ее диаметр равен расстоянию между </a:t>
            </a: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ми окружностями, т. е. b/2 и, следовательно,</a:t>
            </a: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диус равен b/4. А тогда становится ясным и</a:t>
            </a: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ение ее центра. </a:t>
            </a: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816" name="Picture 5" descr="use04"/>
          <p:cNvPicPr/>
          <p:nvPr/>
        </p:nvPicPr>
        <p:blipFill>
          <a:blip r:embed="rId2"/>
          <a:stretch/>
        </p:blipFill>
        <p:spPr>
          <a:xfrm>
            <a:off x="395280" y="3357720"/>
            <a:ext cx="1411200" cy="314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50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0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500"/>
                            </p:stCondLst>
                            <p:childTnLst>
                              <p:par>
                                <p:cTn id="5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0"/>
                            </p:stCondLst>
                            <p:childTnLst>
                              <p:par>
                                <p:cTn id="5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6000"/>
                            </p:stCondLst>
                            <p:childTnLst>
                              <p:par>
                                <p:cTn id="6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6500"/>
                            </p:stCondLst>
                            <p:childTnLst>
                              <p:par>
                                <p:cTn id="6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Архите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манской архитекту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о встречается мотив, представленный на рисунке. Если b по-прежнему обозначает ширину окна, то радиусы полуокружностей будут равны R = b / 2 и r = b / 4. Радиус p внутренней окружности можно вычислить из прямоугольного треугольника, изображенного на рис. пунктиром. Гипотенуза этого треугольника, проходящая через точку касания окружностей, равна b/4+p, один катет равен b/4, а другой b/2-p. По теореме Пифагора име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b/4+p)=( b/4)+( b/4-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/16+ bp/2+p=b/16+b/4-bp+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p/2=b/4-b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в на b и приводя подобные члены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/2)p=b/4, p=b/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5" descr="use05"/>
          <p:cNvPicPr/>
          <p:nvPr/>
        </p:nvPicPr>
        <p:blipFill>
          <a:blip r:embed="rId1"/>
          <a:stretch/>
        </p:blipFill>
        <p:spPr>
          <a:xfrm>
            <a:off x="6357960" y="3571920"/>
            <a:ext cx="2460600" cy="1573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Строи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Кр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олниеот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4" descr="j0090386"/>
          <p:cNvPicPr/>
          <p:nvPr/>
        </p:nvPicPr>
        <p:blipFill>
          <a:blip r:embed="rId3"/>
          <a:stretch/>
        </p:blipFill>
        <p:spPr>
          <a:xfrm>
            <a:off x="4770360" y="3114720"/>
            <a:ext cx="437364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4" name="chimes.wav"/>
      </p:stSnd>
    </p:sndAc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Строи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571680" y="1600200"/>
            <a:ext cx="81151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строительстве любого сооружения, рассчитывают расстояния, центры тяжести, размещение опор, балок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Вот как рассчитывают различные расстояния при постройке и проектировании зданий, не производя измерений на местности"/>
          <p:cNvPicPr/>
          <p:nvPr/>
        </p:nvPicPr>
        <p:blipFill>
          <a:blip r:embed="rId1"/>
          <a:stretch/>
        </p:blipFill>
        <p:spPr>
          <a:xfrm>
            <a:off x="5081760" y="3814920"/>
            <a:ext cx="4062240" cy="3043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87880" y="221040"/>
            <a:ext cx="8070840" cy="13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Строи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0" y="128556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"Чтобы найти поверхность крыши, все скаты которой имеют равный уклон, нужно умножить перекрываемую площадь на длину какого-нибудь стропила и разделить полученное произведение на проекцию этого стропила на перекрываемую площадь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2" descr="Теорему Пифагора можно увидеть везде, если внимательно вглядеться"/>
          <p:cNvPicPr/>
          <p:nvPr/>
        </p:nvPicPr>
        <p:blipFill>
          <a:blip r:embed="rId1"/>
          <a:stretch/>
        </p:blipFill>
        <p:spPr>
          <a:xfrm>
            <a:off x="5572080" y="2530440"/>
            <a:ext cx="3357720" cy="4327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Строительство кры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троительстве домов и коттеджей часто встает вопрос о длине стропил для крыши, если уже изготовлены балки. Например: в доме задумано построить двускатную крышу (форма в сечении). Какой длины должны быть стропила, если изготовлены балки AC=8 м., и AB=B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ADC - равнобедренный AB=BC=4 м., BF=4 м. Если предположить, что FD=1,5 м., 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з треугольника DBC: DB=2,5 м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 треугольника AB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5" descr="Pic6"/>
          <p:cNvPicPr/>
          <p:nvPr/>
        </p:nvPicPr>
        <p:blipFill>
          <a:blip r:embed="rId1"/>
          <a:stretch/>
        </p:blipFill>
        <p:spPr>
          <a:xfrm>
            <a:off x="5364000" y="4365720"/>
            <a:ext cx="3132360" cy="176688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7" descr="Formula54"/>
          <p:cNvPicPr/>
          <p:nvPr/>
        </p:nvPicPr>
        <p:blipFill>
          <a:blip r:embed="rId2"/>
          <a:stretch/>
        </p:blipFill>
        <p:spPr>
          <a:xfrm>
            <a:off x="1042920" y="5589720"/>
            <a:ext cx="3529080" cy="495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8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Молниеот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о, что молниеотвод защищает от молнии все предметы, расстояние которых от его основания не превышает его удвоенной высоты. Необходимо определить оптимальное положение молниеотвода на двускатной крыше, обеспечивающее наименьшую его доступную выс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еореме Пифагор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h2≥ a2+b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начи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h≥(a2+b2)1/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5" descr="oblast31"/>
          <p:cNvPicPr/>
          <p:nvPr/>
        </p:nvPicPr>
        <p:blipFill>
          <a:blip r:embed="rId1"/>
          <a:stretch/>
        </p:blipFill>
        <p:spPr>
          <a:xfrm>
            <a:off x="5327640" y="5127480"/>
            <a:ext cx="3816360" cy="1730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7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Мобильн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наибольшую высоту должна иметь антенна мобильного оператора, чтобы передачу можно было принимать в радиусе R=200 км? (радиус Земли равен 6380 к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AB= 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C=R=200 к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OC= r =638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=OA+AB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=r + x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теорему Пифагора, получим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2,3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5" descr="oblast32"/>
          <p:cNvPicPr/>
          <p:nvPr/>
        </p:nvPicPr>
        <p:blipFill>
          <a:blip r:embed="rId1"/>
          <a:stretch/>
        </p:blipFill>
        <p:spPr>
          <a:xfrm>
            <a:off x="6804000" y="4508640"/>
            <a:ext cx="183348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8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500"/>
                            </p:stCondLst>
                            <p:childTnLst>
                              <p:par>
                                <p:cTn id="7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0" dur="5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Астроно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том рисунке показаны точки A и B и путь светового луча от A к B и обратно. Путь луча показан изогнутой стрелкой для наглядности, на самом деле, световой луч -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путь проходит луч? Поскольку свет идет туда и обратно одинаковый путь, спросим сразу: чему равно расстояние между точ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5" descr="http://relativity.ru/images/dilatrest.gif"/>
          <p:cNvPicPr/>
          <p:nvPr/>
        </p:nvPicPr>
        <p:blipFill>
          <a:blip r:embed="rId1"/>
          <a:stretch/>
        </p:blipFill>
        <p:spPr>
          <a:xfrm>
            <a:off x="6516720" y="3860640"/>
            <a:ext cx="1333440" cy="249264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0" y="0"/>
          <a:ext cx="9144000" cy="517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stellar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stellar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  <p:sndAc>
      <p:stSnd>
        <p:snd r:embed="rId2" name="chimes.wav"/>
      </p:stSnd>
    </p:sndAc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7" dur="500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Астроно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це девятнадцатого века высказывались разнообразные предположения о существовании обитателей Марса подобных человеку. В шутку, хотя и не совсем безосновательно , было решено 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редать обитателям Марса сигнал в виде теоремы Пифаго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еизвестно, как это сделать; но для всех очевидно, что математический факт, выражаемый теоремой Пифагора имеет место всюду и поэтому похожие на нас обитатели другого мира должны понять такой сиг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5" descr="th_pf"/>
          <p:cNvPicPr/>
          <p:nvPr/>
        </p:nvPicPr>
        <p:blipFill>
          <a:blip r:embed="rId1"/>
          <a:stretch/>
        </p:blipFill>
        <p:spPr>
          <a:xfrm>
            <a:off x="5435640" y="5229360"/>
            <a:ext cx="3159000" cy="1485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004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comic"/>
              </a:rPr>
              <a:t> </a:t>
            </a: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«Геометрия владеет двумя сокровищами: </a:t>
            </a:r>
            <a:br>
              <a:rPr sz="3200"/>
            </a:b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одно из них —                                                                                        это теорема Пифагора...»</a:t>
            </a:r>
            <a:br>
              <a:rPr sz="3200"/>
            </a:b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                                                                                                  Иоганн Кеп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e1_1"/>
          <p:cNvPicPr/>
          <p:nvPr/>
        </p:nvPicPr>
        <p:blipFill>
          <a:blip r:embed="rId1"/>
          <a:stretch/>
        </p:blipFill>
        <p:spPr>
          <a:xfrm>
            <a:off x="755640" y="2637000"/>
            <a:ext cx="288936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3" descr=""/>
          <p:cNvPicPr/>
          <p:nvPr/>
        </p:nvPicPr>
        <p:blipFill>
          <a:blip r:embed="rId1"/>
          <a:stretch/>
        </p:blipFill>
        <p:spPr>
          <a:xfrm>
            <a:off x="1946160" y="609480"/>
            <a:ext cx="4640400" cy="5639040"/>
          </a:xfrm>
          <a:prstGeom prst="rect">
            <a:avLst/>
          </a:prstGeom>
          <a:ln w="0">
            <a:noFill/>
          </a:ln>
        </p:spPr>
      </p:pic>
      <p:sp>
        <p:nvSpPr>
          <p:cNvPr id="849" name="WordArt 4"/>
          <p:cNvSpPr txBox="1"/>
          <p:nvPr/>
        </p:nvSpPr>
        <p:spPr>
          <a:xfrm>
            <a:off x="228600" y="0"/>
            <a:ext cx="2057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2e28aa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Это он!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solidFill>
                <a:srgbClr val="2e28aa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23924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ифаго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- это не только великий математик, но и великий мыслитель своего времен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714240" y="10000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1. Мысль — превыше всего между людьми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2. Не садись на хлебную меру (т. е. не живи праздн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3. Уходя, не оглядывайся (т. е. перед смертью не цепляйся за жизн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4. По торной дороге не ходи (т. е. следуй не мнениям толпы, а мнениям немногих понимающ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5. Ласточек в доме не держи (т. е. не принимай гостей болтливых и не сдержанных на язы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6. Будь с тем, кто ношу взваливает, не будь с тем, кто ношу сваливает (т. е. поощряй людей не к праздности, а к добродетели,  к труд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7. В перстне изображений не носи (т. е. не выставляй напоказ перед людьми, как ты судишь и думаешь о бога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Прямоугольник 3" descr=""/>
          <p:cNvPicPr/>
          <p:nvPr/>
        </p:nvPicPr>
        <p:blipFill>
          <a:blip r:embed="rId8"/>
          <a:stretch/>
        </p:blipFill>
        <p:spPr>
          <a:xfrm>
            <a:off x="706320" y="30240"/>
            <a:ext cx="7804440" cy="664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9" name="chimes.wav"/>
      </p:stSnd>
    </p:sndAc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8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е теоремы Пифагора состоит в том, что из нее или с ее помощью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вывести большинство теорем геометрии и решить множество зада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Из-за этого многие ученые называют эту теорему самой главной в геомет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ме этого, практическое значение теоремы Пифагора и обратной ему теоремы заключается в том, что с их помощью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найти длины отрезков, не измеряя самих отрез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 txBox="1"/>
          <p:nvPr/>
        </p:nvSpPr>
        <p:spPr>
          <a:xfrm>
            <a:off x="3286080" y="-360"/>
            <a:ext cx="54007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ермании недавно открылся кинотеатр, где показывают кино в шести измерениях: первые три всем известны, а три других - время, запах и вкус. Еще три года назад никто и не думал более чем о трех измерениях в кино. Вы спросите: а как связаны между собой теорема Пифагора и запахи, вкусы? А все просто: при показе кино надо рассчитать куда и какие запахи направлять. Представьте: на экране показывают джунгли, и вы чувствуете запах листьев, показывают обедающего человека - а вы чувствуете вкус еды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" descr="Возможно так будет выглядеть кинотеатр будущего: подвешенный в воздухе собственных экран"/>
          <p:cNvPicPr/>
          <p:nvPr/>
        </p:nvPicPr>
        <p:blipFill>
          <a:blip r:embed="rId1"/>
          <a:stretch/>
        </p:blipFill>
        <p:spPr>
          <a:xfrm>
            <a:off x="0" y="185724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Picture 277" descr="D:\nomer11.files\image016.jpg"/>
          <p:cNvPicPr/>
          <p:nvPr/>
        </p:nvPicPr>
        <p:blipFill>
          <a:blip r:embed="rId1"/>
          <a:stretch/>
        </p:blipFill>
        <p:spPr>
          <a:xfrm>
            <a:off x="285840" y="1071720"/>
            <a:ext cx="8358120" cy="5530680"/>
          </a:xfrm>
          <a:prstGeom prst="rect">
            <a:avLst/>
          </a:prstGeom>
          <a:ln w="0">
            <a:noFill/>
          </a:ln>
        </p:spPr>
      </p:pic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Значение теор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целом, значение теоремы, кроме вышесказанного, заключается в том, что она применяется практически во всех современных технологиях, а также открывает простор для создания и придумывания но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рямоугольник 3"/>
          <p:cNvSpPr/>
          <p:nvPr/>
        </p:nvSpPr>
        <p:spPr>
          <a:xfrm>
            <a:off x="1901880" y="4214880"/>
            <a:ext cx="7604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stellar"/>
              </a:rPr>
              <a:t>Пребудет вечной истина, как скоро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stellar"/>
              </a:rPr>
              <a:t>Ее познает слабый человек!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stellar"/>
              </a:rPr>
              <a:t>И ныне теорема Пифагора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stellar"/>
              </a:rPr>
              <a:t>Верна, как и в его далекий век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ифагор Самос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Рисунок4"/>
          <p:cNvPicPr/>
          <p:nvPr/>
        </p:nvPicPr>
        <p:blipFill>
          <a:blip r:embed="rId1"/>
          <a:stretch/>
        </p:blipFill>
        <p:spPr>
          <a:xfrm>
            <a:off x="2857680" y="1285920"/>
            <a:ext cx="3562200" cy="3962520"/>
          </a:xfrm>
          <a:prstGeom prst="rect">
            <a:avLst/>
          </a:prstGeom>
          <a:ln w="0">
            <a:noFill/>
          </a:ln>
        </p:spPr>
      </p:pic>
      <p:sp>
        <p:nvSpPr>
          <p:cNvPr id="587" name="AutoShape 6"/>
          <p:cNvSpPr/>
          <p:nvPr/>
        </p:nvSpPr>
        <p:spPr>
          <a:xfrm>
            <a:off x="1395360" y="5392800"/>
            <a:ext cx="6073920" cy="722160"/>
          </a:xfrm>
          <a:prstGeom prst="roundRect">
            <a:avLst>
              <a:gd name="adj" fmla="val 50000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Monotype Corsiva"/>
              </a:rPr>
              <a:t>(ок. 580 – ок. 500 г. до н.э.)</a:t>
            </a:r>
            <a:endParaRPr b="0" lang="en-US" sz="38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8353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О Пифа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56000" y="1196640"/>
            <a:ext cx="6588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ифагор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амосск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на острове Самосс в Ионическом мор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фагор – едва ли не самый популярный учёный за всю историю челов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фагор был не только учёным, но и основателем первой научной школы. Он был и воспитателем душ, проповедником собственной «пифагорейской» этики, философ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ринимал в свою школу только тех юношей, которые промолчали в течение пяти лет. Значит, при занятиях математикой нужна абсолютная тишина для того, чтобы можно было сосредоточить все внимание на решении того или другого утвер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" descr="new_pa5"/>
          <p:cNvPicPr/>
          <p:nvPr/>
        </p:nvPicPr>
        <p:blipFill>
          <a:blip r:embed="rId1"/>
          <a:stretch/>
        </p:blipFill>
        <p:spPr>
          <a:xfrm>
            <a:off x="214200" y="214200"/>
            <a:ext cx="2217960" cy="26877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http://pyphagor.newacropol.ru/img/empty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920" y="4000680"/>
            <a:ext cx="2500200" cy="1860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4" name="chimes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393840" y="1285920"/>
            <a:ext cx="8750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Сегодня известно около 500 различных доказательств теоремы Пифагора геометрических, алгебраических, механических и проч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но найти человека, который не знал бы её шуточную формулировку: «Пифагоровы штаны во все стороны равн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Рассмотрим один из примеров доказательства теоремы Пифаг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9"/>
          <p:cNvSpPr/>
          <p:nvPr/>
        </p:nvSpPr>
        <p:spPr>
          <a:xfrm>
            <a:off x="755640" y="6237360"/>
            <a:ext cx="158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594" name="Picture 8" descr="A:\Doc1.files\image002.gif"/>
          <p:cNvPicPr/>
          <p:nvPr/>
        </p:nvPicPr>
        <p:blipFill>
          <a:blip r:embed="rId1"/>
          <a:stretch/>
        </p:blipFill>
        <p:spPr>
          <a:xfrm>
            <a:off x="214200" y="214200"/>
            <a:ext cx="2571840" cy="171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43080" y="571320"/>
            <a:ext cx="6192720" cy="24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орема Пифаг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539640" y="3500280"/>
            <a:ext cx="8096400" cy="19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драт гипотенузы равен сумме квадратов кат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6" descr="no02_01"/>
          <p:cNvPicPr/>
          <p:nvPr/>
        </p:nvPicPr>
        <p:blipFill>
          <a:blip r:embed="rId1"/>
          <a:stretch/>
        </p:blipFill>
        <p:spPr>
          <a:xfrm>
            <a:off x="571680" y="1285920"/>
            <a:ext cx="187452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8"/>
          <p:cNvSpPr/>
          <p:nvPr/>
        </p:nvSpPr>
        <p:spPr>
          <a:xfrm>
            <a:off x="1627200" y="1344600"/>
            <a:ext cx="63468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7480" indent="-98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так,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marL="987480" indent="-98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Castellar"/>
              </a:rPr>
              <a:t>Если дан нам треугольник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stellar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Castellar"/>
              </a:rPr>
              <a:t>И притом с прямым углом,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stellar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Castellar"/>
              </a:rPr>
              <a:t>То квадрат гипотенузы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stellar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Castellar"/>
              </a:rPr>
              <a:t>Мы всегда легко найдём: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stellar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Castellar"/>
              </a:rPr>
              <a:t>Катеты в квадрат возводим,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stellar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Castellar"/>
              </a:rPr>
              <a:t>Сумму степеней находим – 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stellar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Castellar"/>
              </a:rPr>
              <a:t>И таким простым путём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stellar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Castellar"/>
              </a:rPr>
              <a:t>К результату мы придём.</a:t>
            </a:r>
            <a:endParaRPr b="0" lang="en-US" sz="2400" spc="-1" strike="noStrike">
              <a:solidFill>
                <a:srgbClr val="000000"/>
              </a:solidFill>
              <a:latin typeface="Castellar"/>
            </a:endParaRPr>
          </a:p>
          <a:p>
            <a:pPr marL="987480" indent="-9874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Ч.т.д.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9200" y="166320"/>
            <a:ext cx="885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Monotype Corsiva"/>
              </a:rPr>
              <a:t>Теорема в стиха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300"/>
                            </p:stCondLst>
                            <p:childTnLst>
                              <p:par>
                                <p:cTn id="1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4"/>
          <p:cNvSpPr/>
          <p:nvPr/>
        </p:nvSpPr>
        <p:spPr>
          <a:xfrm>
            <a:off x="971640" y="476280"/>
            <a:ext cx="720072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Теорема Пифагора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В прямоугольном треугольнике квадрат гипотенузы равен сумме квадратов катетов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01" name="AutoShape 6"/>
          <p:cNvSpPr/>
          <p:nvPr/>
        </p:nvSpPr>
        <p:spPr>
          <a:xfrm>
            <a:off x="2987640" y="4149720"/>
            <a:ext cx="934920" cy="13683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2484360" y="4508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3276720" y="5445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3492360" y="44370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4932360" y="465300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7" name="Text Box 12"/>
          <p:cNvSpPr/>
          <p:nvPr/>
        </p:nvSpPr>
        <p:spPr>
          <a:xfrm>
            <a:off x="4643280" y="4581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²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²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+ в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608" name="Group 18"/>
          <p:cNvGrpSpPr/>
          <p:nvPr/>
        </p:nvGrpSpPr>
        <p:grpSpPr>
          <a:xfrm>
            <a:off x="2987640" y="5367240"/>
            <a:ext cx="144360" cy="162000"/>
            <a:chOff x="2987640" y="5367240"/>
            <a:chExt cx="144360" cy="162000"/>
          </a:xfrm>
        </p:grpSpPr>
        <p:sp>
          <p:nvSpPr>
            <p:cNvPr id="609" name="Line 16"/>
            <p:cNvSpPr/>
            <p:nvPr/>
          </p:nvSpPr>
          <p:spPr>
            <a:xfrm>
              <a:off x="2987640" y="5373720"/>
              <a:ext cx="1443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129120" y="5367240"/>
              <a:ext cx="0" cy="162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sp>
        <p:nvSpPr>
          <p:cNvPr id="611" name="Text Box 26"/>
          <p:cNvSpPr/>
          <p:nvPr/>
        </p:nvSpPr>
        <p:spPr>
          <a:xfrm>
            <a:off x="3059280" y="4005360"/>
            <a:ext cx="201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12" name="Line 32"/>
          <p:cNvSpPr/>
          <p:nvPr/>
        </p:nvSpPr>
        <p:spPr>
          <a:xfrm>
            <a:off x="2195640" y="623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613" name="Group 35"/>
          <p:cNvGrpSpPr/>
          <p:nvPr/>
        </p:nvGrpSpPr>
        <p:grpSpPr>
          <a:xfrm>
            <a:off x="1042920" y="5013360"/>
            <a:ext cx="2259000" cy="1305000"/>
            <a:chOff x="1042920" y="5013360"/>
            <a:chExt cx="2259000" cy="1305000"/>
          </a:xfrm>
        </p:grpSpPr>
        <p:sp>
          <p:nvSpPr>
            <p:cNvPr id="614" name="Text Box 30"/>
            <p:cNvSpPr/>
            <p:nvPr/>
          </p:nvSpPr>
          <p:spPr>
            <a:xfrm>
              <a:off x="1042920" y="595008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ff"/>
                  </a:solidFill>
                  <a:latin typeface="Arial"/>
                </a:rPr>
                <a:t>катеты</a:t>
              </a:r>
              <a:endParaRPr b="0" lang="en-US" sz="18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615" name="Line 31"/>
            <p:cNvSpPr/>
            <p:nvPr/>
          </p:nvSpPr>
          <p:spPr>
            <a:xfrm>
              <a:off x="1187280" y="6237360"/>
              <a:ext cx="1008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616" name="Line 33"/>
            <p:cNvSpPr/>
            <p:nvPr/>
          </p:nvSpPr>
          <p:spPr>
            <a:xfrm flipV="1">
              <a:off x="2195640" y="5013360"/>
              <a:ext cx="647640" cy="1224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617" name="Line 34"/>
            <p:cNvSpPr/>
            <p:nvPr/>
          </p:nvSpPr>
          <p:spPr>
            <a:xfrm flipV="1">
              <a:off x="2216160" y="5744880"/>
              <a:ext cx="1085760" cy="48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sp>
        <p:nvSpPr>
          <p:cNvPr id="618" name="Text Box 36"/>
          <p:cNvSpPr/>
          <p:nvPr/>
        </p:nvSpPr>
        <p:spPr>
          <a:xfrm>
            <a:off x="3492360" y="44370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19" name="Text Box 37"/>
          <p:cNvSpPr/>
          <p:nvPr/>
        </p:nvSpPr>
        <p:spPr>
          <a:xfrm>
            <a:off x="4643280" y="4581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²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²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+ в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620" name="Group 49"/>
          <p:cNvGrpSpPr/>
          <p:nvPr/>
        </p:nvGrpSpPr>
        <p:grpSpPr>
          <a:xfrm>
            <a:off x="3141720" y="3716280"/>
            <a:ext cx="1574640" cy="565200"/>
            <a:chOff x="3141720" y="3716280"/>
            <a:chExt cx="1574640" cy="565200"/>
          </a:xfrm>
        </p:grpSpPr>
        <p:grpSp>
          <p:nvGrpSpPr>
            <p:cNvPr id="621" name="Group 46"/>
            <p:cNvGrpSpPr/>
            <p:nvPr/>
          </p:nvGrpSpPr>
          <p:grpSpPr>
            <a:xfrm>
              <a:off x="3141720" y="3716280"/>
              <a:ext cx="1574640" cy="533520"/>
              <a:chOff x="3141720" y="3716280"/>
              <a:chExt cx="1574640" cy="533520"/>
            </a:xfrm>
          </p:grpSpPr>
          <p:sp>
            <p:nvSpPr>
              <p:cNvPr id="622" name="Text Box 43"/>
              <p:cNvSpPr/>
              <p:nvPr/>
            </p:nvSpPr>
            <p:spPr>
              <a:xfrm>
                <a:off x="3203640" y="3716280"/>
                <a:ext cx="151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ff"/>
                    </a:solidFill>
                    <a:latin typeface="Arial"/>
                  </a:rPr>
                  <a:t>гипотенуза</a:t>
                </a:r>
                <a:endParaRPr b="0" lang="en-US" sz="18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23" name="Line 44"/>
              <p:cNvSpPr/>
              <p:nvPr/>
            </p:nvSpPr>
            <p:spPr>
              <a:xfrm>
                <a:off x="3276720" y="4005360"/>
                <a:ext cx="1224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  <p:sp>
            <p:nvSpPr>
              <p:cNvPr id="624" name="Line 45"/>
              <p:cNvSpPr/>
              <p:nvPr/>
            </p:nvSpPr>
            <p:spPr>
              <a:xfrm flipH="1">
                <a:off x="3141720" y="4002120"/>
                <a:ext cx="139680" cy="247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astellar"/>
                </a:endParaRPr>
              </a:p>
            </p:txBody>
          </p:sp>
        </p:grpSp>
        <p:sp>
          <p:nvSpPr>
            <p:cNvPr id="625" name="Line 47"/>
            <p:cNvSpPr/>
            <p:nvPr/>
          </p:nvSpPr>
          <p:spPr>
            <a:xfrm>
              <a:off x="3276720" y="4005360"/>
              <a:ext cx="12240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626" name="Line 48"/>
            <p:cNvSpPr/>
            <p:nvPr/>
          </p:nvSpPr>
          <p:spPr>
            <a:xfrm flipH="1">
              <a:off x="3152880" y="4005360"/>
              <a:ext cx="123840" cy="276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sp>
        <p:nvSpPr>
          <p:cNvPr id="627" name="Text Box 30"/>
          <p:cNvSpPr/>
          <p:nvPr/>
        </p:nvSpPr>
        <p:spPr>
          <a:xfrm>
            <a:off x="5003640" y="573408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3T11:42:42Z</dcterms:created>
  <dc:creator>Lilya</dc:creator>
  <dc:description/>
  <dc:language>en-US</dc:language>
  <cp:lastModifiedBy>User</cp:lastModifiedBy>
  <dcterms:modified xsi:type="dcterms:W3CDTF">2009-03-27T02:00:01Z</dcterms:modified>
  <cp:revision>100</cp:revision>
  <dc:subject/>
  <dc:title>Пифагор</dc:title>
</cp:coreProperties>
</file>