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BC1-1EC0-4FCE-842A-3D7D2A45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9C2-DE78-4789-8DCB-7D2DF91C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6F7-9038-4267-BDA1-7D378750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884-C427-4533-AD61-5559C0A4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8477-C316-4D37-B876-0AD23206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A7D4-7E7D-4CBC-940C-1A0164F2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B527-B212-4DE0-AC0F-7AA6CC7B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6EDD-4A38-4235-B1ED-0F3E3EBF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48D3-0735-41EE-A9A9-9C4E9995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80E3-8E43-42BA-9094-EC87D218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0371-1FCD-4BB8-B115-E1CF012F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109-AFBE-4993-869C-5D64B5DD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9962-96E9-43CE-BC40-5020966E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FA3F-B7DE-4293-B651-9639EC77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CE0F-9B11-47F0-940C-5521A366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3945-D3CE-49FA-9983-79C91CD9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80B7-6482-4A3B-B67F-BE5C2AC7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E47-2799-42ED-9C1B-B9FBDA3C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9B7-5966-4323-84DB-F1DB30E5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9D4-F0B7-4CF2-856C-C10803C8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358-5562-410F-BE29-E0ECA17E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DBC-56DD-4DE5-887B-177D2C15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A93E-DAFC-4AC0-B6C8-7AC4006B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8E9-11A7-434E-90B7-97245D9D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C3F4-F16D-456B-82A6-2EF5B4B3B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2391-44FE-4A46-A15F-7FCAFD3E9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Проект по теме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«Функция прямой пропорциональности»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191120" y="4343400"/>
            <a:ext cx="4572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ца 8 класса «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СОШ №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углублённым изуч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дельных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 Тамбова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гданова 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одитель: Кирин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Image3344"/>
          <p:cNvPicPr/>
          <p:nvPr/>
        </p:nvPicPr>
        <p:blipFill>
          <a:blip r:embed="rId1"/>
          <a:stretch/>
        </p:blipFill>
        <p:spPr>
          <a:xfrm>
            <a:off x="1066680" y="2590920"/>
            <a:ext cx="4038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ы прямой пропорциональности  в народном творч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f7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Дальше в спор - больше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144792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447920" y="617220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 flipV="1">
            <a:off x="1447920" y="2742840"/>
            <a:ext cx="3429000" cy="34290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0" y="182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-во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4267080" y="6248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ина сп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2" descr="10-ImgDeliver"/>
          <p:cNvPicPr/>
          <p:nvPr/>
        </p:nvPicPr>
        <p:blipFill>
          <a:blip r:embed="rId1"/>
          <a:stretch/>
        </p:blipFill>
        <p:spPr>
          <a:xfrm>
            <a:off x="5334120" y="1981080"/>
            <a:ext cx="36338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f7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Много снега- много хле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 flipV="1">
            <a:off x="1600200" y="1447560"/>
            <a:ext cx="0" cy="4190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1600200" y="563868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 flipV="1">
            <a:off x="1600200" y="1752120"/>
            <a:ext cx="2286000" cy="3886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4267080" y="5715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-во сн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0" y="1295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-во хле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10" descr="2.jpg"/>
          <p:cNvPicPr/>
          <p:nvPr/>
        </p:nvPicPr>
        <p:blipFill>
          <a:blip r:embed="rId1"/>
          <a:stretch/>
        </p:blipFill>
        <p:spPr>
          <a:xfrm>
            <a:off x="5486400" y="152280"/>
            <a:ext cx="2584440" cy="358956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9" descr="1.jpg"/>
          <p:cNvPicPr/>
          <p:nvPr/>
        </p:nvPicPr>
        <p:blipFill>
          <a:blip r:embed="rId2"/>
          <a:stretch/>
        </p:blipFill>
        <p:spPr>
          <a:xfrm>
            <a:off x="5838840" y="3286080"/>
            <a:ext cx="320040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f7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Как аукнется –так и откликн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 flipV="1">
            <a:off x="1981080" y="182880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1981080" y="54100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1295280" y="1676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5181480" y="5486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18288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274320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8288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>
            <a:off x="365760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1828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"/>
          <p:cNvSpPr/>
          <p:nvPr/>
        </p:nvSpPr>
        <p:spPr>
          <a:xfrm>
            <a:off x="44956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>
            <a:off x="1219320" y="4648320"/>
            <a:ext cx="502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9"/>
          <p:cNvSpPr/>
          <p:nvPr/>
        </p:nvSpPr>
        <p:spPr>
          <a:xfrm>
            <a:off x="1295280" y="304812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1"/>
          <p:cNvSpPr/>
          <p:nvPr/>
        </p:nvSpPr>
        <p:spPr>
          <a:xfrm>
            <a:off x="3657600" y="21337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2"/>
          <p:cNvSpPr/>
          <p:nvPr/>
        </p:nvSpPr>
        <p:spPr>
          <a:xfrm>
            <a:off x="4495680" y="20574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2743200" y="20574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1143000" y="380988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V="1">
            <a:off x="1981080" y="2133360"/>
            <a:ext cx="3429000" cy="32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21" descr="1.jpg"/>
          <p:cNvPicPr/>
          <p:nvPr/>
        </p:nvPicPr>
        <p:blipFill>
          <a:blip r:embed="rId1"/>
          <a:stretch/>
        </p:blipFill>
        <p:spPr>
          <a:xfrm>
            <a:off x="6019920" y="4502160"/>
            <a:ext cx="302868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f7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Много гостей -много новост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 flipV="1">
            <a:off x="1752480" y="1447560"/>
            <a:ext cx="0" cy="3886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1752480" y="5334120"/>
            <a:ext cx="4038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 flipV="1">
            <a:off x="1752480" y="1904760"/>
            <a:ext cx="3124440" cy="3429000"/>
          </a:xfrm>
          <a:prstGeom prst="line">
            <a:avLst/>
          </a:prstGeom>
          <a:ln w="28440">
            <a:solidFill>
              <a:srgbClr val="090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105520" y="54100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5181480" y="541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52280" y="1371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-во нов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10" descr="2.jpg"/>
          <p:cNvPicPr/>
          <p:nvPr/>
        </p:nvPicPr>
        <p:blipFill>
          <a:blip r:embed="rId1"/>
          <a:stretch/>
        </p:blipFill>
        <p:spPr>
          <a:xfrm>
            <a:off x="5181480" y="838080"/>
            <a:ext cx="38163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Вывод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ила знания по теме функция прямой пропорциона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ла применение в жизни и народных пословицах функции прямой пропорциона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писок использованной литературы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ебра 7 класс. Макарычев Ю.Н. Москва. «Просвещение»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ебра 7 класс. Мордкович А.Г. «Мнемозина»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е пословицы и поговорки. В.П. Аникина. Москва. «Художественная литература». 19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ка 8 класс Н.С. Пурышева, Н.Е. Важеевская. «Дрофа»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ческий словарь юного математика. Составитель Савин А.П. Москва. «Педагогика» 198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15"/>
          <p:cNvSpPr txBox="1"/>
          <p:nvPr/>
        </p:nvSpPr>
        <p:spPr>
          <a:xfrm>
            <a:off x="2514600" y="4572000"/>
            <a:ext cx="48769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   за     внимани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4" name="Picture 16" descr="спасибо"/>
          <p:cNvPicPr/>
          <p:nvPr/>
        </p:nvPicPr>
        <p:blipFill>
          <a:blip r:embed="rId1"/>
          <a:stretch/>
        </p:blipFill>
        <p:spPr>
          <a:xfrm>
            <a:off x="2514600" y="533520"/>
            <a:ext cx="4495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228600" y="0"/>
            <a:ext cx="89154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бщить знания по теме прямая пропорциональ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яснить где применяется прямая пропорциональность в жизни и народном творч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685800" y="1447920"/>
            <a:ext cx="76960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ямой пропорциональностью  называетс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ункция, которую можно задать  формулой вида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=k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де х – независимая перемен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не равное нул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войства функции у = kх.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Область определения функции - множество всех действительных чисе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При k &gt; 0 функция возрастает, а при k &lt; 0 убывает на всей числовой прям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непрерыв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Множество значений функции - множество всех действительн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838080" y="449568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 flipV="1">
            <a:off x="2666880" y="2133360"/>
            <a:ext cx="76320" cy="4190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 flipH="1">
            <a:off x="1219320" y="2590920"/>
            <a:ext cx="3124080" cy="3657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362320" y="21337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57200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734920" y="44956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2743200" y="304812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 rot="7594200">
            <a:off x="2849040" y="3474720"/>
            <a:ext cx="45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 rot="18629400">
            <a:off x="2649960" y="319716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y=kx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, где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5638680" y="449568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 flipV="1">
            <a:off x="7162920" y="2133720"/>
            <a:ext cx="0" cy="4114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2"/>
          <p:cNvSpPr/>
          <p:nvPr/>
        </p:nvSpPr>
        <p:spPr>
          <a:xfrm>
            <a:off x="5867280" y="2743200"/>
            <a:ext cx="2514600" cy="34290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6858000" y="2057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868680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6926040" y="4419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 rot="3288000">
            <a:off x="5707080" y="32072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y=kx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, где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k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7162920" y="6172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2735640" y="62485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Примеры  прямой пропорциональности в жизни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d40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 Ома для участка цеп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= 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562720" y="1981080"/>
          <a:ext cx="2895480" cy="257832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сть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=2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Line 40"/>
          <p:cNvSpPr/>
          <p:nvPr/>
        </p:nvSpPr>
        <p:spPr>
          <a:xfrm flipV="1">
            <a:off x="2133720" y="320040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2"/>
          <p:cNvSpPr/>
          <p:nvPr/>
        </p:nvSpPr>
        <p:spPr>
          <a:xfrm>
            <a:off x="2133720" y="64008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4"/>
          <p:cNvSpPr/>
          <p:nvPr/>
        </p:nvSpPr>
        <p:spPr>
          <a:xfrm>
            <a:off x="2057400" y="5867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5"/>
          <p:cNvSpPr/>
          <p:nvPr/>
        </p:nvSpPr>
        <p:spPr>
          <a:xfrm>
            <a:off x="2057400" y="52578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6"/>
          <p:cNvSpPr/>
          <p:nvPr/>
        </p:nvSpPr>
        <p:spPr>
          <a:xfrm>
            <a:off x="2057400" y="46483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7"/>
          <p:cNvSpPr/>
          <p:nvPr/>
        </p:nvSpPr>
        <p:spPr>
          <a:xfrm>
            <a:off x="2057400" y="40384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9"/>
          <p:cNvSpPr/>
          <p:nvPr/>
        </p:nvSpPr>
        <p:spPr>
          <a:xfrm>
            <a:off x="2057400" y="34290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1"/>
          <p:cNvSpPr/>
          <p:nvPr/>
        </p:nvSpPr>
        <p:spPr>
          <a:xfrm>
            <a:off x="2743200" y="6324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2"/>
          <p:cNvSpPr/>
          <p:nvPr/>
        </p:nvSpPr>
        <p:spPr>
          <a:xfrm>
            <a:off x="3352680" y="6324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3"/>
          <p:cNvSpPr/>
          <p:nvPr/>
        </p:nvSpPr>
        <p:spPr>
          <a:xfrm>
            <a:off x="4038480" y="6324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5"/>
          <p:cNvSpPr/>
          <p:nvPr/>
        </p:nvSpPr>
        <p:spPr>
          <a:xfrm>
            <a:off x="4648320" y="6324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6"/>
          <p:cNvSpPr/>
          <p:nvPr/>
        </p:nvSpPr>
        <p:spPr>
          <a:xfrm>
            <a:off x="1752480" y="63244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7"/>
          <p:cNvSpPr/>
          <p:nvPr/>
        </p:nvSpPr>
        <p:spPr>
          <a:xfrm>
            <a:off x="1828800" y="6324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8"/>
          <p:cNvSpPr/>
          <p:nvPr/>
        </p:nvSpPr>
        <p:spPr>
          <a:xfrm>
            <a:off x="2590920" y="6491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9"/>
          <p:cNvSpPr/>
          <p:nvPr/>
        </p:nvSpPr>
        <p:spPr>
          <a:xfrm>
            <a:off x="3124080" y="6491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0"/>
          <p:cNvSpPr/>
          <p:nvPr/>
        </p:nvSpPr>
        <p:spPr>
          <a:xfrm>
            <a:off x="3809880" y="6491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1"/>
          <p:cNvSpPr/>
          <p:nvPr/>
        </p:nvSpPr>
        <p:spPr>
          <a:xfrm>
            <a:off x="5029200" y="6491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,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2"/>
          <p:cNvSpPr/>
          <p:nvPr/>
        </p:nvSpPr>
        <p:spPr>
          <a:xfrm>
            <a:off x="144792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3"/>
          <p:cNvSpPr/>
          <p:nvPr/>
        </p:nvSpPr>
        <p:spPr>
          <a:xfrm>
            <a:off x="1676520" y="5715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167652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3"/>
          <p:cNvSpPr/>
          <p:nvPr/>
        </p:nvSpPr>
        <p:spPr>
          <a:xfrm>
            <a:off x="4495680" y="64911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4"/>
          <p:cNvSpPr/>
          <p:nvPr/>
        </p:nvSpPr>
        <p:spPr>
          <a:xfrm>
            <a:off x="2057400" y="58672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5"/>
          <p:cNvSpPr/>
          <p:nvPr/>
        </p:nvSpPr>
        <p:spPr>
          <a:xfrm>
            <a:off x="2057400" y="5257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6"/>
          <p:cNvSpPr/>
          <p:nvPr/>
        </p:nvSpPr>
        <p:spPr>
          <a:xfrm>
            <a:off x="2133720" y="46483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7"/>
          <p:cNvSpPr/>
          <p:nvPr/>
        </p:nvSpPr>
        <p:spPr>
          <a:xfrm flipV="1">
            <a:off x="2743200" y="3276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8"/>
          <p:cNvSpPr/>
          <p:nvPr/>
        </p:nvSpPr>
        <p:spPr>
          <a:xfrm flipV="1">
            <a:off x="3352680" y="3276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9"/>
          <p:cNvSpPr/>
          <p:nvPr/>
        </p:nvSpPr>
        <p:spPr>
          <a:xfrm flipV="1">
            <a:off x="4038480" y="3276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0"/>
          <p:cNvSpPr/>
          <p:nvPr/>
        </p:nvSpPr>
        <p:spPr>
          <a:xfrm flipV="1">
            <a:off x="4648320" y="3276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3"/>
          <p:cNvSpPr/>
          <p:nvPr/>
        </p:nvSpPr>
        <p:spPr>
          <a:xfrm>
            <a:off x="2057400" y="40384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4"/>
          <p:cNvSpPr/>
          <p:nvPr/>
        </p:nvSpPr>
        <p:spPr>
          <a:xfrm>
            <a:off x="2133720" y="34290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6"/>
          <p:cNvSpPr/>
          <p:nvPr/>
        </p:nvSpPr>
        <p:spPr>
          <a:xfrm flipV="1">
            <a:off x="2133720" y="3047760"/>
            <a:ext cx="1752480" cy="33526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9"/>
          <p:cNvSpPr/>
          <p:nvPr/>
        </p:nvSpPr>
        <p:spPr>
          <a:xfrm>
            <a:off x="1676520" y="4495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0"/>
          <p:cNvSpPr/>
          <p:nvPr/>
        </p:nvSpPr>
        <p:spPr>
          <a:xfrm>
            <a:off x="16765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d40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рость развития общества находится в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ямо пропорциональной зависим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 скорости обмена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d40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пути, пройденная равномерно движущимся телом, и время, затраченное на этот путь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v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0224_01"/>
          <p:cNvPicPr/>
          <p:nvPr/>
        </p:nvPicPr>
        <p:blipFill>
          <a:blip r:embed="rId1"/>
          <a:stretch/>
        </p:blipFill>
        <p:spPr>
          <a:xfrm>
            <a:off x="2743200" y="33526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d40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окружности зависит от ее ради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=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Рисунок1"/>
          <p:cNvPicPr/>
          <p:nvPr/>
        </p:nvPicPr>
        <p:blipFill>
          <a:blip r:embed="rId1"/>
          <a:stretch/>
        </p:blipFill>
        <p:spPr>
          <a:xfrm>
            <a:off x="6114960" y="2514600"/>
            <a:ext cx="3029040" cy="4191120"/>
          </a:xfrm>
          <a:prstGeom prst="rect">
            <a:avLst/>
          </a:prstGeom>
          <a:ln w="0">
            <a:noFill/>
          </a:ln>
        </p:spPr>
      </p:pic>
      <p:sp>
        <p:nvSpPr>
          <p:cNvPr id="164" name="Line 8"/>
          <p:cNvSpPr/>
          <p:nvPr/>
        </p:nvSpPr>
        <p:spPr>
          <a:xfrm>
            <a:off x="533520" y="4524480"/>
            <a:ext cx="441936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533520" y="3048120"/>
            <a:ext cx="441936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533520" y="1647720"/>
            <a:ext cx="434340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1362240" y="1143000"/>
            <a:ext cx="0" cy="388620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2895480" y="1143000"/>
            <a:ext cx="0" cy="396252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4448160" y="1066680"/>
            <a:ext cx="0" cy="403884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4"/>
          <p:cNvSpPr/>
          <p:nvPr/>
        </p:nvSpPr>
        <p:spPr>
          <a:xfrm>
            <a:off x="1371600" y="1676520"/>
            <a:ext cx="3048120" cy="2819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 flipV="1">
            <a:off x="2895480" y="2057400"/>
            <a:ext cx="990720" cy="99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d40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исимость длины сторон прямоугольника от его периметра (площадь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=(a+b)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co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дом"/>
          <p:cNvPicPr/>
          <p:nvPr/>
        </p:nvPicPr>
        <p:blipFill>
          <a:blip r:embed="rId1"/>
          <a:stretch/>
        </p:blipFill>
        <p:spPr>
          <a:xfrm>
            <a:off x="5029200" y="3505320"/>
            <a:ext cx="3657600" cy="2724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762120" y="2743200"/>
            <a:ext cx="3276360" cy="1523880"/>
          </a:xfrm>
          <a:prstGeom prst="rect">
            <a:avLst/>
          </a:prstGeom>
          <a:solidFill>
            <a:srgbClr val="ccffcc">
              <a:alpha val="88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82880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1480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01-28T10:26:37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