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8.png" ContentType="image/png"/>
  <Override PartName="/ppt/media/image15.wmf" ContentType="image/x-wmf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2.jpeg" ContentType="image/jpeg"/>
  <Override PartName="/ppt/media/image6.png" ContentType="image/png"/>
  <Override PartName="/ppt/media/image3.png" ContentType="image/pn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9821-4528-4420-BB10-BB6EB1D0A6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70CF-34FD-4970-9134-156D4427E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763-9D04-4433-8009-7AAEBADD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469-706B-404C-8C71-99556C0C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01E-EDE8-405F-88F1-B4C664D1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D08-8E57-4710-A003-F45B3CC4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9C4C-D31A-4F3B-96E9-B5FC85F1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7E82-C6E7-4038-A3E0-F68B0810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2662-F620-48CF-A0DC-729D2251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E47C-3F43-4D09-AA76-291CDAE0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1ECF-B061-4D82-9EA8-FF2A5192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B315-7FD6-43B4-B65D-AC04010A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85B4-2232-44E7-B8B2-16690A0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765-4EFA-48F6-9538-21B23959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4E1C-4968-44FC-80D6-BA775BFA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C39B-5022-41AE-BF21-C161EA9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1311-E5EE-4EC7-B8F2-59C2F3EB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841A-8A16-4EB4-9EB0-25EEC1A8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261C-54D2-4632-AE96-94601BD9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21E9-FAA5-4987-9CB8-68FE57DB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D31C-2CBB-46EF-A282-788F60F4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0A5D-55CB-437A-A756-98626770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C03B-38A3-4836-8D83-827DF4D8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EE7B1-C8AE-4337-ACD8-7680E43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073-BE04-4D3D-B437-7C7CD9EC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C93E-D8B9-48E1-BF9E-0D44566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C8F9-F255-45DC-B282-ED007907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6F09-A08E-44CE-ABFF-63132DE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92A25-FFC4-4A12-9466-86680E8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BDC6-D5C2-4134-83CA-4806B7D6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9459-B891-45F3-AFC9-F67A916B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02BD-AF4A-426C-8C59-D3EE5923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99BA-CE37-4212-B910-295FC3EC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0352-277B-4CA4-A7E0-3C477CBA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C96C1-D11E-4B0D-B24B-CEA11581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3BB-2705-4BCB-9DC8-6F74DF67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5A31-C3F2-4625-85E6-740859A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00011-EA33-48DD-BEBA-BF9DB6C4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28ED0-50FF-4134-A350-96D9E09F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85CD-C2C4-4771-BBF6-EC15CF0C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FA579-9605-4F74-B09B-F302A7C4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5E68-7FDE-40DB-BA0D-EA61881D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8C056-CD54-4D55-ACA2-141958FE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330B-A120-45B3-A119-452D24CA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B0C15-15A7-41C7-A697-E24A350C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5277B-C850-4571-B1B1-D85B69A0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1AB-AB7E-4B79-8DAB-AFA9382D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0D1F9-7B79-44E7-A9BC-67513D47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8C48-ECD8-4F00-B1AA-C4EBBEBA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0244-DBC0-4AB4-9396-1BBBCF3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357C4-4E82-4738-AD24-A9B3F11B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8E290-52C7-434F-960B-21EFBD88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9520-EF41-46F5-A52E-EE40EF60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B9478-3F5E-4CD1-A17A-629788F9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41D80-24B2-4798-B7E8-BE5E86E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AB08-E665-4F07-85CD-22CD2FF9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33680-AC96-47F7-A89B-00D1BBE9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0C0-84FA-4972-BA05-DB51CF65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B03E2-759E-4F87-B96C-A6224890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EE0-E929-4CB3-BFF5-6365A2CF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3EE-B771-4CC8-A4D9-0E90A84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088-DD13-4C8C-B241-393588B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1F96-5641-44FB-974F-353B02A283A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CA3-EB0F-4A8F-9FA7-3DDD59DDD28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9277-7DFB-4568-AD1E-2A4DC79ED65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D98F-C318-48E7-B450-BD206E978A8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D3F5-F472-4F42-A4D6-506DEC19C1B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Матвеева Елизавета, ученица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класса 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5"/>
          <p:cNvSpPr/>
          <p:nvPr/>
        </p:nvSpPr>
        <p:spPr>
          <a:xfrm>
            <a:off x="4297320" y="36169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9" name=""/>
          <p:cNvGraphicFramePr/>
          <p:nvPr/>
        </p:nvGraphicFramePr>
        <p:xfrm>
          <a:off x="5257800" y="6035760"/>
          <a:ext cx="1190520" cy="944640"/>
        </p:xfrm>
        <a:graphic>
          <a:graphicData uri="http://schemas.openxmlformats.org/drawingml/2006/table">
            <a:tbl>
              <a:tblPr/>
              <a:tblGrid>
                <a:gridCol w="11905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ъем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35"/>
          <p:cNvSpPr/>
          <p:nvPr/>
        </p:nvSpPr>
        <p:spPr>
          <a:xfrm>
            <a:off x="4297320" y="36169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36"/>
          <p:cNvSpPr txBox="1"/>
          <p:nvPr/>
        </p:nvSpPr>
        <p:spPr>
          <a:xfrm>
            <a:off x="1066680" y="152280"/>
            <a:ext cx="693432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оворот воды в приро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Жесткость –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нежелательное явл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Методика определения жесткости вод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86160" y="1571760"/>
            <a:ext cx="4400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3"/>
          <a:stretch/>
        </p:blipFill>
        <p:spPr>
          <a:xfrm>
            <a:off x="1357200" y="1500120"/>
            <a:ext cx="1992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тодика определения жесткости вод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785760" y="928800"/>
            <a:ext cx="5357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Мерный сосуд несколько раз ополоснуть тестируемой водо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Наполнить мерный сосуд тестируемой водой до маркировки 5 мл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По каплям добавлять  реагент, считая капли, до тех пор, пока цвет воды не изменится с красного на зелёный. Наблюдать окраску на белом фоне при достаточной освещенности. Периодически встряхивать для перемешивания проб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 Одна капля израсходованного реагента соответствует 1˚ общей жесткости воды в немецких градус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5" descr="E:\конференция\опыты\P4150066.JPG"/>
          <p:cNvPicPr/>
          <p:nvPr/>
        </p:nvPicPr>
        <p:blipFill>
          <a:blip r:embed="rId2"/>
          <a:stretch/>
        </p:blipFill>
        <p:spPr>
          <a:xfrm>
            <a:off x="214200" y="1000080"/>
            <a:ext cx="2643480" cy="1982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E:\конференция\опыты\P4150082.JPG"/>
          <p:cNvPicPr/>
          <p:nvPr/>
        </p:nvPicPr>
        <p:blipFill>
          <a:blip r:embed="rId3"/>
          <a:stretch/>
        </p:blipFill>
        <p:spPr>
          <a:xfrm>
            <a:off x="1285920" y="250020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E:\конференция\опыты\P4150088.JPG"/>
          <p:cNvPicPr/>
          <p:nvPr/>
        </p:nvPicPr>
        <p:blipFill>
          <a:blip r:embed="rId4"/>
          <a:srcRect l="39515" t="0" r="25933" b="30873"/>
          <a:stretch/>
        </p:blipFill>
        <p:spPr>
          <a:xfrm>
            <a:off x="2714760" y="4714920"/>
            <a:ext cx="1190520" cy="1785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E:\конференция\опыты\P4150077.JPG"/>
          <p:cNvPicPr/>
          <p:nvPr/>
        </p:nvPicPr>
        <p:blipFill>
          <a:blip r:embed="rId5"/>
          <a:srcRect l="37665" t="25113" r="34706" b="18751"/>
          <a:stretch/>
        </p:blipFill>
        <p:spPr>
          <a:xfrm>
            <a:off x="285840" y="4714920"/>
            <a:ext cx="1143000" cy="1741320"/>
          </a:xfrm>
          <a:prstGeom prst="rect">
            <a:avLst/>
          </a:prstGeom>
          <a:ln w="0">
            <a:noFill/>
          </a:ln>
        </p:spPr>
      </p:pic>
      <p:sp>
        <p:nvSpPr>
          <p:cNvPr id="293" name="Нашивка 7"/>
          <p:cNvSpPr/>
          <p:nvPr/>
        </p:nvSpPr>
        <p:spPr>
          <a:xfrm>
            <a:off x="1643040" y="5143680"/>
            <a:ext cx="857160" cy="500040"/>
          </a:xfrm>
          <a:custGeom>
            <a:avLst/>
            <a:gdLst>
              <a:gd name="textAreaLeft" fmla="*/ 0 w 857160"/>
              <a:gd name="textAreaRight" fmla="*/ 857520 w 8571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00" y="0"/>
                </a:lnTo>
                <a:lnTo>
                  <a:pt x="21600" y="10800"/>
                </a:lnTo>
                <a:lnTo>
                  <a:pt x="15300" y="21600"/>
                </a:lnTo>
                <a:lnTo>
                  <a:pt x="0" y="21600"/>
                </a:lnTo>
                <a:lnTo>
                  <a:pt x="630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етодика определения жесткости вод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5" name="Picture 4" descr="E:\конференция\опыты\P4150073.JPG"/>
          <p:cNvPicPr/>
          <p:nvPr/>
        </p:nvPicPr>
        <p:blipFill>
          <a:blip r:embed="rId2"/>
          <a:srcRect l="35937" t="12504" r="28126" b="20840"/>
          <a:stretch/>
        </p:blipFill>
        <p:spPr>
          <a:xfrm>
            <a:off x="214200" y="157176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E:\конференция\опыты\P4150076.JPG"/>
          <p:cNvPicPr/>
          <p:nvPr/>
        </p:nvPicPr>
        <p:blipFill>
          <a:blip r:embed="rId3"/>
          <a:srcRect l="48758" t="0" r="10003" b="20008"/>
          <a:stretch/>
        </p:blipFill>
        <p:spPr>
          <a:xfrm>
            <a:off x="2071800" y="1571760"/>
            <a:ext cx="1571400" cy="228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:\конференция\опыты\P4150077.JPG"/>
          <p:cNvPicPr/>
          <p:nvPr/>
        </p:nvPicPr>
        <p:blipFill>
          <a:blip r:embed="rId4"/>
          <a:srcRect l="32819" t="16672" r="31252" b="18751"/>
          <a:stretch/>
        </p:blipFill>
        <p:spPr>
          <a:xfrm>
            <a:off x="3857760" y="1643040"/>
            <a:ext cx="1643040" cy="221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E:\конференция\опыты\P4150078.JPG"/>
          <p:cNvPicPr/>
          <p:nvPr/>
        </p:nvPicPr>
        <p:blipFill>
          <a:blip r:embed="rId5"/>
          <a:srcRect l="40301" t="21895" r="25376" b="18410"/>
          <a:stretch/>
        </p:blipFill>
        <p:spPr>
          <a:xfrm>
            <a:off x="5643720" y="1643040"/>
            <a:ext cx="1643040" cy="2214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E:\конференция\опыты\P4150080.JPG"/>
          <p:cNvPicPr/>
          <p:nvPr/>
        </p:nvPicPr>
        <p:blipFill>
          <a:blip r:embed="rId6"/>
          <a:srcRect l="35296" t="1539" r="33824" b="36924"/>
          <a:stretch/>
        </p:blipFill>
        <p:spPr>
          <a:xfrm>
            <a:off x="7429680" y="1643040"/>
            <a:ext cx="1571400" cy="22446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7"/>
          <p:cNvSpPr/>
          <p:nvPr/>
        </p:nvSpPr>
        <p:spPr>
          <a:xfrm>
            <a:off x="285840" y="40006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апля          2 капли          3 капли        4 кап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571680" y="4929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допроводная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9"/>
          <p:cNvSpPr/>
          <p:nvPr/>
        </p:nvSpPr>
        <p:spPr>
          <a:xfrm>
            <a:off x="2786040" y="542916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мяг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етодика определения жесткости вод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4" name="Picture 4" descr="E:\конференция\опыты\P4150073.JPG"/>
          <p:cNvPicPr/>
          <p:nvPr/>
        </p:nvPicPr>
        <p:blipFill>
          <a:blip r:embed="rId2"/>
          <a:srcRect l="35937" t="12504" r="28126" b="20840"/>
          <a:stretch/>
        </p:blipFill>
        <p:spPr>
          <a:xfrm>
            <a:off x="214200" y="157176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E:\конференция\опыты\P4150076.JPG"/>
          <p:cNvPicPr/>
          <p:nvPr/>
        </p:nvPicPr>
        <p:blipFill>
          <a:blip r:embed="rId3"/>
          <a:srcRect l="48758" t="0" r="10003" b="20008"/>
          <a:stretch/>
        </p:blipFill>
        <p:spPr>
          <a:xfrm>
            <a:off x="2071800" y="1571760"/>
            <a:ext cx="1571400" cy="228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E:\конференция\опыты\P4150077.JPG"/>
          <p:cNvPicPr/>
          <p:nvPr/>
        </p:nvPicPr>
        <p:blipFill>
          <a:blip r:embed="rId4"/>
          <a:srcRect l="32819" t="16672" r="31252" b="18751"/>
          <a:stretch/>
        </p:blipFill>
        <p:spPr>
          <a:xfrm>
            <a:off x="3857760" y="1643040"/>
            <a:ext cx="1643040" cy="2214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E:\конференция\опыты\P4150078.JPG"/>
          <p:cNvPicPr/>
          <p:nvPr/>
        </p:nvPicPr>
        <p:blipFill>
          <a:blip r:embed="rId5"/>
          <a:srcRect l="40301" t="21895" r="25376" b="18410"/>
          <a:stretch/>
        </p:blipFill>
        <p:spPr>
          <a:xfrm>
            <a:off x="5643720" y="1643040"/>
            <a:ext cx="1643040" cy="2214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E:\конференция\опыты\P4150080.JPG"/>
          <p:cNvPicPr/>
          <p:nvPr/>
        </p:nvPicPr>
        <p:blipFill>
          <a:blip r:embed="rId6"/>
          <a:srcRect l="35296" t="1539" r="33824" b="36924"/>
          <a:stretch/>
        </p:blipFill>
        <p:spPr>
          <a:xfrm>
            <a:off x="7429680" y="1643040"/>
            <a:ext cx="1571400" cy="224460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285840" y="40006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апля          2 капли          3 капли        4 кап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571680" y="4929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да Тал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2786040" y="542916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мяг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етодика определения жесткости вод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4" descr="E:\конференция\опыты\P4150073.JPG"/>
          <p:cNvPicPr/>
          <p:nvPr/>
        </p:nvPicPr>
        <p:blipFill>
          <a:blip r:embed="rId2"/>
          <a:srcRect l="35937" t="12504" r="28126" b="20840"/>
          <a:stretch/>
        </p:blipFill>
        <p:spPr>
          <a:xfrm>
            <a:off x="214200" y="157176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E:\конференция\опыты\P4150078.JPG"/>
          <p:cNvPicPr/>
          <p:nvPr/>
        </p:nvPicPr>
        <p:blipFill>
          <a:blip r:embed="rId3"/>
          <a:srcRect l="40301" t="21895" r="25376" b="18410"/>
          <a:stretch/>
        </p:blipFill>
        <p:spPr>
          <a:xfrm>
            <a:off x="4357800" y="1643040"/>
            <a:ext cx="1643040" cy="2214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E:\конференция\опыты\P4150080.JPG"/>
          <p:cNvPicPr/>
          <p:nvPr/>
        </p:nvPicPr>
        <p:blipFill>
          <a:blip r:embed="rId4"/>
          <a:srcRect l="35296" t="1539" r="33824" b="36924"/>
          <a:stretch/>
        </p:blipFill>
        <p:spPr>
          <a:xfrm>
            <a:off x="6357960" y="1571760"/>
            <a:ext cx="1571760" cy="2244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7"/>
          <p:cNvSpPr/>
          <p:nvPr/>
        </p:nvSpPr>
        <p:spPr>
          <a:xfrm>
            <a:off x="285840" y="40006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апля          2 капли          3 капли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571680" y="4929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да после таяния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2786040" y="542916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Очень мяг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E:\конференция\опыты\P4150084.JPG"/>
          <p:cNvPicPr/>
          <p:nvPr/>
        </p:nvPicPr>
        <p:blipFill>
          <a:blip r:embed="rId5"/>
          <a:srcRect l="42262" t="0" r="20242" b="26195"/>
          <a:stretch/>
        </p:blipFill>
        <p:spPr>
          <a:xfrm>
            <a:off x="2357280" y="1571760"/>
            <a:ext cx="1548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етодика определения жесткости вод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Picture 4" descr="E:\конференция\опыты\P4150073.JPG"/>
          <p:cNvPicPr/>
          <p:nvPr/>
        </p:nvPicPr>
        <p:blipFill>
          <a:blip r:embed="rId2"/>
          <a:srcRect l="35937" t="12504" r="28126" b="20840"/>
          <a:stretch/>
        </p:blipFill>
        <p:spPr>
          <a:xfrm>
            <a:off x="214200" y="157176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E:\конференция\опыты\P4150078.JPG"/>
          <p:cNvPicPr/>
          <p:nvPr/>
        </p:nvPicPr>
        <p:blipFill>
          <a:blip r:embed="rId3"/>
          <a:srcRect l="40301" t="21895" r="25376" b="18410"/>
          <a:stretch/>
        </p:blipFill>
        <p:spPr>
          <a:xfrm>
            <a:off x="4357800" y="1643040"/>
            <a:ext cx="1643040" cy="2214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E:\конференция\опыты\P4150080.JPG"/>
          <p:cNvPicPr/>
          <p:nvPr/>
        </p:nvPicPr>
        <p:blipFill>
          <a:blip r:embed="rId4"/>
          <a:srcRect l="35296" t="1539" r="33824" b="36924"/>
          <a:stretch/>
        </p:blipFill>
        <p:spPr>
          <a:xfrm>
            <a:off x="6357960" y="1571760"/>
            <a:ext cx="1571760" cy="22446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7"/>
          <p:cNvSpPr/>
          <p:nvPr/>
        </p:nvSpPr>
        <p:spPr>
          <a:xfrm>
            <a:off x="285840" y="40006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апля          2 капли          3 капли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571680" y="4929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да водопроводная после замора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542916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Очень мяг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E:\конференция\опыты\P4150073.JPG"/>
          <p:cNvPicPr/>
          <p:nvPr/>
        </p:nvPicPr>
        <p:blipFill>
          <a:blip r:embed="rId5"/>
          <a:srcRect l="35937" t="12504" r="28126" b="20840"/>
          <a:stretch/>
        </p:blipFill>
        <p:spPr>
          <a:xfrm>
            <a:off x="2214720" y="164304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етодика определения жесткости вод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4" descr="E:\конференция\опыты\P4150073.JPG"/>
          <p:cNvPicPr/>
          <p:nvPr/>
        </p:nvPicPr>
        <p:blipFill>
          <a:blip r:embed="rId2"/>
          <a:srcRect l="42189" t="12504" r="32811" b="20840"/>
          <a:stretch/>
        </p:blipFill>
        <p:spPr>
          <a:xfrm>
            <a:off x="214200" y="1571760"/>
            <a:ext cx="1143000" cy="22860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7"/>
          <p:cNvSpPr/>
          <p:nvPr/>
        </p:nvSpPr>
        <p:spPr>
          <a:xfrm>
            <a:off x="285840" y="40006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апля   2 капли  3 капли ……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капель!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571680" y="4929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да из скваж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2143080" y="542916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Очень жестка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9" descr="C:\Users\555\Desktop\вода\конференция 2\P4280299.JPG"/>
          <p:cNvPicPr/>
          <p:nvPr/>
        </p:nvPicPr>
        <p:blipFill>
          <a:blip r:embed="rId3"/>
          <a:srcRect l="38695" t="13893" r="38980" b="22615"/>
          <a:stretch/>
        </p:blipFill>
        <p:spPr>
          <a:xfrm>
            <a:off x="1428840" y="1571760"/>
            <a:ext cx="1071360" cy="228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:\Users\555\Desktop\вода\конференция 2\P4280301.JPG"/>
          <p:cNvPicPr/>
          <p:nvPr/>
        </p:nvPicPr>
        <p:blipFill>
          <a:blip r:embed="rId4"/>
          <a:srcRect l="36704" t="16886" r="44313" b="15600"/>
          <a:stretch/>
        </p:blipFill>
        <p:spPr>
          <a:xfrm>
            <a:off x="2571840" y="157176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C:\Users\555\Desktop\вода\конференция 2\P4280307.JPG"/>
          <p:cNvPicPr/>
          <p:nvPr/>
        </p:nvPicPr>
        <p:blipFill>
          <a:blip r:embed="rId5"/>
          <a:srcRect l="32743" t="9920" r="47916" b="24593"/>
          <a:stretch/>
        </p:blipFill>
        <p:spPr>
          <a:xfrm>
            <a:off x="3571920" y="1571760"/>
            <a:ext cx="900000" cy="228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C:\Users\555\Desktop\вода\конференция 2\P4280314.JPG"/>
          <p:cNvPicPr/>
          <p:nvPr/>
        </p:nvPicPr>
        <p:blipFill>
          <a:blip r:embed="rId6"/>
          <a:srcRect l="34233" t="15873" r="43450" b="18644"/>
          <a:stretch/>
        </p:blipFill>
        <p:spPr>
          <a:xfrm>
            <a:off x="6429240" y="1500120"/>
            <a:ext cx="1071720" cy="2357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7" descr="C:\Users\555\Desktop\вода\конференция 2\P4280315.JPG"/>
          <p:cNvPicPr/>
          <p:nvPr/>
        </p:nvPicPr>
        <p:blipFill>
          <a:blip r:embed="rId7"/>
          <a:srcRect l="32744" t="7942" r="38982" b="20628"/>
          <a:stretch/>
        </p:blipFill>
        <p:spPr>
          <a:xfrm>
            <a:off x="7572240" y="1500120"/>
            <a:ext cx="1214640" cy="2357640"/>
          </a:xfrm>
          <a:prstGeom prst="rect">
            <a:avLst/>
          </a:prstGeom>
          <a:ln w="0">
            <a:noFill/>
          </a:ln>
        </p:spPr>
      </p:pic>
      <p:sp>
        <p:nvSpPr>
          <p:cNvPr id="338" name="Нашивка 20"/>
          <p:cNvSpPr/>
          <p:nvPr/>
        </p:nvSpPr>
        <p:spPr>
          <a:xfrm>
            <a:off x="4786200" y="2571840"/>
            <a:ext cx="1071720" cy="500040"/>
          </a:xfrm>
          <a:custGeom>
            <a:avLst/>
            <a:gdLst>
              <a:gd name="textAreaLeft" fmla="*/ 0 w 1071720"/>
              <a:gd name="textAreaRight" fmla="*/ 1072080 w 10717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0" y="0"/>
                </a:lnTo>
                <a:lnTo>
                  <a:pt x="21600" y="10800"/>
                </a:lnTo>
                <a:lnTo>
                  <a:pt x="16560" y="21600"/>
                </a:lnTo>
                <a:lnTo>
                  <a:pt x="0" y="21600"/>
                </a:lnTo>
                <a:lnTo>
                  <a:pt x="504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71400" y="428760"/>
            <a:ext cx="21142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ители Ленинского района г. Кемерово, использующие воду центрального водопровода, могут без опасения использовать воду для хозяйственно – питьевых целей, т.к. вода имеет незначительный уровень жесткости. Использование средства  «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gon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»  и других средств, препятствующих образованию накипи должно быть минимально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спользовать  воду из скважины в садовом обществе Маручак, для питьевых целей не желательно. Лучше приобретать питьевую воду через торговую сеть; для стирки белья обязательно использовать средства  препятствующие образованию накип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ле кипячения или замораживания уровень жесткости снижается – вода становится более мягко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Накип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2616120" cy="2571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4071960" y="3071880"/>
            <a:ext cx="41911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i="1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en-US" sz="4500" spc="-1" strike="noStrike">
                <a:solidFill>
                  <a:srgbClr val="04617b"/>
                </a:solidFill>
                <a:latin typeface="Calibri"/>
              </a:rPr>
              <a:t>Тема  работы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4500"/>
            </a:br>
            <a:r>
              <a:rPr b="1" lang="en-US" sz="4500" spc="-1" strike="noStrike">
                <a:solidFill>
                  <a:srgbClr val="c00000"/>
                </a:solidFill>
                <a:latin typeface="Calibri"/>
              </a:rPr>
              <a:t>«Жесткость воды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Ц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определение жесткости воды, взятой из центрального водопровода г. Кемерово, воды из скважин, воды Тали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и воды, полученной после таяния снег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Рабочие гипотез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да из частных скважин более жесткая, чем из городского центрального водопрово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ровень жесткости снижается после замораживания воды и кипяче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литературу по данной проблем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пределить жесткость воды, взятой из частных скважин, и центрального водопровода г. Кемеро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пределить изменение жесткости воды после заморажи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На основании сравнительного анализа сделать вывод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Объект исследования – </a:t>
            </a:r>
            <a:r>
              <a:rPr b="1" i="1" lang="en-US" sz="2800" spc="-1" strike="noStrike">
                <a:solidFill>
                  <a:srgbClr val="0070c0"/>
                </a:solidFill>
                <a:latin typeface="Constantia"/>
              </a:rPr>
              <a:t>вод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Предмет исследования: </a:t>
            </a: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жесткость воды</a:t>
            </a: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Вода – источник всего во Вселенн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Геракли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Demokryt"/>
          <p:cNvPicPr/>
          <p:nvPr/>
        </p:nvPicPr>
        <p:blipFill>
          <a:blip r:embed="rId2"/>
          <a:stretch/>
        </p:blipFill>
        <p:spPr>
          <a:xfrm>
            <a:off x="5003640" y="836640"/>
            <a:ext cx="3621240" cy="47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90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5" descr="b4732"/>
          <p:cNvPicPr/>
          <p:nvPr/>
        </p:nvPicPr>
        <p:blipFill>
          <a:blip r:embed="rId2"/>
          <a:stretch/>
        </p:blipFill>
        <p:spPr>
          <a:xfrm>
            <a:off x="357120" y="21420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347003"/>
          <p:cNvPicPr/>
          <p:nvPr/>
        </p:nvPicPr>
        <p:blipFill>
          <a:blip r:embed="rId3"/>
          <a:stretch/>
        </p:blipFill>
        <p:spPr>
          <a:xfrm>
            <a:off x="5143680" y="214200"/>
            <a:ext cx="3800160" cy="2714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37-1024"/>
          <p:cNvPicPr/>
          <p:nvPr/>
        </p:nvPicPr>
        <p:blipFill>
          <a:blip r:embed="rId4"/>
          <a:stretch/>
        </p:blipFill>
        <p:spPr>
          <a:xfrm>
            <a:off x="214200" y="37148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33"/>
          <p:cNvPicPr/>
          <p:nvPr/>
        </p:nvPicPr>
        <p:blipFill>
          <a:blip r:embed="rId5"/>
          <a:stretch/>
        </p:blipFill>
        <p:spPr>
          <a:xfrm>
            <a:off x="5000760" y="364320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9"/>
          <p:cNvPicPr/>
          <p:nvPr/>
        </p:nvPicPr>
        <p:blipFill>
          <a:blip r:embed="rId6"/>
          <a:stretch/>
        </p:blipFill>
        <p:spPr>
          <a:xfrm>
            <a:off x="1500120" y="982800"/>
            <a:ext cx="5857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609480"/>
            <a:ext cx="85374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alibri"/>
              </a:rPr>
              <a:t>Диаграмма № 1. Содержание воды в организме человека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8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610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7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479010"/>
          <p:cNvPicPr/>
          <p:nvPr/>
        </p:nvPicPr>
        <p:blipFill>
          <a:blip r:embed="rId2"/>
          <a:stretch/>
        </p:blipFill>
        <p:spPr>
          <a:xfrm>
            <a:off x="0" y="0"/>
            <a:ext cx="10058400" cy="70866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ff33cc"/>
                </a:solidFill>
                <a:latin typeface="Calibri"/>
              </a:rPr>
              <a:t>Состав вод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1676160"/>
            <a:ext cx="95248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Constantia"/>
              </a:rPr>
              <a:t>Кислород – 88,6%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Constantia"/>
              </a:rPr>
              <a:t>Водород –  11,4%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AutoShape 18"/>
          <p:cNvSpPr/>
          <p:nvPr/>
        </p:nvSpPr>
        <p:spPr>
          <a:xfrm>
            <a:off x="6629400" y="1752480"/>
            <a:ext cx="380880" cy="1905120"/>
          </a:xfrm>
          <a:custGeom>
            <a:avLst/>
            <a:gdLst>
              <a:gd name="textAreaLeft" fmla="*/ 0 w 380880"/>
              <a:gd name="textAreaRight" fmla="*/ 267120 w 380880"/>
              <a:gd name="textAreaTop" fmla="*/ 79200 h 1905120"/>
              <a:gd name="textAreaBottom" fmla="*/ 18259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7391520" y="236232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nstantia"/>
              </a:rPr>
              <a:t>по м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Содержимое 4" descr=""/>
          <p:cNvPicPr/>
          <p:nvPr/>
        </p:nvPicPr>
        <p:blipFill>
          <a:blip r:embed="rId2"/>
          <a:stretch/>
        </p:blipFill>
        <p:spPr>
          <a:xfrm>
            <a:off x="208080" y="2693880"/>
            <a:ext cx="8485200" cy="15368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428760" y="3571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Жесткость воды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совокупность свойств воды, обусловленных наличием в нем катионитов кальция и маг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428760" y="436284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яг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жесткос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ст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4:02:53Z</dcterms:created>
  <dc:creator>555</dc:creator>
  <dc:description/>
  <dc:language>en-US</dc:language>
  <cp:lastModifiedBy>мыш</cp:lastModifiedBy>
  <dcterms:modified xsi:type="dcterms:W3CDTF">2010-01-27T14:30:39Z</dcterms:modified>
  <cp:revision>18</cp:revision>
  <dc:subject/>
  <dc:title>Жесткость воды</dc:title>
</cp:coreProperties>
</file>