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86D6-D189-418F-A0CC-71E1F51D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9C7-7EA8-4930-A890-B27F2832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F9D-A98A-4397-9A91-C1C73723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6F90-40AA-49C3-BB40-0F958EF1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ABF-8A51-48C1-9C01-91EB58CD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B9A-9298-4C29-83C3-A6D408A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A846-86A1-44C9-9BFC-A5B3E710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825-DD04-4296-857D-A03717BF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BD5-2C70-46A4-95A6-E334535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2E6-1176-4C2E-9954-6554558D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FAB-C2F0-4115-B151-6A51EF5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DC1-4273-49E6-8BC1-8AB1FF06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20C4-2FC6-4425-8A19-89745308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thumb/4/4b/Egyptian_A%27h-mos&#232;_or_Rhind_Papyrus_%281065x1330%29.png/240px-Egyptian_A%27h-mos&#232;_or_Rhind_Papyrus_%281065x1330%29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то и ког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ридума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ервое уравн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8360" y="1700280"/>
            <a:ext cx="813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ождение алгебры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До нас дошли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авилонские глиняные плитк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с комбинациями клиновидных чёрточек -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линопис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Эти плитки играли в Вавилоне такую же роль, как папирусы в Египте. Основная масса этих литературных источников относится ко второму тысячелетию до нашей э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По преданию на надгробии Диофанта выгравировано стихотворение-загадка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Путник! Здесь прах погребён Диофа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И числа поведать могут, о чудо, сколь долог был век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Часть шестую его представляло счастливое дет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Двенадцатая часть протекла ещё жизни – Пухом покрылся тогда подборо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Седьмую в бездетном браке провёл Диоф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Прошло пятилет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Он был осчастливлен рожденьем прекрасного первенца сы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Коему рок половину лишь жизни счастливой и свет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Дал на земле по сравненью с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И в печали глубокой старец земного удела конец восприня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Переживши года четыре с тех пор, как сына лиш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Скажи, скольких лет жизни достигну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Monotype Corsiva"/>
              </a:rPr>
              <a:t>Смерть воспринял Диофа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усть Диофант прожил х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огда, используя данные из стихотвор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лучим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х/6+х/12+х/7+5+х/2+4=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4х+7х+12х+420+42х+336=84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4х+7х+12х+42х-84х= -420-33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-9х= -75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х=8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твет: Диофант прожил 8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981000"/>
            <a:ext cx="5257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В Западной Европе изучение алгебры началось в 13 в. Одним из крупных математиков этого времени был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тальянец Леонардо Пизанский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(Фибоначчи). Его «Книга абака» (1202) – трактат, который содержал сведения об арифметике и алгебре до квадратных уравнений включи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2209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55450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сутствие удобной и хорошо развитой символики сковывало дальнейшее развитие алгеб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конце 16 в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французский математик Франсуа Ви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вёл буквенные обозначения не только для неизвестных, но и для произвольны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стоя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307980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63640" y="476280"/>
            <a:ext cx="53290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Символика Виета была усовершенствована многими учёными. Окончательный вид ей придал в начале 17 в.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французский философ и математик Рене Декарт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. Декарту удалось освободить алгебру от несвойственной ей геометрической формы. Всё это позволило рассматривать вопросы решения уравнений в самом общем ви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34196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 наши дни алгебра – одна из важнейших частей математики, находящая приложения как в сугубо теоретических отраслях науки, так и во многих практических вопрос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63640" y="3573360"/>
            <a:ext cx="53294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Презентацию созда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ченик 7 кла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ОУ Давыдовской СО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емнёв Евг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63300"/>
                </a:solidFill>
                <a:latin typeface="Times New Roman"/>
              </a:rPr>
              <a:t>Руководител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читель математики Панченкова М. 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24360" y="992160"/>
            <a:ext cx="4835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ногие уравнения умел решать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греческий математик Диофан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который даже применял буквы для обозначения неизвес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думал Диофант и два основны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ёма решения уравнений – пере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известных в одну сторону у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 приведение подобных слагае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31161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37200" y="907560"/>
            <a:ext cx="49068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о по-настоящему метод у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формировался в руках арабских учёных. Первым написал книгу на арабском языке о решении уравнений Мухаммед ибн Муса ал-Хорез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513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549000"/>
            <a:ext cx="864216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Название у неё было очень странное – </a:t>
            </a: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«Краткая книга об исчисл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336600"/>
                </a:solidFill>
                <a:latin typeface="Times New Roman"/>
              </a:rPr>
              <a:t>ал - джебры и ал – мукабалы».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В этом названии впервые прозвучало известное нам слово «алгебра». Что же означают слова «ал – джебра»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«ал – мукабала»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Ответ на этот вопрос один персидский математик изложил в следующих стиха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384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х-13=2х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2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х    =      -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-2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х    =      -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х-2х=13-5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771280" y="260280"/>
            <a:ext cx="591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и решении уравнен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Если в части одн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Безразлично как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стретится член отрицате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Мы к обеим частя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 этим членом слич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Равный член придад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Только с знаком другим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И найдём результат нам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желате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27280" y="333360"/>
            <a:ext cx="35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л-джебр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3645000"/>
            <a:ext cx="289080" cy="718920"/>
          </a:xfrm>
          <a:custGeom>
            <a:avLst/>
            <a:gdLst>
              <a:gd name="textAreaLeft" fmla="*/ 38520 w 289080"/>
              <a:gd name="textAreaRight" fmla="*/ 250560 w 28908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619280" y="4075920"/>
            <a:ext cx="288720" cy="792360"/>
          </a:xfrm>
          <a:custGeom>
            <a:avLst/>
            <a:gdLst>
              <a:gd name="textAreaLeft" fmla="*/ 38520 w 288720"/>
              <a:gd name="textAreaRight" fmla="*/ 250200 w 288720"/>
              <a:gd name="textAreaTop" fmla="*/ 138600 h 792360"/>
              <a:gd name="textAreaBottom" fmla="*/ 57456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23800">
            <a:off x="1042560" y="1989000"/>
            <a:ext cx="282600" cy="725760"/>
          </a:xfrm>
          <a:custGeom>
            <a:avLst/>
            <a:gdLst>
              <a:gd name="textAreaLeft" fmla="*/ 37800 w 282600"/>
              <a:gd name="textAreaRight" fmla="*/ 244800 w 282600"/>
              <a:gd name="textAreaTop" fmla="*/ 126720 h 725760"/>
              <a:gd name="textAreaBottom" fmla="*/ 526320 h 72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838400">
            <a:off x="1618920" y="2637000"/>
            <a:ext cx="317520" cy="720720"/>
          </a:xfrm>
          <a:custGeom>
            <a:avLst/>
            <a:gdLst>
              <a:gd name="textAreaLeft" fmla="*/ 42480 w 317520"/>
              <a:gd name="textAreaRight" fmla="*/ 275040 w 3175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99"/>
            </a:gs>
            <a:gs pos="100000">
              <a:srgbClr val="ffcc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Дальше смотрим в уравн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Можно ль сделать приведень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Если члены в нём подоб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опоставить их удоб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ычтя равный член из н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К одному приводим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6х-2х=13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4х=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х=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549360"/>
            <a:ext cx="1094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л – мукабала                                                  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им образом, 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название «ал -джебра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носила операция переноса отрицательных членов из одной части уравнения в другую, но уже с положительным знаком. По-русски это </a:t>
            </a:r>
            <a:r>
              <a:rPr b="0" lang="ru-RU" sz="3600" spc="-1" strike="noStrike">
                <a:solidFill>
                  <a:srgbClr val="cc3300"/>
                </a:solidFill>
                <a:latin typeface="Times New Roman"/>
              </a:rPr>
              <a:t>означает «восполнение»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Поэтому в Испании слово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алгебрист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значало совсем не математика, а…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остопра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 когда Дон Кихот был ранен в одном из поединков, его верный оруженосец Санчо Панса привёл из соседнего города именно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алгебрис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42400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512280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атки алгебраического мышления находят своё отражение в египетских папиру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апирусе Ахме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специальный раздел «Вычисление кучи». Здесь под словом «куча» подразумевается неизвестная велич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Картинка 4 из 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907920"/>
            <a:ext cx="324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6:44:49Z</dcterms:created>
  <dc:creator>Учителя</dc:creator>
  <dc:description/>
  <dc:language>en-US</dc:language>
  <cp:lastModifiedBy>Учителя</cp:lastModifiedBy>
  <dcterms:modified xsi:type="dcterms:W3CDTF">2009-03-17T10:06:11Z</dcterms:modified>
  <cp:revision>12</cp:revision>
  <dc:subject/>
  <dc:title>Слайд 1</dc:title>
</cp:coreProperties>
</file>