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BA95-CC82-4C0E-927A-E88FD6FF1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C28C-2400-428C-9040-C7D7FA14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E3F1-0B4A-41BF-9D6A-86A60A086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2A47-7B01-4D41-A052-6F80FD27C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5069-E11E-4D24-B49B-47EEE6135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4B2B-84DD-4C0B-92A4-B4B4579E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3810-3B30-45CE-A8E7-8D2DDD08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5CD5-C4A9-4B7D-AD46-CFB83780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01DF-CBF7-4C60-B131-628537F1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A474-65FB-4D14-9EBC-C9F928E1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F9FF-04EF-4F2D-8558-775606B6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6653-F2DC-47ED-B530-70008C3A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D5ED-F377-4AB4-9CF8-7C01B040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4A37-8D07-4EE9-A3DA-28CDBE79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9421-13DB-47AF-B405-505B304D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4782-0EB0-4503-B9AA-BD702C52B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73DE-9B1B-4499-8A60-9DFA1C16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87F1-13C1-4761-99FD-5E496324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6E32-EE82-4567-A17F-F54064F7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6DB3-5348-44AF-8A46-587928BE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D0A4-AC7B-48A2-8DE0-1CEAFB89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A13E-CFAD-43C6-8221-8B058798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17C2-2487-4CBB-85D2-92ED576A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E5FE-46FC-4D62-AB55-B7F6C632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DA45-12FB-444A-BEB9-0E9BF81CA545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1A10-B706-4B8C-88ED-09D2ACEFE5B8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79280" y="333360"/>
            <a:ext cx="706752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РЕЗУЛЬТАТЫ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ССЛЕДОВАТЕЛЬСКОЙ РАБОТЫ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500280" y="4365720"/>
            <a:ext cx="5643720" cy="19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боту выполнил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чащаяся 18групп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Ельникова Вероник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уководитель: преподаватель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тории Приходько Елена Владимировн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7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Считаете ли вы себя патриотом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395280" y="1773360"/>
          <a:ext cx="32400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3240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3924360" y="1844640"/>
            <a:ext cx="4425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 ПЕРВЫЙ ВОПРОС БЫЛИ СЛЕДУЮЩИЕ ОТВЕТЫ В ПРОЦЕНТНОМ СООТНОШЕНИИ:</a:t>
            </a:r>
            <a:br>
              <a:rPr sz="2400"/>
            </a:b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med" advTm="7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КТО, НА ВАШ ВЗГЛЯД, В БОЛЬШЕЙ СТЕПЕНИ ПОВЛИЯЛ НА ФОРМИРОВАНИЕ ВАШИХ ПАТРИОТИЧЕСКИХ ЧУВСТВ?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648320" y="184464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e103"/>
                </a:solidFill>
                <a:latin typeface="Arial Black"/>
              </a:rPr>
              <a:t>НА </a:t>
            </a:r>
            <a:r>
              <a:rPr b="0" lang="ru-RU" sz="1800" spc="-1" strike="noStrike">
                <a:solidFill>
                  <a:srgbClr val="ffe103"/>
                </a:solidFill>
                <a:latin typeface="Arial Black"/>
              </a:rPr>
              <a:t>ВТОРОЙ</a:t>
            </a:r>
            <a:r>
              <a:rPr b="0" lang="ru-RU" sz="2000" spc="-1" strike="noStrike">
                <a:solidFill>
                  <a:srgbClr val="ffe103"/>
                </a:solidFill>
                <a:latin typeface="Arial Black"/>
              </a:rPr>
              <a:t> ВОПРОС,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e103"/>
                </a:solidFill>
                <a:latin typeface="Arial Black"/>
              </a:rPr>
              <a:t>БОЛЬШИНСТВО (73%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e103"/>
                </a:solidFill>
                <a:latin typeface="Arial Black"/>
              </a:rPr>
              <a:t>РЕСПОНДЕНТОВ ОТВЕТИЛО,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e103"/>
                </a:solidFill>
                <a:latin typeface="Arial Black"/>
              </a:rPr>
              <a:t>ЧТО ШКОЛА, РОДИТЕЛИ,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e103"/>
                </a:solidFill>
                <a:latin typeface="Arial Black"/>
              </a:rPr>
              <a:t>ОКРУЖАЮЩИЕ ЛЮДИ И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e103"/>
                </a:solidFill>
                <a:latin typeface="Arial Black"/>
              </a:rPr>
              <a:t>ДРУЗЬЯ В БОЛЬШЕЙ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e103"/>
                </a:solidFill>
                <a:latin typeface="Arial Black"/>
              </a:rPr>
              <a:t>СТЕПЕНИ ВЛИЯЮТ НА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e103"/>
                </a:solidFill>
                <a:latin typeface="Arial Black"/>
              </a:rPr>
              <a:t>ФОРМИРОВАНИЕ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e103"/>
                </a:solidFill>
                <a:latin typeface="Arial Black"/>
              </a:rPr>
              <a:t>ПАТРИОТИЧЕСКИХ ЧУВСТВ,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e103"/>
                </a:solidFill>
                <a:latin typeface="Arial Black"/>
              </a:rPr>
              <a:t>А 27% СЧИТАЮТ, ЧТО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e103"/>
                </a:solidFill>
                <a:latin typeface="Arial Black"/>
              </a:rPr>
              <a:t>ВЛИЯЮТ – ОРГАНЫ ВЛАСТИ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685800" y="1981080"/>
          <a:ext cx="380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7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о каким признакам или высказываниям вы определяете для себя понятие «патриотизм»?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788000" y="1197000"/>
            <a:ext cx="374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№</a:t>
            </a: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1. Национальное самосознание,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5173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гордость за принадлежностью к своей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5173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нации и народу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5173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№</a:t>
            </a: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2. Непримиримость к представителям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5173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Других наций и народов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5173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№</a:t>
            </a: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3. Интернационализм, готовность к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5173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сотрудничеству с представителями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5173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других наций и народов в интересах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5173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своей Родины - России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5173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№</a:t>
            </a: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4. Бескорыстная любовь и служение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5173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Родине, готовность к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5173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самопожертвованию ради ее блага и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5173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спасения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5173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№</a:t>
            </a: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5. Любовь к родному дому, городу,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5173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стране, верность национальной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5173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культуре, традициям, укладу жизни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5173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№</a:t>
            </a: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6. Стремление трудиться для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5173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процветания Родины, для того чтобы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5173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государство, в котором ты живешь,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5173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было самым авторитетным, самым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5173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мощным и уважаемым в мире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5173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№</a:t>
            </a: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7. Патриотизм сегодня не актуален,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5173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не современен, не для сегодняшней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5173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молодежи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5173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№</a:t>
            </a: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8. Патриотизм – это лишь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5173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романтический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5173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образ, литературная выдумка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5173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611280" y="1341360"/>
          <a:ext cx="3521160" cy="453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41360"/>
                    <a:ext cx="352116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7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ЕСЛИ ВЫ НЕ СМОГЛИ ОПРЕДЕЛИТЬ ДЛЯ СЕБЯ ПОНЯТИЕ «ПАТРИОТИЗМ», В  ЧЕМ ПРИЧИНА ВАШЕГО НЕПОНИМАНИЯ?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900000" y="2333520"/>
          <a:ext cx="3598920" cy="373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333520"/>
                    <a:ext cx="3598920" cy="37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НА ЧЕТВЕРТЫЙ ВОПРОС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МНОГИЕ УЧЕНИКИ ОТВЕТИЛИ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СЛЕДУЮЩИМ ОБРАЗОМ: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1) 70% НЕ ЖЕЛАЮТ ПОНИМАТЬ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ОНЯТИЕ «ПАТРИОТИЗМА»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;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2) 20% СЧИТАЮТ ЭТО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НЕАКТУАЛЬНЫМ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;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3) 10% НЕ ИМЕЮТ 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ВОЗМОЖНОСТИ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7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34076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ИЗ СПИСКА ИНДИВИДУАЛЬНО-ПЕДАГОЧИЧЕСКИХ ХАРАКТЕРИСТИК И ЖИЗНЕННЫХ  ЦЕННОСТЕЙ ЧЕЛОВЕКА ОПРЕДЕЛИТЕ ДЛЯ СЕБЯ ТЕ КАЧЕСТВА И ЦЕННОСТИ, КОТОРЫМИ ДОЛЖЕН ОБЛАДАТЬ ПАТРИОТ (НУЖНОЕ ПОДЧЕРКНИТЕ)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250920" y="1557360"/>
          <a:ext cx="3251160" cy="41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557360"/>
                    <a:ext cx="3251160" cy="41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564000" y="1268280"/>
            <a:ext cx="55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419640" y="1341360"/>
            <a:ext cx="5545080" cy="46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imes New Roman"/>
              </a:rPr>
              <a:t>№</a:t>
            </a:r>
            <a:r>
              <a:rPr b="0" lang="ru-RU" sz="1600" spc="-1" strike="noStrike">
                <a:solidFill>
                  <a:srgbClr val="ffcc00"/>
                </a:solidFill>
                <a:latin typeface="Times New Roman"/>
              </a:rPr>
              <a:t>1-22% НАЛИЧИЕ ХОРОШИХ И ВЕРНЫХ ДРУЗЕЙ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imes New Roman"/>
              </a:rPr>
              <a:t>№</a:t>
            </a:r>
            <a:r>
              <a:rPr b="0" lang="ru-RU" sz="1600" spc="-1" strike="noStrike">
                <a:solidFill>
                  <a:srgbClr val="ffcc00"/>
                </a:solidFill>
                <a:latin typeface="Times New Roman"/>
              </a:rPr>
              <a:t>2-20% СВОБОДА, УВЕРЕННОСТЬ В СЕБЕ, ОТВЕТСТВЕННОСТЬ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imes New Roman"/>
              </a:rPr>
              <a:t>№</a:t>
            </a:r>
            <a:r>
              <a:rPr b="0" lang="ru-RU" sz="1600" spc="-1" strike="noStrike">
                <a:solidFill>
                  <a:srgbClr val="ffcc00"/>
                </a:solidFill>
                <a:latin typeface="Times New Roman"/>
              </a:rPr>
              <a:t>3-19% РАЗВЛЕЧЕНИЯ, СЧАСТЛИВАЯ СЕМЕЙНАЯ ЖИЗНЬ, САМОКОНТРОЛЬ, ЧЕСТНОСТЬ, ЭФФЕКТИВНОСТЬ В ДЕЛАХ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imes New Roman"/>
              </a:rPr>
              <a:t>№</a:t>
            </a:r>
            <a:r>
              <a:rPr b="0" lang="ru-RU" sz="1600" spc="-1" strike="noStrike">
                <a:solidFill>
                  <a:srgbClr val="ffcc00"/>
                </a:solidFill>
                <a:latin typeface="Times New Roman"/>
              </a:rPr>
              <a:t>4-16% ЗДОРОВЬЕ (ФИЗИЧЕСКОЕ И ПСИХИЧЕСКОЕ), ИНТЕРЕСНАЯ РАБОТА, ЛЮБОВЬ (ДУХОВНАЯ И ФИЗИЧЕСКАЯ), НЕЗАВИСИМОСТЬ, ОБРАЗОВАННОСТЬ.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imes New Roman"/>
              </a:rPr>
              <a:t>№</a:t>
            </a:r>
            <a:r>
              <a:rPr b="0" lang="ru-RU" sz="1600" spc="-1" strike="noStrike">
                <a:solidFill>
                  <a:srgbClr val="ffcc00"/>
                </a:solidFill>
                <a:latin typeface="Times New Roman"/>
              </a:rPr>
              <a:t>5-14% АКТИВНАЯ ДЕЯТЕЛЬНАЯ ЖИЗНЬ, СЧАСТЬЕ ДРУГИХ, ВОСПИТАННОСТЬ, ЖИЗНЕРАДОСТНОСТЬ, СМЕЛОСТЬ В ОТСТАИВАНИИ СВОИХ ВЗГЛЯДОВ, ШИРОТА ВЗГЛЯДОВ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Times New Roman"/>
              </a:rPr>
              <a:t>№</a:t>
            </a:r>
            <a:r>
              <a:rPr b="0" lang="ru-RU" sz="1600" spc="-1" strike="noStrike">
                <a:solidFill>
                  <a:srgbClr val="ffcc00"/>
                </a:solidFill>
                <a:latin typeface="Times New Roman"/>
              </a:rPr>
              <a:t>6-10% МАТЕРИАЛЬНОЕ ОБЕСПЕЧЕНИЕ ЖИЗНИ, ОБЩЕСТВЕННОЕ ПРИЗНАНИЕ, ВЫСОКИЕ ЗАПРОСЫ, ИСПОЛНИТЕЛЬНОСТЬ, ТВЕРДАЯ ВОЛЯ, ТЕРПИМОСТЬ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med" advTm="7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ОТМЕТЬТЕ, ЧТО В ВАШЕЙ КОМПАНИИ, КОЛЛЕКТИВЕ, КРУГУ ВАШИХ ДРУЗЕЙ ЦЕНИТСЯ ВЫШЕ ВСЕГО?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324000" y="1916280"/>
          <a:ext cx="3673440" cy="40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916280"/>
                    <a:ext cx="36734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4140360" y="1125360"/>
            <a:ext cx="467964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№</a:t>
            </a: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1 – 60% 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ГОТОВНОСТЬ ПОМОЧЬ ДРУГ ДРУГУ В ТРУДНУЮ МИНУТУ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№</a:t>
            </a: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2 – 27%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УМЕНИЕ ЦЕНИТЬ НАСТОЯЩУЮ ДРУЖБУ, ВЗАИМОПОНИМАНИЕ, СМЕЛОСТЬ, РЕШИТЕЛЬНОСТЬ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№</a:t>
            </a: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3 – 13% 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ЧЕСТНОСТЬ, ПОРЯДОЧНОСТЬ, ПРИНЦИПИАЛЬНОСТЬ,, ПРИЯТНАЯ ВНЕШНОСТЬ, ХОРОШИЕ МАНЕРЫ, УМЕНИЕ МОДНО ОДЕВАТЬСЯ, ИНТЕРЕС, ЗНАНИЕ ЛИТЕРАТУРЫ, ИСКУССТВА, МУЗЫКИ, ИНТЕРЕС К ПОЛИТИКЕ, НАЛИЧИЕ ФИРМЕННЫХ ВЕЩЕЙ, ДИСКОВ И Т. П., НАЛИЧИЕ ДЕНЕГ НА КАРМАННЫЕ РАСХОДЫ, СПОСОБНОСТИ 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med" advTm="7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ИЗ ПРЕДЛОЖЕННЫХ ВАРИАНТОВ ОТВЕТОВ ВЫБЕРИТЕ ТЕ, КОТОРЫЕ В НАИБОЛЬШЕЙ СТЕПЕНИ ВЫРАЖАЮТ ВАШУ ТОЧКУ ЗРЕНИЯ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243000" y="2006640"/>
          <a:ext cx="320976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000" y="2006640"/>
                    <a:ext cx="320976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3635280" y="3141720"/>
            <a:ext cx="5184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1) Я ЛЮБЛЮ, КОГДА ДРУГИЕ ЛЮДИ МЕНЯ ЦЕНЯТ – 7%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2) Я ИСПЫТЫВАЮ УДОВЛЕТВОРЕНИЕ ОТ ХОРОШО ВЫПОЛНЕННОЙ РАБОТЫ – 12%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3) Я ЛЮБЛЮ ПРИЯТНО ПРОВОДИТЬ ВРЕМЯ С ДРУЗЬЯМИ – 81%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med" advTm="7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ЗАКОНЧИТЕ ПРЕДЛОЖЕНИЯ: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4000" y="112536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1.КАЖДЫЙ ИЗ НАС ВЕРИТ…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И БОЛЬШИНСТВО УЧЕНИКОВ ОТВЕТИЛИ – В СЕБЯ, УДАЧУ, СТРАНУ, 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СЧАСТЬЕ, БУДУЩЕЕ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2. КАЖДЫЙ ИЗ НАС ГОТОВ…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В ОСНОВНОМ ОТВЕЧАЛИ, ЧТО СЛУЖИТЬ И ЗАЩИЩАТЬ РОДИНУ И ПОМОЧЬ 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БЛИЗКОМУ СВОЕМУ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3. ЗАЩИЩАТЬ СВОЮ РОДИНУ МОЖНО НЕ ТОЛЬКО С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ОРУЖИЕМ В РУКАХ, НО И…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УЧАЩИЕСЯ ОТВЕТИЛИ, ЧТО УМОМ, СЛОВАМИ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4.КОГДА Я ЗАДУМЫВАЮСЬ О БУДУЩЕМ СТРАНЫ, ТО…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И НА МОЕ УДИВЛЕНИЕ МНОГИЕ ОТВЕТИЛИ, ЧТО НИЧЕГО ХОРОШЕГО НЕ 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БУДЕТ, НЕКОТОРЫМ СТАНОВИТСЯ СРАШНО ДАЖЕ ПРИ МЫСЛИ О 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БУДУЩЕМ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5.БЫТЬ ДОСТОЙНЫМ ПРЕДСТАВИТЕЛЕМ СВОЕЙ СТРАНЫ –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ЗНАЧИТ БЫТЬ…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БОЛЬШИНСТВО ОТВЕТИЛИ, ЧТО РОССИЯНИНОМ, ОБРАЗОВАННЫМ, ЧЕСТНЫМ, 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ОТВЕТСТВЕННЫМ, ПАТРИОТОМ, ВОСПИТАННЫМ И ТЕРПЕЛИВЫМ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7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ена</cp:lastModifiedBy>
  <dcterms:modified xsi:type="dcterms:W3CDTF">2010-04-10T06:43:31Z</dcterms:modified>
  <cp:revision>10</cp:revision>
  <dc:subject/>
  <dc:title>PowerPoint Presentation</dc:title>
</cp:coreProperties>
</file>