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D0E-906E-44D3-9F5A-63C70A29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A56-C978-4C31-BE86-DBBB4D7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411-F990-4BF4-9F66-6FFE71FE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01C-DBAD-4E66-9447-AAB9C379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310-9515-444E-B460-08075B48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2A8E-023C-4978-9433-B5062A18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806A-8BCA-42F7-8DBF-6B07D1FA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A2C0-0208-4AE3-B029-A1E8C21C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D114-C51B-47D7-8437-310FA69D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6F0E-31E4-462A-B83C-FA7A7AB2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C337-B250-4464-8BA9-5CEADB0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D9F-3C63-42AB-937F-BD0C43E7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D19-26B5-42FA-A0EC-4B803259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3B98-BC6F-4B3E-A42B-F53784A8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0E4B-8000-4BB0-A5A2-936B3BDB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0404-7A99-4B35-A79E-EC91E4E6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80E3-44C8-4392-A08E-C766B92B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BF0-5CF5-4384-93E4-D9622CA1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A35-19FE-4D8E-91AD-F3CEB181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BEB-4B93-455E-85D0-1D680B7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4DC-2F57-42BC-B434-F799AB90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EB7-1A43-45F5-9844-529BE5C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505-F274-4E9E-A91B-26480C9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E2D-0E67-4DFB-BA44-D5B40B5F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D670-A7AF-4013-BC50-4FC0997DBB0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996-00FC-4CAF-AACA-9BFB7021762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765000"/>
            <a:ext cx="7956720" cy="22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значит быть патриотом сегодня?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35280" y="4149720"/>
            <a:ext cx="4105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готовила и провела: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чащаяся 12групп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упак Олеся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Раскрыть понятия «патриотизм», «достоинство», «долг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Развивать логическое мышление, монологическую речь, памят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Воспитывать мировоззрение учащихся, основанное на православных ценностя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24000" y="0"/>
            <a:ext cx="36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ЕЛЬ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ВОПРОСЫ НА КОТОРЫЕ НУЖНО ОТВЕТИТЬ В КОНЦЕ КЛАССНОГО ЧАСА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 как вы, сегодняшняя молодежь, понимаете, что такое патриотизм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чем каждый из вас видит свое патриотическое служение Родине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отовы ли вы сегодня к любым жертвам и подвигам во имя интересов своей Родины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338148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395280" y="333360"/>
            <a:ext cx="720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ЕКСАНДР НЕВ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49ГОД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00080" y="1190520"/>
            <a:ext cx="53438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3409920" cy="457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8360" y="476280"/>
            <a:ext cx="7199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ЕКСАНДР СУВ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 НОЯБРЯ1730ГО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620640"/>
            <a:ext cx="7489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ЕКСЕЙ АНДРЕЕВИЧ ЛУКАШ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хиархимандрит АНДРОН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ФЕВРАЛЯ 1878-21МАРТА 1974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ВОПРОСЫ НА КОТОРЫЕ НУЖНО ОТВЕТИТЬ В КОНЦЕ КЛАССНОГО ЧАСА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 как вы, сегодняшняя молодежь, понимаете, что такое патриотизм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чем каждый из вас видит свое патриотическое служение Родине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отовы ли вы сегодня к любым жертвам и подвигам во имя интересов своей Родины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42:56Z</dcterms:created>
  <dc:creator>Лена</dc:creator>
  <dc:description/>
  <dc:language>en-US</dc:language>
  <cp:lastModifiedBy>Лена</cp:lastModifiedBy>
  <dcterms:modified xsi:type="dcterms:W3CDTF">2009-04-22T07:46:01Z</dcterms:modified>
  <cp:revision>3</cp:revision>
  <dc:subject/>
  <dc:title>Слайд 1</dc:title>
</cp:coreProperties>
</file>