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6E6-2C9C-4DC8-8778-E2DD3626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AE7-BBF6-4226-8D2E-A0252A45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66F-9501-46CD-85A8-C1F7CB64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2CC-9EB1-4CAB-855A-A9F0550C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4F2-3BFD-4482-99FF-8028A6DC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26E-17CE-46CB-B3F3-428A6DCD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97E-74A9-451B-86A7-92BBBA2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BE2-F252-4C82-8F4A-B4643F45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0EB-7CEA-4739-A877-212E37F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C71-2E62-4F08-889F-361AD79E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832-A1E6-4A37-9720-56B082C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333-EFF9-4547-8FC4-9E796FF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F938-8C88-4662-A463-0180C254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ПОЛУЧЕНИЕ И ИССЛЕДОВАНИЕ ХИМИЧЕСКИХ СВОЙСТВ СОРБЦИОННЫХ КОМПЛЕКСОВ НА ОСНОВЕ СИЛИКА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2997000"/>
            <a:ext cx="3887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еница 11 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У СОШ №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.Ставроп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фильева Ольга Олег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авцо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тезированы образцы сорбентов на основе силикагеля и казеина. Содержание казеина составило 5, 10, 15, 20, 25 и 50 мас. 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учена сорбционная емкость сорбентов относительно тяжелых металлов на примере ци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дена оптимизация факторов: способа получения казеина и массовой доли казеина, влияющих на адсорбционные свойства сорбентов. Установлено, что наилучшее соотношение силикагель : казеин для адсорбции по цинку 95%:5% соответственно, оптимальный способ получения казеина для последующего синтеза сорбента – выделение нативного казеина с помощью метилцеллюл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реде «искусственного» желудочного сока изучены процессы десорбции избыточных доз цинка. Полученные данные свидетельствует о незначительной десорбции цинка, средний процент десорбции составил 7,48 %. Исходя из этого, можно исключить возможность повторной интоксикации вследствие десорбции в желудке комплекса сорбент - мета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нтезировать сорбенты на основе казеина и силикагеля с различным содержанием природного полим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учить сорбционную емкость разработанных сорбентов относительно лекарственных вещ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тимизировать факторы: удельной поверхности носителя и массовой доли казеина, влияющих на адсорбционные свойства сорб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мотреть возможности использования разработанных сорбентов в качестве основы для сорбции относительно избытка лекарственных препаратов, могущих вызывать отрав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Целью работы является разработка сорбентов с заданными свойствами на основе природного полим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3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хема экспериментального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9280" y="1125360"/>
            <a:ext cx="8353440" cy="5472360"/>
            <a:chOff x="179280" y="1125360"/>
            <a:chExt cx="8353440" cy="5472360"/>
          </a:xfrm>
        </p:grpSpPr>
        <p:sp>
          <p:nvSpPr>
            <p:cNvPr id="48" name=""/>
            <p:cNvSpPr/>
            <p:nvPr/>
          </p:nvSpPr>
          <p:spPr>
            <a:xfrm>
              <a:off x="1539000" y="1125360"/>
              <a:ext cx="588420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Анализ состояния во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21840" y="6178320"/>
              <a:ext cx="48610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Вы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52840" y="155844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3400" y="5456520"/>
              <a:ext cx="56336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Исследование процессов десорб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39000" y="1847160"/>
              <a:ext cx="5827680" cy="4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Изучение процесса синтеза сорб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39000" y="2568960"/>
              <a:ext cx="58276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Выделение казеина различными способами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44600" y="3290760"/>
              <a:ext cx="621648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Получение комплексов казеин - силикаг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2840" y="228024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52840" y="300204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52840" y="372384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52840" y="444564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44600" y="4012560"/>
              <a:ext cx="6410880" cy="44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Оценка способности комплексов к сорбции тяжелых металл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9280" y="4734720"/>
              <a:ext cx="835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Оптимизация полученных комплек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2840" y="516780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2840" y="5889600"/>
              <a:ext cx="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Объекты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500720" cy="3600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48360" y="3933720"/>
            <a:ext cx="3287520" cy="2630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35035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хема получения казеина из мол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9640" y="1268280"/>
            <a:ext cx="8066160" cy="5233680"/>
            <a:chOff x="539640" y="1268280"/>
            <a:chExt cx="8066160" cy="5233680"/>
          </a:xfrm>
        </p:grpSpPr>
        <p:sp>
          <p:nvSpPr>
            <p:cNvPr id="70" name=""/>
            <p:cNvSpPr/>
            <p:nvPr/>
          </p:nvSpPr>
          <p:spPr>
            <a:xfrm>
              <a:off x="2959200" y="1268280"/>
              <a:ext cx="2580840" cy="74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Обезжиренное моло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9640" y="2225160"/>
              <a:ext cx="1774440" cy="134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ff"/>
                  </a:solidFill>
                  <a:latin typeface="Arial"/>
                </a:rPr>
                <a:t>Внесение осадит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59200" y="2858400"/>
              <a:ext cx="2580840" cy="63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Гомогениза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49800" y="2013480"/>
              <a:ext cx="72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14080" y="2435040"/>
              <a:ext cx="193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59200" y="4124880"/>
              <a:ext cx="2580840" cy="84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Центрифугиро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9800" y="3491640"/>
              <a:ext cx="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59200" y="5868720"/>
              <a:ext cx="2580840" cy="63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Белковый 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85880" y="4079520"/>
              <a:ext cx="2419920" cy="105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Полисахарид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49800" y="5101920"/>
              <a:ext cx="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40400" y="4590720"/>
              <a:ext cx="64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хема получения сорбента на основе казеина и силикаг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95280" y="1484280"/>
            <a:ext cx="8064360" cy="5184360"/>
            <a:chOff x="395280" y="1484280"/>
            <a:chExt cx="8064360" cy="5184360"/>
          </a:xfrm>
        </p:grpSpPr>
        <p:sp>
          <p:nvSpPr>
            <p:cNvPr id="83" name=""/>
            <p:cNvSpPr/>
            <p:nvPr/>
          </p:nvSpPr>
          <p:spPr>
            <a:xfrm>
              <a:off x="395280" y="1484280"/>
              <a:ext cx="8064360" cy="4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Фракционирование белков моло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5280" y="2426040"/>
              <a:ext cx="8064360" cy="5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ff"/>
                  </a:solidFill>
                  <a:latin typeface="Arial"/>
                </a:rPr>
                <a:t>Суспендирование казеина и носителя силикаге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5280" y="3362400"/>
              <a:ext cx="8064360" cy="50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Созревание сорб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5280" y="4292280"/>
              <a:ext cx="806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Термообработка сорбент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5280" y="5149080"/>
              <a:ext cx="8064360" cy="53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Высушивание и механическое размельчение сорбен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5280" y="6141600"/>
              <a:ext cx="8064360" cy="5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Фракционирование сорбент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27280" y="203472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27280" y="296532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27280" y="475200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27280" y="5744880"/>
              <a:ext cx="0" cy="3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держание цинка в проб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975200"/>
        </p:xfrm>
        <a:graphic>
          <a:graphicData uri="http://schemas.openxmlformats.org/drawingml/2006/table">
            <a:tbl>
              <a:tblPr/>
              <a:tblGrid>
                <a:gridCol w="1090440"/>
                <a:gridCol w="1835280"/>
                <a:gridCol w="2389320"/>
                <a:gridCol w="29145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о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езультат, мкг/м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грешность, мкг/м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редне квадратичное отклонение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3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,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орбционная емкость сорбентов по цинку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0554" t="20242" r="0" b="20921"/>
          <a:stretch/>
        </p:blipFill>
        <p:spPr>
          <a:xfrm>
            <a:off x="1547640" y="1557360"/>
            <a:ext cx="6299280" cy="364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240" y="5240880"/>
            <a:ext cx="8951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где 1 - силикагель +50мас.% казеина; 2 - силикагель +75мас.% казеина; 3 - силикагель +80мас.% казе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 - силикагель +85мас.% казеина; 5 - силикагель +90мас.% казеина; 6 - силикагель +95мас.% казеина; 7 - силикаг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казатели величины десорбции цинка сорбентом на основе силикагеля с массовой долей казеина 5% в среде «искусственного» желудочного с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1844640"/>
          <a:ext cx="8229600" cy="4525920"/>
        </p:xfrm>
        <a:graphic>
          <a:graphicData uri="http://schemas.openxmlformats.org/drawingml/2006/table">
            <a:tbl>
              <a:tblPr/>
              <a:tblGrid>
                <a:gridCol w="3168720"/>
                <a:gridCol w="1152360"/>
                <a:gridCol w="1187640"/>
                <a:gridCol w="1360440"/>
                <a:gridCol w="1360440"/>
              </a:tblGrid>
              <a:tr h="1803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аметр, характеризующий процесс сорб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шедшее 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мя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ча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ча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сорбция, %/г сорбен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1:57:03Z</dcterms:created>
  <dc:creator>*</dc:creator>
  <dc:description/>
  <dc:language>en-US</dc:language>
  <cp:lastModifiedBy>Комп_каб№39</cp:lastModifiedBy>
  <dcterms:modified xsi:type="dcterms:W3CDTF">2010-09-29T12:07:46Z</dcterms:modified>
  <cp:revision>8</cp:revision>
  <dc:subject/>
  <dc:title>Слайд 1</dc:title>
</cp:coreProperties>
</file>