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571-253B-4FD2-B7DE-30A19BE6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507-928C-4939-9307-9C41A86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567-6E4C-4E9B-AE3E-95A48A5C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53E-C231-4E83-A76E-7E44DEDC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4C30-538A-4930-B414-7C3D9F1F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4E0-8AE3-4DE4-AAD7-63CEFDC4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279-A39C-4F6F-9FCA-79CC6EF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D10E-E347-431C-945C-9CD4D2DA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6011-264F-4ECA-9484-5811B88C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BB44-1FC0-4E5B-B5F2-7991174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654-995B-4E5A-99DA-DE3E9CD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D2E-288D-4450-BCEE-6EEEEB0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DE1-C4EE-41B9-AF16-7DC7DED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F369-263E-45D9-A486-73D8D02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991C-3331-43D1-B141-A53C87E7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9B26-9614-4C28-BAE6-81A4C265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D5E-AA6A-4F40-96AB-1F9F98F9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412-9CD8-46C4-9E76-64CEDB9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583-3F88-49CB-BAC3-7A4003DE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147-0270-4778-B354-71E4506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E47-79D7-47D6-B4F5-005C76FD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20-3042-4B87-A894-CBF40C9F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B71-3ACF-486B-893B-F3346866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078-8175-4AC5-9978-1A55F3E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393-75E9-4A59-A775-D72166E18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ECD-B8AC-4152-9BFD-F443FAEE70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opw.ru/" TargetMode="External"/><Relationship Id="rId2" Type="http://schemas.openxmlformats.org/officeDocument/2006/relationships/hyperlink" Target="http://www.vrn.fio.ru/" TargetMode="External"/><Relationship Id="rId3" Type="http://schemas.openxmlformats.org/officeDocument/2006/relationships/hyperlink" Target="http://www.studentps.narod.ru/" TargetMode="External"/><Relationship Id="rId4" Type="http://schemas.openxmlformats.org/officeDocument/2006/relationships/hyperlink" Target="http://www.festival.1september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558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33"/>
                </a:solidFill>
                <a:uFillTx/>
                <a:latin typeface="Times New Roman"/>
              </a:rPr>
              <a:t>ТЕМА: </a:t>
            </a:r>
            <a:br>
              <a:rPr sz="4400"/>
            </a:b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ЭКОЛОГИЧЕСКОЕ ИССЛЕДОВАНИЕ ШКОЛЬНОГО КАБИНЕТА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3546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ворческое назв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Экологический комфорт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ф или реа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ова Н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Золотая Долина. 2007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ополагающий вопрос: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Как связаны между собой экологическое состояние кабинета и </a:t>
            </a:r>
            <a:br>
              <a:rPr sz="25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самочувствие учащихся в нем?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36196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блемны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Насколько соответствует экологическое состояние кабинета норм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Как определить экологическую комфортность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чебный предме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эк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роки проведе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97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ие экологической культуры жил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витие навыков экологической культуры и расшир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лений о многомерности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гащение опыта решения экологических проблем ближай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ру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коммуникативных способностей уча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0033"/>
                </a:solidFill>
                <a:uFillTx/>
                <a:latin typeface="Arial"/>
              </a:rPr>
              <a:t>Методические 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учить проводить экологическое обследование кабин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вить навыки по овладению опытом реальной экологической деятельности, доступной учащим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учить использовать информационные технологии для решения практических задач по эк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учиться обрабатывать и обобщать полученную информацию в результате проведенного экспери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500280"/>
            <a:ext cx="83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05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9292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Темы исследований предложенные учащимс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нитарная оценка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экологического паспорта кабин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эмоционального восприятия класса и определение его уровня экологической комфортности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рганизационная структура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. Погружение в проек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15 мин. 1-е заня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улирует тему, цели, задачи, направление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е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ъединяются в пары, в зависимости от выбранного исследования,   формулируют гипо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этап. Организационная 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25 м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-е заня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ланирование деятельности по решению задач проекта, форм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е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аспределяют роли в группах, планируют работу, выбирают форму предоставления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рганизационная структура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этап. Осуществление деятельн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2-е заня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Консуль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е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амостоятельная работа по группам, подготовка презентаций и бук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 этап. Представление итогов проек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3-е заня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бобщает полученные результаты, оценивает знания, умения,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е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Защита или опровержение гипотезы проекта. Представление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одведение итогов проект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езультаты исследований учащихся могут быть представле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нформационные ресур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topw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ое пособ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vrn.fio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учебное пособ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studentps.narod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учебное пособ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festival.1september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ое пособ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цов А. Формула собственного маршрута. Проектная деятельность как путь к взрослению // Газета для учителей и родителей «1 сентября». — М.: Издатель­ский дом «Первое сентября». — 2001. — № 78. — 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ьин Г. Л. Научно-педагогические школы: проек­тивный подход: Монография. — М.,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ылова Н. Б. Проектные (продуктивные) методы против классно-урочной организации образования // Школьные технологии. — 2004. — № 5. — С. 59-6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ы экологии: учебник под редакцией Н.М. Черновой 10класс -М.:Дрофа,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итарные правила и нормы в организации деятельности образовательных учреждений. Составитель О.В. Нестерова  Волгоград: Учитель, 2006. – 164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2:54:20Z</dcterms:created>
  <dc:creator>user301</dc:creator>
  <dc:description/>
  <dc:language>en-US</dc:language>
  <cp:lastModifiedBy>МИХАИЛ И НАТАЛЬЯ</cp:lastModifiedBy>
  <dcterms:modified xsi:type="dcterms:W3CDTF">2007-04-12T17:02:59Z</dcterms:modified>
  <cp:revision>30</cp:revision>
  <dc:subject/>
  <dc:title>Слайд 1</dc:title>
</cp:coreProperties>
</file>