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4C4-0F00-485D-B9E6-C1FCE85D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88E-6069-45E8-9DD2-73D99368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613-DCF0-4394-AA9C-6D8951F6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817-4ABE-451F-893F-EDF5205C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496AF-C5C6-4D7C-B9CB-04F26253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30B20-F487-4AFA-83C7-778AB2E4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D6AE4-E2CD-48AF-A9D6-8B5F45A4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83C0E-230C-44EC-A7D1-181F318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57165-CC22-4364-A8BE-EF835E87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9742D-039C-427E-80FC-41CFFF1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DA755-6C79-4D6B-922D-2A0660B7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76D-A056-4C05-94C9-9BC232FF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20CC5-9124-4B94-8D9E-B32521B4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06A59-644B-401D-957D-9C5F7BD2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09AAF-F658-42E2-8BDE-14B6455C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BA994-E708-47B4-A6C4-A07DB8B8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F0E7E-8D5D-4C2C-8EA8-36275F2E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2DB-86F9-4B0D-A946-CF352FB9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B28-5252-483F-A6E2-15FAC1E4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C50-0F74-4C3A-A986-9A2930F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359-1009-47EF-A58F-6D2B0DB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C40-868E-4B87-8EF5-E52C97E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E28-DFC9-48EF-BDE2-45AD8F9F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BD1-E2E0-4504-9999-813F848F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3CC5-B8F7-4CE4-9682-59322D3B2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D514-31C7-4BD7-B5B1-DEF628C3E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ahoma"/>
              </a:rPr>
              <a:t>Образ дурака в мировой сказочной 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литерату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1893960" cy="18352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291600"/>
            <a:ext cx="73548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Образ героя-дурака в сказках народов ССС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урак-победи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«Три копейки наследства» (Абхазская сказк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«Царевич- дурень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Украинская сказка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абитый дур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«Два брат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Армянская сказка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907920"/>
            <a:ext cx="433440" cy="935280"/>
          </a:xfrm>
          <a:prstGeom prst="downArrow">
            <a:avLst>
              <a:gd name="adj1" fmla="val 50000"/>
              <a:gd name="adj2" fmla="val 5394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981000"/>
            <a:ext cx="433440" cy="935280"/>
          </a:xfrm>
          <a:prstGeom prst="downArrow">
            <a:avLst>
              <a:gd name="adj1" fmla="val 50000"/>
              <a:gd name="adj2" fmla="val 5394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59640" y="3716280"/>
            <a:ext cx="22208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291600"/>
            <a:ext cx="7931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водная таблица результатов анализа сказок народов мира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762120"/>
                <a:gridCol w="761760"/>
                <a:gridCol w="617760"/>
                <a:gridCol w="792000"/>
                <a:gridCol w="876240"/>
                <a:gridCol w="997200"/>
                <a:gridCol w="574560"/>
                <a:gridCol w="14763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поставление элементов сказ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льклорные  сказ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ные сказ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е  народные сказ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азки бывших народов ССС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рубежные народные сказк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е сказ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рубежные сказ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Зач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-был старик, и было у него три сына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-был старик, и было у него три сына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Жил-был на свете парень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 старинушки три сына:Старший , Средний  и Младший вовсе был дурак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 да был на свете человек  у которого было  три сына, и самый младший из них звался Дурнем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Характери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  главног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я дурака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якое дело у Ивана из рук уходит, не как у людей и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якое дело ему не в пользу и в прок, а все попере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я характеризуют его поступ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я характеризуют его поступ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роя характеризуют его поступк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оступки главного героя дура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вит и отпускает щуку, птицу , зверя. Они  ему за это помогают- исполняют  его желания или выполняет все указания буквальн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вит и отпускает щуку, птицу , зверя. Они  ему за это помогают- исполняют  его желания или выполняет все указания буквальн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няет все указания буквально по- дурац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являет  доброту ,послушание, получает волшебных помощников , которые помогает ему во всем  или выполняет все указания буквальн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ормил путника,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явил находчивость и послушани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Развязка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 красавчиком, женился на царевне и стал править царством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 красавчиком, женился на царевне  и стал править царств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урака учить- только время терять.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 красавчиком, женился на царевнеи стал править царств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нился на королевне,  стал править королевств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унк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героя дурака</a:t>
                      </a: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рак-победитель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итый дура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рак-победитель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итый дура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итый дура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рак -правител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рак-победитель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битый дура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рак-победитель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Дети и сказки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кие сказки о дураках вы зн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68280" y="1589040"/>
          <a:ext cx="855972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589040"/>
                    <a:ext cx="855972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Результаты опрос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0 % опрошенных на вопрос «Какие сказки народов мира о дураках вы знаете?» назвали в основном 2-3 русских народных сказки («По щучьему веленью», «Царевна лягушка»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 % учащихся 5 класса не знают ни одной русской авторской сказки о дурак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5 % опрошенных не назвали ни одной зарубежной фольклорной сказки о дурака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коло 90 % - не назвали ни одной зарубежной авторской сказки о дурак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2 % пятиклассников считают, что образ дурака свойственен только русским народным сказк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92720" y="2349360"/>
            <a:ext cx="3648240" cy="4176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Вывод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.Сказки и  герои –дураки разных народов мира похожи между собой, так как желание и стремление, надежды и мечты всех народов похож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2. Функции героя -дурака в  фольклорных и литературных сказках всего мира  традицион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3. Образ дурака, то доброго веселого, удачливого победителя всех жизненных невзгод, то сатирический образ набитого дурака, переходит из сказки в сказку любого народ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4. Больше всего герой-дурак встречается в русских народных сказка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5. Дурак - это такой персонаж, который  всегда будет присутствовать в сказках любого народа  независимо от эпохи, времени и  состояния общества. Он всегда будет любим и узнаваем все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92360" y="404640"/>
            <a:ext cx="3059280" cy="3024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Вывод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тверждена гипотеза о том, что  герой - дурак  чаще всего  встречается  в русских  сказках. В русских волшебных народных сказках он  является положительным персонаж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95640" y="260280"/>
            <a:ext cx="4969080" cy="6337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291600"/>
            <a:ext cx="5400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Объект исследова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59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 человека - дурака в сказках народов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Предмет исследования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86064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ходство  и отличия главного героя русских сказок Иванушки-дурака (или героя с другим именем, но со сходной судьбой) и героя -дурака в сказках народов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3952800" cy="5381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ще всего герой - дурак встречается в русских сказк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3645000"/>
            <a:ext cx="7309080" cy="2684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Цель работы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ение специфики образа героя-дурака в  фольклорных и литературных сказках народов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Задачи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Изучить тексты сказок разных эпох и народов, в которых упоминается   герой-дура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Выявить сходство и различия между героями - дураками  сказок народов мира (исследовать смысловые части сказок,  характеры и поступки главных герое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Определить, какие функции выполняет герой-дурак в фольклорных, литературных сказках народов ми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Провести анкетирование учащихся 4 и 5 класса «Б» с целью выяснить, насколько ребята знакомы со сказками о дурак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Методы исследован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Анализ литературного материала по теме исследов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Анализ сюжетов сказок народов мир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Обобщ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Анкетиро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3842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43927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Анализ сказ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Зачи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 Характеристика главного геро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дурака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. Поступки главного  героя дурак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 Развяз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5. Функции героя дура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6000" y="4797360"/>
            <a:ext cx="3058920" cy="185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673280" cy="172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000" y="291960"/>
            <a:ext cx="699444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Образ дурака в русских сказка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Дурак-побед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Сивка-бурка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Иван бесталанный и Елена Премудрая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Волшебное кольцо»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По щучьему веленью»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Ершов П.П.                         «Конек-горбуно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Шергин Б.В.             «Волшебное  кольц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битый дур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Дурак и береза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ушкин А.С.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Сказка о попе и работнике его Балде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732720" y="1125360"/>
            <a:ext cx="360360" cy="790920"/>
          </a:xfrm>
          <a:prstGeom prst="downArrow">
            <a:avLst>
              <a:gd name="adj1" fmla="val 50000"/>
              <a:gd name="adj2" fmla="val 548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1052640"/>
            <a:ext cx="360360" cy="790560"/>
          </a:xfrm>
          <a:prstGeom prst="downArrow">
            <a:avLst>
              <a:gd name="adj1" fmla="val 50000"/>
              <a:gd name="adj2" fmla="val 5484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4000" y="291600"/>
            <a:ext cx="65628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Образ дурака в сказках народов ми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39272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браз дурака - прав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Хитрый брахман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Индийская сказк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браз дурака-побед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. Гримм «Золотой гусь»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(немецкая сказк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.Андерсен «Ганс чурбан»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(датская сказк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.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рро «Кот в сапогах»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(французская сказка)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браз набитого дур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Жан дуралей»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(Французская сказка)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Джек лентя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Английская сказка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Пер, Пол и Эспен Аскелад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Норвежская сказка).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Дурак  Ётаро»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(Японская сказка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43280" cy="1778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0" r="0" b="8688"/>
          <a:stretch/>
        </p:blipFill>
        <p:spPr>
          <a:xfrm>
            <a:off x="7093080" y="5295960"/>
            <a:ext cx="1834920" cy="1562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451640" y="836640"/>
            <a:ext cx="289080" cy="86508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907920"/>
            <a:ext cx="289080" cy="865440"/>
          </a:xfrm>
          <a:prstGeom prst="downArrow">
            <a:avLst>
              <a:gd name="adj1" fmla="val 50000"/>
              <a:gd name="adj2" fmla="val 7484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07:12Z</dcterms:created>
  <dc:creator>Пользователь</dc:creator>
  <dc:description/>
  <dc:language>en-US</dc:language>
  <cp:lastModifiedBy>Пользователь</cp:lastModifiedBy>
  <dcterms:modified xsi:type="dcterms:W3CDTF">2010-04-19T16:05:15Z</dcterms:modified>
  <cp:revision>21</cp:revision>
  <dc:subject/>
  <dc:title>Образ дурака в мировой сказочной литературе</dc:title>
</cp:coreProperties>
</file>