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E7A-61B8-494A-BC4F-5E05D74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CD5-EC69-4DCA-86F4-698F7C3F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D38-7E93-45B9-AADA-12ECDEC8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049-C97D-4137-B81B-506DE72D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AAB-E962-484F-83CD-060253A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172-F384-4BEE-90D8-812FDA6C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4BA-35BD-488A-9949-2575DB80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A11-69B5-46E8-AA16-75665CE9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B2C-4817-43E9-941D-F0FE7497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6C8-4363-43A5-9FB1-8A5411D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21C-2E8B-4996-95FF-D057E4C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185-91E9-468B-8D79-E5A6B4F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4F69-52BF-4A4A-AC4F-401C97B7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jkj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jjkjk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5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5238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беда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762120" y="1981080"/>
          <a:ext cx="420372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981080"/>
                    <a:ext cx="4203720" cy="377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Text Box 8"/>
          <p:cNvSpPr/>
          <p:nvPr/>
        </p:nvSpPr>
        <p:spPr>
          <a:xfrm>
            <a:off x="5105520" y="3276720"/>
            <a:ext cx="41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ourier New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Гаврюшина Юлия Никола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ученица 10 «А» клас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ГОУ СОШ №19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105520" y="4572000"/>
            <a:ext cx="403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ourier New"/>
              </a:rPr>
              <a:t>Руководитель: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Жукова Татьяна Никола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819520" y="640080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Москва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6"/>
          <p:cNvSpPr txBox="1"/>
          <p:nvPr/>
        </p:nvSpPr>
        <p:spPr>
          <a:xfrm>
            <a:off x="15238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ли и задачи: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8" descr="jjkj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jjkjk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304920" y="1905120"/>
            <a:ext cx="838188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urier New"/>
              </a:rPr>
              <a:t>изучить путь к побе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urier New"/>
              </a:rPr>
              <a:t>показать, какой ценой досталась нам поб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urier New"/>
              </a:rPr>
              <a:t>расширить и распространить знания учащихся по теме: «Победа в Великой Отечественной войне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urier New"/>
              </a:rPr>
              <a:t>воспитать в молодом поколении уважения к подвигам защитников Оте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urier New"/>
              </a:rPr>
              <a:t>развить чувство гражданственности, патриотизма как важнейших духовно-нравственных и социальных ц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52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 rot="16200000">
            <a:off x="9288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5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6"/>
          <p:cNvSpPr txBox="1"/>
          <p:nvPr/>
        </p:nvSpPr>
        <p:spPr>
          <a:xfrm>
            <a:off x="1600200" y="53352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держа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371600" y="1600200"/>
            <a:ext cx="739152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Мысли о победе в наши д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Слезы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Путь к По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Радость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Наши вре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Они защищали Род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Равнодуш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Поможем Отчиз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Победа сего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Цена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День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jjkj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jkjk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5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52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flipH="1" rot="16200000">
            <a:off x="92880" y="6293520"/>
            <a:ext cx="47160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04920" y="16002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«Самое главное, что дала нам победа в Великой Отечественной войне - это жизнь. Наверное, не было бы сейчас таких красивых памятников архитектуры. На земле начался бы хаос. Немцы пошли бы завоевывать другие страны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Алдошкина Мария 5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«Победа в Великой Отечественной войне дала мне право на образование, радоваться каждому новому дню, потому что если бы не победа, то у меня не было мамы и папы. Война - это страшное слово. Люди боятся ее. Если бы не было войны, все жили бы счастливо. Победа дала мне радоваться, улыбаться, ходить в школу, дружить, общаться, люби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Гусева Дарья 5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«Благодаря русским воинам сейчас я учусь, отмечаю праздники, интересно провожу свой досуг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Виноградова Вика 5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1371600" y="3808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сли молодого поколен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Победе в ВОВ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Picture 4" descr="jjkj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jkjk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5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52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flipH="1" rot="16200000">
            <a:off x="92880" y="6293520"/>
            <a:ext cx="47160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04920" y="2128680"/>
            <a:ext cx="8534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urier New"/>
              </a:rPr>
              <a:t>«Я родилась через 9 лет после Великой Отечественной Победы, страна только поднималась из руин. Мой отец, Ермаков Владимир Федорович, воевал с первых дней, горел в Талке, был контужен. В 1942 году на него пришла «похоронка», но, к счастью, в штабе что-то перепутали. Он не любит рассказывать о войне, вероятно, что-то болит внутри. В 1945 году в Пензе моя бабушка, несмотря на скудный паек, давала хлеб пешим немцам, может быть из-за того, что её сын не был убит в этой страшной войне. В нашей семье 9 мая – святой день, мы всегда помнили и помним о том, что пришлось выдержать поколению, на долю которого выпала войн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urier New"/>
              </a:rPr>
              <a:t>(Дьякова Тамара Владимировна – учитель немецкого я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1371600" y="3808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сли старшего поколен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Победе в ВОВ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Picture 4" descr="jjkj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jkjk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5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52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flipH="1" rot="16200000">
            <a:off x="92880" y="6293520"/>
            <a:ext cx="471600" cy="657360"/>
          </a:xfrm>
          <a:prstGeom prst="rect">
            <a:avLst/>
          </a:prstGeom>
          <a:ln w="0">
            <a:noFill/>
          </a:ln>
        </p:spPr>
      </p:pic>
      <p:sp>
        <p:nvSpPr>
          <p:cNvPr id="74" name="WordArt 7"/>
          <p:cNvSpPr txBox="1"/>
          <p:nvPr/>
        </p:nvSpPr>
        <p:spPr>
          <a:xfrm>
            <a:off x="1371600" y="3808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сли старшего поколен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Победе в ВОВ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9" descr="jjkjk"/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jjkjk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5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52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 rot="16200000">
            <a:off x="92880" y="6293520"/>
            <a:ext cx="471600" cy="657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4952880" y="2286720"/>
            <a:ext cx="39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Мы - сегодняшние дети, внуки, правнуки народа-победителя просто обязаны тоже одержать победу, победу в собственных душах,  преодолев апатию, неверие, равнодушие, и тем самым помочь выздоровлению нашей Отчизны. И не дать сравнять Великую Победу с невеликим и гадк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1981080" y="3808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ожем Отчизне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icture-4"/>
          <p:cNvPicPr/>
          <p:nvPr/>
        </p:nvPicPr>
        <p:blipFill>
          <a:blip r:embed="rId2"/>
          <a:stretch/>
        </p:blipFill>
        <p:spPr>
          <a:xfrm>
            <a:off x="912960" y="1600200"/>
            <a:ext cx="731664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10" descr="jjkjk"/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52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 rot="16200000">
            <a:off x="9288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5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jjkjk"/>
          <p:cNvPicPr/>
          <p:nvPr/>
        </p:nvPicPr>
        <p:blipFill>
          <a:blip r:embed="rId6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sp>
        <p:nvSpPr>
          <p:cNvPr id="87" name="WordArt 8"/>
          <p:cNvSpPr txBox="1"/>
          <p:nvPr/>
        </p:nvSpPr>
        <p:spPr>
          <a:xfrm>
            <a:off x="2133720" y="53352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беда сегодн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jjkj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jjkjk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5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 rot="5400000">
            <a:off x="857952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52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flipH="1" rot="16200000">
            <a:off x="92880" y="6293520"/>
            <a:ext cx="471600" cy="65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8"/>
          <a:stretch/>
        </p:blipFill>
        <p:spPr>
          <a:xfrm>
            <a:off x="990720" y="1454040"/>
            <a:ext cx="6933960" cy="509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WordArt 8"/>
          <p:cNvSpPr txBox="1"/>
          <p:nvPr/>
        </p:nvSpPr>
        <p:spPr>
          <a:xfrm>
            <a:off x="1981080" y="3808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66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ожем Отчизне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ff66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0-12-02T20:52:5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