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AF4-0373-4DE9-B9DF-4F41D437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6A2-CD02-4C69-AA04-42A4FE26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B74-F7A4-4AA0-8D55-8AADD760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820-CA5F-4B4D-AB58-F6616362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4E33-DB5C-4179-B23E-FB5385B0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5FE-0BBC-4E95-998E-9525D2CE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1F8-825D-4B6D-94B3-AF60C5BF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8F9E-A68B-424A-BE97-9040C541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16B0-C6DC-402B-9F12-3AEF62EC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F188-28B6-413A-A125-7D1C1E31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CB8-542F-4F6B-B902-5914D244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B1F-ED59-4EF4-9589-0598E01F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C2CC-2617-4692-A63B-2F10B154CB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2" descr=""/>
          <p:cNvPicPr/>
          <p:nvPr/>
        </p:nvPicPr>
        <p:blipFill>
          <a:blip r:embed="rId1"/>
          <a:stretch/>
        </p:blipFill>
        <p:spPr>
          <a:xfrm>
            <a:off x="633240" y="1262160"/>
            <a:ext cx="7785360" cy="171288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3" descr=""/>
          <p:cNvPicPr/>
          <p:nvPr/>
        </p:nvPicPr>
        <p:blipFill>
          <a:blip r:embed="rId2"/>
          <a:stretch/>
        </p:blipFill>
        <p:spPr>
          <a:xfrm>
            <a:off x="566640" y="3664080"/>
            <a:ext cx="752976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826560" y="6308640"/>
            <a:ext cx="813780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. Грабарь Февральская лазу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Scan20009"/>
          <p:cNvPicPr/>
          <p:nvPr/>
        </p:nvPicPr>
        <p:blipFill>
          <a:blip r:embed="rId1"/>
          <a:stretch/>
        </p:blipFill>
        <p:spPr>
          <a:xfrm>
            <a:off x="2411280" y="189000"/>
            <a:ext cx="4321440" cy="611964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m27.wav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Scan20009"/>
          <p:cNvPicPr/>
          <p:nvPr/>
        </p:nvPicPr>
        <p:blipFill>
          <a:blip r:embed="rId2"/>
          <a:stretch/>
        </p:blipFill>
        <p:spPr>
          <a:xfrm>
            <a:off x="2340000" y="189000"/>
            <a:ext cx="4576680" cy="648000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p:transition spd="med"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9455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808488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«Есть всегда что-то особенное, кроткое, нежное, благоуханное и грациозное во всяком чувстве Пушкина. В этом отношении, читая его творения, можно превосходным образом воспитывать в себе человека, и такое чтение особенно полезно для молодых людей обоего пола»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В.Г. Бе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4868640"/>
            <a:ext cx="8208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Александр Сергеевич Пушкин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1799-18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481"/>
          <p:cNvPicPr/>
          <p:nvPr/>
        </p:nvPicPr>
        <p:blipFill>
          <a:blip r:embed="rId1"/>
          <a:stretch/>
        </p:blipFill>
        <p:spPr>
          <a:xfrm>
            <a:off x="2771640" y="549360"/>
            <a:ext cx="3552840" cy="4319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4868640"/>
            <a:ext cx="8208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Александр Сергеевич Пушкин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1799-18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481"/>
          <p:cNvPicPr/>
          <p:nvPr/>
        </p:nvPicPr>
        <p:blipFill>
          <a:blip r:embed="rId1"/>
          <a:stretch/>
        </p:blipFill>
        <p:spPr>
          <a:xfrm>
            <a:off x="2771640" y="549360"/>
            <a:ext cx="3552840" cy="4319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615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«Сказка о золотом петушк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2.avi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97708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6813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«Сказка о попе и его работнике Балд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21.avi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97708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7053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«Сказка о рыбаке и рыбк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25.avi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597708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220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«Сказка о царе Салта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3.avi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832720" cy="437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3913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4319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«Зимнее утро»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                          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859280" y="189000"/>
            <a:ext cx="396072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Мороз и солнце; день чудесный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Еще ты дремлешь, друг прелест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Пора, красавица, проснис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Открой сомкнут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ы</a:t>
            </a: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 негой взо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Навстречу северной Аврор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Звездою севера явис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Вечор, ты помнишь, вьюга злилас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На мутном небе мгла носилас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Луна, как бледное пятн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Сквозь тучи мрачные желтел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И ты печальная сидела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А нынче... погляди в окн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Под голубыми небес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Великолепными коврам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Блестя на солнце, снег лежи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Прозрачный лес один чернеет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И ель сквозь иней зеленеет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И речка подо льдом блес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Вся комната янтарным блеск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Озарена. Веселым треск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Трещит затопленная печ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Приятно думать у лежан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Но знаешь: не велеть ли в сан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Кобылку бурую запреч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Скользя по утреннему снег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Друг милый, предадимся бег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Нетерпеливого ко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И навестим поля пусты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Леса, недавно столь густы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66"/>
                </a:solidFill>
                <a:latin typeface="Arial"/>
              </a:rPr>
              <a:t>И берег, милый для меня.            1829 год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Scan20008"/>
          <p:cNvPicPr/>
          <p:nvPr/>
        </p:nvPicPr>
        <p:blipFill>
          <a:blip r:embed="rId1"/>
          <a:stretch/>
        </p:blipFill>
        <p:spPr>
          <a:xfrm>
            <a:off x="250920" y="1413000"/>
            <a:ext cx="454320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«Зимнее утро»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40.wav" descr=""/>
          <p:cNvPicPr/>
          <p:nvPr/>
        </p:nvPicPr>
        <p:blipFill>
          <a:blip r:embed="rId1"/>
          <a:stretch/>
        </p:blipFill>
        <p:spPr>
          <a:xfrm>
            <a:off x="8388360" y="595008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4859280" y="1052640"/>
            <a:ext cx="396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Прозрачный лес один черне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И ель сквозь иней зелене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И речка подо льдом блест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Вся комната янтарным блес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Озарена. Веселым трес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Трещит затопленная печ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Приятно думать у лежан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Но знаешь: не велеть ли в сан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Кобылку бурую запреч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Скользя по утреннему снег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Друг милый, предадимся бег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Нетерпеливого ко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И навестим поля пуст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Леса, недавно столь густ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И берег, милый для ме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                                  </a:t>
            </a: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1829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79280" y="134136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Мороз и солнце; день чудесный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Еще ты дремлешь, друг прелест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Пора, красавица, просн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Открой сомкнут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ы</a:t>
            </a: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 негой вз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Навстречу северной Авро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Звездою севера яви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Вечор, ты помнишь, вьюга злила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На мутном небе мгла носилас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Луна, как бледное пят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Сквозь тучи мрачные желте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И ты печальная сидела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А нынче... погляди в ок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Под голубыми небес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Великолепными ковр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Arial"/>
              </a:rPr>
              <a:t>Блестя на солнце, снег лежи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90926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08:53:04Z</dcterms:created>
  <dc:creator>Шакирова</dc:creator>
  <dc:description/>
  <dc:language>en-US</dc:language>
  <cp:lastModifiedBy>User</cp:lastModifiedBy>
  <dcterms:modified xsi:type="dcterms:W3CDTF">2010-12-04T18:48:02Z</dcterms:modified>
  <cp:revision>19</cp:revision>
  <dc:subject/>
  <dc:title>Слайд 1</dc:title>
</cp:coreProperties>
</file>