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2940-6D25-4C98-A551-8F1F2D57E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2636-17E3-4728-9556-27786C3EE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340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58A0-0275-42A1-AEDE-19D1DFDCD6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340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A81-7F22-4972-AD91-D90B92A4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8DE-F9EC-4D6E-8FE1-484A00E9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377-1B89-4457-AD3E-75D2CD99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FD5-FAF2-49E2-BAEB-7D0DFC7A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DB3-E5E6-4FE1-B8B9-64E76E15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123-0889-4AFC-94C7-6B8257C2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85B-D28A-47BD-8390-64F07B26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51E-0E93-4E11-AE56-90776F4E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9EC-A489-48F1-9113-4405F829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BF4-0193-487F-99E5-4C8BC45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89A-F540-44A8-BE6D-014F5272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5DF-B865-412D-91D9-FB38D7A0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A329-AF06-4D04-B057-4A5F7AC33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Священники  рода Шаламов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3280" y="4768560"/>
            <a:ext cx="41403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и меня, Прости 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все, что сделали с т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м Коржа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389736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равка о смерти Шаламова Тихона Николаевич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Рисунок6"/>
          <p:cNvPicPr/>
          <p:nvPr/>
        </p:nvPicPr>
        <p:blipFill>
          <a:blip r:embed="rId1"/>
          <a:stretch/>
        </p:blipFill>
        <p:spPr>
          <a:xfrm>
            <a:off x="3851280" y="1557360"/>
            <a:ext cx="5057640" cy="42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25360"/>
            <a:ext cx="4140360" cy="45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правк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 смерти Шаламовой Надежд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лександровн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Рисунок7"/>
          <p:cNvPicPr/>
          <p:nvPr/>
        </p:nvPicPr>
        <p:blipFill>
          <a:blip r:embed="rId1"/>
          <a:stretch/>
        </p:blipFill>
        <p:spPr>
          <a:xfrm>
            <a:off x="3995640" y="1628640"/>
            <a:ext cx="4980240" cy="34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0920" y="338040"/>
            <a:ext cx="86421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Прокопий Николаевич Шала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101760" cy="2940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3755880" y="1197000"/>
            <a:ext cx="522468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од Прокопия Шаламова с древними корнями: его отец Николай Шаламов прибыл в Вотчу из Устюжского уезда, где и отец его Иоанн, и дед его Максим Шаламов служили при церквях. Прокопий Николаевич прослужил в Вотчинском приходе до 1931 года. Прокопием Шаламовым был составлен уникальный и единственный в своем роде труд «Церковно-Историческое опис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88880" y="3933720"/>
            <a:ext cx="849168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Устьсысольского уезда Вологодской губернии», который был издан в г. Устьсысольске в 1911 году типографией «Следников и К». В предисловии к этой Книге он пишет: «Цель составления настоящей брошюры дать знать будущим членам приходской церкви и прихожанам о прошедших днях своей приходской церкви и прихода, а так же дать краткое пособие для будущего историка православной церкви и русского царства ». Прокопий Николаевич продолжает традиции своих предков , вступает в сан священника в 1899 году на место отца и служит в этом звании 32 года до своей трагической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24000" y="40464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Прокопий Николаевич Шала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101760" cy="2939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55880" y="1557360"/>
            <a:ext cx="522468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личался Прокопий Николаевич не только церковным служением. Это и большая исследовательская деятельность по сбору материалов истории Вотчи и ее церковной жизни. Из наградных знаков и отличий он имел набедренник, серебряную медаль Красного Креста в память деятельного участия в Русско-Японскую войну в 1904-1905 годах и серебряную медаль на Владимирской и Александровской ленте в память 25-летнего существования церковно-приходских школ. Несмотря на награды Прокопий николаевич был скромным челове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етвь Прокопия Николаевича Шалам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нтелеймон Прокопьевич Шала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00-194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лай Прокопьевич Шала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02-196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ия Прокопьевна Шала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04-198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риса Прокоп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ламова (1906-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Лариса Прокопьевна Шаламова (1906 - 1993г"/>
          <p:cNvPicPr/>
          <p:nvPr/>
        </p:nvPicPr>
        <p:blipFill>
          <a:blip r:embed="rId1"/>
          <a:stretch/>
        </p:blipFill>
        <p:spPr>
          <a:xfrm>
            <a:off x="250920" y="508464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Лидия Прокопьевна Шаламова (1904 - 1986г"/>
          <p:cNvPicPr/>
          <p:nvPr/>
        </p:nvPicPr>
        <p:blipFill>
          <a:blip r:embed="rId2"/>
          <a:stretch/>
        </p:blipFill>
        <p:spPr>
          <a:xfrm>
            <a:off x="6948360" y="4149720"/>
            <a:ext cx="1330560" cy="201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Николай Прокопьевич Шаламов (1902 - 1965)"/>
          <p:cNvPicPr/>
          <p:nvPr/>
        </p:nvPicPr>
        <p:blipFill>
          <a:blip r:embed="rId3"/>
          <a:stretch/>
        </p:blipFill>
        <p:spPr>
          <a:xfrm>
            <a:off x="7380360" y="2205000"/>
            <a:ext cx="130644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Пантелеймон Прокопьевич Шаламов (1900 - 1945)"/>
          <p:cNvPicPr/>
          <p:nvPr/>
        </p:nvPicPr>
        <p:blipFill>
          <a:blip r:embed="rId4"/>
          <a:stretch/>
        </p:blipFill>
        <p:spPr>
          <a:xfrm>
            <a:off x="250920" y="1700280"/>
            <a:ext cx="111600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 Прокопьевна Сав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Шаламова) (1908-199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гей Прокопьевич Шала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10-194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вь Прокопьевна Шалам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13-198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Любовь Прокопьевна Шаламова (1913 - 1982г"/>
          <p:cNvPicPr/>
          <p:nvPr/>
        </p:nvPicPr>
        <p:blipFill>
          <a:blip r:embed="rId1"/>
          <a:stretch/>
        </p:blipFill>
        <p:spPr>
          <a:xfrm>
            <a:off x="324000" y="4869000"/>
            <a:ext cx="1493640" cy="180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Сергей Прокопьевич Шаламов (1910 - 1941 г"/>
          <p:cNvPicPr/>
          <p:nvPr/>
        </p:nvPicPr>
        <p:blipFill>
          <a:blip r:embed="rId2"/>
          <a:stretch/>
        </p:blipFill>
        <p:spPr>
          <a:xfrm>
            <a:off x="179280" y="2781360"/>
            <a:ext cx="147492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Екатерина Прокопьевна Савушкина (Шаламова) (1908 - 1995г"/>
          <p:cNvPicPr/>
          <p:nvPr/>
        </p:nvPicPr>
        <p:blipFill>
          <a:blip r:embed="rId3"/>
          <a:stretch/>
        </p:blipFill>
        <p:spPr>
          <a:xfrm>
            <a:off x="395280" y="692280"/>
            <a:ext cx="123048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генеалогическое древо"/>
          <p:cNvPicPr/>
          <p:nvPr/>
        </p:nvPicPr>
        <p:blipFill>
          <a:blip r:embed="rId1"/>
          <a:stretch/>
        </p:blipFill>
        <p:spPr>
          <a:xfrm>
            <a:off x="179280" y="333360"/>
            <a:ext cx="882036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ую работу выполн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ов Михаил Николае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ов Владимир Николае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: Козлова Надежда Геннадье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6040" y="-27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Харлампий - основоположник 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лампий Шаламов – священник - 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вь Харламп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 Харлампиевич Шаламов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прадед Варлама Шаламова по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и (?-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6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6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етвь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аксима Шалам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аил Максимович Шаламов (?-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митрий Максимович Шаламов (?-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ан Максимович Шаламов (1790-18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дед Варлама Шаламова по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лампий Максимович Шаламов (?-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етвь Иоанна Шалам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лай Иоанович Шаламов (1827-19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Иоанович Шаламов (?-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вел Иоанович Шаламов (?-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ангел Иоанович Шаламов (?-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 Устюга до Сыктывкара (карт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Рисунок1"/>
          <p:cNvPicPr/>
          <p:nvPr/>
        </p:nvPicPr>
        <p:blipFill>
          <a:blip r:embed="rId1"/>
          <a:stretch/>
        </p:blipFill>
        <p:spPr>
          <a:xfrm>
            <a:off x="395280" y="1601640"/>
            <a:ext cx="8424720" cy="50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Рисунок2"/>
          <p:cNvPicPr/>
          <p:nvPr/>
        </p:nvPicPr>
        <p:blipFill>
          <a:blip r:embed="rId1"/>
          <a:stretch/>
        </p:blipFill>
        <p:spPr>
          <a:xfrm>
            <a:off x="179280" y="260280"/>
            <a:ext cx="4486320" cy="6278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678200" y="1844640"/>
            <a:ext cx="44658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т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м Рожд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ород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де служил священ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д В. Шалам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Рисунок3"/>
          <p:cNvPicPr/>
          <p:nvPr/>
        </p:nvPicPr>
        <p:blipFill>
          <a:blip r:embed="rId1"/>
          <a:stretch/>
        </p:blipFill>
        <p:spPr>
          <a:xfrm>
            <a:off x="179280" y="1413000"/>
            <a:ext cx="5256360" cy="380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5508720" y="2492280"/>
            <a:ext cx="3313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рад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м Василия Вели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Рисунок4"/>
          <p:cNvPicPr/>
          <p:nvPr/>
        </p:nvPicPr>
        <p:blipFill>
          <a:blip r:embed="rId1"/>
          <a:stretch/>
        </p:blipFill>
        <p:spPr>
          <a:xfrm>
            <a:off x="324000" y="333360"/>
            <a:ext cx="4498920" cy="6224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4859280" y="404640"/>
            <a:ext cx="44625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Гранитн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ли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Жена священника Шаламов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нчалась 7ян. 1851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етвь Николая Шалам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Николаевна Шаламова (1864-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хон Николаевич Шалам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868-193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д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ьева (1870-1934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Надежда Александровна Воробьева (1870 - 1934)"/>
          <p:cNvPicPr/>
          <p:nvPr/>
        </p:nvPicPr>
        <p:blipFill>
          <a:blip r:embed="rId1"/>
          <a:stretch/>
        </p:blipFill>
        <p:spPr>
          <a:xfrm>
            <a:off x="324000" y="4653000"/>
            <a:ext cx="1760400" cy="180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Рисунок5"/>
          <p:cNvPicPr/>
          <p:nvPr/>
        </p:nvPicPr>
        <p:blipFill>
          <a:blip r:embed="rId2"/>
          <a:stretch/>
        </p:blipFill>
        <p:spPr>
          <a:xfrm>
            <a:off x="611280" y="2276640"/>
            <a:ext cx="123336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4:14:07Z</dcterms:created>
  <dc:creator>Кирилл</dc:creator>
  <dc:description/>
  <dc:language>en-US</dc:language>
  <cp:lastModifiedBy>User</cp:lastModifiedBy>
  <dcterms:modified xsi:type="dcterms:W3CDTF">2010-02-28T13:44:00Z</dcterms:modified>
  <cp:revision>14</cp:revision>
  <dc:subject/>
  <dc:title>Священники в роду Шаламовых</dc:title>
</cp:coreProperties>
</file>