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6BE-9482-44F3-9321-4A8422A2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39B-868D-42E8-B782-6108A5EC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F27-F422-47A2-82C5-16119107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BC9-2E6A-4E69-A92F-567C4363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C798-4420-4ADF-B346-71F729BF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8E5E-7A5C-47A9-939F-8953378B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A9B6-F754-40FC-BBD2-9D3FB3DD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8B9-F747-4737-B053-9787FBD8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0D97-690A-4E82-A329-A69FDC7E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95DA-99B5-4BE0-94F4-D057B227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5707-8581-4708-BD41-449F6EAE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A45-C9A7-45D9-BCB4-896CC1C4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DB6D-F2A5-4CEB-A5D2-EDCC4FFE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1694-02DE-4C01-A79C-4369AD7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1FB8-DBD9-4FEE-9E1B-55F7085F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5069-9EA1-49AA-9A67-C6774C53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8C2B-BD16-41AA-A302-CB08C441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10E-3C39-4502-B304-38B111BC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439-3C7F-47B4-B318-A8F085A8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D45-25EE-4DE2-8FC8-D080F7FB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F1A-83D5-4CA1-8D10-2DDA863B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511-A9B9-4FE8-B22D-4FC6C11E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6C1-1EFE-4492-B935-EEEAE027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897-2748-45F8-B7E8-53FEC95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11D6-C8E3-4978-96AD-479B385A7973}" type="slidenum">
              <a:rPr b="1" lang="ru-RU" sz="2600" spc="-1" strike="noStrike">
                <a:solidFill>
                  <a:srgbClr val="0066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B30C-5E09-4B04-886D-6839F1DCB3A7}" type="slidenum">
              <a:rPr b="1" lang="ru-RU" sz="2600" spc="-1" strike="noStrike">
                <a:solidFill>
                  <a:srgbClr val="0066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85690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ПРЕДСТАВЛЕНИЕ ТРЕТЬЕКЛАССНИКО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О ПРОФЕССИЯ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52920" y="595800"/>
            <a:ext cx="7737480" cy="12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ОУ «ГИМНАЗИЯ(АНГЛИЙСКАЯ)»  МАГАДАН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Каранов Анатолий </a:t>
            </a:r>
            <a:br>
              <a:rPr sz="3200"/>
            </a:b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бор профессии – эт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мгновение плюс вс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дшествующая 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7978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ем ты хочешь стать в будуще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ую профессию ты хочешь выбра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чему именно эту профессию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ты знаешь об этой професси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пределение профессиональных предпочтений учащихся 3-х классов, %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ия                          Мальчики                      Девоч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хеолог                        2,5%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хитектор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2,5%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ё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анки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рач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,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2420640"/>
            <a:ext cx="76183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терина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оен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,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изайне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Журналис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жене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те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водного мир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бретате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озито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илиционе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елье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льтипликато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ян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чальни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жарны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ве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грамми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водчик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икмахе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0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изо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0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ировщи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0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сторанный крити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0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жиссё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0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ите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лола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нер по художественн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мнасти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читель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боли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ендле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0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ни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кономист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,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ри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,5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зна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ТИВЫ выбора сферы профессиональной деятельности учащимися 3-х классов, %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деятельности 53%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язь с хобби 10,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ознание социально ценного результата 12,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зультат деятельности 4,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ериальное благополучие 5,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фессия значимых взрослых (мама, папа, брат, бабушка) 7,8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знаю 6,1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9:28:34Z</dcterms:created>
  <dc:creator>Admin</dc:creator>
  <dc:description/>
  <dc:language>en-US</dc:language>
  <cp:lastModifiedBy>Виктория</cp:lastModifiedBy>
  <dcterms:modified xsi:type="dcterms:W3CDTF">2010-09-29T11:23:37Z</dcterms:modified>
  <cp:revision>5</cp:revision>
  <dc:subject/>
  <dc:title>Слайд 1</dc:title>
</cp:coreProperties>
</file>