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C91-F945-4B3F-A825-3A2819B2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78E-790E-492E-AB4B-66AC3C4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8EE-54BB-49A5-97AA-1C28DD30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A37-219C-4F8C-8C34-1DC3A8CF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595-8525-4A31-A712-677D152B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8150-F90B-4969-AC6D-5F8D3E0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9BD7-417E-42EB-AC29-FCCA2529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439-2709-4997-BF29-476B0A5C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A3D5-0B59-4A39-9415-EB77520E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ADF5-1ECF-4ACF-A475-C1005A9B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9BF-2D7F-4A55-BAA4-C00072C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8A5-06A4-46CC-8699-BD6A6B1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E04C-7499-4053-A9A5-7BC89F91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472A-74F3-47B6-9B95-794EE28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D1EA-2C2E-48D2-A26E-577F3302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88B1-3C89-49A2-B352-F0766E7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C56-D244-403C-8C94-D061D9D6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035-54D0-4E8D-80BF-A30BBD5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05E-F64B-4C23-B8F5-A01AC87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835-B8E0-49AE-9708-B95DF4B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6C1-98C5-4AD0-8A39-66F3A82C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36C-AFDA-4701-B508-735DFDC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934-D375-4438-9D03-FD739DE6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5D3-619F-4389-9DC5-8144740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30E-D503-4249-92C8-0FE87BF73E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903-9733-4B40-AA68-FC35677EB8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zarplata.ru/a-id-7654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ychitel.ru/a-id-7654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lovari.yandex.ru/illustrations/bse/fullsize/02144/312100.jpg" TargetMode="External"/><Relationship Id="rId2" Type="http://schemas.openxmlformats.org/officeDocument/2006/relationships/hyperlink" Target="http://slovari.yandex.ru/illustrations/bse/fullsize/02144/312100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966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ПРОФЕССИЯ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УЧИТЕЛЬ</a:t>
            </a:r>
            <a:endParaRPr b="0" lang="en-US" sz="66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3" name="Picture 6" descr="i?id=173458201-00"/>
          <p:cNvPicPr/>
          <p:nvPr/>
        </p:nvPicPr>
        <p:blipFill>
          <a:blip r:embed="rId1"/>
          <a:stretch/>
        </p:blipFill>
        <p:spPr>
          <a:xfrm>
            <a:off x="457200" y="3049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bc40"/>
                </a:solidFill>
                <a:latin typeface="Monotype Corsiva"/>
              </a:rPr>
              <a:t>Учебные заведения, обучающие профессии педагога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2438280"/>
            <a:ext cx="7386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еверо-Восточный государственный университет (Магадан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Государственный педагогический университет им В.И. Ленина (Москв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bc40"/>
                </a:solidFill>
                <a:latin typeface="Monotype Corsiva"/>
              </a:rPr>
              <a:t>Источники:</a:t>
            </a:r>
            <a:endParaRPr b="0" lang="en-US" sz="4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ff"/>
                </a:solidFill>
                <a:uFillTx/>
                <a:latin typeface="Monotype Corsiva"/>
                <a:hlinkClick r:id="rId2"/>
              </a:rPr>
              <a:t>http://www.zarplata.ru/a-id-7654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ff"/>
                </a:solidFill>
                <a:uFillTx/>
                <a:latin typeface="Monotype Corsiva"/>
                <a:hlinkClick r:id="rId4"/>
              </a:rPr>
              <a:t>http://www.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ychitel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.ru/a-id-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32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7160"/>
            <a:ext cx="7162560" cy="26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bc40"/>
                </a:solidFill>
                <a:latin typeface="Monotype Corsiva"/>
              </a:rPr>
              <a:t>Учитель ничего </a:t>
            </a:r>
            <a:br>
              <a:rPr sz="2800"/>
            </a:br>
            <a:r>
              <a:rPr b="1" lang="ru-RU" sz="2800" spc="-1" strike="noStrike">
                <a:solidFill>
                  <a:srgbClr val="f4bc40"/>
                </a:solidFill>
                <a:latin typeface="Monotype Corsiva"/>
              </a:rPr>
              <a:t>не производит, в отличии </a:t>
            </a:r>
            <a:br>
              <a:rPr sz="2800"/>
            </a:br>
            <a:r>
              <a:rPr b="1" lang="ru-RU" sz="2800" spc="-1" strike="noStrike">
                <a:solidFill>
                  <a:srgbClr val="f4bc40"/>
                </a:solidFill>
                <a:latin typeface="Monotype Corsiva"/>
              </a:rPr>
              <a:t>от шахтёра или кондитера… </a:t>
            </a:r>
            <a:br>
              <a:rPr sz="2800"/>
            </a:br>
            <a:r>
              <a:rPr b="1" lang="ru-RU" sz="2800" spc="-1" strike="noStrike">
                <a:solidFill>
                  <a:srgbClr val="f4bc40"/>
                </a:solidFill>
                <a:latin typeface="Monotype Corsiva"/>
              </a:rPr>
              <a:t>Ничего, кроме будущего!</a:t>
            </a:r>
            <a:br>
              <a:rPr sz="2800"/>
            </a:br>
            <a:r>
              <a:rPr b="1" lang="ru-RU" sz="2800" spc="-1" strike="noStrike">
                <a:solidFill>
                  <a:srgbClr val="f4bc40"/>
                </a:solidFill>
                <a:latin typeface="Monotype Corsiva"/>
              </a:rPr>
              <a:t> </a:t>
            </a:r>
            <a:endParaRPr b="0" lang="en-US" sz="28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733920"/>
            <a:ext cx="7386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УЧИТЕЛ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Толковому словарю русского языка , Ожегов С., Шведова Н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)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Лицо, которое обучает чему-нибудь, преподаватель. Школьный учитель.  Заслуженный учитель (почетное звани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2. Глава учения, человек, который учит чему-нибудь 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i?id=137416151-06"/>
          <p:cNvPicPr/>
          <p:nvPr/>
        </p:nvPicPr>
        <p:blipFill>
          <a:blip r:embed="rId2"/>
          <a:stretch/>
        </p:blipFill>
        <p:spPr>
          <a:xfrm>
            <a:off x="380880" y="3808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— это уникальная профессия, вне времени, моды и географии. Являясь одной из древнейших, она остаётся востребованной по сей де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Monotype Corsiva"/>
              </a:rPr>
              <a:t>История возникновения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-то давно, когда разделения труда не существовало, учителями становились все старшие, наиболее опытные представители племени. При переходе к разделению труда, учителями становились люди, практиковавшие то или иное ремесло и передававшие тот или иной навык. И лишь в 18 — 19 веках, преподавание, как официально признанная профессия, стало массовым явлением во всём мире.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Monotype Corsiva"/>
              </a:rPr>
              <a:t>Знаменитые личности в профессии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9140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7">
            <a:hlinkClick r:id="rId1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>
            <a:hlinkClick r:id="rId2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5" descr="Ushinsky"/>
          <p:cNvPicPr/>
          <p:nvPr/>
        </p:nvPicPr>
        <p:blipFill>
          <a:blip r:embed="rId3"/>
          <a:stretch/>
        </p:blipFill>
        <p:spPr>
          <a:xfrm>
            <a:off x="533520" y="1143000"/>
            <a:ext cx="1682640" cy="2236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krupskaya_278533030_tonnel_s"/>
          <p:cNvPicPr/>
          <p:nvPr/>
        </p:nvPicPr>
        <p:blipFill>
          <a:blip r:embed="rId4"/>
          <a:stretch/>
        </p:blipFill>
        <p:spPr>
          <a:xfrm>
            <a:off x="5334120" y="30481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C:\Documents and Settings\Виктория\Рабочий стол\i.jpg"/>
          <p:cNvPicPr/>
          <p:nvPr/>
        </p:nvPicPr>
        <p:blipFill>
          <a:blip r:embed="rId5"/>
          <a:stretch/>
        </p:blipFill>
        <p:spPr>
          <a:xfrm>
            <a:off x="3733920" y="3733920"/>
            <a:ext cx="198108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312100"/>
          <p:cNvPicPr/>
          <p:nvPr/>
        </p:nvPicPr>
        <p:blipFill>
          <a:blip r:embed="rId6"/>
          <a:stretch/>
        </p:blipFill>
        <p:spPr>
          <a:xfrm>
            <a:off x="2057400" y="2438280"/>
            <a:ext cx="1803240" cy="254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0" descr="DSC04297"/>
          <p:cNvPicPr/>
          <p:nvPr/>
        </p:nvPicPr>
        <p:blipFill>
          <a:blip r:embed="rId1"/>
          <a:stretch/>
        </p:blipFill>
        <p:spPr>
          <a:xfrm>
            <a:off x="4343400" y="3505320"/>
            <a:ext cx="3086280" cy="20476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bc40"/>
                </a:solidFill>
                <a:latin typeface="Monotype Corsiva"/>
              </a:rPr>
              <a:t>Мои педагоги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210" name="Picture 13" descr="DSC04306"/>
          <p:cNvPicPr/>
          <p:nvPr/>
        </p:nvPicPr>
        <p:blipFill>
          <a:blip r:embed="rId2"/>
          <a:stretch/>
        </p:blipFill>
        <p:spPr>
          <a:xfrm>
            <a:off x="380880" y="35053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DSC_7448"/>
          <p:cNvPicPr/>
          <p:nvPr/>
        </p:nvPicPr>
        <p:blipFill>
          <a:blip r:embed="rId3"/>
          <a:stretch/>
        </p:blipFill>
        <p:spPr>
          <a:xfrm>
            <a:off x="2362320" y="1143000"/>
            <a:ext cx="3419280" cy="24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bc40"/>
                </a:solidFill>
                <a:latin typeface="Monotype Corsiva"/>
              </a:rPr>
              <a:t>Специфика профессии:</a:t>
            </a: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ссовость- практически нет на земном шаре людей, которые когда-либо в своей жизни не учились бы у какого-нибудь учител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кальность профессии- основная компетенция успешного учителя, не зависимо от преподаваемой дисциплины и аудитории — эффективная коммуникация. Именно она позволяет донести знания, мотивировать к труду, управлять конфликтами в коллективе. На втором месте — отличное знание предмета.    На третьем — терп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bc40"/>
                </a:solidFill>
                <a:latin typeface="Monotype Corsiva"/>
              </a:rPr>
              <a:t>Место работы:</a:t>
            </a: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Дошкольные образовательные учреждения, школы, гимназии, лицеи, колледжи, училища, техникумы, институты, университеты, академии и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i?id=127597732-05"/>
          <p:cNvPicPr/>
          <p:nvPr/>
        </p:nvPicPr>
        <p:blipFill>
          <a:blip r:embed="rId2"/>
          <a:stretch/>
        </p:blipFill>
        <p:spPr>
          <a:xfrm>
            <a:off x="4343400" y="38862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bc40"/>
                </a:solidFill>
                <a:latin typeface="Monotype Corsiva"/>
              </a:rPr>
              <a:t>Личные качества:</a:t>
            </a:r>
            <a:r>
              <a:rPr b="0" lang="ru-RU" sz="4000" spc="-1" strike="noStrike">
                <a:solidFill>
                  <a:srgbClr val="f4bc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значит хороший учител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ежде всего человек, который любит детей, находит радость в общении с ними, верит в то, что каждый ребенок может считать хорошим человеком, умеет дружить с детьми, принимает близко к сердцу детские радости и горести, знает душу ребенка, никогда не забывает, что и сам был ребенком. Настоящий учитель учит и словами, и всем своим поведением, а в конечном счете всей судьбой. Таких учителей зовут Учителями, духовными настав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0-10-01T05:29:2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